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720F2-7594-4BE8-8681-24CF0D0FA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A3EDC-7AED-44E2-A0BE-3697B3A6A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B9983B77-ED6F-4E9F-81E5-F9D256B7721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A255E5F7-94F5-4AA6-B52B-9525B892BE2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187-C97E-46DA-9981-4A84D4FA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5AF-D2F2-4F22-8F3A-EC251696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321-3482-48DC-B66E-B3055BDB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725-CDAE-4A80-9392-14C4A15A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322-A448-40E7-B67D-C6861229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AAD-971B-472B-BF30-4909ED48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FAC-B7A5-4A94-BED4-88054C6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79B-6749-4326-A6FD-09DB69C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5B6-D52F-40CB-9534-72773E3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2BB-9AD8-4814-BE96-4278EFC7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39D-7B10-4E3E-B0DB-5457B133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C9C-3641-4D21-934D-1E09E324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48BA-Logo-640x320_11Sep13.png"/>
          <p:cNvPicPr/>
          <p:nvPr/>
        </p:nvPicPr>
        <p:blipFill>
          <a:blip r:embed="rId3"/>
          <a:stretch/>
        </p:blipFill>
        <p:spPr>
          <a:xfrm>
            <a:off x="7184880" y="5877000"/>
            <a:ext cx="1951200" cy="8316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451FC-56C6-4BDB-9A3B-7C3C582FCA8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5DF0D-223D-418B-B634-6F0317C6574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F8423-0DB9-4E79-8E52-3C0C46DFE56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FC92B-3171-45CB-A5E2-18271721C9C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48BA-Logo-320x137_11Sep13.png"/>
          <p:cNvPicPr/>
          <p:nvPr/>
        </p:nvPicPr>
        <p:blipFill>
          <a:blip r:embed="rId2"/>
          <a:stretch/>
        </p:blipFill>
        <p:spPr>
          <a:xfrm>
            <a:off x="8169120" y="6440400"/>
            <a:ext cx="97488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E883F-B65D-4DA8-B0B7-C0AFAF880A6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85.xml"/><Relationship Id="rId2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319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ED379-5577-499A-AFDB-D9D76AD94F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99a8c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4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325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99a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81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fe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99a8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422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fe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38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969A2-D700-427F-A125-7773147317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/>
          <p:nvPr/>
        </p:nvSpPr>
        <p:spPr>
          <a:xfrm>
            <a:off x="5899320" y="596916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9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7f7f7f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1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326360" y="6083280"/>
            <a:ext cx="1817640" cy="77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11-15T13:19:32Z</dcterms:modified>
  <cp:revision>107</cp:revision>
  <dc:subject>Internet Governance</dc:subject>
  <dc:title>ICANN &amp; Internet Ecosystem</dc:title>
</cp:coreProperties>
</file>