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FA243-5AF5-441B-B4F9-BF5007363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5A121-A05C-42DF-BFDC-F7D20A320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0E77297C-1292-4530-AA91-566F78633A8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353C8848-2F72-47A8-9C24-7C8662ACA07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E9A-8F55-453B-A52B-278BF81A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99D-60A8-4A53-828D-C204935E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E43-3FA4-4556-8972-08C154AB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329-0DC0-431D-BEE6-85C988AF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BD0-39E9-4C8C-92F5-B68B0F5D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260-44B3-43D9-85DB-488F08C5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F60-998E-413F-A0D8-7EA2E29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B90-DDB9-4CB2-9303-43C8262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832-DDC4-4F46-BE46-E1AE0F3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4B4-1B1B-4434-9AE7-E0D4A84C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164-4624-4AC2-9212-E8CA405D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0C6-5687-450A-95FD-63CBF5C8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48BA-Logo-640x320_11Sep13.png"/>
          <p:cNvPicPr/>
          <p:nvPr/>
        </p:nvPicPr>
        <p:blipFill>
          <a:blip r:embed="rId3"/>
          <a:stretch/>
        </p:blipFill>
        <p:spPr>
          <a:xfrm>
            <a:off x="7184880" y="5877000"/>
            <a:ext cx="1951200" cy="8316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661E0-94E4-4014-8434-9A7E94A79BC2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D2911-5C63-4AA0-A9C1-6AA7EE4271A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FB1A1-DE84-463C-9844-5D83BFC8100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B814A-AD6A-4B8D-9C5C-37C040DF0BB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DE168-0FC5-44E3-BFFB-1752B10F005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85.xml"/><Relationship Id="rId2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319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0E5B3-FB6A-4682-9279-A0247775B6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99a8c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99a8c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99a8c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4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325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99a8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81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fe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99a8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422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fe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38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A6BA4-0A0C-4DA6-8F9A-054E470D28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/>
          <p:nvPr/>
        </p:nvSpPr>
        <p:spPr>
          <a:xfrm>
            <a:off x="5899320" y="596916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9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7f7f7f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1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11-15T13:19:32Z</dcterms:modified>
  <cp:revision>107</cp:revision>
  <dc:subject>Internet Governance</dc:subject>
  <dc:title>ICANN &amp; Internet Ecosystem</dc:title>
</cp:coreProperties>
</file>