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7FD79-A44D-424F-9D0A-4A081D864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470C4-4818-4789-8BCA-65065631E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2255063-87BD-42D6-AA03-15A45D3131C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B0111B01-686F-4827-9AA6-35677ACBAA4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F11-41F9-42EA-812B-040FA28D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2B2-29F8-4482-9249-C336B241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A00-8D0A-4D49-827B-78BBFC6E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87F-1F8D-4F88-819D-637170B5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CD9-6BF7-416E-80C7-3977E335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B18-D667-4E26-A572-21EB6673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233-F54C-40A5-8E30-315B76D0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879-A48A-4F3C-B94F-BB43C5F7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8B6-6391-405A-ABAB-AAB9A33E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08B-FFD1-4040-8A6B-BF181046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26F-5245-46B2-802C-19F63D09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D96-5040-46A4-9286-2BCBD2D9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48BA-Logo-640x320_11Sep13.png"/>
          <p:cNvPicPr/>
          <p:nvPr/>
        </p:nvPicPr>
        <p:blipFill>
          <a:blip r:embed="rId3"/>
          <a:stretch/>
        </p:blipFill>
        <p:spPr>
          <a:xfrm>
            <a:off x="7184880" y="5877000"/>
            <a:ext cx="1951200" cy="8316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C90FB-AFF2-4FCC-8CC0-AEA528D36D2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A37A4-0D1F-41FD-B1B7-43546885199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183E1-0815-4695-8C7C-C1CF939F8F3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BA25A-AC25-4B5F-BE7C-A0CA6363DAC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BCEC9-DAC9-4DFC-8369-35502F48567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85.xml"/><Relationship Id="rId2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319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D28F1-E1E0-4CBF-834E-9468B98466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99a8c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99a8c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99a8c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4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325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99a8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81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fe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99a8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422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fe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38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14C62-B892-49CD-A6BA-0F6216B0C5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/>
          <p:nvPr/>
        </p:nvSpPr>
        <p:spPr>
          <a:xfrm>
            <a:off x="5899320" y="596916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9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7f7f7f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1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11-15T13:19:32Z</dcterms:modified>
  <cp:revision>107</cp:revision>
  <dc:subject>Internet Governance</dc:subject>
  <dc:title>ICANN &amp; Internet Ecosystem</dc:title>
</cp:coreProperties>
</file>