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ftr" idx="4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 type="sldNum" idx="4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C7A6-A6B4-472C-BC32-E7A9F999E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2D64-8CC9-4CD8-AECD-477A9EE23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353E-DEDF-4031-84A3-A68652D07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08A1-16C1-4EE8-BD7D-1F960DF4F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A187-2988-4B90-BE9A-22ECE3D15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C63A-740C-442F-9DE1-C2142ABC8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4DE7-B00C-4E2B-9C44-EACE17ABD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CD35-1558-4AA8-A393-B98BDE42A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7A4B21-4DE3-4DB3-B6BB-42895A3F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23E1F7-B549-4846-8FFE-6E837293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C0B557-3CD1-4C1F-9021-DF147FFF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C9FA4B-130C-42AB-816F-1BC58160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6385A0-3618-45BC-9E91-00171D54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2AFDCC-21A2-47B9-94AF-AFEBFFEB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0F14DB-D1A6-46BA-992B-251ED796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A1FB12-F6AA-41BC-B922-CCC5BD52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1006C7-9F4B-4957-A2EA-FA112739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613194-1166-4803-94EC-3D7EE6E9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F8782C-B73D-4D79-9719-D7720924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611414-197F-475C-844C-60E55CCE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759B5C-A8DC-4690-9821-82D10D7B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DC524F-D30D-470B-9FDB-7F5E89DD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980A2D-8C42-47BE-B6C4-3DDDF144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080977-1169-411A-A2DE-C66A50A5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022E82-8C56-4848-8B03-7DA456C5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D94631-6320-4E8B-B290-CC097FB9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B12253-9C7A-491D-A0D8-490B13A7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F1132B-1B7F-4034-92D5-A44DC63E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1CDB2F-8D32-4D11-A65C-68C4C41C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9C92B1-B6D3-4838-BA2A-8A145E06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719130-57D0-4CE5-87EE-59E215E6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10BE95-FD7B-4D82-AC94-9CD6F09E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7ADECB-3279-4571-A209-057F8E70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65ECA5-4F95-488C-BAD0-98821798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3D6012-C4B9-41C9-A579-CFE241C3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62EE36-0F38-4C7F-BFDD-40B766B5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F8DAB6-9A78-4E49-8897-2AE67F55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BECD54-BBE1-4CA4-A171-B67E91F2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7423F-DAC8-4B93-8950-4074DF72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4B3DA6-198C-4318-9333-CF903B38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4ED93B-B6A0-4EBB-8B5E-CC23B468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236C07-E6CB-4454-81AB-920D5700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C00BAA-E28B-4980-B30F-D13782EB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72FF02-707A-4CDF-9CEC-74F6902A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371C12-C580-4802-8270-F8AD2217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F7B3E9-5BB5-4DAB-8B73-7E02A2E2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375102-5EB1-45B9-84C9-2CAEC7AC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AAABC0-851D-4100-A303-CFDD5582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0F5189-3D8A-461A-8A2A-527C7558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F180D-C2E8-422D-89D5-747E29BD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531A35-A216-43EA-9F8E-5BE27B4B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2BEA66-7B26-4B11-95C0-C0393311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0EF47C-F6FD-4330-B312-F75D4C4C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D49392-EC58-4BB9-A996-A6F2DC50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AE6924-14CB-413B-9035-31DC25E4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22AA7D-3B87-447A-B705-86DC4B31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F861B8-F522-4F55-A4C3-1F38EAA1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49B09F-0642-46B5-9E1E-B3329751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98FF24-767D-4DD6-B7A8-2AFEB2B3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AC342D-96A0-44D1-A292-16E27E01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EADD6-5BD5-464C-B5AB-988B31C3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FD4760-1B6B-44A7-B6E6-48800DE7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E98DD4-11E5-4AF1-BFE2-8950252D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A004E3-9018-4749-9355-D5539719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E09FAE-2BB2-4565-9A86-BD46DC28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F367D4-139E-4CBA-813B-5382BF23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C7B0D3-3F40-4DE1-84B3-BEE1955C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BB9135-FB03-40F5-8CA9-5B1DC0DC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9928B-7528-45B6-BECB-3668138F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A1D13-0DDA-4674-8289-2B46C0D3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B392D-8BA7-4F4C-ACA5-221910E8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BFCBD-7D10-4FA6-A485-6F7E127A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1FF25-E6BF-45E4-82A8-206F8CB9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B08C9-FFC1-40E3-8A99-30AD9171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6DF16-6F3A-4455-AD37-CFE34601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45080-B5E7-4095-B655-FFC10DFF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1E830-836E-4C80-B4BA-B5F4E4F0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FBAC9A-2A10-4068-970D-02C84EFE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E81E7-D055-4E60-818D-5D73C5B1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1574E9-B163-4106-88B3-5449B8AF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C1E79-6176-42D7-98FF-96875440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4251B-AB63-45C5-9A97-A220237C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EAC0B-B666-4CEF-8084-EECF7745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91432-109B-4557-99BB-9AE6F1C4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CD884-AC45-4BC0-9D9D-CCE5E682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3C902-83D7-40C5-9B4A-A28164F8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962C0-97EC-4380-ACE4-6CCE9342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C4D385-6DD8-49CC-ADFF-9AA228BE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9B260-7900-4EA6-A0BB-B9FBBF98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31E985-8041-4532-8552-304D9180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24268-0FE3-452B-8314-7B257AA6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F6CE38-2C21-4584-ACDC-1D6A6AC1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41D1C9-20A1-4C00-A89B-2EF88814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AC06EC-0F55-409D-927A-45C2250D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1C397C-924C-404F-9F0B-223E19A8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A50034-D471-469D-AC83-1948280D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C1FFD1-1A8C-4DAD-A13B-2F7DA0D5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2EBAD4-EC8E-46A4-BD3C-0A0E15C3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B14D42-6CB7-49A7-8C6C-0D2818BC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597916-6A60-42A4-B289-9C09C304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7394C6-4EFF-4059-B967-007F53EB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0EEC3-19A2-4011-99C3-CE6D4BBD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93A19-6F7A-4543-980B-AEF3FFB8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1D85F-29B0-48E8-9458-AEF4350F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9EE742-164B-4CF9-ADD2-8CE78786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D5ACA9-0E8A-4C08-B175-D64BF37D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05EC4-04B5-4807-A87D-FED46AD9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4F9CA2-E722-43A9-8F7C-45875802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F93F91-C177-4734-8F74-A1ED2D0F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E8ABDB-0F05-44FC-A221-EE438B46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850E65-4B80-45DB-90C1-EDB05890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D558CF-294B-465E-9440-147E7374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30618-089A-4887-B0F2-144EFED0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9FD8F9-9E51-4EC2-81BF-9A9A29C4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4728E9-E1AC-4C38-B140-1C0F68CB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C69260-D7AF-4495-B52A-9A259961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8B5A6D-6330-4E03-9B26-BED9C4AB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D98A2A-F7FA-4409-A9F7-75BFA133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5E4B27-D806-4D6D-84DF-1D80A26C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E1F3A0-C74B-454D-8749-EC472744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D8A4F9-31F5-4B9C-965C-E1CD6774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F0626-CF9D-45EA-88AC-36294230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EA409B-9B53-4692-A2BC-82429ADB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396B8B-3A57-45A7-895E-71F63B59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C3E10F-BF7D-4386-802B-95F68518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60CF67-10DE-4DCB-875A-C9905319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5169F8-CB71-4D51-B88D-24DF647E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D86D36-D331-4CD5-835A-C1E6FD39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404C27-8E78-45FB-A68D-699295C0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00295F-8042-4385-A9FB-17FA20F8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C57F44-051A-4219-80FD-39B1FEC5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6B2B5D-DEB0-450D-803A-5841773B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0DC510-8DF7-4587-B082-E35D0A73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30E3F5-DD31-43C2-9369-28D5CB31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961814-C189-402E-9D8B-FB456B13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9D1065-0B60-47E1-A7B8-0666D643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6D05C1-5E57-433F-9A52-46A94C3E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BF95A0-881D-43D4-A64C-38EE2EBF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436850-3734-410C-B791-525EFD01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4B38B0-FB2E-46B1-86F9-DE22F75E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7392C8-B19F-49C0-9987-C72C4641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13E31D-3602-49AA-A327-51E6E7D8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42B354-3EF9-4377-A719-DFCDDA2E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910ECF-DAEE-41BB-AFE6-377F3D23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EB6DE7-0C6E-4A64-B2C1-3B3E93EE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2E4F89-00C4-4BC8-8939-414F75C8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366E3E-A1F6-442B-BD4A-1BF55329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8B51B8-8915-435D-89A7-8C7A4EE3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12A58D-64A5-4E19-B4E5-2BDD8DBA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D46B3C-7218-440A-B5B0-AC677FCC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F95085-006C-47F2-AE7F-B224C49F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62459E-5178-4C59-BEDB-3E849173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EF81-0096-4967-81B4-285FC2BB9E7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79AD-D5E1-40E7-B7AE-6B00CE1D081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75F2-7204-4229-B38F-E9B1020DC37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C844-A32D-474C-B106-F4B5F450974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C2CC-205E-43A9-9283-CCE42714657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DBD9-DEDF-4965-8417-5DBD74321ED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DD18-07A7-4203-BFB0-9EACC6673BF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1176-B985-4B3E-95E2-ED5BF008BA1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6648-2531-411B-B890-E037AE88D9E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8797-2D12-4E09-BC7A-2BC8CD7F69E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76EF-9A5B-4549-A622-3261049834C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97c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4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5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8"/>
          <p:cNvSpPr/>
          <p:nvPr/>
        </p:nvSpPr>
        <p:spPr>
          <a:xfrm flipH="1">
            <a:off x="457200" y="6010200"/>
            <a:ext cx="86868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2" descr=""/>
          <p:cNvPicPr/>
          <p:nvPr/>
        </p:nvPicPr>
        <p:blipFill>
          <a:blip r:embed="rId2"/>
          <a:stretch/>
        </p:blipFill>
        <p:spPr>
          <a:xfrm>
            <a:off x="3009960" y="6095880"/>
            <a:ext cx="3124080" cy="628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" descr=""/>
          <p:cNvPicPr/>
          <p:nvPr/>
        </p:nvPicPr>
        <p:blipFill>
          <a:blip r:embed="rId3"/>
          <a:stretch/>
        </p:blipFill>
        <p:spPr>
          <a:xfrm>
            <a:off x="7709040" y="6095880"/>
            <a:ext cx="1434960" cy="7621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FC12-E1FF-46F8-B7E2-AE20961B638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image" Target="../media/image30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image" Target="../media/image33.png"/><Relationship Id="rId24" Type="http://schemas.openxmlformats.org/officeDocument/2006/relationships/image" Target="../media/image34.png"/><Relationship Id="rId25" Type="http://schemas.openxmlformats.org/officeDocument/2006/relationships/image" Target="../media/image35.png"/><Relationship Id="rId26" Type="http://schemas.openxmlformats.org/officeDocument/2006/relationships/image" Target="../media/image36.png"/><Relationship Id="rId27" Type="http://schemas.openxmlformats.org/officeDocument/2006/relationships/image" Target="../media/image37.png"/><Relationship Id="rId28" Type="http://schemas.openxmlformats.org/officeDocument/2006/relationships/image" Target="../media/image38.png"/><Relationship Id="rId29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one-h.org/news/id/4708" TargetMode="External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824040"/>
            <a:ext cx="8686800" cy="18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WG Update for ICANN Cross Constituency Mee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1600200" y="22860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d Rasm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Chair APWG Internet Policy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 &amp; 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3,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6" descr="internet_identity"/>
          <p:cNvPicPr/>
          <p:nvPr/>
        </p:nvPicPr>
        <p:blipFill>
          <a:blip r:embed="rId1"/>
          <a:stretch/>
        </p:blipFill>
        <p:spPr>
          <a:xfrm>
            <a:off x="4343400" y="4229280"/>
            <a:ext cx="26035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licious Domain Regist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30,454 phishing domains, we identifi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,591 (18.5%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early registered by phis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ose 5,591, only 1,053 domains contained a relevant brand name or misspelling. (Only 3.5% of all domains used for phishin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81% of domains used for phishing were “compromised” or hacked domai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omain name itself usually does not matter to phishers. A hacked domain name of any meaning (or no meaning), in any TLD, will do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39716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shers move from registrar to registrar, and TLD to TLD to exploit the best phishing “ho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away from IP-based ph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of Internet names and numbers used for phishing has remained fairly steady over the past two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domain registration services are nearly as abused as standard domain registr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y anti-abuse programs have an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cious registrations &gt;1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shers happy to use any domain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lanche Phishing Att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ccessor to infamous “ROCK” phis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dozens of domains daily at targeted registrar(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ying T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ing responses of registr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st Flux Domain Ho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known name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but fixed bot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acking over 30 major brands concurrent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Cashing out millions of doll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3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1981080" cy="49536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lanche Brands Under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4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2133720" cy="5716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6" descr=""/>
          <p:cNvPicPr/>
          <p:nvPr/>
        </p:nvPicPr>
        <p:blipFill>
          <a:blip r:embed="rId3"/>
          <a:stretch/>
        </p:blipFill>
        <p:spPr>
          <a:xfrm>
            <a:off x="4038480" y="3276720"/>
            <a:ext cx="1397160" cy="5713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7" descr=""/>
          <p:cNvPicPr/>
          <p:nvPr/>
        </p:nvPicPr>
        <p:blipFill>
          <a:blip r:embed="rId4"/>
          <a:stretch/>
        </p:blipFill>
        <p:spPr>
          <a:xfrm>
            <a:off x="2209680" y="3581280"/>
            <a:ext cx="1373400" cy="9273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8" descr=""/>
          <p:cNvPicPr/>
          <p:nvPr/>
        </p:nvPicPr>
        <p:blipFill>
          <a:blip r:embed="rId5"/>
          <a:stretch/>
        </p:blipFill>
        <p:spPr>
          <a:xfrm>
            <a:off x="6477120" y="1371600"/>
            <a:ext cx="1904760" cy="4129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" descr=""/>
          <p:cNvPicPr/>
          <p:nvPr/>
        </p:nvPicPr>
        <p:blipFill>
          <a:blip r:embed="rId6"/>
          <a:stretch/>
        </p:blipFill>
        <p:spPr>
          <a:xfrm>
            <a:off x="7010280" y="5105520"/>
            <a:ext cx="1981440" cy="6602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1" descr=""/>
          <p:cNvPicPr/>
          <p:nvPr/>
        </p:nvPicPr>
        <p:blipFill>
          <a:blip r:embed="rId7"/>
          <a:stretch/>
        </p:blipFill>
        <p:spPr>
          <a:xfrm>
            <a:off x="3962520" y="4038480"/>
            <a:ext cx="1904760" cy="3524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2" descr=""/>
          <p:cNvPicPr/>
          <p:nvPr/>
        </p:nvPicPr>
        <p:blipFill>
          <a:blip r:embed="rId8"/>
          <a:stretch/>
        </p:blipFill>
        <p:spPr>
          <a:xfrm>
            <a:off x="762120" y="2971800"/>
            <a:ext cx="1003320" cy="58428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3" descr=""/>
          <p:cNvPicPr/>
          <p:nvPr/>
        </p:nvPicPr>
        <p:blipFill>
          <a:blip r:embed="rId9"/>
          <a:stretch/>
        </p:blipFill>
        <p:spPr>
          <a:xfrm>
            <a:off x="6553080" y="3324240"/>
            <a:ext cx="2210040" cy="6382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4" descr=""/>
          <p:cNvPicPr/>
          <p:nvPr/>
        </p:nvPicPr>
        <p:blipFill>
          <a:blip r:embed="rId10"/>
          <a:stretch/>
        </p:blipFill>
        <p:spPr>
          <a:xfrm>
            <a:off x="5334120" y="5257800"/>
            <a:ext cx="1638360" cy="6238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5" descr=""/>
          <p:cNvPicPr/>
          <p:nvPr/>
        </p:nvPicPr>
        <p:blipFill>
          <a:blip r:embed="rId11"/>
          <a:stretch/>
        </p:blipFill>
        <p:spPr>
          <a:xfrm>
            <a:off x="3962520" y="4724280"/>
            <a:ext cx="2031840" cy="304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7" descr=""/>
          <p:cNvPicPr/>
          <p:nvPr/>
        </p:nvPicPr>
        <p:blipFill>
          <a:blip r:embed="rId12"/>
          <a:stretch/>
        </p:blipFill>
        <p:spPr>
          <a:xfrm>
            <a:off x="3352680" y="1676520"/>
            <a:ext cx="2718000" cy="533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9" descr=""/>
          <p:cNvPicPr/>
          <p:nvPr/>
        </p:nvPicPr>
        <p:blipFill>
          <a:blip r:embed="rId13"/>
          <a:stretch/>
        </p:blipFill>
        <p:spPr>
          <a:xfrm>
            <a:off x="5257800" y="2514600"/>
            <a:ext cx="1523880" cy="606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0" descr=""/>
          <p:cNvPicPr/>
          <p:nvPr/>
        </p:nvPicPr>
        <p:blipFill>
          <a:blip r:embed="rId14"/>
          <a:stretch/>
        </p:blipFill>
        <p:spPr>
          <a:xfrm>
            <a:off x="1320840" y="4467240"/>
            <a:ext cx="2108160" cy="6382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2" descr=""/>
          <p:cNvPicPr/>
          <p:nvPr/>
        </p:nvPicPr>
        <p:blipFill>
          <a:blip r:embed="rId15"/>
          <a:stretch/>
        </p:blipFill>
        <p:spPr>
          <a:xfrm>
            <a:off x="7315200" y="4648320"/>
            <a:ext cx="1460520" cy="3538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4" descr=""/>
          <p:cNvPicPr/>
          <p:nvPr/>
        </p:nvPicPr>
        <p:blipFill>
          <a:blip r:embed="rId16"/>
          <a:stretch/>
        </p:blipFill>
        <p:spPr>
          <a:xfrm>
            <a:off x="3505320" y="2438280"/>
            <a:ext cx="1541520" cy="54000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5" descr=""/>
          <p:cNvPicPr/>
          <p:nvPr/>
        </p:nvPicPr>
        <p:blipFill>
          <a:blip r:embed="rId17"/>
          <a:stretch/>
        </p:blipFill>
        <p:spPr>
          <a:xfrm>
            <a:off x="7467480" y="1828800"/>
            <a:ext cx="787680" cy="7873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6" descr=""/>
          <p:cNvPicPr/>
          <p:nvPr/>
        </p:nvPicPr>
        <p:blipFill>
          <a:blip r:embed="rId18"/>
          <a:stretch/>
        </p:blipFill>
        <p:spPr>
          <a:xfrm>
            <a:off x="2438280" y="2514600"/>
            <a:ext cx="952560" cy="3175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27" descr=""/>
          <p:cNvPicPr/>
          <p:nvPr/>
        </p:nvPicPr>
        <p:blipFill>
          <a:blip r:embed="rId19"/>
          <a:stretch/>
        </p:blipFill>
        <p:spPr>
          <a:xfrm>
            <a:off x="838080" y="2502000"/>
            <a:ext cx="1371600" cy="31752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28" descr=""/>
          <p:cNvPicPr/>
          <p:nvPr/>
        </p:nvPicPr>
        <p:blipFill>
          <a:blip r:embed="rId20"/>
          <a:stretch/>
        </p:blipFill>
        <p:spPr>
          <a:xfrm>
            <a:off x="6095880" y="4114800"/>
            <a:ext cx="1714680" cy="4827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9" descr=""/>
          <p:cNvPicPr/>
          <p:nvPr/>
        </p:nvPicPr>
        <p:blipFill>
          <a:blip r:embed="rId21"/>
          <a:stretch/>
        </p:blipFill>
        <p:spPr>
          <a:xfrm>
            <a:off x="609480" y="1828800"/>
            <a:ext cx="1955880" cy="4809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31" descr=""/>
          <p:cNvPicPr/>
          <p:nvPr/>
        </p:nvPicPr>
        <p:blipFill>
          <a:blip r:embed="rId22"/>
          <a:stretch/>
        </p:blipFill>
        <p:spPr>
          <a:xfrm>
            <a:off x="2971800" y="5562720"/>
            <a:ext cx="2063880" cy="2952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32" descr=""/>
          <p:cNvPicPr/>
          <p:nvPr/>
        </p:nvPicPr>
        <p:blipFill>
          <a:blip r:embed="rId23"/>
          <a:stretch/>
        </p:blipFill>
        <p:spPr>
          <a:xfrm>
            <a:off x="8381880" y="1828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33" descr=""/>
          <p:cNvPicPr/>
          <p:nvPr/>
        </p:nvPicPr>
        <p:blipFill>
          <a:blip r:embed="rId24"/>
          <a:stretch/>
        </p:blipFill>
        <p:spPr>
          <a:xfrm>
            <a:off x="609480" y="1143000"/>
            <a:ext cx="2667240" cy="5461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34" descr=""/>
          <p:cNvPicPr/>
          <p:nvPr/>
        </p:nvPicPr>
        <p:blipFill>
          <a:blip r:embed="rId25"/>
          <a:stretch/>
        </p:blipFill>
        <p:spPr>
          <a:xfrm>
            <a:off x="4800600" y="1295280"/>
            <a:ext cx="1295280" cy="3891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35" descr=""/>
          <p:cNvPicPr/>
          <p:nvPr/>
        </p:nvPicPr>
        <p:blipFill>
          <a:blip r:embed="rId26"/>
          <a:stretch/>
        </p:blipFill>
        <p:spPr>
          <a:xfrm>
            <a:off x="7238880" y="2743200"/>
            <a:ext cx="1587600" cy="5014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36" descr=""/>
          <p:cNvPicPr/>
          <p:nvPr/>
        </p:nvPicPr>
        <p:blipFill>
          <a:blip r:embed="rId27"/>
          <a:stretch/>
        </p:blipFill>
        <p:spPr>
          <a:xfrm>
            <a:off x="1828800" y="3048120"/>
            <a:ext cx="2097000" cy="4251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30" descr=""/>
          <p:cNvPicPr/>
          <p:nvPr/>
        </p:nvPicPr>
        <p:blipFill>
          <a:blip r:embed="rId28"/>
          <a:stretch/>
        </p:blipFill>
        <p:spPr>
          <a:xfrm>
            <a:off x="5791320" y="2057400"/>
            <a:ext cx="12952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acks Move Between Registr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6858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ce registrar identified, attacks continue until registrar rea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s bogus regist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tigates domains within 3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ften looking for weak reseller of larger registr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C 3" descr=""/>
          <p:cNvPicPr/>
          <p:nvPr/>
        </p:nvPicPr>
        <p:blipFill>
          <a:blip r:embed="rId1"/>
          <a:stretch/>
        </p:blipFill>
        <p:spPr>
          <a:xfrm>
            <a:off x="1901880" y="1212840"/>
            <a:ext cx="580392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cking Attacks on Registr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major hacking attacks in Apr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ain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 N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zone-h.org/news/id/47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 recent attacks around the wor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by Turkish hacker group “Peace Crew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 was site take-over for defac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of of concept or bragging rights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ears to be targeted SQL injection against domain management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4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803480" cy="335304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5" descr=""/>
          <p:cNvPicPr/>
          <p:nvPr/>
        </p:nvPicPr>
        <p:blipFill>
          <a:blip r:embed="rId2"/>
          <a:stretch/>
        </p:blipFill>
        <p:spPr>
          <a:xfrm>
            <a:off x="4191120" y="2895480"/>
            <a:ext cx="4787640" cy="3021120"/>
          </a:xfrm>
          <a:prstGeom prst="rect">
            <a:avLst/>
          </a:prstGeom>
          <a:ln w="0">
            <a:noFill/>
          </a:ln>
        </p:spPr>
      </p:pic>
      <p:grpSp>
        <p:nvGrpSpPr>
          <p:cNvPr id="696" name="Group 5"/>
          <p:cNvGrpSpPr/>
          <p:nvPr/>
        </p:nvGrpSpPr>
        <p:grpSpPr>
          <a:xfrm>
            <a:off x="5257800" y="838080"/>
            <a:ext cx="3378240" cy="1881360"/>
            <a:chOff x="5257800" y="838080"/>
            <a:chExt cx="3378240" cy="1881360"/>
          </a:xfrm>
        </p:grpSpPr>
        <p:sp>
          <p:nvSpPr>
            <p:cNvPr id="697" name="Bent Arrow 9"/>
            <p:cNvSpPr/>
            <p:nvPr/>
          </p:nvSpPr>
          <p:spPr>
            <a:xfrm rot="5400000">
              <a:off x="5284800" y="1878120"/>
              <a:ext cx="814320" cy="868320"/>
            </a:xfrm>
            <a:prstGeom prst="pie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Box 4"/>
            <p:cNvSpPr/>
            <p:nvPr/>
          </p:nvSpPr>
          <p:spPr>
            <a:xfrm>
              <a:off x="5498640" y="838080"/>
              <a:ext cx="3137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ke-over domain acco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sign new name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int A record to defac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ke up C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he next attack be for real cr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it already hap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stery data in recent phish set-ups hint a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’s doing PEN tes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key re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customer doma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AC working on a report addressing thes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r Security Pos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’ve come a long 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’ve still got a long way to go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acks now being directed against registrars and DNS infrastructure provi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dset change abou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TextBox 3" descr=""/>
          <p:cNvPicPr/>
          <p:nvPr/>
        </p:nvPicPr>
        <p:blipFill>
          <a:blip r:embed="rId1"/>
          <a:stretch/>
        </p:blipFill>
        <p:spPr>
          <a:xfrm>
            <a:off x="487440" y="3938760"/>
            <a:ext cx="87058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cting Critical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5998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 control is fundamental – recent attacks have proven this repeate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s to address for best practices/policy/self-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ng access and contro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ng criminal exploitation of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for attacks and exploit attem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dent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with industry and LE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WG IPC Initiatives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hishing Survey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Malicious Registrations: Avalan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ks on Registrars: .PR and Domain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emphasis on the Internet as critical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WG continues to drive initiatives to improve Internet security and tru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aging ICANN community to develop collaborative sol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minals continue to exploit “weak link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phisticated use of DNS for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 attacks against registrars and infrastructure provi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in attitude on DNS security underw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s and Registrars Best Practices’ document post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awpg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d Rasmussen, Internet Ident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d.rasmussen &lt;at&gt; internetidentity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 253 590 41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824040"/>
            <a:ext cx="8686800" cy="18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WG Update for ICANN Cross Constituency Mee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1600200" y="22860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d Rasm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Chair APWG Internet Policy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 &amp; 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3,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6" descr="internet_identity"/>
          <p:cNvPicPr/>
          <p:nvPr/>
        </p:nvPicPr>
        <p:blipFill>
          <a:blip r:embed="rId1"/>
          <a:stretch/>
        </p:blipFill>
        <p:spPr>
          <a:xfrm>
            <a:off x="4343400" y="4229280"/>
            <a:ext cx="26035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/Recent Initi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9632-F836-4F19-A344-EB090CF3C17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Diagram 5" descr=""/>
          <p:cNvPicPr/>
          <p:nvPr/>
        </p:nvPicPr>
        <p:blipFill>
          <a:blip r:embed="rId1"/>
          <a:stretch/>
        </p:blipFill>
        <p:spPr>
          <a:xfrm>
            <a:off x="1011240" y="1292400"/>
            <a:ext cx="7351560" cy="969840"/>
          </a:xfrm>
          <a:prstGeom prst="rect">
            <a:avLst/>
          </a:prstGeom>
          <a:ln w="0">
            <a:noFill/>
          </a:ln>
        </p:spPr>
      </p:pic>
      <p:pic>
        <p:nvPicPr>
          <p:cNvPr id="638" name="Diagram 8" descr=""/>
          <p:cNvPicPr/>
          <p:nvPr/>
        </p:nvPicPr>
        <p:blipFill>
          <a:blip r:embed="rId2"/>
          <a:stretch/>
        </p:blipFill>
        <p:spPr>
          <a:xfrm>
            <a:off x="1011240" y="2109960"/>
            <a:ext cx="7351560" cy="987120"/>
          </a:xfrm>
          <a:prstGeom prst="rect">
            <a:avLst/>
          </a:prstGeom>
          <a:ln w="0">
            <a:noFill/>
          </a:ln>
        </p:spPr>
      </p:pic>
      <p:pic>
        <p:nvPicPr>
          <p:cNvPr id="639" name="Diagram 9" descr=""/>
          <p:cNvPicPr/>
          <p:nvPr/>
        </p:nvPicPr>
        <p:blipFill>
          <a:blip r:embed="rId3"/>
          <a:stretch/>
        </p:blipFill>
        <p:spPr>
          <a:xfrm>
            <a:off x="1011240" y="2871720"/>
            <a:ext cx="7351560" cy="987480"/>
          </a:xfrm>
          <a:prstGeom prst="rect">
            <a:avLst/>
          </a:prstGeom>
          <a:ln w="0">
            <a:noFill/>
          </a:ln>
        </p:spPr>
      </p:pic>
      <p:pic>
        <p:nvPicPr>
          <p:cNvPr id="640" name="Diagram 7" descr=""/>
          <p:cNvPicPr/>
          <p:nvPr/>
        </p:nvPicPr>
        <p:blipFill>
          <a:blip r:embed="rId4"/>
          <a:stretch/>
        </p:blipFill>
        <p:spPr>
          <a:xfrm>
            <a:off x="1011240" y="3633840"/>
            <a:ext cx="7394400" cy="987480"/>
          </a:xfrm>
          <a:prstGeom prst="rect">
            <a:avLst/>
          </a:prstGeom>
          <a:ln w="0">
            <a:noFill/>
          </a:ln>
        </p:spPr>
      </p:pic>
      <p:pic>
        <p:nvPicPr>
          <p:cNvPr id="641" name="Diagram 10" descr=""/>
          <p:cNvPicPr/>
          <p:nvPr/>
        </p:nvPicPr>
        <p:blipFill>
          <a:blip r:embed="rId5"/>
          <a:stretch/>
        </p:blipFill>
        <p:spPr>
          <a:xfrm>
            <a:off x="1011240" y="4432320"/>
            <a:ext cx="73944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ing Page Working W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and running for over 6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dreds of sites redi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in 20+ languages s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sands of consumers edu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 examp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hapelenterprises.com/index/hsbcbankingonline/IBlogi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o be made available to brand holders that are APWG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st APWG Phishing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66320" y="132084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domain names and URL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consistent benchmark for scope of phishing problems world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phishers are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new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hot-spots and success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 anti-abuse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apwg.org/reports/APWG_GlobalPhishingSurvey2H2008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S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Table Placeholder 36" descr=""/>
          <p:cNvPicPr/>
          <p:nvPr/>
        </p:nvPicPr>
        <p:blipFill>
          <a:blip r:embed="rId1"/>
          <a:stretch/>
        </p:blipFill>
        <p:spPr>
          <a:xfrm>
            <a:off x="615960" y="1427040"/>
            <a:ext cx="83757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 in 2H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appearance of “ROCK” phis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t in drop off in .UK and .ES ph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d? late in year with “Avalanch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slowly in December - big in 2009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actics but uses fast-fl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sault on Venezuela (.V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repared registry (registry/registrar 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Flux attacks based on hundreds of VE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y was very slow to act to miti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ormal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k months to update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shers took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 Phishing TLDs by Sco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minimum 30,000 domains and 25 phi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762120" y="1752480"/>
          <a:ext cx="8076960" cy="3891240"/>
        </p:xfrm>
        <a:graphic>
          <a:graphicData uri="http://schemas.openxmlformats.org/drawingml/2006/table">
            <a:tbl>
              <a:tblPr/>
              <a:tblGrid>
                <a:gridCol w="761760"/>
                <a:gridCol w="914400"/>
                <a:gridCol w="1676520"/>
                <a:gridCol w="1676520"/>
                <a:gridCol w="1295280"/>
                <a:gridCol w="1752480"/>
              </a:tblGrid>
              <a:tr h="6858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c82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c82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LD 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c82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que Domain Names used for phishing 2H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c82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ains in registry in Dec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c82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ore: Phish per 10,000 domains 2H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c821"/>
                    </a:solidFill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ezue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8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ai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,8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l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,3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2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viet Un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,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,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,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3,6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etn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,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60,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iw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6,6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C 7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20:10:04Z</dcterms:created>
  <dc:creator/>
  <dc:description/>
  <cp:keywords/>
  <dc:language>en-US</dc:language>
  <cp:lastModifiedBy>Rod Rasmussen</cp:lastModifiedBy>
  <dcterms:modified xsi:type="dcterms:W3CDTF">2009-06-23T01:40:52Z</dcterms:modified>
  <cp:revision>40</cp:revision>
  <dc:subject/>
  <dc:title>APWG Update for ICANN Cross Constituency Meeting  </dc:title>
</cp:coreProperties>
</file>