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2DA0-B591-4D22-BBAA-843614713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BDF-EF92-4A3B-8735-63C32C352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39FB-8A49-4156-831D-2B45CC3B1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66CA-E1A5-4EFB-B8BD-58348D6A3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C873-E323-4E9F-B923-1A1E33DEB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5919-F840-4318-854E-61B0C24BB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1DDB-8E94-45D2-8E85-BC510DDC1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6ABC-8A56-42BF-A7CF-36B678951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7B6785-8582-4FE0-B6BA-DEACB07B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E6848D-75B1-427B-AF8F-F1643621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C0577-D587-4B4C-ADA6-5DECB3CD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A89ACA-9D83-489D-A89F-3DE4E5E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C4237-3A26-46C0-BBAE-C13F3C5C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85AB7D-DFCB-4DC6-B86B-F1C81D44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6A2472-426E-4611-9368-ADDDD5B2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53360-B9C9-4699-8405-D833CF77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053D71-663C-4B7B-BBB9-C70F0030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69C1EA-8F5E-4E39-ABED-D0305B40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58F8DC-7BD2-430D-A887-4EA95620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8EB2D1-35F7-4B2A-92B0-0DE5D707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69F2D6-244F-4AF0-942B-A1CFD893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7576A6-ED3D-44A7-80EC-E3E4408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A81D7D-7F2F-4085-9F99-C1F7FEB2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842F66-7D8C-4E4E-823F-0D5F96E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1839E7-2ECA-4BC5-90F2-F062B3B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FFE449-AC7C-4100-AD51-1CD5D9B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65B302-331C-4F03-994C-7521B488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38CA68-B7D0-424E-95D7-D64C305C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D9B6E4-ACC5-461A-9BE3-AA3478F5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2A4095-5B6B-41AA-A694-90C7CE1B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164FB6-2F18-4944-BD2E-07B95B3D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77E35F-1645-44C2-BA4E-99BA5FBB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FA956D-BB55-41A2-A984-C65FBD02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892046-71A2-491C-8173-DB69A2D4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737CF1-77C3-4098-9117-275AC3C3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705DB7-2A30-43D2-89DB-03A2D895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4EE23E-532D-4ACC-8B5F-6B71BE7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8E544F-311F-429F-902F-6B8B57F8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AB700-FCDE-4B87-8F44-C3BABD7C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F34733-4792-47D4-B5CD-AAB31709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DF9EEB-7DB2-4EF1-A688-E65F5A32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6F620C-156A-4476-9A58-8280812D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CA0A58-8E8A-4ED1-AE33-63AE50BE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65B213-71A6-4C40-8E1D-05DCBB6B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B82DA5-EC17-4C38-94DA-FB113535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5B9A48-E576-450B-AE7C-08E8BDF1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51E655-B596-415C-84FD-54734EEB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B727F7-0063-4275-BE1A-7219107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1723A1-8046-4226-AF25-6059C7FD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6AA8-C8D7-4516-95C0-92F26E4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0873B4-D5AC-44BE-AC37-2BED23EF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8BA5C1-D17A-49F5-A0B5-DA82FFF6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ADE27C-1786-4C11-AA01-D3B36BEE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37D24D-C643-492C-8B83-FD38AB6E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D3D541-73BC-4CE0-9D89-5D9A0223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EDC22E-329A-49FA-B502-44819B78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32A333-F673-4BF1-B3EE-7CD12D1E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9FEFF1-7AEA-4699-B29B-44883537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B036EC-1277-4E0A-A2F1-2CDD2F70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F1CE82-54EA-417C-AD42-F8E3EEC7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BCD62-84E8-4859-96DE-C1B4CB2F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DBFBA8-3AF5-4506-9481-A8413F64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051140-EDAB-4F29-8C22-F7B1D5A9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34AC5F-C51A-4221-848E-54FDD52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D756D5-A994-4612-95AA-3A4187D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B97CD5-465D-45D4-99C5-C72E7EC4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1689D4-843A-4F18-BF73-305799C8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2B70B2-2DA4-4406-B53C-9B2B0F25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90813-A53C-4492-BACB-1D3CCCF4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0B2E9-C326-46E0-BB3F-5940FF43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1D349-09A4-4FC2-AE0D-DFCE4DA7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12A7-F9EC-4172-A59D-242C038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0CDE6-E37F-44F7-9BAD-9A376501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75FF5-65D7-443C-B933-B49D606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5496C-6BFB-4B69-BC5A-ECB5B53B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B9212-7902-4CB5-B2CC-2362CBA4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31D94-03E2-4499-899D-A13B5AD5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C90AF-1073-473D-9C7D-6CB9643F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92ABA-5F49-4188-9DD9-ED258052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1291F-C020-4EF0-A2FB-F2B4A7FC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1142E-C5F4-45AC-96BC-5C85C2CB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FA3EF-C341-472A-BC90-B2C9809E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EC8F2-768F-4492-8CD4-D6CBF294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30CB2-DFD3-42DF-B601-BE33C23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A4065-DE02-47B6-A01E-FD5D6A2B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0DCCD-18EF-4C93-978A-F7866EEC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BEE93-51B7-4DC4-819D-4E419C24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17CFE-E0AD-418B-B9E3-AB3CFE94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88A3C-49B4-444E-9BFA-723AFD2A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24701-4BD3-4C22-A900-576FA037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262AF-A1A6-4047-9E5B-9B50E58D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86B06-8AA6-49F8-8FFF-C67E28CE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028A1-85F4-494D-9A02-ED3A335B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B3E8F-57B6-4567-B0D0-B719EEFC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27CE4-A13F-4F3D-B4B8-EE6B9AD3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D0682-2F5B-4D74-AA41-4EDFD63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B35D3-F044-47B2-8345-FE2B20E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FD06D-756B-4AA1-9127-8B3C6E66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EDAFE-6451-4BBA-A7AE-0AED768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CBD0F-5659-4991-8347-CC54259C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B12C5-0A5C-4F1B-87FB-30501352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6EB82-C56A-4AFA-8934-38877F2E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A3AD4-7A4C-4EDF-9F0E-EF9D9756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5E5B8-589D-458F-8B8F-2EA40630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D5587-8C4D-440D-95DA-1080C2A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6C75F-98D2-4C76-A98D-449ACAF0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B788A-D010-4781-9A41-60118258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2BDC0-7FD8-4423-A22D-BDBE77B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DAA6F1-F2F5-48C3-A37E-F88DC83F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F88E4-3DD5-4FF1-BC62-0710E65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666DF-5274-4279-9A19-4E4F032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FF416-5DDA-4690-B756-2D262E4E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0718B-1BF1-407D-BD40-0A471740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6533A-0CD5-4978-BFE4-74168532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1C60E-8C6E-4ABD-A535-4E0DBE45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9EA75-EABB-4645-BF6B-73B792CB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17D63-C76D-446E-974B-DCF9C19C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ABD77-EF6D-4ECD-89D9-BC723186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6ACB4-7113-42AD-B1E9-2211A23A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541D2-9B65-4A64-8A96-4B2C5B18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9227D-A39C-4920-A975-4A4805F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8613B-5C31-40B3-B92C-54898451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8485A-14CD-49D3-AE89-F469C7BA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7F59D-147B-437F-BE67-AAF72A3A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1E35A-645E-41A9-9319-8E2B4465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16B6C-9963-4F37-BDB9-99B14365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3548E-275E-457D-86A5-E54347BD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41782-D701-4FF2-A093-42C50622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54589-BF0B-4E7B-830F-20F6000C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36A59-C6E1-4559-9CD6-45A36B46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5A761-2F67-4BFD-8B69-354CF8A0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1DE48-D1A7-4661-8FDC-A269E79E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D669C-5D6D-4759-9699-DCCADC2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978493-834A-4A89-AA62-58043F32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3E871-E7BD-4A39-ABCF-C5ADDF45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C075D-2995-40EA-BBCB-1D057DE6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B3155-1488-4A70-9121-DEC8F718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374161-643C-42C0-B2CA-9B9A374E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1BD578-864F-4619-A713-862F6B5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D4A120-86F5-4CF4-B602-C8B45FB5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E42E57-0675-429B-8D71-EA40DA0C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E0372A-4B70-489A-A2F5-B5B11544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FD4142-E1A7-4E1B-8D5B-86923BDB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AD6BE2-12AE-473D-841D-51134487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8B8D7-19CB-4719-9552-102E8ED8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42A95-0BE8-45FF-8D16-7501270C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3906C-6B06-400C-A0A4-967DB703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DA2C1-7277-4614-8502-22A41D1B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B50318-EF85-45F3-A4DA-A016C99F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B188C4-BA11-4AC1-A790-98D2D7DB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CA658D-20DE-4509-BF3F-FB047511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17627D-8F96-45E7-A8CC-3177C822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8485-E711-4558-84E4-6AC073D5871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1CE1-3749-434D-BA10-8FD05D36862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F8DF-F29B-4A2B-B99E-59D9DD4CDF6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5968-5170-4315-AE7C-AD44E56722C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B527-A041-47AC-B819-E1AF34103C7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4BF8-78D7-41F9-B923-2879C673494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69D0-7916-4EF2-89E0-FA8CE0B29A7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ED37-0E48-4B6D-8EAE-28E6DB12422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5FF6-B49A-4CC9-B855-375C04CF5E3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1825-67F5-4D18-B1A9-16AD6D157E9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92A4-782B-4BF7-8C0D-66D85A0E6A9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31A9-4874-499D-9004-DC564968885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one-h.org/news/id/4708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6868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WG Update for ICANN Cross Constituency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160020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Rasm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 APWG Internet Polic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&amp; 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3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internet_identity"/>
          <p:cNvPicPr/>
          <p:nvPr/>
        </p:nvPicPr>
        <p:blipFill>
          <a:blip r:embed="rId1"/>
          <a:stretch/>
        </p:blipFill>
        <p:spPr>
          <a:xfrm>
            <a:off x="4343400" y="4229280"/>
            <a:ext cx="26035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icious Domain Regi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30,454 phishing domains, we identifi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,591 (18.5%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rly registered by phis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5,591, only 1,053 domains contained a relevant brand name or misspelling. (Only 3.5% of all domains used for phish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81% of domains used for phishing were “compromised” or hacked doma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omain name itself usually does not matter to phishers. A hacked domain name of any meaning (or no meaning), in any TLD, will d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39716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shers move from registrar to registrar, and TLD to TLD to exploit the best phishing “ho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away from IP-based ph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Internet names and numbers used for phishing has remained fairly steady over the past two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domain registration services are nearly as abused as standard domain registr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y anti-abuse programs have a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cious registrations &gt;1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shers happy to use any domai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lanche Phishing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cessor to infamous “ROCK” phis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dozens of domains daily at targeted registrar(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T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 responses of registr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st Flux Domain Ho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known name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but fixed bot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acking over 30 major brands concurr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ashing out millions of doll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3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1981080" cy="4953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lanche Brands Under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2133720" cy="5716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" descr=""/>
          <p:cNvPicPr/>
          <p:nvPr/>
        </p:nvPicPr>
        <p:blipFill>
          <a:blip r:embed="rId3"/>
          <a:stretch/>
        </p:blipFill>
        <p:spPr>
          <a:xfrm>
            <a:off x="4038480" y="3276720"/>
            <a:ext cx="1397160" cy="5713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7" descr=""/>
          <p:cNvPicPr/>
          <p:nvPr/>
        </p:nvPicPr>
        <p:blipFill>
          <a:blip r:embed="rId4"/>
          <a:stretch/>
        </p:blipFill>
        <p:spPr>
          <a:xfrm>
            <a:off x="2209680" y="3581280"/>
            <a:ext cx="1373400" cy="9273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8" descr=""/>
          <p:cNvPicPr/>
          <p:nvPr/>
        </p:nvPicPr>
        <p:blipFill>
          <a:blip r:embed="rId5"/>
          <a:stretch/>
        </p:blipFill>
        <p:spPr>
          <a:xfrm>
            <a:off x="6477120" y="1371600"/>
            <a:ext cx="1904760" cy="4129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6"/>
          <a:stretch/>
        </p:blipFill>
        <p:spPr>
          <a:xfrm>
            <a:off x="7010280" y="5105520"/>
            <a:ext cx="1981440" cy="6602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7"/>
          <a:stretch/>
        </p:blipFill>
        <p:spPr>
          <a:xfrm>
            <a:off x="3962520" y="4038480"/>
            <a:ext cx="1904760" cy="3524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2" descr=""/>
          <p:cNvPicPr/>
          <p:nvPr/>
        </p:nvPicPr>
        <p:blipFill>
          <a:blip r:embed="rId8"/>
          <a:stretch/>
        </p:blipFill>
        <p:spPr>
          <a:xfrm>
            <a:off x="762120" y="2971800"/>
            <a:ext cx="1003320" cy="5842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3" descr=""/>
          <p:cNvPicPr/>
          <p:nvPr/>
        </p:nvPicPr>
        <p:blipFill>
          <a:blip r:embed="rId9"/>
          <a:stretch/>
        </p:blipFill>
        <p:spPr>
          <a:xfrm>
            <a:off x="6553080" y="3324240"/>
            <a:ext cx="2210040" cy="638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4" descr=""/>
          <p:cNvPicPr/>
          <p:nvPr/>
        </p:nvPicPr>
        <p:blipFill>
          <a:blip r:embed="rId10"/>
          <a:stretch/>
        </p:blipFill>
        <p:spPr>
          <a:xfrm>
            <a:off x="5334120" y="5257800"/>
            <a:ext cx="1638360" cy="623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5" descr=""/>
          <p:cNvPicPr/>
          <p:nvPr/>
        </p:nvPicPr>
        <p:blipFill>
          <a:blip r:embed="rId11"/>
          <a:stretch/>
        </p:blipFill>
        <p:spPr>
          <a:xfrm>
            <a:off x="3962520" y="4724280"/>
            <a:ext cx="2031840" cy="30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7" descr=""/>
          <p:cNvPicPr/>
          <p:nvPr/>
        </p:nvPicPr>
        <p:blipFill>
          <a:blip r:embed="rId12"/>
          <a:stretch/>
        </p:blipFill>
        <p:spPr>
          <a:xfrm>
            <a:off x="3352680" y="1676520"/>
            <a:ext cx="2718000" cy="533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9" descr=""/>
          <p:cNvPicPr/>
          <p:nvPr/>
        </p:nvPicPr>
        <p:blipFill>
          <a:blip r:embed="rId13"/>
          <a:stretch/>
        </p:blipFill>
        <p:spPr>
          <a:xfrm>
            <a:off x="5257800" y="2514600"/>
            <a:ext cx="1523880" cy="606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0" descr=""/>
          <p:cNvPicPr/>
          <p:nvPr/>
        </p:nvPicPr>
        <p:blipFill>
          <a:blip r:embed="rId14"/>
          <a:stretch/>
        </p:blipFill>
        <p:spPr>
          <a:xfrm>
            <a:off x="1320840" y="4467240"/>
            <a:ext cx="2108160" cy="6382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2" descr=""/>
          <p:cNvPicPr/>
          <p:nvPr/>
        </p:nvPicPr>
        <p:blipFill>
          <a:blip r:embed="rId15"/>
          <a:stretch/>
        </p:blipFill>
        <p:spPr>
          <a:xfrm>
            <a:off x="7315200" y="4648320"/>
            <a:ext cx="1460520" cy="3538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4" descr=""/>
          <p:cNvPicPr/>
          <p:nvPr/>
        </p:nvPicPr>
        <p:blipFill>
          <a:blip r:embed="rId16"/>
          <a:stretch/>
        </p:blipFill>
        <p:spPr>
          <a:xfrm>
            <a:off x="3505320" y="2438280"/>
            <a:ext cx="1541520" cy="5400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5" descr=""/>
          <p:cNvPicPr/>
          <p:nvPr/>
        </p:nvPicPr>
        <p:blipFill>
          <a:blip r:embed="rId17"/>
          <a:stretch/>
        </p:blipFill>
        <p:spPr>
          <a:xfrm>
            <a:off x="7467480" y="1828800"/>
            <a:ext cx="787680" cy="7873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6" descr=""/>
          <p:cNvPicPr/>
          <p:nvPr/>
        </p:nvPicPr>
        <p:blipFill>
          <a:blip r:embed="rId18"/>
          <a:stretch/>
        </p:blipFill>
        <p:spPr>
          <a:xfrm>
            <a:off x="2438280" y="2514600"/>
            <a:ext cx="952560" cy="3175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7" descr=""/>
          <p:cNvPicPr/>
          <p:nvPr/>
        </p:nvPicPr>
        <p:blipFill>
          <a:blip r:embed="rId19"/>
          <a:stretch/>
        </p:blipFill>
        <p:spPr>
          <a:xfrm>
            <a:off x="838080" y="2502000"/>
            <a:ext cx="1371600" cy="3175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8" descr=""/>
          <p:cNvPicPr/>
          <p:nvPr/>
        </p:nvPicPr>
        <p:blipFill>
          <a:blip r:embed="rId20"/>
          <a:stretch/>
        </p:blipFill>
        <p:spPr>
          <a:xfrm>
            <a:off x="6095880" y="4114800"/>
            <a:ext cx="1714680" cy="4827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9" descr=""/>
          <p:cNvPicPr/>
          <p:nvPr/>
        </p:nvPicPr>
        <p:blipFill>
          <a:blip r:embed="rId21"/>
          <a:stretch/>
        </p:blipFill>
        <p:spPr>
          <a:xfrm>
            <a:off x="609480" y="1828800"/>
            <a:ext cx="1955880" cy="4809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1" descr=""/>
          <p:cNvPicPr/>
          <p:nvPr/>
        </p:nvPicPr>
        <p:blipFill>
          <a:blip r:embed="rId22"/>
          <a:stretch/>
        </p:blipFill>
        <p:spPr>
          <a:xfrm>
            <a:off x="2971800" y="5562720"/>
            <a:ext cx="2063880" cy="2952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2" descr=""/>
          <p:cNvPicPr/>
          <p:nvPr/>
        </p:nvPicPr>
        <p:blipFill>
          <a:blip r:embed="rId23"/>
          <a:stretch/>
        </p:blipFill>
        <p:spPr>
          <a:xfrm>
            <a:off x="8381880" y="1828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33" descr=""/>
          <p:cNvPicPr/>
          <p:nvPr/>
        </p:nvPicPr>
        <p:blipFill>
          <a:blip r:embed="rId24"/>
          <a:stretch/>
        </p:blipFill>
        <p:spPr>
          <a:xfrm>
            <a:off x="609480" y="1143000"/>
            <a:ext cx="2667240" cy="5461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4" descr=""/>
          <p:cNvPicPr/>
          <p:nvPr/>
        </p:nvPicPr>
        <p:blipFill>
          <a:blip r:embed="rId25"/>
          <a:stretch/>
        </p:blipFill>
        <p:spPr>
          <a:xfrm>
            <a:off x="4800600" y="1295280"/>
            <a:ext cx="1295280" cy="3891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35" descr=""/>
          <p:cNvPicPr/>
          <p:nvPr/>
        </p:nvPicPr>
        <p:blipFill>
          <a:blip r:embed="rId26"/>
          <a:stretch/>
        </p:blipFill>
        <p:spPr>
          <a:xfrm>
            <a:off x="7238880" y="2743200"/>
            <a:ext cx="1587600" cy="501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6" descr=""/>
          <p:cNvPicPr/>
          <p:nvPr/>
        </p:nvPicPr>
        <p:blipFill>
          <a:blip r:embed="rId27"/>
          <a:stretch/>
        </p:blipFill>
        <p:spPr>
          <a:xfrm>
            <a:off x="1828800" y="3048120"/>
            <a:ext cx="2097000" cy="4251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0" descr=""/>
          <p:cNvPicPr/>
          <p:nvPr/>
        </p:nvPicPr>
        <p:blipFill>
          <a:blip r:embed="rId28"/>
          <a:stretch/>
        </p:blipFill>
        <p:spPr>
          <a:xfrm>
            <a:off x="5791320" y="2057400"/>
            <a:ext cx="12952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acks Move Between Registr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6858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ce registrar identified, attacks continue until registrar re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s bogus regist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tigates domains within 3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ten looking for weak reseller of larger registr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C 3" descr=""/>
          <p:cNvPicPr/>
          <p:nvPr/>
        </p:nvPicPr>
        <p:blipFill>
          <a:blip r:embed="rId1"/>
          <a:stretch/>
        </p:blipFill>
        <p:spPr>
          <a:xfrm>
            <a:off x="1901880" y="1212840"/>
            <a:ext cx="58039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cking Attacks on Registr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ajor hacking attacks in Apr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 N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zone-h.org/news/id/47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 recent attacks around the wor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by Turkish hacker group “Peace Crew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 was site take-over for defa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of of concept or bragging rights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ars to be targeted SQL injection against domain management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4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803480" cy="33530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5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787640" cy="302112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5"/>
          <p:cNvGrpSpPr/>
          <p:nvPr/>
        </p:nvGrpSpPr>
        <p:grpSpPr>
          <a:xfrm>
            <a:off x="5257800" y="838080"/>
            <a:ext cx="3378240" cy="1881360"/>
            <a:chOff x="5257800" y="838080"/>
            <a:chExt cx="3378240" cy="1881360"/>
          </a:xfrm>
        </p:grpSpPr>
        <p:sp>
          <p:nvSpPr>
            <p:cNvPr id="697" name="Bent Arrow 9"/>
            <p:cNvSpPr/>
            <p:nvPr/>
          </p:nvSpPr>
          <p:spPr>
            <a:xfrm rot="5400000">
              <a:off x="5284800" y="1878120"/>
              <a:ext cx="814320" cy="868320"/>
            </a:xfrm>
            <a:prstGeom prst="pie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Box 4"/>
            <p:cNvSpPr/>
            <p:nvPr/>
          </p:nvSpPr>
          <p:spPr>
            <a:xfrm>
              <a:off x="5498640" y="838080"/>
              <a:ext cx="313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-over domain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ign new name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 A record to defac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ke up C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next attack be for real cr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 already hap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tery data in recent phish set-ups hint a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doing PEN t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key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customer dom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C working on a report addressing thes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Security Pos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’ve come a long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’ve still got a long way to g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acks now being directed against registrars and DNS infrastructure prov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dset change abou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TextBox 3" descr=""/>
          <p:cNvPicPr/>
          <p:nvPr/>
        </p:nvPicPr>
        <p:blipFill>
          <a:blip r:embed="rId1"/>
          <a:stretch/>
        </p:blipFill>
        <p:spPr>
          <a:xfrm>
            <a:off x="487440" y="3938760"/>
            <a:ext cx="87058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Critical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control is fundamental – recent attacks have proven this repeate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s to address for best practices/policy/self-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ng access and contro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criminal exploitation of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for attacks and exploit atte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with industry and L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WG IPC Initiative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hishing Surve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Malicious Registrations: Avalan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ks on Registrars: .PR and Domain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mphasis on the Internet as critical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WG continues to drive initiatives to improve Internet security and tr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ing ICANN community to develop collaborativ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minals continue to exploit “weak link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phisticated use of DNS for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attacks against registrars and infrastructure prov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in attitude on DNS security underw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and Registrars Best Practices’ document post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wpg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Rasmussen, Internet Ident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.rasmussen &lt;at&gt; internetidentit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 253 590 41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6868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WG Update for ICANN Cross Constituency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60020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Rasm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 APWG Internet Polic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&amp; 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3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6" descr="internet_identity"/>
          <p:cNvPicPr/>
          <p:nvPr/>
        </p:nvPicPr>
        <p:blipFill>
          <a:blip r:embed="rId1"/>
          <a:stretch/>
        </p:blipFill>
        <p:spPr>
          <a:xfrm>
            <a:off x="4343400" y="4229280"/>
            <a:ext cx="26035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/Recent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48BF-F6A7-4703-B77C-C2FF16A92F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Diagram 5" descr=""/>
          <p:cNvPicPr/>
          <p:nvPr/>
        </p:nvPicPr>
        <p:blipFill>
          <a:blip r:embed="rId1"/>
          <a:stretch/>
        </p:blipFill>
        <p:spPr>
          <a:xfrm>
            <a:off x="1011240" y="1292400"/>
            <a:ext cx="7351560" cy="969840"/>
          </a:xfrm>
          <a:prstGeom prst="rect">
            <a:avLst/>
          </a:prstGeom>
          <a:ln w="0">
            <a:noFill/>
          </a:ln>
        </p:spPr>
      </p:pic>
      <p:pic>
        <p:nvPicPr>
          <p:cNvPr id="638" name="Diagram 8" descr=""/>
          <p:cNvPicPr/>
          <p:nvPr/>
        </p:nvPicPr>
        <p:blipFill>
          <a:blip r:embed="rId2"/>
          <a:stretch/>
        </p:blipFill>
        <p:spPr>
          <a:xfrm>
            <a:off x="1011240" y="2109960"/>
            <a:ext cx="7351560" cy="987120"/>
          </a:xfrm>
          <a:prstGeom prst="rect">
            <a:avLst/>
          </a:prstGeom>
          <a:ln w="0">
            <a:noFill/>
          </a:ln>
        </p:spPr>
      </p:pic>
      <p:pic>
        <p:nvPicPr>
          <p:cNvPr id="639" name="Diagram 9" descr=""/>
          <p:cNvPicPr/>
          <p:nvPr/>
        </p:nvPicPr>
        <p:blipFill>
          <a:blip r:embed="rId3"/>
          <a:stretch/>
        </p:blipFill>
        <p:spPr>
          <a:xfrm>
            <a:off x="1011240" y="2871720"/>
            <a:ext cx="7351560" cy="987480"/>
          </a:xfrm>
          <a:prstGeom prst="rect">
            <a:avLst/>
          </a:prstGeom>
          <a:ln w="0">
            <a:noFill/>
          </a:ln>
        </p:spPr>
      </p:pic>
      <p:pic>
        <p:nvPicPr>
          <p:cNvPr id="640" name="Diagram 7" descr=""/>
          <p:cNvPicPr/>
          <p:nvPr/>
        </p:nvPicPr>
        <p:blipFill>
          <a:blip r:embed="rId4"/>
          <a:stretch/>
        </p:blipFill>
        <p:spPr>
          <a:xfrm>
            <a:off x="1011240" y="3633840"/>
            <a:ext cx="7394400" cy="987480"/>
          </a:xfrm>
          <a:prstGeom prst="rect">
            <a:avLst/>
          </a:prstGeom>
          <a:ln w="0">
            <a:noFill/>
          </a:ln>
        </p:spPr>
      </p:pic>
      <p:pic>
        <p:nvPicPr>
          <p:cNvPr id="641" name="Diagram 10" descr=""/>
          <p:cNvPicPr/>
          <p:nvPr/>
        </p:nvPicPr>
        <p:blipFill>
          <a:blip r:embed="rId5"/>
          <a:stretch/>
        </p:blipFill>
        <p:spPr>
          <a:xfrm>
            <a:off x="1011240" y="4432320"/>
            <a:ext cx="7394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ing Page Working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and running for over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dreds of sites redi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20+ languages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sands of consumers edu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exam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hapelenterprises.com/index/hsbcbankingonline/IBlogi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o be made available to brand holders that are APW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st APWG Phishing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66320" y="132084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omain names and UR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nsistent benchmark for scope of phishing problems 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phishers a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new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hot-spots and success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anti-abus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pwg.org/reports/APWG_GlobalPhishingSurvey2H2008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Table Placeholder 36" descr=""/>
          <p:cNvPicPr/>
          <p:nvPr/>
        </p:nvPicPr>
        <p:blipFill>
          <a:blip r:embed="rId1"/>
          <a:stretch/>
        </p:blipFill>
        <p:spPr>
          <a:xfrm>
            <a:off x="615960" y="1427040"/>
            <a:ext cx="83757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in 2H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appearance of “ROCK” phis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t in drop off in .UK and .ES ph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? late in year with “Avalanch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slowly in December - big in 200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actics but uses fast-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ault on Venezuela (.V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 registry (registry/registrar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Flux attacks based on hundreds of V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y was very slow to act to miti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orma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k months to updat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shers took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Phishing TLDs by Sco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minimum 30,000 domains and 25 phi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762120" y="1752480"/>
          <a:ext cx="8076960" cy="3891240"/>
        </p:xfrm>
        <a:graphic>
          <a:graphicData uri="http://schemas.openxmlformats.org/drawingml/2006/table">
            <a:tbl>
              <a:tblPr/>
              <a:tblGrid>
                <a:gridCol w="761760"/>
                <a:gridCol w="914400"/>
                <a:gridCol w="1676520"/>
                <a:gridCol w="1676520"/>
                <a:gridCol w="1295280"/>
                <a:gridCol w="1752480"/>
              </a:tblGrid>
              <a:tr h="6858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LD 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que Domain Names used for phishing 2H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ains in registry in Dec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re: Phish per 10,000 domains 2H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ezu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8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ai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,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viet Un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,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,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,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3,6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et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,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60,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6,6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C 7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20:10:04Z</dcterms:created>
  <dc:creator/>
  <dc:description/>
  <cp:keywords/>
  <dc:language>en-US</dc:language>
  <cp:lastModifiedBy>Rod Rasmussen</cp:lastModifiedBy>
  <dcterms:modified xsi:type="dcterms:W3CDTF">2009-06-23T01:40:52Z</dcterms:modified>
  <cp:revision>40</cp:revision>
  <dc:subject/>
  <dc:title>APWG Update for ICANN Cross Constituency Meeting  </dc:title>
</cp:coreProperties>
</file>