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308B-D5CC-4E96-A55D-137479F7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8338-3C8B-4D53-A281-50D80979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10EB-9623-46AE-87E0-0FE3E813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8B58-E9A6-420A-8CD5-E29C0068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3D93-D9EE-44E5-9B61-615D6C4B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A66B-80BD-4004-90C4-D68642A3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AEB9-7264-466A-9388-59E94414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CC25-F338-4CA7-AE09-D5307D65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7ABD-84AF-4257-B50C-28A23572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853C-3009-422B-AAEB-E3428F9B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5174-5060-4AB8-BA05-52DF2E9F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BBDA-9947-464A-BBEA-36834213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86E1-BF84-4CDB-AB54-D788E6542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ing a Permanent Charter for the Commercial Stakeholde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22,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rah Deutsch, CSG Representative/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ercial Stakeholders Group (CSG): Char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dated by GNSO Structural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Names Supporting Organization was restructured into Four Stakeholder Groups /Two Houses – Board Committee dr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ucturing Groups are still finalizing their recommendations/public comments will be needed. Some may not be satisfactory to BC’s members – e.g. mandating structures onto constitu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ter is supposed to be approved by ICANN Board in December meeting in Cartege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List of Topics to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on of C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 of the C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ituency Rights and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G Roles vs. Roles for the Individual Constit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G Role vs. Role of the Officers of Constit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Council in new GNSO restructured ‘world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ition and Membership Qualifications for C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ership Structure, Selection and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for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ation of what topics are CSG’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G Public Meetings and Transparency, websit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considerations, including recommendations offered by the GNSO Operations Steering Committee &amp; Stakeholder “Working Tea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Charter Must be Completed by October, for review and agreement across three constituencies; for approval by Board at Cartagena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initial edits to Ch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be co-drafting with other CSG reps on initial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 small working group to help to offer suggestions on language options and comments on draft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for a face to face in late September or October, back to back with proposed BC members meeting for joint CSG working session to review final draft of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 Rob Hoggarth/Ken Bour, ICANN staff as supportive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01:23:33Z</dcterms:created>
  <dc:creator/>
  <dc:description/>
  <dc:language>en-US</dc:language>
  <cp:lastModifiedBy>v285102</cp:lastModifiedBy>
  <cp:lastPrinted>2010-06-17T02:23:00Z</cp:lastPrinted>
  <dcterms:modified xsi:type="dcterms:W3CDTF">2010-06-17T15:49:55Z</dcterms:modified>
  <cp:revision>5</cp:revision>
  <dc:subject/>
  <dc:title>What Issues Should be Addressed in Developing a Permanent Charter for the Commercial Stakeholder Group?</dc:title>
</cp:coreProperties>
</file>