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C70-A471-48BE-86E6-5C285BE2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DE2-A6EE-406F-8865-B377BFDD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1D7-8A72-41B0-9404-2E0CD70E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100-F2DC-4630-83CB-70413FA5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1B4-6EFC-4E38-97C2-BCA38EB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339-A5D8-48A3-9BDB-FE84994F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DDE-A7EB-4FEB-8988-12C59A48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0C2-BF02-4A89-93FF-7DC6E77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1FA-2C6F-42F8-84AD-EC49396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082-30C2-4DC7-97AF-46FFAF83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A4E-413C-4649-ACAA-8A1A1663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A0A-1656-432C-BB46-0ECE9911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929B-AE69-455A-AF46-72472630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 Permanent Charter for the Commercial Stakehold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2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h Deutsch, CSG Representative/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rcial Stakeholders Group (CSG): Char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GNSO Structural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Names Supporting Organization was restructured into Four Stakeholder Groups /Two Houses – Board Committee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Groups are still finalizing their recommendations/public comments will be needed. Some may not be satisfactory to BC’s members – e.g. mandating structures onto constit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is supposed to be approved by ICANN Board in December meeting in Carteg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List of Topics to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of C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of the C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ency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G Roles vs. Roles for the Individual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G Role vs. Role of the Officers of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Council in new GNSO restructured ‘worl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and Membership Qualifications for C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 Structure, Selection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o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 of what topics are CSG’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G Public Meetings and Transparency, websi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nsiderations, including recommendations offered by the GNSO Operations Steering Committee &amp; Stakeholder “Working Te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Charter Must be Completed by October, for review and agreement across three constituencies; for approval by Board at Cartagen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nitial edits to C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co-drafting with other CSG reps on initi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small working group to help to offer suggestions on language options and comments on draft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a face to face in late September or October, back to back with proposed BC members meeting for joint CSG working session to review final draft of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 Rob Hoggarth/Ken Bour, ICANN staff as supportiv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1:23:33Z</dcterms:created>
  <dc:creator/>
  <dc:description/>
  <dc:language>en-US</dc:language>
  <cp:lastModifiedBy>v285102</cp:lastModifiedBy>
  <cp:lastPrinted>2010-06-17T02:23:00Z</cp:lastPrinted>
  <dcterms:modified xsi:type="dcterms:W3CDTF">2010-06-17T15:49:55Z</dcterms:modified>
  <cp:revision>5</cp:revision>
  <dc:subject/>
  <dc:title>What Issues Should be Addressed in Developing a Permanent Charter for the Commercial Stakeholder Group?</dc:title>
</cp:coreProperties>
</file>