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3391-435C-4505-91CE-0E66AF42C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AEE8-00EC-443E-8574-DF84573DB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64AE-8D27-4C01-8A0F-8CA77EEB6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8F87-E3FD-45F5-AD00-CBB611EDA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4699B-C364-442D-92E3-E8998894A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1C4DB-08C4-47CF-9554-276407908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9DC07-50AF-4830-B8D5-07AD3FC21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837F3-C88E-4CDF-81AB-8E422AA71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6E16C-0490-4322-9EA5-3AC0A5C65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C5FF1-A98C-442A-BA92-ECA15CE05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D0D2C-C323-4113-887D-572766EF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9478-E0F8-45A7-99C0-C13FE566D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31964-CF4F-44EF-A9AB-E598A274F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3B8C1-D80E-48F2-83AA-78CC5833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4ADF2-5982-4CFE-AE23-AF40774EC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16A48-2E22-4E47-ACDD-7210510FC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33D50-EE2D-443F-BB0C-849C3292B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47CE8-F15D-4D06-B1B3-2D9AA8969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565F0-4F0A-42D8-BB61-93FB2DFD2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33E15-78C0-4DC0-8FDB-BFACE60CB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9BC1A-AB81-47CD-8E59-A6AD392BA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A6768-D039-434C-A538-4C60EFEAC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31F6-1335-49AA-81B7-6B34D0912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202F4-0BD9-4657-AA13-4F3DB2633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8543D-3325-45F9-B37B-1A8E4D3AF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94E16-587B-458D-8D07-CCEE8FB9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852CA-9657-4A37-9FD9-575698C9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A8F99-3E9D-41FD-AD53-F52404220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96CD8-EBAE-4FB0-98B7-659592CD3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D5924-3062-4D97-BA93-3C680975F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A05DE-531D-48F0-8A3D-9F0D69947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8B12F-869D-4AE1-9DE7-DE15C7F1F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FF1CE-A8BD-414D-8D1A-DDB5399CA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141F-ABB4-40F1-B4B5-B55BA58BE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0F2CA-E9A1-4253-9974-DA8BEAEE5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5DBE9-DF8C-4F44-9283-7E94AEA6D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7B736-2CD0-45FB-B747-460EBF85F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40723-79F3-4102-8D60-563E84309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B4A3C-C111-482B-B21E-5A5B9247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4142D-1A30-4468-8A97-9CC3DAB12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FC800-B8FB-48D6-92D8-0560E5D10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F088B-273C-4E2C-B8FC-148C41D14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EF8D1-B8B5-44B4-ADBF-EF2B9792E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16BF-AA1F-4C15-AE23-6CDDF299D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8D88-8D11-4AF6-9A33-C4EC82DF8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68DB-D03F-4153-A7B6-157279A0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60DE-3CF8-4B92-8CB7-AD3AFCB3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79DA-0C8C-4974-B613-0465055E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F14E27-F0EE-4926-BD30-32E74003228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4A7CE3-1352-492D-8B80-4F8FF7706AD6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628BBE-A373-478E-96F2-F8B5C080BB48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AD4577-630A-4641-85C6-A3FB1020E78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Group 18"/>
          <p:cNvGrpSpPr/>
          <p:nvPr/>
        </p:nvGrpSpPr>
        <p:grpSpPr>
          <a:xfrm>
            <a:off x="76320" y="2895480"/>
            <a:ext cx="8999280" cy="447840"/>
            <a:chOff x="76320" y="2895480"/>
            <a:chExt cx="8999280" cy="447840"/>
          </a:xfrm>
        </p:grpSpPr>
        <p:sp>
          <p:nvSpPr>
            <p:cNvPr id="196" name="AutoShape 20"/>
            <p:cNvSpPr/>
            <p:nvPr/>
          </p:nvSpPr>
          <p:spPr>
            <a:xfrm>
              <a:off x="76320" y="2895480"/>
              <a:ext cx="8999280" cy="447840"/>
            </a:xfrm>
            <a:prstGeom prst="roundRect">
              <a:avLst>
                <a:gd name="adj" fmla="val 16667"/>
              </a:avLst>
            </a:prstGeom>
            <a:solidFill>
              <a:srgbClr val="31849b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97" name="Text Box 19"/>
            <p:cNvSpPr/>
            <p:nvPr/>
          </p:nvSpPr>
          <p:spPr>
            <a:xfrm>
              <a:off x="171720" y="2971440"/>
              <a:ext cx="8817480" cy="276120"/>
            </a:xfrm>
            <a:prstGeom prst="rect">
              <a:avLst/>
            </a:prstGeom>
            <a:solidFill>
              <a:srgbClr val="3184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OCT          NOV          DEC        JAN          FEB         MAR          APR         MAY       JUN        JUL         AUG          SEP 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cxnSp>
        <p:nvCxnSpPr>
          <p:cNvPr id="198" name="AutoShape 2"/>
          <p:cNvCxnSpPr/>
          <p:nvPr/>
        </p:nvCxnSpPr>
        <p:spPr>
          <a:xfrm>
            <a:off x="1487520" y="2285640"/>
            <a:ext cx="6201360" cy="1080"/>
          </a:xfrm>
          <a:prstGeom prst="straightConnector1">
            <a:avLst/>
          </a:prstGeom>
          <a:ln w="28440">
            <a:solidFill>
              <a:srgbClr val="c00000"/>
            </a:solidFill>
            <a:miter/>
            <a:headEnd len="med" type="oval" w="med"/>
            <a:tailEnd len="med" type="oval" w="med"/>
          </a:ln>
        </p:spPr>
      </p:cxnSp>
      <p:sp>
        <p:nvSpPr>
          <p:cNvPr id="199" name="AutoShape 32"/>
          <p:cNvSpPr/>
          <p:nvPr/>
        </p:nvSpPr>
        <p:spPr>
          <a:xfrm>
            <a:off x="243000" y="5262480"/>
            <a:ext cx="5368680" cy="1067040"/>
          </a:xfrm>
          <a:prstGeom prst="flowChartInputOutput">
            <a:avLst/>
          </a:prstGeom>
          <a:solidFill>
            <a:srgbClr val="fdd7cb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idate Application Perio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AutoShape 23"/>
          <p:cNvSpPr/>
          <p:nvPr/>
        </p:nvSpPr>
        <p:spPr>
          <a:xfrm>
            <a:off x="8211960" y="2494080"/>
            <a:ext cx="932040" cy="392040"/>
          </a:xfrm>
          <a:custGeom>
            <a:avLst/>
            <a:gdLst>
              <a:gd name="textAreaLeft" fmla="*/ 0 w 932040"/>
              <a:gd name="textAreaRight" fmla="*/ 932400 w 932040"/>
              <a:gd name="textAreaTop" fmla="*/ 0 h 392040"/>
              <a:gd name="textAreaBottom" fmla="*/ 392400 h 39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32" y="0"/>
                </a:lnTo>
                <a:lnTo>
                  <a:pt x="21600" y="10800"/>
                </a:lnTo>
                <a:lnTo>
                  <a:pt x="1733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5dfec"/>
          </a:solidFill>
          <a:ln w="28440">
            <a:solidFill>
              <a:srgbClr val="5f4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nstantia"/>
              </a:rPr>
              <a:t>Phase V</a:t>
            </a: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nstantia"/>
              </a:rPr>
              <a:t>Reporting</a:t>
            </a: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01" name="AutoShape 13"/>
          <p:cNvCxnSpPr/>
          <p:nvPr/>
        </p:nvCxnSpPr>
        <p:spPr>
          <a:xfrm>
            <a:off x="764640" y="3260880"/>
            <a:ext cx="1080" cy="351360"/>
          </a:xfrm>
          <a:prstGeom prst="straightConnector1">
            <a:avLst/>
          </a:prstGeom>
          <a:ln w="19080">
            <a:solidFill>
              <a:srgbClr val="c00000"/>
            </a:solidFill>
            <a:miter/>
            <a:headEnd len="med" type="triangle" w="med"/>
          </a:ln>
        </p:spPr>
      </p:cxnSp>
      <p:cxnSp>
        <p:nvCxnSpPr>
          <p:cNvPr id="202" name="AutoShape 12"/>
          <p:cNvCxnSpPr/>
          <p:nvPr/>
        </p:nvCxnSpPr>
        <p:spPr>
          <a:xfrm>
            <a:off x="5027400" y="3268800"/>
            <a:ext cx="1080" cy="389520"/>
          </a:xfrm>
          <a:prstGeom prst="straightConnector1">
            <a:avLst/>
          </a:prstGeom>
          <a:ln w="19080">
            <a:solidFill>
              <a:srgbClr val="c00000"/>
            </a:solidFill>
            <a:miter/>
            <a:headEnd len="med" type="triangle" w="med"/>
          </a:ln>
        </p:spPr>
      </p:cxnSp>
      <p:cxnSp>
        <p:nvCxnSpPr>
          <p:cNvPr id="203" name="AutoShape 10"/>
          <p:cNvCxnSpPr/>
          <p:nvPr/>
        </p:nvCxnSpPr>
        <p:spPr>
          <a:xfrm>
            <a:off x="7016400" y="3276720"/>
            <a:ext cx="1080" cy="367200"/>
          </a:xfrm>
          <a:prstGeom prst="straightConnector1">
            <a:avLst/>
          </a:prstGeom>
          <a:ln w="19080">
            <a:solidFill>
              <a:srgbClr val="c00000"/>
            </a:solidFill>
            <a:miter/>
            <a:headEnd len="med" type="triangle" w="med"/>
          </a:ln>
        </p:spPr>
      </p:cxnSp>
      <p:sp>
        <p:nvSpPr>
          <p:cNvPr id="204" name="AutoShape 9"/>
          <p:cNvSpPr/>
          <p:nvPr/>
        </p:nvSpPr>
        <p:spPr>
          <a:xfrm>
            <a:off x="6365880" y="3581280"/>
            <a:ext cx="1295280" cy="1067040"/>
          </a:xfrm>
          <a:prstGeom prst="hexagon">
            <a:avLst>
              <a:gd name="adj" fmla="val 40239"/>
              <a:gd name="vf" fmla="val 115470"/>
            </a:avLst>
          </a:prstGeom>
          <a:solidFill>
            <a:srgbClr val="daeef3"/>
          </a:solidFill>
          <a:ln w="12600">
            <a:solidFill>
              <a:srgbClr val="205867"/>
            </a:solidFill>
            <a:miter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05" name="AutoShape 8"/>
          <p:cNvCxnSpPr/>
          <p:nvPr/>
        </p:nvCxnSpPr>
        <p:spPr>
          <a:xfrm flipH="1">
            <a:off x="8364240" y="3276720"/>
            <a:ext cx="2160" cy="1108800"/>
          </a:xfrm>
          <a:prstGeom prst="straightConnector1">
            <a:avLst/>
          </a:prstGeom>
          <a:ln w="19080">
            <a:solidFill>
              <a:srgbClr val="c00000"/>
            </a:solidFill>
            <a:miter/>
            <a:headEnd len="med" type="triangle" w="med"/>
          </a:ln>
        </p:spPr>
      </p:cxnSp>
      <p:sp>
        <p:nvSpPr>
          <p:cNvPr id="206" name="Rectangle 3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9" descr="ICANNLogodkbluesm"/>
          <p:cNvPicPr/>
          <p:nvPr/>
        </p:nvPicPr>
        <p:blipFill>
          <a:blip r:embed="rId2"/>
          <a:stretch/>
        </p:blipFill>
        <p:spPr>
          <a:xfrm>
            <a:off x="-4680" y="152280"/>
            <a:ext cx="857160" cy="685800"/>
          </a:xfrm>
          <a:prstGeom prst="rect">
            <a:avLst/>
          </a:prstGeom>
          <a:ln w="0">
            <a:noFill/>
          </a:ln>
        </p:spPr>
      </p:pic>
      <p:sp>
        <p:nvSpPr>
          <p:cNvPr id="208" name="TextBox 46"/>
          <p:cNvSpPr/>
          <p:nvPr/>
        </p:nvSpPr>
        <p:spPr>
          <a:xfrm>
            <a:off x="6440400" y="388620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urba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TextBox 53"/>
          <p:cNvSpPr/>
          <p:nvPr/>
        </p:nvSpPr>
        <p:spPr>
          <a:xfrm>
            <a:off x="7427880" y="5638680"/>
            <a:ext cx="171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electee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nounc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TextBox 32"/>
          <p:cNvSpPr/>
          <p:nvPr/>
        </p:nvSpPr>
        <p:spPr>
          <a:xfrm>
            <a:off x="657360" y="1652760"/>
            <a:ext cx="82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alls: Monthly-----Biweekly-------Weekly-----------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Title 33" descr=""/>
          <p:cNvPicPr/>
          <p:nvPr/>
        </p:nvPicPr>
        <p:blipFill>
          <a:blip r:embed="rId3"/>
          <a:stretch/>
        </p:blipFill>
        <p:spPr>
          <a:xfrm>
            <a:off x="420840" y="646200"/>
            <a:ext cx="8308800" cy="1334880"/>
          </a:xfrm>
          <a:prstGeom prst="rect">
            <a:avLst/>
          </a:prstGeom>
          <a:ln w="0">
            <a:noFill/>
          </a:ln>
        </p:spPr>
      </p:pic>
      <p:grpSp>
        <p:nvGrpSpPr>
          <p:cNvPr id="212" name="Vertical Scroll 30"/>
          <p:cNvGrpSpPr/>
          <p:nvPr/>
        </p:nvGrpSpPr>
        <p:grpSpPr>
          <a:xfrm>
            <a:off x="7705800" y="4468680"/>
            <a:ext cx="1170000" cy="1273320"/>
            <a:chOff x="7705800" y="4468680"/>
            <a:chExt cx="1170000" cy="1273320"/>
          </a:xfrm>
        </p:grpSpPr>
        <p:pic>
          <p:nvPicPr>
            <p:cNvPr id="213" name="Vertical Scroll 30" descr=""/>
            <p:cNvPicPr/>
            <p:nvPr/>
          </p:nvPicPr>
          <p:blipFill>
            <a:blip r:embed="rId4"/>
            <a:stretch/>
          </p:blipFill>
          <p:spPr>
            <a:xfrm>
              <a:off x="7705800" y="4468680"/>
              <a:ext cx="1170000" cy="127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7900920" y="4624560"/>
              <a:ext cx="776520" cy="9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cxnSp>
        <p:nvCxnSpPr>
          <p:cNvPr id="215" name="AutoShape 15"/>
          <p:cNvCxnSpPr/>
          <p:nvPr/>
        </p:nvCxnSpPr>
        <p:spPr>
          <a:xfrm flipV="1">
            <a:off x="5611320" y="3257280"/>
            <a:ext cx="1080" cy="199440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216" name="AutoShape 29"/>
          <p:cNvCxnSpPr/>
          <p:nvPr/>
        </p:nvCxnSpPr>
        <p:spPr>
          <a:xfrm flipV="1">
            <a:off x="1331640" y="3257280"/>
            <a:ext cx="1080" cy="198792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217" name="AutoShape 5"/>
          <p:cNvSpPr/>
          <p:nvPr/>
        </p:nvSpPr>
        <p:spPr>
          <a:xfrm>
            <a:off x="88920" y="3581280"/>
            <a:ext cx="1371600" cy="1067040"/>
          </a:xfrm>
          <a:prstGeom prst="hexagon">
            <a:avLst>
              <a:gd name="adj" fmla="val 40247"/>
              <a:gd name="vf" fmla="val 115470"/>
            </a:avLst>
          </a:prstGeom>
          <a:solidFill>
            <a:srgbClr val="daeef3"/>
          </a:solidFill>
          <a:ln w="12600">
            <a:solidFill>
              <a:srgbClr val="205867"/>
            </a:solidFill>
            <a:miter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TextBox 44"/>
          <p:cNvSpPr/>
          <p:nvPr/>
        </p:nvSpPr>
        <p:spPr>
          <a:xfrm>
            <a:off x="169920" y="387828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oront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AutoShape 27"/>
          <p:cNvSpPr/>
          <p:nvPr/>
        </p:nvSpPr>
        <p:spPr>
          <a:xfrm>
            <a:off x="4356000" y="3622680"/>
            <a:ext cx="1366920" cy="990720"/>
          </a:xfrm>
          <a:prstGeom prst="hexagon">
            <a:avLst>
              <a:gd name="adj" fmla="val 40255"/>
              <a:gd name="vf" fmla="val 115470"/>
            </a:avLst>
          </a:prstGeom>
          <a:solidFill>
            <a:srgbClr val="daeef3"/>
          </a:solidFill>
          <a:ln w="12600">
            <a:solidFill>
              <a:srgbClr val="205867"/>
            </a:solidFill>
            <a:miter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TextBox 45"/>
          <p:cNvSpPr/>
          <p:nvPr/>
        </p:nvSpPr>
        <p:spPr>
          <a:xfrm>
            <a:off x="4516560" y="3887640"/>
            <a:ext cx="114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AutoShape 26"/>
          <p:cNvSpPr/>
          <p:nvPr/>
        </p:nvSpPr>
        <p:spPr>
          <a:xfrm>
            <a:off x="7021440" y="2486160"/>
            <a:ext cx="1343160" cy="399960"/>
          </a:xfrm>
          <a:custGeom>
            <a:avLst/>
            <a:gdLst>
              <a:gd name="textAreaLeft" fmla="*/ 0 w 1343160"/>
              <a:gd name="textAreaRight" fmla="*/ 1343520 w 1343160"/>
              <a:gd name="textAreaTop" fmla="*/ 0 h 399960"/>
              <a:gd name="textAreaBottom" fmla="*/ 400320 h 39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18" y="0"/>
                </a:lnTo>
                <a:lnTo>
                  <a:pt x="21600" y="10800"/>
                </a:lnTo>
                <a:lnTo>
                  <a:pt x="1891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284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nstantia"/>
              </a:rPr>
              <a:t>Phase IV</a:t>
            </a: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nstantia"/>
              </a:rPr>
              <a:t>Selection</a:t>
            </a: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AutoShape 25"/>
          <p:cNvSpPr/>
          <p:nvPr/>
        </p:nvSpPr>
        <p:spPr>
          <a:xfrm>
            <a:off x="3987720" y="2489040"/>
            <a:ext cx="3214800" cy="397080"/>
          </a:xfrm>
          <a:custGeom>
            <a:avLst/>
            <a:gdLst>
              <a:gd name="textAreaLeft" fmla="*/ 0 w 3214800"/>
              <a:gd name="textAreaRight" fmla="*/ 3215160 w 321480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454" y="0"/>
                </a:lnTo>
                <a:lnTo>
                  <a:pt x="21600" y="10800"/>
                </a:lnTo>
                <a:lnTo>
                  <a:pt x="2045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abf8f"/>
          </a:solidFill>
          <a:ln w="28440">
            <a:solidFill>
              <a:srgbClr val="e3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nstantia"/>
              </a:rPr>
              <a:t>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nstantia"/>
              </a:rPr>
              <a:t>Phase III</a:t>
            </a: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nstantia"/>
              </a:rPr>
              <a:t>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nstantia"/>
              </a:rPr>
              <a:t>Assessment</a:t>
            </a: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AutoShape 24"/>
          <p:cNvSpPr/>
          <p:nvPr/>
        </p:nvSpPr>
        <p:spPr>
          <a:xfrm>
            <a:off x="1332000" y="2494080"/>
            <a:ext cx="4279680" cy="392040"/>
          </a:xfrm>
          <a:custGeom>
            <a:avLst/>
            <a:gdLst>
              <a:gd name="textAreaLeft" fmla="*/ 0 w 4279680"/>
              <a:gd name="textAreaRight" fmla="*/ 4280040 w 4279680"/>
              <a:gd name="textAreaTop" fmla="*/ 0 h 392040"/>
              <a:gd name="textAreaBottom" fmla="*/ 392400 h 39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12" y="0"/>
                </a:lnTo>
                <a:lnTo>
                  <a:pt x="21600" y="10800"/>
                </a:lnTo>
                <a:lnTo>
                  <a:pt x="2061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5d07a">
              <a:alpha val="75000"/>
            </a:srgbClr>
          </a:solidFill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nstantia"/>
              </a:rPr>
              <a:t>Phase II</a:t>
            </a: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nstantia"/>
              </a:rPr>
              <a:t>Recruitment</a:t>
            </a: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AutoShape 22"/>
          <p:cNvSpPr/>
          <p:nvPr/>
        </p:nvSpPr>
        <p:spPr>
          <a:xfrm>
            <a:off x="657360" y="2494080"/>
            <a:ext cx="920520" cy="392040"/>
          </a:xfrm>
          <a:custGeom>
            <a:avLst/>
            <a:gdLst>
              <a:gd name="textAreaLeft" fmla="*/ 0 w 920520"/>
              <a:gd name="textAreaRight" fmla="*/ 920880 w 920520"/>
              <a:gd name="textAreaTop" fmla="*/ 0 h 392040"/>
              <a:gd name="textAreaBottom" fmla="*/ 392400 h 39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85" y="0"/>
                </a:lnTo>
                <a:lnTo>
                  <a:pt x="21600" y="10800"/>
                </a:lnTo>
                <a:lnTo>
                  <a:pt x="160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db3e2">
              <a:alpha val="75000"/>
            </a:srgbClr>
          </a:solidFill>
          <a:ln w="28440">
            <a:solidFill>
              <a:srgbClr val="365f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nstantia"/>
              </a:rPr>
              <a:t>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nstantia"/>
              </a:rPr>
              <a:t>Phase I                                           Preparatory</a:t>
            </a: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AutoShape 21"/>
          <p:cNvSpPr/>
          <p:nvPr/>
        </p:nvSpPr>
        <p:spPr>
          <a:xfrm>
            <a:off x="0" y="2495520"/>
            <a:ext cx="765000" cy="399960"/>
          </a:xfrm>
          <a:custGeom>
            <a:avLst/>
            <a:gdLst>
              <a:gd name="textAreaLeft" fmla="*/ 0 w 765000"/>
              <a:gd name="textAreaRight" fmla="*/ 765360 w 765000"/>
              <a:gd name="textAreaTop" fmla="*/ 0 h 399960"/>
              <a:gd name="textAreaBottom" fmla="*/ 400320 h 39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2" y="0"/>
                </a:lnTo>
                <a:lnTo>
                  <a:pt x="21600" y="10800"/>
                </a:lnTo>
                <a:lnTo>
                  <a:pt x="1774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5dfec">
              <a:alpha val="75000"/>
            </a:srgbClr>
          </a:solidFill>
          <a:ln w="28440">
            <a:solidFill>
              <a:srgbClr val="5f4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nstantia"/>
              </a:rPr>
              <a:t>Phase V</a:t>
            </a: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nstantia"/>
              </a:rPr>
              <a:t>Reporting</a:t>
            </a: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1T15:42:50Z</dcterms:created>
  <dc:creator>Yrjo Lansipuro</dc:creator>
  <dc:description/>
  <dc:language>en-US</dc:language>
  <cp:lastModifiedBy>Owner</cp:lastModifiedBy>
  <dcterms:modified xsi:type="dcterms:W3CDTF">2012-10-23T15:48:59Z</dcterms:modified>
  <cp:revision>17</cp:revision>
  <dc:subject/>
  <dc:title>NomCom kick-start meeting</dc:title>
</cp:coreProperties>
</file>