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</p:sldMasterIdLst>
  <p:sldIdLst>
    <p:sldId id="256" r:id="rId64"/>
    <p:sldId id="257" r:id="rId65"/>
    <p:sldId id="25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3F6B1-A36C-4B65-BAA4-54763A1337A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7D1F9-2E21-4AC8-8174-9702AC813FE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39ECE-C1A3-4D7B-A570-BF9F2949F74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531B2-81EA-4161-9741-BE44C043008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7E9B6-FECE-4287-8F77-7FB50818E7A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2B3FA-47C4-453E-A999-51357379F31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F3B3A-1086-4F00-A713-B258A960085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96147-61E4-4B71-9D25-27E8BAC032C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84D4A-DBE8-4113-ABCF-D0FBFF037AF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B564-0077-4DF1-A38C-B3CC212ADF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17D3-2357-45F2-A229-545992F2E48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F70D-A000-4CC6-AE60-D1F23E44296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3E66-3F62-4BAA-8807-68B4B6F7FCC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B6C8-D4DF-43AF-97EB-B4D6F8C6253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E3CA-84DF-4D50-9132-E8F5A4B12CD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D06C-84B5-45FE-8D97-291BD46E92D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2226-CB8C-43FE-9B5E-A8058167FD5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BD4A-B123-49F4-A137-DAC669897C1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AD94-B77C-4DED-8C8A-13B94F009B4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769D-9D39-4534-96E0-C85BCAB7E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C651-6080-468A-8571-B29AE444952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4C44C1-BB0B-4C90-B628-41BBF04501C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57B383-6493-4696-A551-58E0189932D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DD0ECC-41E0-4F74-83ED-88D845E849E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81525D-4A61-484D-B944-11C1F668F6C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4E0657-92FE-45E9-BF85-1D913BF9102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CF70F3-0ADD-4360-AB5E-B3DF8B16BFB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7B13D8-13FB-463C-BA07-9426DC85035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EA6EC5-69CD-4BA2-82AC-10B423CBD89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C1FA81-DB2B-4EC6-9D75-187AEBAF5D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CE6CED-C340-4638-BF3D-57F90C4190C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BD1302-BDF8-41FA-A710-798462C0D0F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866E64-D985-4DAC-8B59-43B2D82BA0E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ABC260-7D90-4D1D-A406-6E9B3FBD954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663B6-9A2E-42EB-8F00-011BF73C1BB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7773F6-0E35-4998-AFE5-05836EA0556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811FF-2666-4362-B960-C95DB8293D6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63D4EC-2D1C-4A2D-9A74-8D5DC7C557B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1DF7E6-836E-4935-AAF5-E1DE372EE9E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34EE8D-8A17-42FD-ACB1-DDDD20D67C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10FAB4-3308-43FA-8134-4C0971057B9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052AA-FC61-4F73-BB4E-7323E317EE8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B3E29-D565-4CC4-8453-652F1CD0487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40BC89-C3AD-4779-B3AC-9A5969313D7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B79DBC-2865-4F0E-89C3-F4E77BB8CAD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58FD3-7B0E-4763-855D-B642A829BD1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6F580-AD7B-4486-92DE-BF488B9A455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73E53-8E47-43BB-AA9C-485CF3A0132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53507-C25E-45A0-B75E-2E1917FAB7A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F8B55-D74C-453F-A680-410A86804E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E83EF-A566-42BA-96F6-82885D44AFB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788FB-A3FB-4AF7-BC7C-48E9F1C8FDE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80B82-874C-404D-B3D9-3459F5E031F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11955-6DA9-4CCD-8D6F-5BDB41FFD03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424F1-4E30-46FC-B44A-1A438B45CD0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77D48-BDB7-4CEA-A9C5-51EC2A62434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96886-9A86-40D0-9726-6BA545FE981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A1738-0B6C-4B13-B2F3-35CCB993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E340E-FFBD-4DF9-BD68-38BD66A7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A20B3-8711-442E-B92B-B9EE7BF2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5273C-1575-4135-83D1-8CA24F0D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B6EB3-6276-4A99-A6A6-197B294A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7A3DF-FAFB-4BFD-A91F-280BBD15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D7DBD-1547-4ABA-BCF5-229497CB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CCF6F-5F9F-4554-BA99-02B7C77C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80C61-DB5E-4B40-A209-881988F9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537B2-BC43-4E5F-8132-5197294B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90141-C30C-459D-AD1B-168C238E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D453D-C21C-4706-B90B-923FCF59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23A486-B5EA-473D-AEF9-8F779E2926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BA0035-EC67-48C0-BB99-29E72462188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8C28FC-0E9F-4481-B7D6-5697AC762C2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A0A4FB-73F5-4964-999B-90CD8C8E0FE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5892A3-82D4-4AB8-B808-AB434C46A24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84C157-5BD1-4524-A6CC-B056202D3F4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5F82F9-0915-4407-A773-D50B0CF80D0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CAB584-8911-4D1C-A083-B19DEB7BE10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86A429-BF0E-4914-AAF4-A0AED8FDEF6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2CB3BF-756B-43E7-B8E2-EC513CFF9AA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5D33C5-FA3B-43BF-9917-A0EB9F15B3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3B2952-178A-4496-B642-75AB84E4B2D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920710-37C9-4F5D-A933-A323F9AFD07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A06FAC-32A2-46B8-B272-F82F251AE48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CE9D0E-68D6-4C56-ABB9-5D595ACA8A2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55C7C5-E38B-4E7D-B6EB-C9A486E642E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465C06-28AE-4637-B72C-E98EAFD053B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E32B0D-7F77-48FA-B9D4-E4F92B6741E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6C8A01-297A-4279-8700-B9B76D72643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37E59F-2AD7-40B1-9C9C-B7D0B8469A1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224987-FA2D-431A-83E8-AEAE38AA40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3DD4B0-296B-4096-9127-E9C878D972C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8182C4-4EC9-408B-8823-BD980059539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8D9D2C-E0C4-49DC-9D1A-A0B95CED5B5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08F32-C173-4695-AA42-DB95CDD248A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651F1-F5BD-4EF8-B04F-F1E15375E78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50A1D-79A6-4922-9A8D-4A4C898BC02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83489-59B4-49A4-ACDF-0AA24C8D17C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5D33A-8A97-4023-966E-600E5B1026D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14B98-5457-48BB-8F55-D43327580D5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A9449-04DF-4C58-801B-D3797EA2CD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88A35-DD0B-424B-88B2-BAF46928B47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9EDB8-914F-4CEB-A66A-20FAFA4863F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9B5C1-3ADF-4855-A4A9-210D51CB071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9A025-D37B-4194-A767-7B9AB7D38A9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5C5AB-C89D-4DCC-A2FE-960C7815329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70F1F1-C683-4CAA-8CF3-BF8D98865F1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A7D5A2-1F0C-4EA6-9479-BB49A143967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1B2029-0DAA-4D7F-AB7C-F88C3F9D4C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2A8101-55C5-4BE1-B455-0350B2525E0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EFCC0B-23AB-462E-8E74-3BC1FCEBF52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A2AD47-5AFA-442B-BC58-2BA5FCD5422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238D89-835D-4489-A99E-314CF3A9947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2D511A-AB4E-44B1-85E0-E53E9C659DE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FF01A6-05D0-4922-9353-5D8B9E0C8E2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871121-7331-40BF-9F49-4A6C53E49B5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81D068-4FED-4B2C-B19C-F1A8BABE795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5D4627-AC24-4799-9AF4-3FB5ACC5E8C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BE2444-5829-45E3-8E2D-8EB6D83FD2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9C8A67-D78B-4195-A469-E4C1BD53966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0C25D7-0A90-4332-946F-9F83F677A11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755B80-FFFA-4DDE-9D39-90EA7119051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23CA4C-97BA-44E8-9A14-A2CEC53C8F7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9C4CC7-55FB-4924-B762-DF81655726EB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BF0201-7D4A-459D-9A4D-5F29BFC8AEE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BFDA8C-D7D2-4FF6-942D-312F3CC496A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AF0EDC-D2D9-4BCE-8000-FE7367EEEA9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16C57D-7803-4FAD-AD70-517BFF81587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14583A-F0E0-4CD7-8029-C912D9016B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B898AF-F57A-4013-BF2B-9140A5BC0CE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6EEFBE-845A-4E80-8AE3-2A341442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717F5A-7BC0-4208-A11E-5E29B070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353B59-782F-4C33-98B1-7356B7CB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499C3A-BB6C-4F40-839E-9F0C46D9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FDC141-B32F-4480-9CC4-F705992C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0B30C5-2DFB-4676-82C4-967B7D85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CFB8B8-4E24-40DF-A4B0-0F7D748F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3CCC2C-8026-416E-9770-D0B2DE89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444DE1-7148-4378-998E-3154A93C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FE5839-FB6B-46EA-88E7-E9EA7F31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731902-B7C5-447B-9F51-AB727039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8C5B71-CD19-484F-A243-1F029B52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94216-B74B-4A7A-B364-C0C4A0710ED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28D1E-25B0-4153-9585-117B2B2A34F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F8EE5-4561-4500-9C31-456AC2138CA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F971F-9466-4834-9ED7-1955630DF1E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24A64-8BD8-4407-8232-3C58AD2CDC2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61DD8-94ED-4600-96BB-A9584F9ABCA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FFED6-3D50-475D-BB9D-112167078C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733E4-D2AA-4BE5-A178-7A1316F7CD1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6DA5F-A225-4A17-A6F1-5C2F67EA3D0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B1FCF-5C65-4968-9968-C4B172508FB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6A61F-E3B1-44FC-9C9D-05F7418D4F4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E3BE2-7DCA-4B6F-9277-5AC799A01C8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C6E00F-B370-4374-914B-7D248D26C21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79F0E4-5E4B-4960-8361-A09171073F0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24614C-D4A8-45FA-8703-65609C30FFE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2943DA-4F01-4E86-9341-58F30E05460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5EAE9E-697E-4647-BA1D-70BF438DBD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4A5119-15F8-4809-A173-574258E237A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01B6FD-9F05-4B13-B1AD-086BCFC9979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7DC5B4-16D2-4997-8945-380422BE921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64A006-E585-416D-A800-6C19F500866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1ED099-989B-4191-AD9F-1E9070DCDBD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1F327C-5BA4-4C8B-853F-80043E87CD6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6AA9C2-B62D-4516-B8BA-208F3C10400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AB9580-4B9E-4B31-8CC2-D65036F8773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4F3274-B0C9-49A7-A592-D79899FD839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181E44-18BF-46F3-A5D7-402A7190B8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294910-7008-42CE-9A33-8945B008B2D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77789E-03D2-44C1-A2C7-EBDB8705874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F417CC-BDBD-4979-9A47-5730B1FBAFE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8400A3-002E-4D70-8F91-32FE7FD590E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4F90A1-8A20-4D2B-B5BB-FCEA8A57ED6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048B33-F72E-4CFE-B644-0E3B3764E46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DA978C-4388-41E0-ACD0-D9043AE1BD6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CCDFBB-67C0-4F19-99F6-AE511C7A95BC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401B9F-D4F0-4F9D-A8CA-F4305C7425B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058EF-65B1-4931-A1B8-9053AE1819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E756B-6CD5-4C0D-8BCD-991F90D0D2D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81FE6-1E81-416A-89CB-866AB083C21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E2943-E243-4EC8-BF53-E8E1C5C7820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555BF-2238-47ED-ABAF-70C27B781DD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9974D-E3DB-48B4-95BD-CD806E50FB1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91302-B667-4CDA-AD4E-347DB9804A0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D2AD8-5A16-4D06-99F3-4F5C4CB2618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993F1-73F6-435E-ACA9-AD327F91B59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CA2E8-1E21-4F11-9CD6-7F94791680B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EB611-42B3-45C5-BF4F-B8AAE54D89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2F21C-FDB4-4DF0-9C0D-EFA3704B697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D4737B-5E17-4C46-A256-064C0258E13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9D4780-8E74-43AD-AD06-272B50D2F82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64BEE9-E1AE-4C08-8546-95C3FF5247A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E7A63D-C19D-4678-8DC5-62B419C363C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35FA3C-FD8D-4F68-A6FE-B143639FF33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7BEF6B-BB34-4892-ADD0-FE79477B8DA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44C48B-D606-431D-9B41-9FEC1891772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C6B51F-6ADB-4397-9D0A-C8F24E3187B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408988-FF0A-48CD-9043-DF357E2A3A4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16CD0B-7063-4074-AAE6-0A266C460E0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B86BE2-8894-4C8B-BD4D-34E836C3CA7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15DD60-99B5-4DA4-998D-A8D31885F985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0610BF-4C5D-459B-AD3B-C220B2D96860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F2E0C1-CA44-4348-9C35-7268006323E7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B2F388-0F93-475F-B29F-5814F45CE19B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FAF832-5D38-436C-B549-FF3D88690741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7EEFF1-2BA1-4DE0-B59A-3D3403FBEEE4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D92E2D-51C6-4F3B-A9BE-2AAD2C295061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E425CD-BC1F-41A2-92B9-FE915950E9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D6A600-2B54-47ED-BE27-630C11E82403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86B145-6549-4864-9628-500D3B3A237F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6DF62F-75C3-465D-B0AB-8D5338BDAA70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E0EF80-74BE-415E-83C1-866D68AEDF47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605AB4-F1A3-4B1D-89A7-F3FA4054BAF8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B8C7D-C486-418D-ACBB-3B349F742991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CE9C1-E5CC-4CCF-BE49-C4FCD32B3A51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F3A41-70B3-40B1-B22E-6DC11EBF25A7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08620-2E0E-4636-A95A-625C67B1F938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62F16-E95B-4F10-A9AE-4D007D3DD4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638F4-52CA-4DEC-82E0-E036DCB3562A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BC024-A6B5-4580-B682-08321F534AAF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67A71-1A4C-43DF-AE66-AADF120A47B5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CC70E-86CB-4FB8-803D-954ECA314A2C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9EAC9-1B43-4C99-B8F1-750BF1B0B89A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145E7-671C-4461-9D34-7029A3362237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2A907-BEC4-492C-A8E5-ED4C3288A31A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13439D-02E8-4389-A44A-AFD9B6CAA481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D79753-CF55-483D-B2FC-AA213B10EDCE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0F8690-F869-4079-A684-6E1AD059F5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000ED4-E8CE-4883-A58B-3E4729FB8B25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48B2FA-F111-45CC-A0FA-3B243B51F7BB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3C806D-C98D-4C72-8134-8A1B4822EBE5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DA0174-6638-4175-80E6-DA19ED7E2072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F7DFCD-6B86-4950-9799-94032DD65FAE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C5738D-9FF1-47C9-90B2-14B3A50179A9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946FF4-17D6-46EC-A214-8293D6F5C344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836588-E882-4778-AB60-E10A8CA69765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A410BB-4C7E-40E0-970F-72BA637B6FCB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701CB9-61FE-4CC0-9CA1-206470ECBE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81366D-1EBB-483C-A252-BDF3FAE08BA0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743AFA-8B35-4D58-8423-E222194FB3A3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CC5011-E25D-4312-8691-5F4395528EC6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E3F63F-9CA1-4F8B-A902-7DD104BFAE24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89737C-4888-4BF1-A88F-E8B32B7BDFEC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B85243-9AC8-45AE-B300-25E003B67303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1EE9E0-92F6-461A-BF4D-5BA54BB9B524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8342CC-3836-4B5B-B67F-EFC25D404CB1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C63E05-3D0B-42A9-AF5B-12945E500AD5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46AE4E-D9CB-4F79-BE34-AFEEEBE5A0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E4CA3F-F222-4C23-B477-FDDD4268E225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49A9A-5A5D-4B64-9CB1-B92FBE1BCFDA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C1D07-F8CF-4590-B690-635C1546ABFA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38EAE-A1EE-454E-B38B-F729A4381EC3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04BAC-1AD5-4BB9-9ABD-DBE908A818BB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F771D-E020-4AD3-A9BF-D9950F18D253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F55F8-6BB5-4541-AA76-044F931A9D27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3D169-F27B-474A-B57B-A51DE332B9CC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486B7-1E03-4767-B55B-DAED26B359C6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93BEB-A04D-4663-9D00-062494F4DF4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6FD55-C2C7-43AB-BE80-41ACE136EC38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9E56E-FD9C-4CF6-B345-C6E045A90116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828D4-9D38-49A0-9524-E2BDE87D21AD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6AEBD8-06B4-4C57-A762-4716184D63CE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5A0264-F77C-4585-8203-7284B257F1DE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86599F-8BDC-4141-8787-B93A5483F206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9A7638-AD38-4B76-BBB6-D02D52716FEF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C40220-621F-4A90-9B9D-10913A742BEC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6682DA-7BFE-4315-A21C-2A45D3BD1520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99E053-2355-4B2E-9E82-78092E26B33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C959145-2F48-44B0-8D5B-E95CDC4D7EAB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292EEA-6032-48E5-904C-3E79B8EBEA96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743AAB-3AC4-48D6-B915-7EBCFF52F332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32F485-F165-45E2-8CF1-227C06C09F80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30CD15-CAAE-400E-958F-E78069C4EA34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A1E676-6DD8-4739-8BCC-7BA224D5257E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975405-0560-43A1-A730-7613C61664CE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D14862-FCE3-4F55-B78C-C2CE68F4A1D4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E2C63E-729F-40C3-BC2D-8191D508DABE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0740CB-F7AA-4DF2-855D-DEFD1394DCA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E05033-42F4-4985-B0B4-54445BCC893D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B38031-9B87-4593-843C-014AAFF84ED1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1B1AA8-88B4-490B-BE7E-92315803A594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05C3E2-3EAC-41FD-8C49-33CC896FDB1F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C09AE4-E2D3-45D4-AEF7-0834A49C4C8B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08DC99-A7D9-467E-8CDB-C7B9DE49FAEF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6DFA9C-9FAF-4A11-8FED-50DFB89B21EE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8F30C-3E8D-41BE-964B-D86549388183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40E32-ED03-46C6-BA42-AD41797D6209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3306F-6D6E-4BED-8B54-3C0137049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E5482-B69D-46A2-A56A-792A92B801F5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EFC8D-63F5-42D0-A4C3-B1AA9BF847C4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5D8E5-3A74-40AB-BC1E-0D1189A47727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41772-6EB5-45C5-AE7C-234FE6929F12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DF655-6C6C-464A-8527-C68060F612C3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FBDE5-7A4F-452E-AF13-1C1C47D7D498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A09B3-2882-4C1D-8457-AFCFCD8B817F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4006D-D751-4ADD-8AF7-5E92309757A3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E4C0E-9C38-4ED8-8606-C27B446A5258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E1D8ED-D296-4FA8-9681-2BF123447C4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303C9C-F4AC-48A7-A776-4EFCF9ED07A6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E3EA71-5BAE-4370-9DAB-1CCA33D1AEE5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795873-6BC7-45B3-85B6-491FC88123D1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28EF00-A76D-4404-9DC4-BDA27E6FAE4C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255495-636C-4361-880B-E5F5F0A54FEB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F57E60-C997-4B4E-8D32-F162BDC43CBA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5272D0-F171-49B6-9558-07F2A97A9BC0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CE2C67-4E78-49F4-9983-AC974BA31DD8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39734A-6EC2-4CB3-9D1D-12B3905826A6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63CCCD-31A6-42BA-95C0-D90A8213918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C9F6B4-7AA3-4112-861C-EC7059AC1FE9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3A8C64-AFC9-4074-8031-013BE80B4CC8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A4C46C-620B-4D55-8504-CD7E5F1E6AA1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07B2A6-69B2-42DC-BFAA-09789E11E017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41B88B-602D-41C1-B217-1C06914CEDB2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964651-BDE3-45A7-A75E-5867793D1F5C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F80496-1EFF-4179-B3D6-1A4B0467FED0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5AE455-CAE9-4A35-A415-3A810C671CFF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3AC790-648C-42F4-93DD-B2A9477AE938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8B7B38-236C-47C7-9B79-23A8AAE5E8B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C88DA7-D3EC-4963-9E00-BB938A656CF7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45ADF4-29F3-4DD5-9DCD-BBEC7E6FFC13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6D062F-F6F4-4E70-AF55-CB8F0A9EECF1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73F37-5AEB-465C-B70B-B85EC4351384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00277-4208-4BFB-BDFF-049DE104A202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6217B-6ED5-4576-B554-F7152D12FAF4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2F74D-528E-4B72-9670-65A40203FDE8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CF12E-F82C-42B2-ADF2-67C3A4900F78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2E079-7C77-4B57-BF4A-6F93FD870C0B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0D106-CEFF-46C8-AAE7-8E62B1A918B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1A72C-5B3E-41EA-8EE0-81E7BE9B7BAB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B2E17-7938-4A23-8493-49FC7021A8E1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B3E67-6E89-4C96-A001-F838A8F44756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D6463-0AB9-4645-A565-A153212E17D7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47930-57C3-4DB4-9099-222F92BC045B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0769D24-D0DF-4D5D-AA7E-586B5814D6FD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9CB0DDF-C776-4D2E-A5EC-CAE5C73B3EB0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DADA6C-2EA6-426B-99B8-B459A55943BC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3497B08-5B67-413D-A137-7474D2B5468B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64D8178-A9CB-43EE-BC4F-B9A8A28013B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700ADB6-99BD-46DB-A2E9-541BAFF1ED26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8FA9361-147E-4471-AE3B-D2342E453A67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B152052-9A76-4C21-AC84-EE73EC0C056F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295EC90-0591-410B-8548-3DD1CB3F7281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246D4E4-8E27-4A0D-9E49-429CD0F2A1A1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27334D9-5206-49B6-A59B-A016C6EE457A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6949A77-7E75-48C1-B453-43BBC345EFC2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D4310E-421C-4109-99FB-2BAB6DE1101C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9ED1D4-D052-495B-988E-BB0F93AE6857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020703-1806-43BF-945F-FC460948828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044E06-3DC3-471D-9C22-A8BB4727EEDE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F1642C-12CC-4974-80B1-DFACBDBAE71A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B61DAE-7E16-45AD-A606-24F72B325043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0C5CA3-6608-47A2-9A93-C8BE953606FA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C7D8F5-1399-4077-99F1-67BF0210EC2B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AB26A0-F259-4D3A-B445-0D95D96F552C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406318-87CF-4936-92EA-968F913AFFC7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C48ACC-A882-43D5-A695-E6C15EC73DF0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A949C4-D749-45A7-BF7F-5F2C2AAB31D0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B06132-9BE2-4669-A2CB-6E91E3B0A75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C71F0A-79C3-43D5-9D22-38FF5DE7330A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A31F9A-50ED-40FC-B85D-BA684C724F57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7A10C1-3014-4E85-90CD-41E51E6EBE13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10B7E2-172D-40D4-9F5B-A1CBE9F7A86C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74889A-4C20-4B13-B5A5-4DE44D5F70D5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81CEE5-B727-4A9E-929D-6D29A2D44BAB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13655D-2F4D-4200-9828-AFFA1B3C9E52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A451CD-F6C8-4778-916A-66024797A876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0D965-E2C7-4BF2-9EE5-4824A8D464D9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B3C837-8AF9-45DF-8819-C06B9C1321F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37CAFB-0470-4595-8491-5B9FC0E1807D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BAE9BB3-B4BC-410F-9605-7CBEDA00F8F2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581B4B5-EF1A-4A73-B46F-63160F161DD8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1B613BE-6F17-48C6-9886-C53E9D252FA7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EA31FE9-AD4B-4983-ACE7-667AF6C25900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C3BC5DE-2AEA-4EBF-BF17-292A3024B4E6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5D01301-F397-4BCE-864A-0467CE3E7DA0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9029F0D-0CA8-464C-BC3D-9138D8E0E14B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AC2A9CD-58DB-4528-AE0E-325D833CDC38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50B3A74-2690-4786-ACB8-EE3487CC25D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2828542-3957-45C1-9E36-30C018A7F4A6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8BDA0B5-B4FA-4047-B115-0289A4EB5320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8E8B959-D28D-45DB-9B8F-BC669F4C6DE4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10BD8D0-E2AD-4127-ACBD-9C6F9B36A615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55D38ED-FAEC-4128-B317-48258A63D53D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7762E3A-D60D-47A6-A51C-3062EC59EEEC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946501E-376B-428F-B92C-EBECAC48B062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4770078-8910-4806-B752-7E969FB71DE9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B5F04BB-6C2C-4E62-BF96-589312DDA011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84B88B7-C0B2-40E5-A903-67D6B58C9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EF65038-46AB-4673-BC09-53CEC9F9561D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2D80CB-13B7-4AB1-ADE2-EDA465375263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36AF7AB-BCA4-4884-854C-D74BA3BF909E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EBFE7EE-9257-4B16-B9F5-F76F02071444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81796F8-5E7D-4C10-A101-302E307C1F4E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D12159-B1C8-45E2-B91E-AD5321E976B8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CB2F7C-AA61-498A-8B43-DE69D3598B9E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EB29C6-1373-4377-835E-11C5C692B82F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2C4AFD-A66A-4E80-95E5-84002735FD96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66DB31-E558-4770-8198-6CDFDBD3A5C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4740C0-53CE-481C-9EAA-4EC5B24290A1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17859F-0024-45DA-8851-A365CCCE5AE2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E3255A-0482-4C48-AB25-E1D7A6D2622B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E5B8D6-76CD-493B-9FDE-F6A06E62DCA3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499DA3-C2F0-4F00-A2BD-B38F3D67DCA3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FCF7AF-189E-4696-B9B5-1C28FE38839D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D0A9D5-AFDE-4E7E-BC07-7FC04FE803A1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39BACA4-57DB-4A12-93CF-25842435BAC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8A80E9B-E59B-4187-9FE7-27CDDC724413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E1EC38F-2695-4007-9752-6FBA7FD3D1D2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37C24A6-CD01-404F-A033-205E6944FD02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00B4A36-8CAA-4E87-A3A5-FA03C57DFF96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350537F-BA70-4DB8-B41E-3279FA03C523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2D19BE4-7544-46A8-BB98-FE4D471D7586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02C2335-DCA9-4564-B27E-EFA8BFBDFEA1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DD3D973-18F9-4451-9D5A-2A1CB36E1580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5810919-09DE-49B3-84B7-D9370DD44DEA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C727AEB-8A10-42D7-B182-8B5801F0482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E08CA62-E5B4-41CC-B58C-0C1EE2CE9373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A88E6E3-7750-4D50-A901-18550A7CD627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3D4A6AD-3C21-47EF-8E39-6878FC659AFA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492ACC0-04E0-4A73-ACBE-95E27E57C2DE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90ACF6C-1FBB-4408-95E5-E54AE847CA5B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465D290-9FF6-43E8-9811-F1A6C9781660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F0F9864-C61E-46CF-9B5D-0E3FAF052E8D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FD38E38-BB09-4825-A3C2-9B0CAA29E297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BD61CA1-3902-4771-8150-0E5607676DD4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7CC9C10-B19B-4A42-92C7-E859A5669B9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746B77E-B559-453E-A017-85ABF91F7176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5D04E2B-18C2-48A2-935D-A66A83ACA67F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AF10DC2-95AB-4A19-B19E-648600B818ED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CB34D8-01FB-4C4C-BDC2-33824FF004B9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DC98FF-FC11-4AFB-B9C0-5342FD1F0FC8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A03965-6D8C-44B6-B6AE-16F2846ABF95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F1F695-6662-44A7-90B2-86BE60954896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6B5BE4-9DAC-4E9D-86D0-1EEAEFB6CDE4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1B48FC-4B2D-44A3-BBF8-6B662D5DA211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846C7C-08CB-4C71-88D2-CE3965F6D90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04F8B2-D2D8-4B45-B5D9-3853AE2369FB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3A7A39-C8ED-4B77-8ADD-910FF035C46E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4C9AE0-FEAE-4226-ABEC-0C341E4B692D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D7A6D8-C283-4981-B28F-97930AE3999F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75EAF9-9D92-4C13-AE45-7861833A5ED6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EBA67E3-C597-4142-AB5C-C0F98A87BFDF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F19C71F-7036-47D1-A8FD-4B184B06E06D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B134A94-F337-4962-8ACA-5FDD680378EB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B6F2B54-E67E-4530-ABD2-5CC6E3CB6AA6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7D75ED8-4D3E-441D-92DD-36A19C313AD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91F3FF7-B7D4-4305-8DEE-CDF4276E4F24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8CC7F05-228B-4FB1-BBAA-55854A306D97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40F57E9-F281-477B-8B22-F13773172D1D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2DFAE9D-E95E-4C9B-9C62-64EC1110D0A3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05BC884-66D3-4E83-A4DE-DEF54FDC3106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70CA7EB-D373-47D7-9326-7824294E1406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05EB9C8-ED1E-40CA-A947-333052364C63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99E75F5-8C8C-42EB-8833-9651F72E4AFF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AD15645-0698-4FFB-9F44-DFD929AD1671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D264935-86D3-4BDE-BED1-1C4509300DB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3141EDB-8556-4E02-A00E-CC1617AFE50F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AB48D17-CB1D-47BF-B257-6AE032FCE5D1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F2FD29D-6E31-4806-9D69-64A24EC2FB73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EA7896F-B502-4F89-B258-34CF20F2A90C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AE82100-91C3-4414-BD41-BA8840DFE7AF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EF002FC-50D3-45BC-9418-EDE5ABF5FD0A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CF2E879-7CB2-4949-8DE1-D293187D1D79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91C3063-AE80-4F08-8268-AFCEAD602FBD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9CE7B0A-28F5-4829-BCA4-B4C75C705688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2FD98E6-F3D3-47E8-B787-9A0FA0AB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E95C1DF-49B6-4F33-97CB-01E0C9E6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144FD7F-E4AA-4469-9FA5-19220A76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F42658F-447E-48D2-AE2C-908904D2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3413BBE-053E-432D-A835-CC67BF00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C41F94B-7FEA-4F0C-AE01-A511385D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918EAF7-5EE9-4C84-82FF-DCED4CEE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B9FAA46-17FB-4D15-9BE7-9EB8E1D2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6337931-BBE3-486E-B028-5F74D0D7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9CBB0A3-EA39-4101-8F6A-452D4D15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65A5B2B-4946-47C8-80D7-2E288F58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C35991F-296E-4A72-8FFD-1D45DD5E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4DABA7-2FC9-4CED-AB2C-CA81D2CB340E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568E38-6D58-449E-92A4-2DD54B8CCB98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F4CD33-4AED-496D-8145-49040D95C462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04E9B1-B03F-45CB-861D-B3C464F19D66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57C438-109F-4595-92EC-C7971FC291A8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D99EAC-B01F-48CB-8D9C-BD8903C8DDB8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4CB4BB-47CD-43F0-8B99-914942045CA1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85BACC-E094-422E-BE5F-A19B2FB1D346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BA6B84-FB10-413B-93DC-6F10F22FF7B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EDB1A0-BFD1-4506-A3F6-419BB930F8E5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4868A5-5D96-445C-A6EB-0C124BE543E5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BECFC0-33C4-4A36-911D-288C2FABB265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14C29F7-4A7C-4D0D-8550-51030E63CFE6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9894363-14F5-4B7F-9376-8AA6F515D941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6D614E5-0440-45BD-8A59-5337E49793A0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6F3F900-ABC6-4503-B049-90F3A65B5209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5F34170-0327-4203-9061-6F5DA0DE72D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096CDBD-87BD-4546-8EDB-3E5C1CC10581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E4D85CA-62C4-4E8F-AECA-297740C5FC97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3005B99-3FBD-4754-82E6-B75879BA771F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A875AB2-31F5-4B01-BBBC-0FAC88CF072A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1A1849E-1284-4A66-96A9-DAA5EBB93299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C63D14B-8C45-4801-BD61-FEB2A6D694EA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ABB48DD-973D-49BC-B7B3-9DB02B823CD4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6497766-B7B3-40EB-A9ED-EC73CE2D2AC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5D71A92-2BB0-450E-B27E-847845B990B4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654F0EA-B24D-424E-B522-54F962BB1177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521B125-79DC-4CE2-9B9F-CB9EFDD901A6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9EFE012-A805-4BE0-900B-DB8F055594C7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568DA20-7AAD-4AC7-8ED5-ACE2B958D295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E6E0195-0B70-4D46-B36B-D449F78C52A5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32D5FBF-719C-4CC6-8745-E9C8694B65BA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C5C7E0C-73A3-4BE3-B9AD-186E9497A059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14AA8B1-3680-4A9D-8FD7-97A2D8A41B92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58FD0E6-8A2A-4C42-8325-E33F54B821B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F33AE76-0656-44CA-BD55-7B4D3E128FEA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E79F02-5177-4BC9-BC99-84B9D882ABB0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A88CEC-F794-4CA1-B934-20FF7EC9977C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489EAD-4192-4B11-9B5E-508BA1418927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3D6F8B-44C8-4D19-AF93-66F907113596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FF3304-CF4F-4E66-BDBF-543787AAAEBC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542F97-7DA7-47B3-A074-F641AB2F872E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9D1A8E-F9C1-4D9B-8FD6-B17D88740E76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1E2E07-38AE-4842-8CC5-CFD81E295F50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CE6909-CDA3-4836-98B1-87E5847AA43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0E6A26-680D-4AC5-8846-CC429A70606B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C45FD9-FF28-4702-B840-26D4525D7CB4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8B4AA3-65A4-4963-AB68-865F62216713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3B0C356-CC0F-4FB8-84D4-820C6015DC1B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0590EAC-9B33-45AE-9B14-35EE39F772F3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F7D0AE6-B5F8-4C65-B08F-00AFECE39D1C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887522C-9127-4602-9A7B-F34275279468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BCD19C2-294E-40D3-9AF6-3DB91279E0B7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87798C2-4B98-416E-85FD-0385C86C349E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4CE0B52-9FDB-426D-9AB2-60BBDC68F02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9F44FA0-7BCA-49DA-864E-38685428357C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A8EEC2C-155B-4E79-96AC-E8A0F0440189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4495C02-275D-4AD9-B940-CF1034D0F70E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3230CFC-4A7B-48B1-9F3C-B117F49E844F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620F188-73F6-4138-BA8A-B26B0AF714CF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51FFDF5-C319-44A2-BEC3-5CB0126320CE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B349EB0-3162-4D09-8D68-EC3C45B0BE0B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F8FDADE-E588-4E20-B6A3-1B520C435C42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36309FC-0347-4082-A9AA-7508B8DAFEA0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B7A72A3-250C-488B-91F9-27AF2E58B22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CC5701A-10A0-4369-8504-D1341636047E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8DFC6B3-66BE-4F4D-9983-C01DB600BC4F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06597F2-CB52-48F1-ABF1-56EC56FEE0AE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8995F84-2CD6-464D-BFDA-A8B768E8BA18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342AC1F-944D-4380-A0FA-4DCA058372D0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66A6146-BA88-4314-98D4-F295E9C69AF8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7F1401B-F1F1-4A4E-A032-5CCDDD6EBF93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BB78E6-DF0A-439C-9044-01C79124B850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7F67D0-B1A2-4D4E-AB38-D2ED92AFF8C1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77EDB9-8993-4096-98EA-F85B7D546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E11CE8-4989-4926-8015-D61B3281039D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E5F3D6-58CD-4948-8ED8-F577DA957844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D095BE-3AB9-46B3-8648-DC9B5F2A8E49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5F3C83-2809-4FB8-AB73-E4B2884417CA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48E520-9F5B-43BB-8ABF-06E501E7E210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853E47-FBB4-49BC-9097-D3B1D9CEFA4E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C20C73-DBF1-4AE5-AA2E-B06C6EF22723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52C505-F9A5-4548-A0CB-2F0741D2F5E5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FE6981-28F8-4FE4-B063-028C0E404D60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1DD6A43-D437-4249-ADDC-BD1CAF8B52DB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B1AC3C2-3842-4D1B-A324-95AEC23AA022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AFB16FD-0B9B-4F68-992A-2654700D6D53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A8211D1-91BC-49BA-897E-976E4998C842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7D947D2-EF8A-4429-8FBB-4A5F00448348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E0C5897-3C1A-45C4-B705-F5AE440070B6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363AAFE-1939-41AA-9C08-9542C97A423F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4C1DE9A-C181-46ED-BD88-E1DD10F8070F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BC20DD7-505A-4F70-8DEB-144896EC260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D749-5CF7-44E5-A036-4E709E94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1890512-0C56-438E-9ECA-D9505AE2AD02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FD568DD-2E43-427A-BC3A-D1A7DABB67E9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5ABAFB0-007F-4D71-83DF-462CECDA9CF8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A25D78C-1928-4BC7-9BAF-632C9BC323C5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D89B42B-A908-4B41-9062-526FC7A46C02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9A32F80-AFDF-42EA-BC58-A5DE4C996D0D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14C24D9-9046-4BF9-88C4-C58525CCBA2C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6DDF098-7BE8-4706-B092-7439291109DA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CCE8C24-7761-4026-B38A-6911EFF26F41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A18014B-71C2-4272-8AF3-9161DA28C7D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EA1F-2311-472D-90D5-DE648384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730F165-9B29-477A-A6E0-AD110E20A2A4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BEF5948-EB19-4199-B09A-6BA21AF886DF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03D5C54-364C-4437-A187-9121DF165911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E707817-D5F5-4462-8DF4-7A5BA961DCE5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DB13335-25BB-4F28-835A-9341BF324D2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9483-F173-47E9-8151-3DB92540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740C-FEA2-442C-8646-F02B2095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E8D3-AC45-4B80-A8FC-C2661977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505F-B74F-44D3-9A0A-4F95DA50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76C4-3858-4C43-81AB-CF1251F9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9DDB-48F0-477F-8465-C5DD04B8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23DE-8E00-43F7-AAAD-B066281B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4496-0795-4704-B23E-EE0D92B2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28E5-8D64-4C8F-A29F-D55CAF03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AD27-53E2-4429-AC81-082DC06E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1ED1A-572D-4714-B718-D790B279A76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D2615-3B1C-4979-AB86-EB467BE0566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54A68-5549-4ED7-B501-23708EC5A40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EA68C-C60E-4C9B-B2B0-C5929F99261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20E80-7CA0-4E76-A057-4141019C79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3B638-4014-44DB-9D11-A68A1E17B63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FECB7-61BA-494A-AB0D-ED6CBC6E719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BE0AB-D37D-435A-898C-0DB5DE1FA01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7F788-62E3-4D90-96EB-EEE47DFEBD7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08A19-71F5-4688-84DA-A70AFB934F0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0081B-A6B6-47EA-B8A6-A51380D9133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E9AF4-AC27-4D78-AF9D-C3ABC45534B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6DBD9-9621-4589-B8B6-130A718D068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6AA52-9387-4E1F-BB3E-4036A324317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30CDB-E757-43E0-800B-72CDF0FF5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Num" idx="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Num" idx="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Num" idx="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Num" idx="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49500F-9942-4894-809A-9F79FDF75E5D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DD25DA-2019-4B36-B09E-44B0B58D797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E93A80-BE30-4171-B822-E9B7D669DF1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C1F4F-93EC-4548-BD4E-2771DF8EABD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C390A-F3D8-496E-B026-8A1C390A087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DA844-EA61-4257-B826-3842ADDF902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A469D-2829-4E16-BD36-B959D975811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90C382-AC8E-452F-9CAB-A54D0A814D4B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FAF162-9B91-4A93-83E7-97DE0865630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5E56D0-4808-48D6-AF0A-F6E841A81D5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A1F042-D490-47FF-939A-7EFAFCBA880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C5F5AC-8185-4EAC-B502-BABF394202F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041A0-ADF2-40E0-A21B-B37A6659F27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Num" idx="2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BAD98D-A931-487A-9FE8-75E2D98A0DB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Num" idx="2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530152-139E-4359-B713-911427F6C53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Num" idx="2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9FCAE7-C089-46A3-BDD9-690F3E822A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Num" idx="2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3FB735-4A36-49C7-A1D8-70BDB04789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38ABC-0C85-4E1C-9FAD-9AEAB9F9217F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48BA-Logo-640x320_11Sep13.png"/>
          <p:cNvPicPr/>
          <p:nvPr/>
        </p:nvPicPr>
        <p:blipFill>
          <a:blip r:embed="rId2"/>
          <a:stretch/>
        </p:blipFill>
        <p:spPr>
          <a:xfrm>
            <a:off x="6997680" y="5857920"/>
            <a:ext cx="195120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Num" idx="2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A982CB-74F8-4FF4-9FD3-FC9CDEF5A6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Num" idx="3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AAA0E-E994-4AE0-8B5A-951CADBEBE8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Num" idx="3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EDFF23-7327-4ABC-B5C6-1D3BEE0FF63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ldNum" idx="3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AA809D-E554-4D9F-A839-828E2B28539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ldNum" idx="3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EAF9C-70F4-416A-8648-8DBC724FDBF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ldNum" idx="3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95F22-4817-44B9-ACDE-FAACBBFC118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ldNum" idx="3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C6FF6-6C62-4761-A877-36EEA046881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TextBox 1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Num" idx="3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9A8867-3DAC-4004-B402-1B62EC1643C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ldNum" idx="3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31EE2B-61E0-4808-834F-0CB8482BD53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ldNum" idx="3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66D2FE-3B2E-4341-8966-2A90FE7880BA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48BA-Logo-640x320_11Sep13.png"/>
          <p:cNvPicPr/>
          <p:nvPr/>
        </p:nvPicPr>
        <p:blipFill>
          <a:blip r:embed="rId2"/>
          <a:stretch/>
        </p:blipFill>
        <p:spPr>
          <a:xfrm>
            <a:off x="6997680" y="5857920"/>
            <a:ext cx="195120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Num" idx="3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Num" idx="4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1F568D-E79B-4210-B51D-C95570D6FC6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ldNum" idx="41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Num" idx="4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5771C-3C93-4A5C-B58E-05C33810CE8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sldNum" idx="4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C298CF-0C80-40E6-AF00-F2CF0CA6774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sldNum" idx="44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sldNum" idx="4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sldNum" idx="4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sldNum" idx="4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AA27BD-ED6B-48EF-8D1B-65BBB803EB1A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48BA-Logo-640x320_11Sep13.png"/>
          <p:cNvPicPr/>
          <p:nvPr/>
        </p:nvPicPr>
        <p:blipFill>
          <a:blip r:embed="rId2"/>
          <a:stretch/>
        </p:blipFill>
        <p:spPr>
          <a:xfrm>
            <a:off x="6997680" y="5857920"/>
            <a:ext cx="1951200" cy="8319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B2BC1A-2D3C-43A8-8558-33D997A0F44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sldNum" idx="5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05C94-C3E1-4F0F-85FB-43ED0C2F59C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ldNum" idx="5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5C04F-B628-4EA4-AC6F-CBCA6B2729E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sldNum" idx="5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53ABDC-5314-4ECE-A6B9-CB3A5ADB96F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Num" idx="5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F5B66B-B687-46C4-B079-997B4C7B1AA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sldNum" idx="5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D6C0A2-B250-41C0-96A6-FA401C8CA0F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sldNum" idx="5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63417F-D9E9-4CAB-AAF3-C9B5014D093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sldNum" idx="5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CCE62-30E5-4D34-B6BE-A9ECC8D64FA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7196C7-A6F6-4B6E-A5CD-8234964477BD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48BA-Logo-640x320_11Sep13.png"/>
          <p:cNvPicPr/>
          <p:nvPr/>
        </p:nvPicPr>
        <p:blipFill>
          <a:blip r:embed="rId2"/>
          <a:stretch/>
        </p:blipFill>
        <p:spPr>
          <a:xfrm>
            <a:off x="6997680" y="5857920"/>
            <a:ext cx="195120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sldNum" idx="5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FE747D-45E7-4953-98C1-214CCA20B1F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ldNum" idx="5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AE7909-0DD6-4167-B3AD-21AA048D9DE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E6A9BC-E76F-41BE-A9BA-E07A45E6228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Num" idx="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8E779-0C00-4052-8BE0-9F4AF8E1A0F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Num" idx="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cann.org/sites/default/files/packages/reserved-names/ReservedNames.xml" TargetMode="External"/><Relationship Id="rId2" Type="http://schemas.openxmlformats.org/officeDocument/2006/relationships/hyperlink" Target="http://gnso.icann.org/en/issues/igo-ingo-final-rcrc-scope-names-10nov13-en.pdf" TargetMode="External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cann.org/en/news/correspondence/dryden-to-crocker-chalaby-annex2-22mar13-en.pdf" TargetMode="External"/><Relationship Id="rId2" Type="http://schemas.openxmlformats.org/officeDocument/2006/relationships/hyperlink" Target="http://csonet.org/content/documents/E2011INF4.pdf" TargetMode="External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178920" y="469800"/>
            <a:ext cx="59770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Identifier Defin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"/>
          <p:cNvSpPr txBox="1"/>
          <p:nvPr/>
        </p:nvSpPr>
        <p:spPr>
          <a:xfrm>
            <a:off x="178920" y="1103400"/>
            <a:ext cx="768852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ier - The full name or acronym used by the organization seeking protection; its eligibility is established by an approved lis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 – the limited list of eligible identifiers distinguished by type (name or acronym) or by additional designations as agreed upon and indicated in the text below; may also include lists approved by the GAC (where this is the case it is expressly indicated as such in the text below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 – The scope of languages for which a Latin-script identifier is to be protec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C6E36E-415C-475E-A7ED-E5C13E0D4CB9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178920" y="469800"/>
            <a:ext cx="59770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Identifier Scope – RCRC / I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"/>
          <p:cNvSpPr txBox="1"/>
          <p:nvPr/>
        </p:nvSpPr>
        <p:spPr>
          <a:xfrm>
            <a:off x="178920" y="1103400"/>
            <a:ext cx="768852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d Cross Red Crescent Socie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 1 Identifiers : "Red Cross", "Red Crescent", "Red Lion and Sun" and "Red Crystal" (Language: UN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cann.org/sites/default/files/packages/reserved-names/ReservedNames.x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 2 Identifiers : 189 recognized National Red Cross and Red Crescent Societies; International Committee of the Red Cross; International Federation of Red Cross and Red Crescent Societies; ICRC, CICR, CICV, MKKK, IFRC, FICR (Language: in English, as well as in their respective national languages; ICRC &amp; IFRC protected in UN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gnso.icann.org/en/issues/igo-ingo-final-rcrc-scope-names-10nov13-en.pdf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national Olympic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 1 Identifiers: olympic, olympiad (Language: UN6, + German, Greek, and Korea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50373F-856A-4736-BF61-C63182DC2AE8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178920" y="469800"/>
            <a:ext cx="84963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Identifier Scope – IGO / INGO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(other than RCRC &amp; IO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"/>
          <p:cNvSpPr txBox="1"/>
          <p:nvPr/>
        </p:nvSpPr>
        <p:spPr>
          <a:xfrm>
            <a:off x="178920" y="1103400"/>
            <a:ext cx="865692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national Governmental Organiz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 1 Identifiers: GAC List  (22 March 2013) - Full Name (Language: Up to two language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 2 Identifiers: GAC List (22 March 2013) - Acronym (Language: Up to two languag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cann.org/en/news/correspondence/dryden-to-crocker-chalaby-annex2-22mar13-en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national Non-Governmental Organizations (other than RCRC &amp; IO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 1 Identifiers: ECOSOC List  (General Consultative Status) (Language: English onl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 2 Identifiers: ECOSOC List (Special Consultative Status) (Language: English onl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te, this list of Identifiers are INGOs other than the RCRC and IO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sonet.org/content/documents/E2011INF4.pdf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94467-F0AB-4167-944A-811081A32CEF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9:45:36Z</dcterms:created>
  <dc:creator>Marika Konings</dc:creator>
  <dc:description/>
  <dc:language>en-US</dc:language>
  <cp:lastModifiedBy>Mary Wong</cp:lastModifiedBy>
  <dcterms:modified xsi:type="dcterms:W3CDTF">2013-11-19T10:57:23Z</dcterms:modified>
  <cp:revision>155</cp:revision>
  <dc:subject/>
  <dc:title>GNSO Policy Issues</dc:title>
</cp:coreProperties>
</file>