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B3B0F-EFA0-4474-999A-C79951E056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6A46-4B1B-47EE-B6BD-2466B37192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479B7-5834-4A71-8445-8421ACDEEB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B32E4-15B0-4D25-B718-5946D083B7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F34A-F1DC-4EDD-9C64-FEF6DC59E1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466D-0CFB-4092-BE6D-869B037C93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D8614-3EAC-4049-BE02-56D31199EB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97540-1476-4DED-8445-BBC38C6A13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DBD6E-12AA-4515-A9F6-465F425186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FBA1-3D5C-43D9-90A8-3F06B79A3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65D5-23AD-4322-83F1-D93A1316361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5A02-C647-4BC5-B870-464A1FB0CD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6407-F6BD-4E29-82E3-08C9A2DD63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7976-6174-4D41-BA33-6D4136A219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F499-A403-41B9-90B7-458B6203B8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056-0939-497B-A669-F6876C6DF1D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E290-74B4-4BB0-B0EB-75B3477E0A3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3085-43FE-43E0-93E1-90304F01FB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FA7-A9FA-449E-BE70-ED231B2426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77FF-5084-4664-804C-3A1792E0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5B9A-FE54-4007-A302-4CD7034665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72060E-8FA0-4B15-8A05-9EF1F41A2AE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2DCE1-F98E-4F52-A1E8-8CABDDC19F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D8552-0074-48E2-8561-FC6DB8F62F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1B278-FB9C-4DB1-BEDE-C84C281E3D7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B1F5B-D1B1-4040-BC4F-E3D9A01BFF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8BFB9-053A-4F90-8F05-33DA345EE5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A0EAE-4905-43B0-A00E-A501018C62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305A6-1EDB-42C6-AF5C-F21CC77C33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724DB-35EC-4B94-BB0B-2490582BD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43864-9731-469D-8A65-FB6957CC25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AAF20-3016-469B-9D39-CA317895D9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08E94-8541-4D17-99BA-E52E6F6F54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D3839-09B0-49D1-83BF-A93FB3CA97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87B3C-7974-4F0B-8345-872921BDA2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CF8FF-AC60-4FF8-A028-4B28875423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DF39A-99AA-4CED-A227-B547CCBDE9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22D53-AF3F-4D88-AFFE-1A8FECF210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D113D-F927-48F3-BF5D-71FF09890D1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BADCE-34D7-49A7-B562-999BDA00F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06127-003B-4F4A-A14A-B47118F040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1836E-AC87-47D4-A700-37DEF49AD7E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CC302-6C8E-4687-826B-BF3C55FC03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EC6E2-6348-428F-B3E0-23D6A6EF228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E6442-52E2-4488-9713-D66266B2BF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85FA-7BA4-4CA5-9976-D97A983A0E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9C93-4EBB-4D6A-B030-54B37FCC93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704C-5DE6-4046-BA4C-385431927F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B680-EA79-4A45-8B4A-3D75518300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E235-8204-4A25-ADC6-8FD20A10BE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EA7F-9410-431D-A47F-DE94CDA08F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6C3A-7321-4894-88F2-6A90CE00B0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AD90-0C4A-4354-80F7-889B0722AE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F7F4-D4EE-487A-BC79-64C7D68865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2754-59FA-4002-8949-38FE099B0C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A119-5B29-4E16-8B1C-E4E51D28750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7D38-6DAE-42B3-86C4-28C8985B34B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F961-C94E-4E4C-AA7D-CE99042A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ADFB-AF5D-4872-9E6C-71140051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28A4-D93A-42BA-967F-2A658D4D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53BC-F612-4560-B0C1-72FAE9A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7183-F5B0-47CA-B647-9E2BE075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FFD1-E628-4956-9FD8-0115519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D0B2-4264-4363-8FDB-408F6C0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2144-50FA-4578-974C-FDE4C40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F9C5-D6BA-45BA-A6A6-A79640C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E562-ADB6-425C-9CD8-D5CE22F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D409-1E11-462F-B30D-EE0B830A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673C-2A32-4C83-8BA7-C129F228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9F6C9-8622-418C-8534-52BB09FBF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A619B4-D9FA-47AB-B069-BC0C3C9DB52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B1CA9-2399-4C00-B0F2-7FF14874833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1BBD0-86B3-48EA-A640-FAE070664DF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52BBB-4AA9-45A0-859A-5EB118C4DBE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63586-FFB5-402F-B314-DF83D2FCF4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5E68AD-DA30-414E-AECE-79905B464C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3892A-105C-4ADB-8F57-D95D5C38BE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9AE272-1DC1-4064-B3D7-EF507A8122A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E0BC6-2868-4E5F-9832-A7C7250C9D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7C742-6D8A-42B2-B52D-4E44002EF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AA342-F935-44DA-9512-10F7A12ACD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301EE-E452-46DD-B8CE-3CEEDC02BEB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5E46C-2457-448E-AA5E-B37A95F770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E1B68-68A0-4674-9CB0-5B597C0861E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45CD5-9972-45BB-AAA0-A55266F1BC3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F9262-1E6D-4431-99AF-A4F258377B9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7155C-8B50-4EA7-B03B-24DC8CDDEE0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BD91F-EAB7-4527-8C22-34AB3928CC9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5101F-FFF7-4D8D-A69E-8E7FD0CF691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45FD5-8154-4887-80C6-C44B549A3B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113D7-3FA1-4B2C-A141-36A46863400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A606F-1D9C-4D7E-999C-A0B7800AF4B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7FCEC-A146-4208-9D8C-BC655057BE7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3B68-63AF-408A-8C12-8DD21ECEB3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9BEC7-9009-479D-97AC-8DA6BDBD199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3F71-B677-4AE5-AC2D-451B48A7455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FA6E-452D-439C-BDA6-BB865B7E8AD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81A6-773B-4301-A40F-FDC0D1BB022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55EF-15F5-425C-B4CE-FB3F83A37F9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44BC-7E22-4732-829F-DA7B0E359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BDE5-CB76-4606-8406-9EDB9530998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9BD7-355F-4B3F-A955-710EC2B93A6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C0EF-7FD2-4C2E-A7A6-9CB01AFBDE4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46E5-2440-4A93-A6AA-F37C7829E32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2B59-28B6-4C9D-85A4-E71CB395AC4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3EDC5C-8E9C-4423-8869-F428678528A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1AA4F-0997-4DEC-88D9-FCE1CFE9085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48951-D3A6-4F02-946D-38DAC3889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EFB7A-36D6-49FF-BC8B-616702302A6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D492B-9EF4-4A8F-BBB4-56EE728829E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3D1442-1D29-4DCF-B7CB-9121129708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02B598-EB0B-4C73-8674-29B6F1A42AD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CE295C-6C5E-41F0-A77F-8A8663CC791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E0E84-9FD3-4C78-8418-51363BD629F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9C6E98-981C-4C13-985F-F6FDD577E3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A85F8-22A0-4AF8-B510-D67688B860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BDD89-9913-41FD-9A55-E23B2117B2B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848CD-EE64-4268-9E32-C210CE34A1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30F06-9421-4725-8435-25050E5A198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AA59D-FF14-49F0-8AD7-1FE0937E50B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EBA04-7216-40DF-860B-EC2AFEA1775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2D47A-53CF-431A-968B-FBD00B84D2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6F0AD-6D02-4FCE-AC7F-74701E98B55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65055-57BB-4FDF-8D25-D263084C2D6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08D37-9F60-49E7-965A-8B9C475B81A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BB926-1BE4-4F6D-B44B-0EDA43B8C4D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6B917-8D45-49CF-9081-6B81C7FB3E4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2C314-1FBF-41D4-A91E-75E3B9843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813DE-2031-4EDB-AB7E-6E626D8E998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0D8C4-D9F2-4C69-B6F5-7DE1FBA5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CE45C-4A24-4C16-90A7-0DE3B1E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CF867-B655-4DDF-9C6C-443A8C7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47A39-1EAA-4520-855A-4C3A919C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A425F-A7C7-49B0-AC98-C8284A2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968E9-419D-4014-BA82-5454FDC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368CF-8E16-4AFC-8856-44F1485A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A0FE0-FEF1-42C9-9019-FA76D0E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68A7B-7F5F-466B-B3EF-B03E049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88A04-50A5-46A8-9899-FAC193B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A1BAA-7BB2-40F0-8112-B18087D9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D74F1-C810-4705-A449-89F1916D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C59D1-3594-4312-8C21-F2A66933DE5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5BD2-50E4-4415-835C-A1D1E926F56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34ADE-A06B-4197-9E3E-6D419584FF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4DBA-F05D-4C16-9DBA-D6770253358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A099-4536-4956-9ACE-489CA3FADEC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869E-3DA3-4E5F-A54E-E1DD374607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CD36-93F2-482A-8E00-E96B46115F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9751-EE41-4195-85C4-13DD63B07A4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065A-6A20-4A02-B327-A4425522839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96B2C-2076-4234-AB74-C36AE3EFFE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BDB3-F16A-4BF7-9C95-6936D6FA73C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E4E2-337F-4FDF-A493-DE5FFCE2FB8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7CF7AD-6BE8-412F-8AE6-F580A93AF8C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26A6D-CD3B-40BA-A5B8-E79F0281416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7146B7-7E38-442B-84F2-408FCCBA798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B9B127-8468-44DA-B6E6-B72DC8DDD4A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2370A-6625-4A91-AB7E-1E81EA9D06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A8633C-8261-4C2F-9D4F-2137840A867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C581D-305E-4965-BFA7-AA80DBB5ADD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7DCFFE-06A3-452C-9F2A-E83BB0E03E8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97475-7BEA-4912-A60D-A0B2CFF90B1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FE75EF-F942-414C-8342-5CF7F2BDD6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1AEA6-7F95-4F27-9AD1-AACA6849BCC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E662BA-F810-4047-A224-49BED405D3D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85DDF-D816-4898-A68E-331D8E5BDD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4CD5D5-0A5B-4CFA-ACE3-8CA810E0410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59675-D4EF-4979-96FE-22E9B716F3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24FE2-B6F4-48B5-8828-58382C19B2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E9ECC-87F5-42FD-BE14-6A715D3EBA0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DCB90-F270-4892-8CC7-D267F5937AD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9FFE3-6CC0-4552-A73F-FD89767417D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641C3-9856-41EF-B369-12E5E5EE42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F1EC81-CF68-4910-9848-A860FDAB57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2E35B-3C67-4DB4-B983-C0B582DC65A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88077-FFDF-4DAC-9439-344EE8C07DF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DFCFA-3D65-42BF-8C93-B36453E36E0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C30C-93BA-4BBB-9A7B-347865246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573C8-7472-4723-AEE2-1B02006614F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4698-9A8F-4281-8A0B-5ABC48D5A7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4F410-819B-460D-A801-D41CC168D5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9484-5283-4657-8E07-52D37EAD3BF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FF37E-444A-41D0-83E0-4A7F02D80DD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0E89A-54D7-43DC-9C8F-0223DF955B4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CAA9-5733-4EB1-B248-8B7681BCF8A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637FA-B683-4792-8A05-09848CABB7F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FC4B-A414-41E0-832B-859384E170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8601-A6AA-4533-86FB-E8F70A5C5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D29C-B0CD-48AB-AF69-A0692604EDB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2F7AC-FCB5-4137-969D-8777F6BDB04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60F9E-1877-4DC4-95F6-07154F3E2C7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4D95D-282F-49CB-904B-1577092EF68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82BF-7C8D-4B2B-8670-0AC747DF4CD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F3F7F-D7A2-4A8E-AEE4-F0C8093156A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6F828-CF31-45EE-9D34-2ED009C8617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584C8-6838-4359-B4C3-41CB9C1F1CD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FB7A7-1595-4C53-BE15-0A5AC52CBA6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6B802-34F4-4356-B705-D64FB260C4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5A416-9281-4C91-94B0-F229DC7E698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50F10-0C7D-41A3-BFA5-671F6B35308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96EF8-9BC2-4D92-8101-60C14FBBD62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C72B6-7826-4D80-8FBC-49DDC902151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97C9C-A751-490D-A2CE-A8849AEA482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EE245C-8F42-4CD7-8CC6-66239FE5B18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08E54-C478-4DE3-BCBE-B2790E5A9AA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9AD2CB-CCF2-4029-A5FD-6DF08ADAE5D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CBCE6-DB90-4370-BB32-4DC7FC67C13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E3963-CB71-4381-9490-A82D9A1E8A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0F1D9D-F9CD-405C-B716-8583E614BDB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ECD88-BF9E-4294-ADE0-1584006437B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2E5E9-D0C2-468F-9F1C-E82BD6AB4C4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DEB67-913F-4331-A415-C7B7FEFCFC7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7DF8D-1F59-47A7-9D35-5DCE955AF4F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C93C-393A-4133-A5E5-4F61AE1CB97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EC447-A550-4C4E-B428-CF5C6F92311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06727-7B0A-4157-9DD5-8287E7DC6AC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D4DBF-EDF0-4F78-922F-644F5D228AF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77CD4-0EEB-429F-AE19-982EA25AAB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FE613-3B82-43A9-8378-163FE04679D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F73E-A46E-459D-B419-C053E53CEF0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F9EF5-4309-44E9-A10A-54F58D857F0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36E0D-5A4D-4104-A6ED-2EB2C337856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500D5-8619-44E0-8A94-04ADD89362F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3BC95-1CA9-4E30-AC07-9BAF0C6D7A2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7746-14F3-408C-B520-B4E40051A6F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3DDB0-3100-41BF-BB74-3F58B31D394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9F897-C413-4485-B1CF-DC4532E71E7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C444C-ED10-49E7-9EBF-A87A90ECD9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AA965-0FFC-4D02-BE2F-CB5CB06C80C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7F5DA-527D-4EEC-AE6B-7C693AE2775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DB9BA-8E5E-4193-ABE5-150A9F1AF60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6C382-D6FA-44CC-BF05-9B04E1A69CD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654C-B250-4E6F-B311-02D2157C75D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9C59E-22E2-4BE0-AAD1-5DADFFBCD22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74AF1-8BC2-47B7-9DFB-D4FA8346236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55F13-46D0-443F-A2A9-5495E63FFD9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EE777-EB07-4B27-845A-8F8EE1404B5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38D1A-284E-4A10-99D9-10CF44254E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6311F-A943-4797-8049-7A3E6388505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2510F8-7872-4DB6-BD14-D9AF629D776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2B67A-58B0-4472-84E6-26B179A22F2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C11F5-EC82-424E-B924-797D548F8D7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42357-9962-454A-8974-00D7A3A4D1B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91E725-4839-4570-AAD3-91E2F1E33E1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319B6A-95CC-438D-B6AD-7479E3F0224E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281F55-97AA-4439-9920-398F7C2CCFD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E518B-C353-4C57-9C47-D8AE138F54A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1EA4BD-C523-404B-94E5-F296731C55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7E1B60-2718-4778-8153-BD0CA7F0E44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24A24-D961-41FD-BB86-6708A0485F2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00DF9-DF55-4C2A-8566-ECDFC527E43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B6195-C477-442B-B917-00D509F1669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64BE3-4E3A-4097-9586-C75342AD9FB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46B6C-497A-4479-9C79-8543DD3C36B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D2CA0-52B9-4CB5-897F-F9544A5A431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9EC9-CA1F-49B9-9EC2-63417EA22AC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BE88-EA10-4768-BAAA-A7A3AD24517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5A37A-34B7-4897-9D96-E9F98BD2A2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A782B-B4C8-4BE0-9ED3-84FAFC0F762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8E328-B1D6-4E82-AEC7-D6576B5DD39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E1C20-1463-428B-AC1D-C8DC445BB44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5F3007-99EB-4EE1-863E-7CA6556979A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FB0282-D47A-43C9-9DF6-C8870BEA245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477045-36B0-4397-8477-5375C16F0FC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9E885A-78A9-407E-A393-629C0F6789A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CC9FF-5E33-4234-A4DA-708A5492128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856319-3C23-48B1-AA87-6AB279DF917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CEBDFF-E4C7-438B-815D-454468DE6C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2AD278-1859-41B8-B62A-6D7F91B6FCF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3F20CD-33EC-44F7-BECC-1794D159249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0A6A84-8C32-4971-A389-13E41276A4A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0FE5F-4FAA-4494-AE9B-15C803D9036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260301-D304-479B-9330-9005D16A809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DF995E-356A-410D-A8FE-27BB4C7E0A3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E1D4D5-AD63-4CF7-B3CC-5A50A1B1EDE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375BC2-AD7D-425A-9BAE-3B43CB90C41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AC37B1-EE55-42D1-88EB-D998B2D65E2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7B7A85-ED24-40D8-9DFA-09E0C0639E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CAADFF-A06D-4581-A5F0-4D0C2FB7594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4844CF-1916-4ECA-8F01-A232D9D2FC5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0137A4-D3F5-4820-A5D9-A26A5E8DEBF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C37E66-CF90-4167-8F74-26F77B5A4AA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F4F034-EDC2-4A01-9735-4A6381C2D2D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1908B-959D-4F67-8FC3-BCB22DC53BF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10BA5A-FB3E-470A-8498-9D93995ADCC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73380-621F-4E51-B787-30D4E9167B1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44F28-1B14-4EE3-A1F4-4966CB60885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A56AC-2245-4582-823E-F25D5F2AC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A508A-87AB-490A-9907-3E1959B6BC0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6D1F-9CB8-4720-9FD7-DB4E3884AD3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876D-C069-46D4-9435-FE81FFB23D9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D366-DB87-4CEC-9493-41CF2CEC0C7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7D58C-AD1B-4747-9E08-1830FBA1B05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E3E00-E943-44B6-BCAF-0F9AF967A18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61383-19E4-480F-A4A7-26AB6343230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268B-1FC1-4EF9-815D-668DA362B72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BA21F-DB9F-4D67-AE93-51363BD72E9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BC0B7-56BD-418A-AA63-BD859C4F86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9226B-7109-4A38-99EC-D45723646DD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15AC2-FA3F-4651-B3EB-04293D14C03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19C43-B511-4494-8F58-08A71A198F9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73B97-3614-4A8D-A08E-E789021BEF8D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13723-DD9E-4AE3-A3EC-26BB4ABAB2D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DD1CD-13AC-4394-8E7B-01DEE660C94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D3A57-D43B-499B-B7A8-DE79BB7ABB0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87E25-724E-457B-9CBD-992217E04B0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00A91-2B5B-44F1-9428-11C2C9E2316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682AA-4105-4C26-ABCB-F04B69253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175CC-115E-43EE-83CA-8FD0C510ED2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B4D905-3F74-48F1-8AA5-B662E2C9AFAE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339F9A-7293-4DF5-BA29-A442B50BBE16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2A8B84-1F40-4C41-B5E5-98F71F10608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DA04D5-95E6-4378-8F88-3792D5F74FD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457141-0A64-4385-842D-8AE8790C6C3F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99A26B-EA86-40C5-A09A-A192CADBE54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1D7742-BFFD-4049-B355-5F68B751089B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ACF97-5CF5-4758-9973-84AFF0969BA4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00898-290C-4DDA-8A2C-835D9F277A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000A1-D1B0-4DBE-A0E6-D702ADFC003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487DE-440B-4377-86B6-5CCEE610FE05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C916E8-8EF4-4F4D-8DE6-58C4ACDEC0F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1EB08-E811-4032-8FD4-CCA9D5DF4DD5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3AB03-64DF-45FF-BCE6-C5175DC17D9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8F7FF-2D11-4859-BF2A-21EF1049EBF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DE0A0-BAC2-404E-8004-8487F4D1F779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DE7F4-4A73-4A27-8455-02FEDDF0C8F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1E68F-B70F-4784-9123-47FA44D3C6B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8C600-FF4F-44C4-962E-3C16D94E5C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F26D1-D90C-49D8-A564-E6C75652208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9DB28-CF20-4CBA-8360-CC9A1F27A0D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B277-15F7-4FA1-8902-CA1DE2F9CF1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28C03-FA56-4C7A-B536-7BC792CDE95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7AD43-7C6A-4CC7-B459-08F4C2ED92F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C94873-FD0F-40F7-9059-C18955B8C9C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7C88B2-60F8-4A8B-900F-1DB3E36737F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12CA2E-B5FE-4D60-97CA-EA011D09639D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5C99B4-39C7-4B16-BA27-D1EDD3711EE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CF381B-7B4F-49F9-AF31-7C15B0F7DF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D56826-B57A-4230-B12A-C6D9C787519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30AD0E-3745-4A47-A6F7-3A32BC843E5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2BB013-830A-496F-AB8F-D749A072818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D4400D-8671-49F3-BE9F-62C0FF5F3584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D7B163-8CD5-4E5D-AD64-545D13543CC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C49839-D104-4058-9EE6-020433D7E72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6BA9B9-B534-4FE9-9982-EB4E83061806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C95F25-BBA5-4D36-8D03-5B1BF60CC1E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3271EF-B874-48DF-8D80-F7BC44CBC46C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7AED1-4365-4847-BBAB-F8516ABED9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9A140D-1B5E-412F-BF0D-33768DD5E07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4884C3-D1F2-443D-B059-4F09B483F4A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E026BC-D8CB-4399-822A-D74BFD39664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0DF48E-EC3A-4F24-8031-DDD71BEEE60D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B9B279-64EF-4BBC-BA7C-BC350CF5F36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690511-7069-43AD-948A-A5BCBAFDEDD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C8E357-AF3B-435B-8F6B-B02AF340DA5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3AA6DA-AA6D-46FD-A43B-86856E0F24A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21B78A-9458-46F8-9EC4-3529D11964C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0B27F-6878-44A8-B599-B6EEE5BC49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CE725-2366-46F5-8226-1758C66DE7D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4B14C-D30F-4971-AF06-04B39C97D97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807A0-345A-45AF-80A8-FF3DB6437A7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DF1CB-B53A-4C4D-B5DF-ECDC013E293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0EFE0-9C87-47AB-855D-D60934045AC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6FED1-787A-4B95-BE4C-FE24D268851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8AC03-6D91-407D-A4D0-2A9885A1328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3071A-AB37-47F4-A3DC-2E056A0F9C09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A4CD1-9602-40DA-9246-D32AACD715D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7CA4D-D0AB-4CF8-BFCC-40870C2775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D0ED9-5F96-400F-926C-6E7EEF60CED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6B7D64-9F70-4C08-9368-239B80243BC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538470-CA55-407D-965A-120183E8B32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8AF9CF-4A58-427E-9D31-72A41DCBAAA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FC0960-3751-45F5-85A6-7CF12699670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5D87DB-09C3-431E-B5CE-503CBB87EB8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F39D01-C195-4F48-8B34-4FEA70449B14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CF6321-B470-4D07-9D3D-7E68835FA339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92B221-F60C-4E17-B791-B052B14DC26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6BFD6B-18D5-407C-9B37-1F24650A1A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C2D1F4-FF3F-4585-8554-13F8C9F61139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4E6791-DDEB-4771-A89E-267ADC792A0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F389F0-C1F9-4EDE-A2A5-EF276355850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FF8DD3-D05E-410E-9C41-B2497C20E2D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4BA3AB-F3FB-4861-881F-0DED14F2908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29DAFC-4AE7-433C-8E11-124FB6356C9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3318F5-3085-43FA-9F13-A0EDA640D70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509932-DA7B-4DDB-A067-169FD65CDDE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F02911-3E74-4683-BAB8-5F5B69ED0A7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A63485-C4B2-4976-939B-A4A367DF3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536AA6-DA9F-4C01-980F-CE16E5338D6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1F1D50-AE4A-4CE6-AD5D-D2DA2A6131A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4BDF94-98E8-42A0-B0B6-B19B91BDBC9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0BD3B5-585F-4E2E-A6EE-7E478B90FA9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33E3CC-98B2-4F06-ACEC-C22023DBD05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03C25-E196-4637-B66C-110FA8DC88D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73EC2-B4DA-4A0F-8F5C-4049856D195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72BBE-E127-4779-8B38-F9FD0792E66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2D0B3-7D0C-4A6B-B99C-2625750BF28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C9511-99E2-48DF-9F06-39E48E82244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17DFA-6EF1-449A-A919-4511F56A644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3F028-E6E0-41FB-8364-8422E788EB9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F683C-D13A-4D50-A89F-DF98E154AA9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EFB0F-9A47-4393-A7C8-FFFAB74BA42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4883A-F06C-4205-873E-FE71F43BBD6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9F00A-AF7F-4AB7-92F8-E0982901E43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12486-DF63-4FC8-9F94-DE2BAC32E00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38B28E-65FA-447A-8FBC-EFC4870BA7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2F725A-DC87-4DE2-9D20-2B22E7E1A82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9F41F0-A844-426B-881C-E01A6C7390F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E7011A-D1F7-4079-B7DA-EA050A34E74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B5EB2C-44FC-4016-ACA5-23CBB78B5EC1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848B8D-99E9-4D46-B6FD-2A78BDBF96D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7BB7B1-C4E0-440C-A2A4-95BC5100914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B8798F-D20E-4C28-B490-68E1F0BF0CF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84F546-2C21-4289-93EA-4E18CFA10AF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1C70A2-61C6-431D-854C-E5CE02060B76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6FA4CE-9128-46A8-9C77-66A31200F4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F622E5-31D2-448D-B639-CD61316DE33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BCEA8F-F7F0-47B0-BC13-80252B62DE6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8A9A1A-F0B6-4145-9F45-3D6562CE372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2FCFE4-3FCF-4152-9461-D2B2263FBD54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171054-739F-47CE-BA8B-999AF5E09B8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796749-86DD-4065-BF2C-09CC77D2F7D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B3B072-EF1A-49C2-86E9-3A385EEEEED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88D5BB-2430-4F03-9987-D90DEEA88CB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C39823-1580-4A55-9A81-F24A159418F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580712-7A88-4209-835A-E7CE592E4C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C29515-FB2F-4E78-8C13-341C9BDCAA9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0C3EB3-2CD4-46A2-BE9C-DBE2CAE6F4E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946F77-D62D-4781-8C12-17ADA55214B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0EB2F-6A97-493D-BBB0-0AD91060BB7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6813D-3627-47FF-928A-C17185B7051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5FE8B-91C2-4917-8BAE-D9E949E66F7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EB9EE-3C47-4CB4-89A0-0A9044D8B33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39A4D-9D0D-4171-BAC6-B74EA04EC2EE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0F7C9-2C8C-4D45-B0A4-D0D44B86AD3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D61C3-9CD4-4727-A5DF-52F6F30301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1E515-9AE2-4BA8-9A45-5781F9BF55E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B3F23-17B3-4CF0-AAC7-EC1E5E9FDD2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D31DF-807E-44B4-98E7-7A7E98F9B78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A5BC0-55D9-47F0-A168-1C5C2D88DE5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5FF07-F7CC-4B4C-80B9-165A5468DCD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D4968D-D062-4795-A61E-781B3F9E13B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4C02ED-9B50-4BFC-BC7B-D402CFD7692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CC2343-B036-4676-9B9D-457CFA1DBB0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C3F14A-444C-4856-B577-E754B680B7B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AD69C5-B0B2-4AC9-AE39-C956730EA2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46DC45-8F4C-433E-AA12-81A4934BCA3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E35C98-3187-4135-AFC9-8A72269D02A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797296-C400-41FF-9985-60CB99A45182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8B3008-E204-4A77-925A-0441A6C1A805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87A51B-F17C-4F12-9971-66601D5849E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1C2196-80D3-42C1-8A88-4C9C4876289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630DEE-01D4-4E81-B52E-A9763DE0F09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62A300-7108-415C-86D6-598A76AE52FE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2535F7-4BBF-459B-AFD2-DCCD599E12B5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D123C1-3B1B-4BA5-88FB-B34A9F07CE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15DE2C-BECE-4B7C-A1B0-429ECF3C36D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F37F1F-7413-4007-B6E1-66A3ABB394F8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0D985F-A765-452D-AB19-9F94A8448AB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6058C7-1F69-4E9D-8C04-3BB73713675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E56E21-E95F-4F41-B143-7D0ED8154C4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19CD4F-C54E-4AE5-AA32-D316F2017809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92EC05-028C-48F0-8B70-ECC63E67CAC1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5C70F4-C14E-492E-A38B-554303B07BD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77B3E5-FBE4-4598-817C-9874769ABCA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C29F8B-2B2D-4A16-B1DC-677B5D2D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E6187B-C435-45A1-B8F8-B77D39A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69403C-BBF5-4379-9794-0B50C7F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6AA8C3-68B6-43CB-8CC9-7FC9205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257393-4861-451D-8584-2CB583B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55972B-0763-48CC-9E3B-E3868E1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BAA453-E1B3-405F-86BB-C95F0F6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A8943F-ED54-43B1-A538-EB87531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298E59-82D5-4FFA-9FE1-49AB4DC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CC020A-5244-4DB7-9D1E-6512C26C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55CD16-424B-4F11-889B-9CE722D5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399A15-B8D6-459C-B855-8E7F934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3FF8A-9D0A-40AC-8EEA-3D642D5F0B55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D00E1-B37A-4F1B-BF36-CE77346D4A4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31CC5-1BEB-4D66-AB01-BBE19584535C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E6FB8-53AD-40A8-90C5-185FF3CA519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1814F-2D01-48EC-8E41-16BB4C7A648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DE867-EF5A-43CA-BC83-6EF1041443C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E2E30-8E37-4646-9133-DC41F34837D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7215C-D03E-48BC-AB8C-AB31C5E82DF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F988B-733C-434E-B9D1-A4C92F850F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0461D-3968-41D8-B533-71A9E77EE48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D41A3-27BC-4A93-B2E0-6C90415EF191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DBB50-4B4F-41CE-B98D-0D883BD6EB7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F24BCF-D9DA-463D-AF36-D7E6905F742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5C9DA6-DCC0-47C1-BFE5-6A282C51EFC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790851-AC58-4C9D-B155-57638ECAE693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C299A59-2DAC-43A9-8E14-4EE996C5F4F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0BA261-73CB-4301-A6D1-5F0EB6EEC2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68390B-4B9B-443E-8376-C9CEA668532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D8C25A-30A4-4239-86A0-DBAEA7C832A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4EE503-F671-4EE2-9BBD-3329A743292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BB09BF-B52C-4869-95C8-6CF8282E361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8C65DB-8318-4555-BE6F-25A3294B5374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8B9C73-7D33-42CD-B1F4-FF687E4E4AD9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4FFA9B-A6D5-497B-AD43-067C3E303FF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8934B9-ADBA-415D-A643-4DDEC3342F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72CB42-D994-42F8-9D6C-C4F2C8700FC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2F56BF-1C55-439E-B994-E1F21FC6FED4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93154D-5DA8-4033-9531-7BF848CC24C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AA9A31-7518-442A-9ECA-EA9816FA6548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2FBC49-515B-450E-BEA3-26CCC96A399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47E855-11B5-41D7-8C37-4C930C30B74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71FFE9-48F2-45D5-AF24-A2C0FCF414C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8C3100-05CA-4D17-8396-AD81B4F8532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61FBE7-6823-45DB-A6B4-3F71779FAD64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4F29C5-F99E-435E-807E-5CED889E40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7FF424-DB95-413C-B441-374561C5D5BB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0F723-EAC3-42EA-8906-55942ADAAD8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0882E-3062-4176-AF93-2922AD86596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C9475-3406-4D5A-92EA-6ED61D3C289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D244E-805A-4E5A-AA3A-3D423FE5E1DD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8D542-B57F-4ECB-BBD3-F23DD98A631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5BF05-ED4F-4DFA-9C74-6FA6FF54A59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88A43-7A9D-4214-9159-75540A7ACA79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BE8ED-7FA8-4939-946B-BF9B9935184D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0AAAC3-C8E6-4ABE-8DBD-86914C4729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9B4B9-6350-4E76-967F-B7906143469D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5A9B5-295D-4A0F-B6DF-19953E19FFA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A6C79-292A-47D3-BA23-55132E7CF9A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38BDE9-7CEE-4D87-A49A-FFD6CA6D78B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BB568D-0775-4BFF-962B-ECE27EC8547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B849D6-F3A5-433E-ACFB-F6CC0B16CB6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77FC04-10F2-4017-906B-933D1CA6791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CFF33D-0480-4408-874D-56BA842AF26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B1AE57-A800-430B-9468-394979E149DB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1D72BA-721F-4534-9B9A-DE38FF809D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79BAFF-7043-4945-9115-E9FE35DEFE7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DB4307-60CD-4F81-9A5D-634A98C969B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642EF7-A2BE-4649-A326-F0C4F7BCF533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9259F6-1521-427C-B3AD-54AAE7889810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1EDA89-A48F-44EE-8B15-BB14C38E443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83BA78-14E7-4F57-9711-705B7694C1F2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3669A3-8831-4C1C-9D61-21EED61679A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B018E3-B9FE-4FCB-9B24-EFC61DFC9C7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EEC69C-3E2B-4412-8EFE-B6EEDD4745E1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F6BCFD-83FC-40A7-96D8-D4ECBC7ACF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9CB60D-1EA3-4138-B045-2E2CA842DA9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E7EA80-8D87-4854-A274-C5B48993ABE8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34FF96-BA41-4425-8140-43639C067268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FE8F54-C978-494C-B588-2CE2BD7E66C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8E18AC-C34F-4C61-B636-79248967994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6414FE-25B1-45E1-A5A8-E3920A63B0F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F1E8A3-A312-4D62-B7F1-9C53E3D148FE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1E697-1385-4664-B1C9-07FC720AE25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FE760-E2D8-48D9-8E14-F7D8A52921B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3435A-155B-4A64-8800-75A07B1C3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ADC46-A341-4C8A-A7C4-CA0A8354334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1E179-3420-4CD1-A439-9D76EA7149B6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60133-DD01-4B8F-AEBC-585A00B1683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14ECE-AD56-40AB-841C-F2E1DA8F490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673366-2A74-4091-906C-D6E338A43AA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4397D-A5C0-4D8F-8D21-7DCC1B35E4C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0C0D3-B9AB-408E-8599-852F0CF0E71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1DEE1-0DE7-4204-9F14-382D4F30C08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3875D-04B3-4CE0-BE97-13814F9ED1D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7C461B-C853-4B97-AF3C-CF73EAD70BB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6EC70B-B614-4ED3-AD42-B2DC94FCE5A6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555B9D-9424-4D39-820D-7CAF0318F94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D8388B-F98E-46AD-A5B5-C8A1774077C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690354-7A12-4304-BF7E-80729FFD91E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4B416A-0A25-489E-B3C9-52EBB573B0C9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DCA9A8-6A41-4222-BF2A-68A26565ED5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EB5BFF-DCF7-443A-B471-A79DCA392E4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9035CB-B491-4A29-BCD7-9C98DA9ACB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3A6-D99D-4F34-A7BD-BC04A7C4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1C7DB7-3BEE-4B3D-82E6-257027C455B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811759-4698-4EEE-A3E2-418BC29A57EE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1D13CE-07DF-447A-957B-465CA551125C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A446A9-C6BE-45D2-83CB-53E7EF463CF4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97C480-2926-4581-A8C1-1B012BCC110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0FE394-DF25-4876-8808-071D47F95A9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E38D62-2FB4-425F-A72B-C574D79E8CA9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18AABA-5C9C-4F4D-9976-6DECEC2C1867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4B6B63-E26D-4A52-903B-E4DF504F4603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C426F3-AE83-4F67-957B-0DEA2E8B11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005-9341-4A99-91E9-EC03D85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1726A4-A8CC-4D34-A885-E9B5C66F63D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D54A5F-FF92-443E-AD0A-EB2048487CD1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E1AFCB-B2F1-40E8-8D8E-7E7BF0DA00D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B75822-EDF3-4284-AA73-E35AE09C46F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D09432-ABEF-4CB3-A01A-ACC817B2B1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513-129C-4DE6-844B-1E78352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21D-1B79-43A9-8BAC-728C1E9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DA4-5A18-4B17-8D7E-A7FEE6F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785-900C-4243-9FBF-BFFAC48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79B-D85F-404F-8A2B-2013D589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ED6-CB7A-44D7-87E1-35F636F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9A0-6911-4514-A1E4-5ADC97E7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298-15CE-48A8-9CDF-D3FD87E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596-738B-43B4-9412-D27E1F4C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58F-466A-4AE4-BD32-79B8DC3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8024B-609F-4D3F-A67D-0E729C5D1B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852F9-4B8F-46B8-952A-D3B11A49D1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039C-87BD-48D7-9851-B52072465C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20140-7F05-4E5C-ABCF-41C065D76B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F4801-56BD-45C9-BCE4-5D5796D81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B31EC-2DD6-4AE4-88E2-AC050D049A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921AE-A84C-40E4-93D1-0421A1F3AD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66FD2-E89A-4693-9EFC-EB3CF9D742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9B32-9039-486E-9D4D-88D39B40F8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E2AED-74C5-4E75-BE96-EE5F7E64F5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975F6-3D67-4430-B3BB-33E32727C6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FE02-855B-4353-89BB-3AFDCF0CAB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DC03-3AEC-4B7F-8643-1DA002232A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A1C51-43B8-4836-89B4-4B199F5C21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AF96-13EC-4632-BEEB-9567B9BC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865ED-171C-4C04-9A75-E19757E4133A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4CB58-C76D-4E0E-8D40-F837A8EB91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166D0-8E29-488B-B352-EF73244217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A18EC-0F2E-4DC1-8A86-C4C6DE5427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CDD4B-ED06-4EC0-AB7E-D74E8AA6401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8EC6B-7D9C-42C2-985C-91663F54DD3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524AB-3FE0-495A-A647-69CE627D9B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AAB54-1400-4D4B-A989-E5C59CCA712C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1B711-9D75-48F7-B43F-65336A5AC44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05A11-6C5B-4EE3-BBAE-D39275B47E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9F009-E2F9-4B13-AEF7-CB09EAF473C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5659A-7F1B-4691-B72F-FEE27404A2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05AE4-CD74-49FA-B6A2-A31080E3938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3E752-9439-4BFF-8843-A2708BD6B2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44055-4DBD-40B3-A36C-308488208CA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DA311-5A60-49E3-8B06-64B835E9D8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C93D8-805A-4A79-8F76-7C825A9390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110B3-F1E8-47A3-93FA-7517622A179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1A06F-6488-4744-986F-9AD72338A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5010B-2234-41DF-B30C-021DE515738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9FE63-F31E-4F5F-8D3A-D5DEF40E971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F415B-452B-43C9-90A0-3C0DDB17E09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D066F-68BF-48A9-984C-A1809A3F954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DD46D-3E17-408F-9C2B-6FED328ABD9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92DF4-D057-4A2A-A995-7FD2A90A53F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27332-8B38-4C96-9995-E0DF0873F86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6119A-A178-4F19-A2AE-B0A4AF6CEF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F9696-0F7C-44D8-8A9F-B37E8E34886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A761A-E49B-4A72-9E94-9622E4ED26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F7A7E-56A1-4CED-8A8C-20769A3E04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9D0E2-24A0-451B-8302-2A52DCFA1B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EA15F-35D8-4EA9-A616-39978CE55AA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2854F-C94E-4938-947F-5C17572158B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A45ED-D07C-4555-89ED-D7629FCED1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2BDD1-25F3-42A3-917C-0D22AACCFEE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42364-7925-45C5-BE01-4A9CCF36617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DF999-EB88-457D-B4EA-E6C45A265F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20A0F-C1DB-41DE-8903-8B2F854CB64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8C386-988C-416A-9BC0-75E32FA30D9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694AA-2E5E-4F9D-BF29-9712B3C0E05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0FC52-FFC8-4942-ACAB-878248E05AB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9BBCA-FCB5-4DCB-8D99-B16335E197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7063F-BEE7-4DF5-B039-7D7EF5D40DD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C4C00-C4CB-4A3A-9FD7-5ABD6A45041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B9778-8F73-4B18-B0E5-0ED5D64A00B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sites/default/files/packages/reserved-names/ReservedNames.xml" TargetMode="External"/><Relationship Id="rId2" Type="http://schemas.openxmlformats.org/officeDocument/2006/relationships/hyperlink" Target="http://gnso.icann.org/en/issues/igo-ingo-final-rcrc-scope-names-10nov13-en.pdf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en/news/correspondence/dryden-to-crocker-chalaby-annex2-22mar13-en.pdf" TargetMode="External"/><Relationship Id="rId2" Type="http://schemas.openxmlformats.org/officeDocument/2006/relationships/hyperlink" Target="http://csonet.org/content/documents/E2011INF4.pdf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r - The full name or acronym used by the organization seeking protection; its eligibility is established by an approved l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– the limited list of eligible identifiers distinguished by type (name or acronym) or by additional designations as agreed upon and indicated in the text below; may also include lists approved by the GAC (where this is the case it is expressly indicated as such in the text belo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– The scope of languages for which a Latin-script identifier is to be prot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C2C4F-285B-4FE5-86FE-44B888509EC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RCRC / I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d Cross Red Crescent Soc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 : "Red Cross", "Red Crescent", "Red Lion and Sun" and "Red Crystal" (Language: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sites/default/files/packages/reserved-names/ReservedNames.x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 : 189 recognized National Red Cross and Red Crescent Societies; International Committee of the Red Cross; International Federation of Red Cross and Red Crescent Societies; ICRC, CICR, CICV, MKKK, IFRC, FICR (Language: in English, as well as in their respective national languages; ICRC &amp; IFRC protected in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nso.icann.org/en/issues/igo-ingo-final-rcrc-scope-names-10nov13-en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Olympic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olympic, olympiad (Language: UN6, + German, Greek, and Kore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89CF2-BE85-468B-B00F-D84DE76FFCA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8496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IGO / INGO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(other than RCRC &amp; I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178920" y="1103400"/>
            <a:ext cx="86569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Governmental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GAC List  (22 March 2013) - Full Name (Language: Up to two language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GAC List (22 March 2013) - Acronym (Language: Up to two langu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en/news/correspondence/dryden-to-crocker-chalaby-annex2-22mar13-en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Non-Governmental Organizations (other than RCRC &amp; I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ECOSOC List  (Gener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ECOSOC List (Speci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, this list of Identifiers are INGOs other than the RCRC and I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onet.org/content/documents/E2011INF4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FD1D5-AB38-4355-A687-AAEE81FB0DE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Mary Wong</cp:lastModifiedBy>
  <dcterms:modified xsi:type="dcterms:W3CDTF">2013-11-19T10:57:23Z</dcterms:modified>
  <cp:revision>155</cp:revision>
  <dc:subject/>
  <dc:title>GNSO Policy Issues</dc:title>
</cp:coreProperties>
</file>