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0CB61-B3B5-43D5-A4D7-F98825B88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5241E-D2A8-4832-8E08-4DD24037D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B4FC1-2EC4-4603-86C9-EAADC4519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0E851-36A1-4348-A77C-B9F8D2963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6743E-78ED-4E2C-854C-AB7480176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BF31B-7C89-48FC-83EC-DB4153D3B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FEDB-5635-4ECC-A82F-B16C10D78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51BA-29E2-4860-A345-D22ACBE5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815F2-4A52-4B1C-90F2-85464221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2462-8E68-4B2E-980D-DB07AF77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7BA7-5E6A-4DA2-B032-FCC11101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E569D-2B54-488D-AEAD-B321FFBC0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B6239-F647-4ADF-83B4-AE8B3CA298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3200" y="219240"/>
            <a:ext cx="8852040" cy="6626160"/>
          </a:xfrm>
          <a:prstGeom prst="rect">
            <a:avLst/>
          </a:prstGeom>
          <a:ln w="0">
            <a:noFill/>
          </a:ln>
        </p:spPr>
      </p:pic>
      <p:sp>
        <p:nvSpPr>
          <p:cNvPr id="399"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1"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2"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3"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4"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05"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06" name="Group 12"/>
          <p:cNvGrpSpPr/>
          <p:nvPr/>
        </p:nvGrpSpPr>
        <p:grpSpPr>
          <a:xfrm>
            <a:off x="6284520" y="355680"/>
            <a:ext cx="629280" cy="606600"/>
            <a:chOff x="6284520" y="355680"/>
            <a:chExt cx="629280" cy="606600"/>
          </a:xfrm>
        </p:grpSpPr>
        <p:sp>
          <p:nvSpPr>
            <p:cNvPr id="407" name="Rectangle 13"/>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1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TextBox 1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0" name="Group 16"/>
          <p:cNvGrpSpPr/>
          <p:nvPr/>
        </p:nvGrpSpPr>
        <p:grpSpPr>
          <a:xfrm>
            <a:off x="7832520" y="2524320"/>
            <a:ext cx="627480" cy="605880"/>
            <a:chOff x="7832520" y="2524320"/>
            <a:chExt cx="627480" cy="605880"/>
          </a:xfrm>
        </p:grpSpPr>
        <p:sp>
          <p:nvSpPr>
            <p:cNvPr id="411" name="Rectangle 17"/>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Rectangle 1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4" name="Group 22"/>
          <p:cNvGrpSpPr/>
          <p:nvPr/>
        </p:nvGrpSpPr>
        <p:grpSpPr>
          <a:xfrm>
            <a:off x="5724000" y="6228000"/>
            <a:ext cx="628200" cy="607320"/>
            <a:chOff x="5724000" y="6228000"/>
            <a:chExt cx="628200" cy="607320"/>
          </a:xfrm>
        </p:grpSpPr>
        <p:sp>
          <p:nvSpPr>
            <p:cNvPr id="415" name="Rectangle 2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2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26"/>
          <p:cNvGrpSpPr/>
          <p:nvPr/>
        </p:nvGrpSpPr>
        <p:grpSpPr>
          <a:xfrm>
            <a:off x="1485360" y="5599440"/>
            <a:ext cx="627840" cy="605880"/>
            <a:chOff x="1485360" y="5599440"/>
            <a:chExt cx="627840" cy="605880"/>
          </a:xfrm>
        </p:grpSpPr>
        <p:sp>
          <p:nvSpPr>
            <p:cNvPr id="419" name="Rectangle 2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ectangle 2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2" name="Group 30"/>
          <p:cNvGrpSpPr/>
          <p:nvPr/>
        </p:nvGrpSpPr>
        <p:grpSpPr>
          <a:xfrm>
            <a:off x="2057040" y="320760"/>
            <a:ext cx="629640" cy="608040"/>
            <a:chOff x="2057040" y="320760"/>
            <a:chExt cx="629640" cy="608040"/>
          </a:xfrm>
        </p:grpSpPr>
        <p:sp>
          <p:nvSpPr>
            <p:cNvPr id="423" name="Rectangle 3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Rectangle 3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3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26"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27" name="Group 35"/>
          <p:cNvGrpSpPr/>
          <p:nvPr/>
        </p:nvGrpSpPr>
        <p:grpSpPr>
          <a:xfrm>
            <a:off x="609840" y="4263120"/>
            <a:ext cx="634680" cy="616320"/>
            <a:chOff x="609840" y="4263120"/>
            <a:chExt cx="634680" cy="616320"/>
          </a:xfrm>
        </p:grpSpPr>
        <p:sp>
          <p:nvSpPr>
            <p:cNvPr id="428" name="Rectangle 3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Rectangle 3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1" name="Group 39"/>
          <p:cNvGrpSpPr/>
          <p:nvPr/>
        </p:nvGrpSpPr>
        <p:grpSpPr>
          <a:xfrm>
            <a:off x="590400" y="1615680"/>
            <a:ext cx="895320" cy="582840"/>
            <a:chOff x="590400" y="1615680"/>
            <a:chExt cx="895320" cy="582840"/>
          </a:xfrm>
        </p:grpSpPr>
        <p:sp>
          <p:nvSpPr>
            <p:cNvPr id="432" name="Rectangle 4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Rectangle 4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35" name="Group 44"/>
          <p:cNvGrpSpPr/>
          <p:nvPr/>
        </p:nvGrpSpPr>
        <p:grpSpPr>
          <a:xfrm>
            <a:off x="7910280" y="4176720"/>
            <a:ext cx="628200" cy="597600"/>
            <a:chOff x="7910280" y="4176720"/>
            <a:chExt cx="628200" cy="597600"/>
          </a:xfrm>
        </p:grpSpPr>
        <p:sp>
          <p:nvSpPr>
            <p:cNvPr id="436" name="Rectangle 4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Rectangle 4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33200" y="219240"/>
            <a:ext cx="8798040" cy="6589440"/>
          </a:xfrm>
          <a:prstGeom prst="rect">
            <a:avLst/>
          </a:prstGeom>
          <a:ln w="0">
            <a:noFill/>
          </a:ln>
        </p:spPr>
      </p:pic>
      <p:sp>
        <p:nvSpPr>
          <p:cNvPr id="440"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2"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3"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4"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45"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46"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47" name="Group 38"/>
          <p:cNvGrpSpPr/>
          <p:nvPr/>
        </p:nvGrpSpPr>
        <p:grpSpPr>
          <a:xfrm>
            <a:off x="6284520" y="355680"/>
            <a:ext cx="629280" cy="606600"/>
            <a:chOff x="6284520" y="355680"/>
            <a:chExt cx="629280" cy="606600"/>
          </a:xfrm>
        </p:grpSpPr>
        <p:sp>
          <p:nvSpPr>
            <p:cNvPr id="448"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0"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1" name="Group 39"/>
          <p:cNvGrpSpPr/>
          <p:nvPr/>
        </p:nvGrpSpPr>
        <p:grpSpPr>
          <a:xfrm>
            <a:off x="7832520" y="2524320"/>
            <a:ext cx="627480" cy="605880"/>
            <a:chOff x="7832520" y="2524320"/>
            <a:chExt cx="627480" cy="605880"/>
          </a:xfrm>
        </p:grpSpPr>
        <p:sp>
          <p:nvSpPr>
            <p:cNvPr id="452"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55" name="Group 43"/>
          <p:cNvGrpSpPr/>
          <p:nvPr/>
        </p:nvGrpSpPr>
        <p:grpSpPr>
          <a:xfrm>
            <a:off x="5724000" y="6228000"/>
            <a:ext cx="628200" cy="607320"/>
            <a:chOff x="5724000" y="6228000"/>
            <a:chExt cx="628200" cy="607320"/>
          </a:xfrm>
        </p:grpSpPr>
        <p:sp>
          <p:nvSpPr>
            <p:cNvPr id="456"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7"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8"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47"/>
          <p:cNvGrpSpPr/>
          <p:nvPr/>
        </p:nvGrpSpPr>
        <p:grpSpPr>
          <a:xfrm>
            <a:off x="1485360" y="5599440"/>
            <a:ext cx="627840" cy="605880"/>
            <a:chOff x="1485360" y="5599440"/>
            <a:chExt cx="627840" cy="605880"/>
          </a:xfrm>
        </p:grpSpPr>
        <p:sp>
          <p:nvSpPr>
            <p:cNvPr id="460"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3" name="Group 51"/>
          <p:cNvGrpSpPr/>
          <p:nvPr/>
        </p:nvGrpSpPr>
        <p:grpSpPr>
          <a:xfrm>
            <a:off x="2057040" y="320760"/>
            <a:ext cx="629640" cy="608040"/>
            <a:chOff x="2057040" y="320760"/>
            <a:chExt cx="629640" cy="608040"/>
          </a:xfrm>
        </p:grpSpPr>
        <p:sp>
          <p:nvSpPr>
            <p:cNvPr id="464"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67"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68"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69"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0" name="Group 59"/>
          <p:cNvGrpSpPr/>
          <p:nvPr/>
        </p:nvGrpSpPr>
        <p:grpSpPr>
          <a:xfrm>
            <a:off x="609840" y="4263120"/>
            <a:ext cx="634680" cy="616320"/>
            <a:chOff x="609840" y="4263120"/>
            <a:chExt cx="634680" cy="616320"/>
          </a:xfrm>
        </p:grpSpPr>
        <p:sp>
          <p:nvSpPr>
            <p:cNvPr id="471"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3"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4" name="Group 63"/>
          <p:cNvGrpSpPr/>
          <p:nvPr/>
        </p:nvGrpSpPr>
        <p:grpSpPr>
          <a:xfrm>
            <a:off x="590400" y="1615680"/>
            <a:ext cx="895320" cy="582840"/>
            <a:chOff x="590400" y="1615680"/>
            <a:chExt cx="895320" cy="582840"/>
          </a:xfrm>
        </p:grpSpPr>
        <p:sp>
          <p:nvSpPr>
            <p:cNvPr id="475" name="Rectangle 64"/>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6" name="Rectangle 65"/>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7"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78" name="Group 67"/>
          <p:cNvGrpSpPr/>
          <p:nvPr/>
        </p:nvGrpSpPr>
        <p:grpSpPr>
          <a:xfrm>
            <a:off x="7910280" y="4176720"/>
            <a:ext cx="628200" cy="597600"/>
            <a:chOff x="7910280" y="4176720"/>
            <a:chExt cx="628200" cy="597600"/>
          </a:xfrm>
        </p:grpSpPr>
        <p:sp>
          <p:nvSpPr>
            <p:cNvPr id="479" name="Rectangle 6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0" name="Rectangle 6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1"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133200" y="219240"/>
            <a:ext cx="8852040" cy="6626160"/>
          </a:xfrm>
          <a:prstGeom prst="rect">
            <a:avLst/>
          </a:prstGeom>
          <a:ln w="0">
            <a:noFill/>
          </a:ln>
        </p:spPr>
      </p:pic>
      <p:sp>
        <p:nvSpPr>
          <p:cNvPr id="483"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4"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85"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86"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87"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88"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89"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0" name="Group 14"/>
          <p:cNvGrpSpPr/>
          <p:nvPr/>
        </p:nvGrpSpPr>
        <p:grpSpPr>
          <a:xfrm>
            <a:off x="6284520" y="355680"/>
            <a:ext cx="629280" cy="606600"/>
            <a:chOff x="6284520" y="355680"/>
            <a:chExt cx="629280" cy="606600"/>
          </a:xfrm>
        </p:grpSpPr>
        <p:sp>
          <p:nvSpPr>
            <p:cNvPr id="491"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2"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3"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4" name="Group 18"/>
          <p:cNvGrpSpPr/>
          <p:nvPr/>
        </p:nvGrpSpPr>
        <p:grpSpPr>
          <a:xfrm>
            <a:off x="7832520" y="2524320"/>
            <a:ext cx="627480" cy="605880"/>
            <a:chOff x="7832520" y="2524320"/>
            <a:chExt cx="627480" cy="605880"/>
          </a:xfrm>
        </p:grpSpPr>
        <p:sp>
          <p:nvSpPr>
            <p:cNvPr id="495"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7"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98" name="Group 24"/>
          <p:cNvGrpSpPr/>
          <p:nvPr/>
        </p:nvGrpSpPr>
        <p:grpSpPr>
          <a:xfrm>
            <a:off x="5724000" y="6228000"/>
            <a:ext cx="628200" cy="607320"/>
            <a:chOff x="5724000" y="6228000"/>
            <a:chExt cx="628200" cy="607320"/>
          </a:xfrm>
        </p:grpSpPr>
        <p:sp>
          <p:nvSpPr>
            <p:cNvPr id="499"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0"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1"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2" name="Group 28"/>
          <p:cNvGrpSpPr/>
          <p:nvPr/>
        </p:nvGrpSpPr>
        <p:grpSpPr>
          <a:xfrm>
            <a:off x="1485360" y="5599440"/>
            <a:ext cx="627840" cy="605880"/>
            <a:chOff x="1485360" y="5599440"/>
            <a:chExt cx="627840" cy="605880"/>
          </a:xfrm>
        </p:grpSpPr>
        <p:sp>
          <p:nvSpPr>
            <p:cNvPr id="503"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4"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5"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32"/>
          <p:cNvGrpSpPr/>
          <p:nvPr/>
        </p:nvGrpSpPr>
        <p:grpSpPr>
          <a:xfrm>
            <a:off x="2057040" y="320760"/>
            <a:ext cx="629640" cy="608040"/>
            <a:chOff x="2057040" y="320760"/>
            <a:chExt cx="629640" cy="608040"/>
          </a:xfrm>
        </p:grpSpPr>
        <p:sp>
          <p:nvSpPr>
            <p:cNvPr id="507"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9"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0"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1" name="Group 46"/>
          <p:cNvGrpSpPr/>
          <p:nvPr/>
        </p:nvGrpSpPr>
        <p:grpSpPr>
          <a:xfrm>
            <a:off x="609840" y="4263120"/>
            <a:ext cx="634680" cy="616320"/>
            <a:chOff x="609840" y="4263120"/>
            <a:chExt cx="634680" cy="616320"/>
          </a:xfrm>
        </p:grpSpPr>
        <p:sp>
          <p:nvSpPr>
            <p:cNvPr id="512"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15" name="Group 50"/>
          <p:cNvGrpSpPr/>
          <p:nvPr/>
        </p:nvGrpSpPr>
        <p:grpSpPr>
          <a:xfrm>
            <a:off x="590400" y="1615680"/>
            <a:ext cx="895320" cy="582840"/>
            <a:chOff x="590400" y="1615680"/>
            <a:chExt cx="895320" cy="582840"/>
          </a:xfrm>
        </p:grpSpPr>
        <p:sp>
          <p:nvSpPr>
            <p:cNvPr id="516"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7"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8"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19" name="Group 54"/>
          <p:cNvGrpSpPr/>
          <p:nvPr/>
        </p:nvGrpSpPr>
        <p:grpSpPr>
          <a:xfrm>
            <a:off x="7910280" y="4176720"/>
            <a:ext cx="628200" cy="597600"/>
            <a:chOff x="7910280" y="4176720"/>
            <a:chExt cx="628200" cy="597600"/>
          </a:xfrm>
        </p:grpSpPr>
        <p:sp>
          <p:nvSpPr>
            <p:cNvPr id="520"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1"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2"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Content Placeholder 3" descr=""/>
          <p:cNvPicPr/>
          <p:nvPr/>
        </p:nvPicPr>
        <p:blipFill>
          <a:blip r:embed="rId1"/>
          <a:stretch/>
        </p:blipFill>
        <p:spPr>
          <a:xfrm>
            <a:off x="133200" y="219240"/>
            <a:ext cx="8798040" cy="6589440"/>
          </a:xfrm>
          <a:prstGeom prst="rect">
            <a:avLst/>
          </a:prstGeom>
          <a:ln w="0">
            <a:noFill/>
          </a:ln>
        </p:spPr>
      </p:pic>
      <p:sp>
        <p:nvSpPr>
          <p:cNvPr id="524"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5"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26"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7"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28"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9"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0"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1" name="Group 38"/>
          <p:cNvGrpSpPr/>
          <p:nvPr/>
        </p:nvGrpSpPr>
        <p:grpSpPr>
          <a:xfrm>
            <a:off x="6284520" y="355680"/>
            <a:ext cx="629280" cy="606600"/>
            <a:chOff x="6284520" y="355680"/>
            <a:chExt cx="629280" cy="606600"/>
          </a:xfrm>
        </p:grpSpPr>
        <p:sp>
          <p:nvSpPr>
            <p:cNvPr id="532"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3"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35" name="Group 39"/>
          <p:cNvGrpSpPr/>
          <p:nvPr/>
        </p:nvGrpSpPr>
        <p:grpSpPr>
          <a:xfrm>
            <a:off x="7832520" y="2524320"/>
            <a:ext cx="627480" cy="605880"/>
            <a:chOff x="7832520" y="2524320"/>
            <a:chExt cx="627480" cy="605880"/>
          </a:xfrm>
        </p:grpSpPr>
        <p:sp>
          <p:nvSpPr>
            <p:cNvPr id="536"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39" name="Group 43"/>
          <p:cNvGrpSpPr/>
          <p:nvPr/>
        </p:nvGrpSpPr>
        <p:grpSpPr>
          <a:xfrm>
            <a:off x="5724000" y="6228000"/>
            <a:ext cx="628200" cy="607320"/>
            <a:chOff x="5724000" y="6228000"/>
            <a:chExt cx="628200" cy="607320"/>
          </a:xfrm>
        </p:grpSpPr>
        <p:sp>
          <p:nvSpPr>
            <p:cNvPr id="540"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3" name="Group 47"/>
          <p:cNvGrpSpPr/>
          <p:nvPr/>
        </p:nvGrpSpPr>
        <p:grpSpPr>
          <a:xfrm>
            <a:off x="1485360" y="5599440"/>
            <a:ext cx="627840" cy="605880"/>
            <a:chOff x="1485360" y="5599440"/>
            <a:chExt cx="627840" cy="605880"/>
          </a:xfrm>
        </p:grpSpPr>
        <p:sp>
          <p:nvSpPr>
            <p:cNvPr id="544"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6"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7" name="Group 51"/>
          <p:cNvGrpSpPr/>
          <p:nvPr/>
        </p:nvGrpSpPr>
        <p:grpSpPr>
          <a:xfrm>
            <a:off x="2057040" y="320760"/>
            <a:ext cx="629640" cy="608040"/>
            <a:chOff x="2057040" y="320760"/>
            <a:chExt cx="629640" cy="608040"/>
          </a:xfrm>
        </p:grpSpPr>
        <p:sp>
          <p:nvSpPr>
            <p:cNvPr id="548"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1"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2"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3"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4"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55"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56" name="Group 15"/>
          <p:cNvGrpSpPr/>
          <p:nvPr/>
        </p:nvGrpSpPr>
        <p:grpSpPr>
          <a:xfrm>
            <a:off x="609840" y="4263120"/>
            <a:ext cx="634680" cy="616320"/>
            <a:chOff x="609840" y="4263120"/>
            <a:chExt cx="634680" cy="616320"/>
          </a:xfrm>
        </p:grpSpPr>
        <p:sp>
          <p:nvSpPr>
            <p:cNvPr id="557"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9"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0" name="Group 18"/>
          <p:cNvGrpSpPr/>
          <p:nvPr/>
        </p:nvGrpSpPr>
        <p:grpSpPr>
          <a:xfrm>
            <a:off x="590400" y="1615680"/>
            <a:ext cx="895320" cy="582840"/>
            <a:chOff x="590400" y="1615680"/>
            <a:chExt cx="895320" cy="582840"/>
          </a:xfrm>
        </p:grpSpPr>
        <p:sp>
          <p:nvSpPr>
            <p:cNvPr id="561" name="Rectangle 72"/>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Rectangle 73"/>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4" name="Group 17"/>
          <p:cNvGrpSpPr/>
          <p:nvPr/>
        </p:nvGrpSpPr>
        <p:grpSpPr>
          <a:xfrm>
            <a:off x="7910280" y="4176720"/>
            <a:ext cx="628200" cy="597600"/>
            <a:chOff x="7910280" y="4176720"/>
            <a:chExt cx="628200" cy="597600"/>
          </a:xfrm>
        </p:grpSpPr>
        <p:sp>
          <p:nvSpPr>
            <p:cNvPr id="565" name="Rectangle 7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6" name="Rectangle 7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7"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
          <p:cNvPicPr/>
          <p:nvPr/>
        </p:nvPicPr>
        <p:blipFill>
          <a:blip r:embed="rId1"/>
          <a:stretch/>
        </p:blipFill>
        <p:spPr>
          <a:xfrm>
            <a:off x="133200" y="219240"/>
            <a:ext cx="8852040" cy="6626160"/>
          </a:xfrm>
          <a:prstGeom prst="rect">
            <a:avLst/>
          </a:prstGeom>
          <a:ln w="0">
            <a:noFill/>
          </a:ln>
        </p:spPr>
      </p:pic>
      <p:sp>
        <p:nvSpPr>
          <p:cNvPr id="569"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1"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2"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3"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4"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75"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76" name="Group 14"/>
          <p:cNvGrpSpPr/>
          <p:nvPr/>
        </p:nvGrpSpPr>
        <p:grpSpPr>
          <a:xfrm>
            <a:off x="6284520" y="355680"/>
            <a:ext cx="629280" cy="606600"/>
            <a:chOff x="6284520" y="355680"/>
            <a:chExt cx="629280" cy="606600"/>
          </a:xfrm>
        </p:grpSpPr>
        <p:sp>
          <p:nvSpPr>
            <p:cNvPr id="577"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8"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0" name="Group 18"/>
          <p:cNvGrpSpPr/>
          <p:nvPr/>
        </p:nvGrpSpPr>
        <p:grpSpPr>
          <a:xfrm>
            <a:off x="7832520" y="2524320"/>
            <a:ext cx="627480" cy="605880"/>
            <a:chOff x="7832520" y="2524320"/>
            <a:chExt cx="627480" cy="605880"/>
          </a:xfrm>
        </p:grpSpPr>
        <p:sp>
          <p:nvSpPr>
            <p:cNvPr id="581"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2"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4" name="Group 24"/>
          <p:cNvGrpSpPr/>
          <p:nvPr/>
        </p:nvGrpSpPr>
        <p:grpSpPr>
          <a:xfrm>
            <a:off x="5724000" y="6228000"/>
            <a:ext cx="628200" cy="607320"/>
            <a:chOff x="5724000" y="6228000"/>
            <a:chExt cx="628200" cy="607320"/>
          </a:xfrm>
        </p:grpSpPr>
        <p:sp>
          <p:nvSpPr>
            <p:cNvPr id="585"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7"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8" name="Group 28"/>
          <p:cNvGrpSpPr/>
          <p:nvPr/>
        </p:nvGrpSpPr>
        <p:grpSpPr>
          <a:xfrm>
            <a:off x="1485360" y="5599440"/>
            <a:ext cx="627840" cy="605880"/>
            <a:chOff x="1485360" y="5599440"/>
            <a:chExt cx="627840" cy="605880"/>
          </a:xfrm>
        </p:grpSpPr>
        <p:sp>
          <p:nvSpPr>
            <p:cNvPr id="589"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0"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1"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2" name="Group 32"/>
          <p:cNvGrpSpPr/>
          <p:nvPr/>
        </p:nvGrpSpPr>
        <p:grpSpPr>
          <a:xfrm>
            <a:off x="2057040" y="320760"/>
            <a:ext cx="629640" cy="608040"/>
            <a:chOff x="2057040" y="320760"/>
            <a:chExt cx="629640" cy="608040"/>
          </a:xfrm>
        </p:grpSpPr>
        <p:sp>
          <p:nvSpPr>
            <p:cNvPr id="593"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4"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5"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96"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597" name="Group 46"/>
          <p:cNvGrpSpPr/>
          <p:nvPr/>
        </p:nvGrpSpPr>
        <p:grpSpPr>
          <a:xfrm>
            <a:off x="609840" y="4263120"/>
            <a:ext cx="634680" cy="616320"/>
            <a:chOff x="609840" y="4263120"/>
            <a:chExt cx="634680" cy="616320"/>
          </a:xfrm>
        </p:grpSpPr>
        <p:sp>
          <p:nvSpPr>
            <p:cNvPr id="598"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1" name="Group 50"/>
          <p:cNvGrpSpPr/>
          <p:nvPr/>
        </p:nvGrpSpPr>
        <p:grpSpPr>
          <a:xfrm>
            <a:off x="590400" y="1615680"/>
            <a:ext cx="895320" cy="582840"/>
            <a:chOff x="590400" y="1615680"/>
            <a:chExt cx="895320" cy="582840"/>
          </a:xfrm>
        </p:grpSpPr>
        <p:sp>
          <p:nvSpPr>
            <p:cNvPr id="602"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3"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05" name="Group 54"/>
          <p:cNvGrpSpPr/>
          <p:nvPr/>
        </p:nvGrpSpPr>
        <p:grpSpPr>
          <a:xfrm>
            <a:off x="7910280" y="4176720"/>
            <a:ext cx="628200" cy="597600"/>
            <a:chOff x="7910280" y="4176720"/>
            <a:chExt cx="628200" cy="597600"/>
          </a:xfrm>
        </p:grpSpPr>
        <p:sp>
          <p:nvSpPr>
            <p:cNvPr id="606"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680"/>
            <a:ext cx="629280" cy="606600"/>
            <a:chOff x="6284520" y="355680"/>
            <a:chExt cx="629280" cy="606600"/>
          </a:xfrm>
        </p:grpSpPr>
        <p:sp>
          <p:nvSpPr>
            <p:cNvPr id="57"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5880"/>
            <a:chOff x="7832520" y="2524320"/>
            <a:chExt cx="627480" cy="605880"/>
          </a:xfrm>
        </p:grpSpPr>
        <p:sp>
          <p:nvSpPr>
            <p:cNvPr id="61"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8000"/>
            <a:ext cx="628200" cy="607320"/>
            <a:chOff x="5724000" y="6228000"/>
            <a:chExt cx="628200" cy="607320"/>
          </a:xfrm>
        </p:grpSpPr>
        <p:sp>
          <p:nvSpPr>
            <p:cNvPr id="65"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440"/>
            <a:ext cx="627840" cy="605880"/>
            <a:chOff x="1485360" y="5599440"/>
            <a:chExt cx="627840" cy="605880"/>
          </a:xfrm>
        </p:grpSpPr>
        <p:sp>
          <p:nvSpPr>
            <p:cNvPr id="69"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760"/>
            <a:ext cx="629640" cy="608040"/>
            <a:chOff x="2057040" y="320760"/>
            <a:chExt cx="629640" cy="608040"/>
          </a:xfrm>
        </p:grpSpPr>
        <p:sp>
          <p:nvSpPr>
            <p:cNvPr id="73"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200" cy="597600"/>
            <a:chOff x="7910280" y="4176720"/>
            <a:chExt cx="628200" cy="597600"/>
          </a:xfrm>
        </p:grpSpPr>
        <p:sp>
          <p:nvSpPr>
            <p:cNvPr id="85"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1"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2"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3"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4"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5" name="Group 148"/>
          <p:cNvGrpSpPr/>
          <p:nvPr/>
        </p:nvGrpSpPr>
        <p:grpSpPr>
          <a:xfrm>
            <a:off x="6284520" y="355680"/>
            <a:ext cx="629280" cy="606600"/>
            <a:chOff x="6284520" y="355680"/>
            <a:chExt cx="629280" cy="606600"/>
          </a:xfrm>
        </p:grpSpPr>
        <p:sp>
          <p:nvSpPr>
            <p:cNvPr id="116" name="Rectangle 149"/>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Rectangle 150"/>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TextBox 151"/>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9" name="Group 152"/>
          <p:cNvGrpSpPr/>
          <p:nvPr/>
        </p:nvGrpSpPr>
        <p:grpSpPr>
          <a:xfrm>
            <a:off x="7832520" y="2524320"/>
            <a:ext cx="627480" cy="605880"/>
            <a:chOff x="7832520" y="2524320"/>
            <a:chExt cx="627480" cy="605880"/>
          </a:xfrm>
        </p:grpSpPr>
        <p:sp>
          <p:nvSpPr>
            <p:cNvPr id="120" name="Rectangle 153"/>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Rectangle 1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3" name="Group 156"/>
          <p:cNvGrpSpPr/>
          <p:nvPr/>
        </p:nvGrpSpPr>
        <p:grpSpPr>
          <a:xfrm>
            <a:off x="5724000" y="6228000"/>
            <a:ext cx="628200" cy="607320"/>
            <a:chOff x="5724000" y="6228000"/>
            <a:chExt cx="628200" cy="607320"/>
          </a:xfrm>
        </p:grpSpPr>
        <p:sp>
          <p:nvSpPr>
            <p:cNvPr id="124" name="Rectangle 1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Rectangle 1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7" name="Group 160"/>
          <p:cNvGrpSpPr/>
          <p:nvPr/>
        </p:nvGrpSpPr>
        <p:grpSpPr>
          <a:xfrm>
            <a:off x="1485360" y="5599440"/>
            <a:ext cx="627840" cy="605880"/>
            <a:chOff x="1485360" y="5599440"/>
            <a:chExt cx="627840" cy="605880"/>
          </a:xfrm>
        </p:grpSpPr>
        <p:sp>
          <p:nvSpPr>
            <p:cNvPr id="128" name="Rectangle 1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Rectangle 162"/>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1" name="Group 164"/>
          <p:cNvGrpSpPr/>
          <p:nvPr/>
        </p:nvGrpSpPr>
        <p:grpSpPr>
          <a:xfrm>
            <a:off x="2057040" y="320760"/>
            <a:ext cx="629640" cy="608040"/>
            <a:chOff x="2057040" y="320760"/>
            <a:chExt cx="629640" cy="608040"/>
          </a:xfrm>
        </p:grpSpPr>
        <p:sp>
          <p:nvSpPr>
            <p:cNvPr id="132" name="Rectangle 165"/>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ectangle 166"/>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TextBox 167"/>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5" name="Group 170"/>
          <p:cNvGrpSpPr/>
          <p:nvPr/>
        </p:nvGrpSpPr>
        <p:grpSpPr>
          <a:xfrm>
            <a:off x="609840" y="4263120"/>
            <a:ext cx="634680" cy="616320"/>
            <a:chOff x="609840" y="4263120"/>
            <a:chExt cx="634680" cy="616320"/>
          </a:xfrm>
        </p:grpSpPr>
        <p:sp>
          <p:nvSpPr>
            <p:cNvPr id="136" name="Rectangle 1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Rectangle 1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9" name="Group 174"/>
          <p:cNvGrpSpPr/>
          <p:nvPr/>
        </p:nvGrpSpPr>
        <p:grpSpPr>
          <a:xfrm>
            <a:off x="590400" y="1615680"/>
            <a:ext cx="895320" cy="582840"/>
            <a:chOff x="590400" y="1615680"/>
            <a:chExt cx="895320" cy="582840"/>
          </a:xfrm>
        </p:grpSpPr>
        <p:sp>
          <p:nvSpPr>
            <p:cNvPr id="140" name="Rectangle 1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Rectangle 1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3" name="Group 178"/>
          <p:cNvGrpSpPr/>
          <p:nvPr/>
        </p:nvGrpSpPr>
        <p:grpSpPr>
          <a:xfrm>
            <a:off x="7910280" y="4176720"/>
            <a:ext cx="628200" cy="597600"/>
            <a:chOff x="7910280" y="4176720"/>
            <a:chExt cx="628200" cy="597600"/>
          </a:xfrm>
        </p:grpSpPr>
        <p:sp>
          <p:nvSpPr>
            <p:cNvPr id="144" name="Rectangle 1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Rectangle 1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
          <p:cNvPicPr/>
          <p:nvPr/>
        </p:nvPicPr>
        <p:blipFill>
          <a:blip r:embed="rId1"/>
          <a:stretch/>
        </p:blipFill>
        <p:spPr>
          <a:xfrm>
            <a:off x="133200" y="219240"/>
            <a:ext cx="8798040" cy="6589440"/>
          </a:xfrm>
          <a:prstGeom prst="rect">
            <a:avLst/>
          </a:prstGeom>
          <a:ln w="0">
            <a:noFill/>
          </a:ln>
        </p:spPr>
      </p:pic>
      <p:sp>
        <p:nvSpPr>
          <p:cNvPr id="148"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150"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Rectangle 2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Box 2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3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8200" cy="607320"/>
            <a:chOff x="5724000" y="6228000"/>
            <a:chExt cx="628200" cy="607320"/>
          </a:xfrm>
        </p:grpSpPr>
        <p:sp>
          <p:nvSpPr>
            <p:cNvPr id="164" name="Rectangle 3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Rectangle 3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5880"/>
            <a:chOff x="1485360" y="5599440"/>
            <a:chExt cx="627840" cy="605880"/>
          </a:xfrm>
        </p:grpSpPr>
        <p:sp>
          <p:nvSpPr>
            <p:cNvPr id="168" name="Rectangle 3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Rectangle 3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640" cy="608040"/>
            <a:chOff x="2057040" y="320760"/>
            <a:chExt cx="629640" cy="608040"/>
          </a:xfrm>
        </p:grpSpPr>
        <p:sp>
          <p:nvSpPr>
            <p:cNvPr id="172" name="Rectangle 4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Rectangle 4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4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6320"/>
            <a:chOff x="609840" y="4263120"/>
            <a:chExt cx="634680" cy="616320"/>
          </a:xfrm>
        </p:grpSpPr>
        <p:sp>
          <p:nvSpPr>
            <p:cNvPr id="176" name="Rectangle 45"/>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Rectangle 46"/>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Rectangle 50"/>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200" cy="597600"/>
            <a:chOff x="7910280" y="4176720"/>
            <a:chExt cx="628200" cy="597600"/>
          </a:xfrm>
        </p:grpSpPr>
        <p:sp>
          <p:nvSpPr>
            <p:cNvPr id="184" name="Rectangle 53"/>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54"/>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133200" y="219240"/>
            <a:ext cx="8852040" cy="6626160"/>
          </a:xfrm>
          <a:prstGeom prst="rect">
            <a:avLst/>
          </a:prstGeom>
          <a:ln w="0">
            <a:noFill/>
          </a:ln>
        </p:spPr>
      </p:pic>
      <p:sp>
        <p:nvSpPr>
          <p:cNvPr id="188"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0"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1"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2"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3"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4"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5"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6"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pic>
        <p:nvPicPr>
          <p:cNvPr id="197"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8"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199"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0"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1" name="Group 100"/>
          <p:cNvGrpSpPr/>
          <p:nvPr/>
        </p:nvGrpSpPr>
        <p:grpSpPr>
          <a:xfrm>
            <a:off x="6284520" y="355680"/>
            <a:ext cx="629280" cy="606600"/>
            <a:chOff x="6284520" y="355680"/>
            <a:chExt cx="629280" cy="606600"/>
          </a:xfrm>
        </p:grpSpPr>
        <p:sp>
          <p:nvSpPr>
            <p:cNvPr id="202" name="Rectangle 10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0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10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5" name="Group 105"/>
          <p:cNvGrpSpPr/>
          <p:nvPr/>
        </p:nvGrpSpPr>
        <p:grpSpPr>
          <a:xfrm>
            <a:off x="7832520" y="2524320"/>
            <a:ext cx="627480" cy="605880"/>
            <a:chOff x="7832520" y="2524320"/>
            <a:chExt cx="627480" cy="605880"/>
          </a:xfrm>
        </p:grpSpPr>
        <p:sp>
          <p:nvSpPr>
            <p:cNvPr id="206" name="Rectangle 106"/>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Rectangle 10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09" name="Group 110"/>
          <p:cNvGrpSpPr/>
          <p:nvPr/>
        </p:nvGrpSpPr>
        <p:grpSpPr>
          <a:xfrm>
            <a:off x="5724000" y="6228000"/>
            <a:ext cx="628200" cy="607320"/>
            <a:chOff x="5724000" y="6228000"/>
            <a:chExt cx="628200" cy="607320"/>
          </a:xfrm>
        </p:grpSpPr>
        <p:sp>
          <p:nvSpPr>
            <p:cNvPr id="210" name="Rectangle 111"/>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112"/>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3" name="Group 114"/>
          <p:cNvGrpSpPr/>
          <p:nvPr/>
        </p:nvGrpSpPr>
        <p:grpSpPr>
          <a:xfrm>
            <a:off x="1485360" y="5599440"/>
            <a:ext cx="627840" cy="605880"/>
            <a:chOff x="1485360" y="5599440"/>
            <a:chExt cx="627840" cy="605880"/>
          </a:xfrm>
        </p:grpSpPr>
        <p:sp>
          <p:nvSpPr>
            <p:cNvPr id="214" name="Rectangle 115"/>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Rectangle 116"/>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7" name="Group 119"/>
          <p:cNvGrpSpPr/>
          <p:nvPr/>
        </p:nvGrpSpPr>
        <p:grpSpPr>
          <a:xfrm>
            <a:off x="2057040" y="320760"/>
            <a:ext cx="629640" cy="608040"/>
            <a:chOff x="2057040" y="320760"/>
            <a:chExt cx="629640" cy="608040"/>
          </a:xfrm>
        </p:grpSpPr>
        <p:sp>
          <p:nvSpPr>
            <p:cNvPr id="218" name="Rectangle 120"/>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Rectangle 121"/>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TextBox 122"/>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1" name="Group 123"/>
          <p:cNvGrpSpPr/>
          <p:nvPr/>
        </p:nvGrpSpPr>
        <p:grpSpPr>
          <a:xfrm>
            <a:off x="609840" y="4263120"/>
            <a:ext cx="634680" cy="616320"/>
            <a:chOff x="609840" y="4263120"/>
            <a:chExt cx="634680" cy="616320"/>
          </a:xfrm>
        </p:grpSpPr>
        <p:sp>
          <p:nvSpPr>
            <p:cNvPr id="222" name="Rectangle 12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Rectangle 12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5" name="Group 127"/>
          <p:cNvGrpSpPr/>
          <p:nvPr/>
        </p:nvGrpSpPr>
        <p:grpSpPr>
          <a:xfrm>
            <a:off x="590400" y="1615680"/>
            <a:ext cx="895320" cy="582840"/>
            <a:chOff x="590400" y="1615680"/>
            <a:chExt cx="895320" cy="582840"/>
          </a:xfrm>
        </p:grpSpPr>
        <p:sp>
          <p:nvSpPr>
            <p:cNvPr id="226" name="Rectangle 128"/>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Rectangle 129"/>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29" name="Group 131"/>
          <p:cNvGrpSpPr/>
          <p:nvPr/>
        </p:nvGrpSpPr>
        <p:grpSpPr>
          <a:xfrm>
            <a:off x="7910280" y="4176720"/>
            <a:ext cx="628200" cy="597600"/>
            <a:chOff x="7910280" y="4176720"/>
            <a:chExt cx="628200" cy="597600"/>
          </a:xfrm>
        </p:grpSpPr>
        <p:sp>
          <p:nvSpPr>
            <p:cNvPr id="230" name="Rectangle 132"/>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Rectangle 133"/>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stretch/>
        </p:blipFill>
        <p:spPr>
          <a:xfrm>
            <a:off x="133200" y="219240"/>
            <a:ext cx="8852040" cy="6626160"/>
          </a:xfrm>
          <a:prstGeom prst="rect">
            <a:avLst/>
          </a:prstGeom>
          <a:ln w="0">
            <a:noFill/>
          </a:ln>
        </p:spPr>
      </p:pic>
      <p:sp>
        <p:nvSpPr>
          <p:cNvPr id="234"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7"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pic>
        <p:nvPicPr>
          <p:cNvPr id="238"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39"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0"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1"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2" name="Group 46"/>
          <p:cNvGrpSpPr/>
          <p:nvPr/>
        </p:nvGrpSpPr>
        <p:grpSpPr>
          <a:xfrm>
            <a:off x="6284520" y="355680"/>
            <a:ext cx="629280" cy="606600"/>
            <a:chOff x="6284520" y="355680"/>
            <a:chExt cx="629280" cy="606600"/>
          </a:xfrm>
        </p:grpSpPr>
        <p:sp>
          <p:nvSpPr>
            <p:cNvPr id="243" name="Rectangle 47"/>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48"/>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TextBox 49"/>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6" name="Group 50"/>
          <p:cNvGrpSpPr/>
          <p:nvPr/>
        </p:nvGrpSpPr>
        <p:grpSpPr>
          <a:xfrm>
            <a:off x="7832520" y="2524320"/>
            <a:ext cx="627480" cy="605880"/>
            <a:chOff x="7832520" y="2524320"/>
            <a:chExt cx="627480" cy="605880"/>
          </a:xfrm>
        </p:grpSpPr>
        <p:sp>
          <p:nvSpPr>
            <p:cNvPr id="247" name="Rectangle 51"/>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Rectangle 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0" name="Group 56"/>
          <p:cNvGrpSpPr/>
          <p:nvPr/>
        </p:nvGrpSpPr>
        <p:grpSpPr>
          <a:xfrm>
            <a:off x="5724000" y="6228000"/>
            <a:ext cx="628200" cy="607320"/>
            <a:chOff x="5724000" y="6228000"/>
            <a:chExt cx="628200" cy="607320"/>
          </a:xfrm>
        </p:grpSpPr>
        <p:sp>
          <p:nvSpPr>
            <p:cNvPr id="251" name="Rectangle 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Rectangle 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4" name="Group 60"/>
          <p:cNvGrpSpPr/>
          <p:nvPr/>
        </p:nvGrpSpPr>
        <p:grpSpPr>
          <a:xfrm>
            <a:off x="1485360" y="5599440"/>
            <a:ext cx="627840" cy="605880"/>
            <a:chOff x="1485360" y="5599440"/>
            <a:chExt cx="627840" cy="605880"/>
          </a:xfrm>
        </p:grpSpPr>
        <p:sp>
          <p:nvSpPr>
            <p:cNvPr id="255" name="Rectangle 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Rectangle 63"/>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8" name="Group 66"/>
          <p:cNvGrpSpPr/>
          <p:nvPr/>
        </p:nvGrpSpPr>
        <p:grpSpPr>
          <a:xfrm>
            <a:off x="2057040" y="320760"/>
            <a:ext cx="629640" cy="608040"/>
            <a:chOff x="2057040" y="320760"/>
            <a:chExt cx="629640" cy="608040"/>
          </a:xfrm>
        </p:grpSpPr>
        <p:sp>
          <p:nvSpPr>
            <p:cNvPr id="259"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Rectangle 69"/>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Box 71"/>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2" name="Group 73"/>
          <p:cNvGrpSpPr/>
          <p:nvPr/>
        </p:nvGrpSpPr>
        <p:grpSpPr>
          <a:xfrm>
            <a:off x="609840" y="4263120"/>
            <a:ext cx="634680" cy="616320"/>
            <a:chOff x="609840" y="4263120"/>
            <a:chExt cx="634680" cy="616320"/>
          </a:xfrm>
        </p:grpSpPr>
        <p:sp>
          <p:nvSpPr>
            <p:cNvPr id="263" name="Rectangle 7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Rectangle 7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6" name="Group 77"/>
          <p:cNvGrpSpPr/>
          <p:nvPr/>
        </p:nvGrpSpPr>
        <p:grpSpPr>
          <a:xfrm>
            <a:off x="590400" y="1615680"/>
            <a:ext cx="895320" cy="582840"/>
            <a:chOff x="590400" y="1615680"/>
            <a:chExt cx="895320" cy="582840"/>
          </a:xfrm>
        </p:grpSpPr>
        <p:sp>
          <p:nvSpPr>
            <p:cNvPr id="267" name="Rectangle 8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Rectangle 8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0" name="Group 84"/>
          <p:cNvGrpSpPr/>
          <p:nvPr/>
        </p:nvGrpSpPr>
        <p:grpSpPr>
          <a:xfrm>
            <a:off x="7910280" y="4176720"/>
            <a:ext cx="628200" cy="597600"/>
            <a:chOff x="7910280" y="4176720"/>
            <a:chExt cx="628200" cy="597600"/>
          </a:xfrm>
        </p:grpSpPr>
        <p:sp>
          <p:nvSpPr>
            <p:cNvPr id="271" name="Rectangle 8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Rectangle 8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ontent Placeholder 3" descr=""/>
          <p:cNvPicPr/>
          <p:nvPr/>
        </p:nvPicPr>
        <p:blipFill>
          <a:blip r:embed="rId1"/>
          <a:stretch/>
        </p:blipFill>
        <p:spPr>
          <a:xfrm>
            <a:off x="133200" y="219240"/>
            <a:ext cx="8852040" cy="6626160"/>
          </a:xfrm>
          <a:prstGeom prst="rect">
            <a:avLst/>
          </a:prstGeom>
          <a:ln w="0">
            <a:noFill/>
          </a:ln>
        </p:spPr>
      </p:pic>
      <p:sp>
        <p:nvSpPr>
          <p:cNvPr id="275"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7"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8"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79"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0"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1"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2"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3" name="Group 31"/>
          <p:cNvGrpSpPr/>
          <p:nvPr/>
        </p:nvGrpSpPr>
        <p:grpSpPr>
          <a:xfrm>
            <a:off x="6284520" y="355680"/>
            <a:ext cx="629280" cy="606600"/>
            <a:chOff x="6284520" y="355680"/>
            <a:chExt cx="629280" cy="606600"/>
          </a:xfrm>
        </p:grpSpPr>
        <p:sp>
          <p:nvSpPr>
            <p:cNvPr id="284" name="Rectangle 3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Rectangle 3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TextBox 3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7" name="Group 35"/>
          <p:cNvGrpSpPr/>
          <p:nvPr/>
        </p:nvGrpSpPr>
        <p:grpSpPr>
          <a:xfrm>
            <a:off x="7832520" y="2524320"/>
            <a:ext cx="627480" cy="605880"/>
            <a:chOff x="7832520" y="2524320"/>
            <a:chExt cx="627480" cy="605880"/>
          </a:xfrm>
        </p:grpSpPr>
        <p:sp>
          <p:nvSpPr>
            <p:cNvPr id="288" name="Rectangle 3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9" name="Rectangle 4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1" name="Group 43"/>
          <p:cNvGrpSpPr/>
          <p:nvPr/>
        </p:nvGrpSpPr>
        <p:grpSpPr>
          <a:xfrm>
            <a:off x="5724000" y="6228000"/>
            <a:ext cx="628200" cy="607320"/>
            <a:chOff x="5724000" y="6228000"/>
            <a:chExt cx="628200" cy="607320"/>
          </a:xfrm>
        </p:grpSpPr>
        <p:sp>
          <p:nvSpPr>
            <p:cNvPr id="292"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3"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5" name="Group 47"/>
          <p:cNvGrpSpPr/>
          <p:nvPr/>
        </p:nvGrpSpPr>
        <p:grpSpPr>
          <a:xfrm>
            <a:off x="1485360" y="5599440"/>
            <a:ext cx="627840" cy="605880"/>
            <a:chOff x="1485360" y="5599440"/>
            <a:chExt cx="627840" cy="605880"/>
          </a:xfrm>
        </p:grpSpPr>
        <p:sp>
          <p:nvSpPr>
            <p:cNvPr id="296"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9" name="Group 51"/>
          <p:cNvGrpSpPr/>
          <p:nvPr/>
        </p:nvGrpSpPr>
        <p:grpSpPr>
          <a:xfrm>
            <a:off x="2057040" y="320760"/>
            <a:ext cx="629640" cy="608040"/>
            <a:chOff x="2057040" y="320760"/>
            <a:chExt cx="629640" cy="608040"/>
          </a:xfrm>
        </p:grpSpPr>
        <p:sp>
          <p:nvSpPr>
            <p:cNvPr id="300"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3" name="Group 55"/>
          <p:cNvGrpSpPr/>
          <p:nvPr/>
        </p:nvGrpSpPr>
        <p:grpSpPr>
          <a:xfrm>
            <a:off x="609840" y="4263120"/>
            <a:ext cx="634680" cy="616320"/>
            <a:chOff x="609840" y="4263120"/>
            <a:chExt cx="634680" cy="616320"/>
          </a:xfrm>
        </p:grpSpPr>
        <p:sp>
          <p:nvSpPr>
            <p:cNvPr id="304"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7" name="Group 59"/>
          <p:cNvGrpSpPr/>
          <p:nvPr/>
        </p:nvGrpSpPr>
        <p:grpSpPr>
          <a:xfrm>
            <a:off x="590400" y="1615680"/>
            <a:ext cx="895320" cy="582840"/>
            <a:chOff x="590400" y="1615680"/>
            <a:chExt cx="895320" cy="582840"/>
          </a:xfrm>
        </p:grpSpPr>
        <p:sp>
          <p:nvSpPr>
            <p:cNvPr id="308"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1" name="Group 63"/>
          <p:cNvGrpSpPr/>
          <p:nvPr/>
        </p:nvGrpSpPr>
        <p:grpSpPr>
          <a:xfrm>
            <a:off x="7910280" y="4176720"/>
            <a:ext cx="628200" cy="597600"/>
            <a:chOff x="7910280" y="4176720"/>
            <a:chExt cx="628200" cy="597600"/>
          </a:xfrm>
        </p:grpSpPr>
        <p:sp>
          <p:nvSpPr>
            <p:cNvPr id="312"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Content Placeholder 3" descr=""/>
          <p:cNvPicPr/>
          <p:nvPr/>
        </p:nvPicPr>
        <p:blipFill>
          <a:blip r:embed="rId1"/>
          <a:stretch/>
        </p:blipFill>
        <p:spPr>
          <a:xfrm>
            <a:off x="133200" y="219240"/>
            <a:ext cx="8852040" cy="6626160"/>
          </a:xfrm>
          <a:prstGeom prst="rect">
            <a:avLst/>
          </a:prstGeom>
          <a:ln w="0">
            <a:noFill/>
          </a:ln>
        </p:spPr>
      </p:pic>
      <p:sp>
        <p:nvSpPr>
          <p:cNvPr id="316"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18"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1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Rectangle 45"/>
          <p:cNvSpPr/>
          <p:nvPr/>
        </p:nvSpPr>
        <p:spPr>
          <a:xfrm>
            <a:off x="3848040" y="150804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pic>
        <p:nvPicPr>
          <p:cNvPr id="321"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2"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3"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4"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5" name="Group 50"/>
          <p:cNvGrpSpPr/>
          <p:nvPr/>
        </p:nvGrpSpPr>
        <p:grpSpPr>
          <a:xfrm>
            <a:off x="6284520" y="355680"/>
            <a:ext cx="629280" cy="606600"/>
            <a:chOff x="6284520" y="355680"/>
            <a:chExt cx="629280" cy="606600"/>
          </a:xfrm>
        </p:grpSpPr>
        <p:sp>
          <p:nvSpPr>
            <p:cNvPr id="326" name="Rectangle 5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52"/>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TextBox 53"/>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29" name="Group 54"/>
          <p:cNvGrpSpPr/>
          <p:nvPr/>
        </p:nvGrpSpPr>
        <p:grpSpPr>
          <a:xfrm>
            <a:off x="7832520" y="2524320"/>
            <a:ext cx="627480" cy="605880"/>
            <a:chOff x="7832520" y="2524320"/>
            <a:chExt cx="627480" cy="605880"/>
          </a:xfrm>
        </p:grpSpPr>
        <p:sp>
          <p:nvSpPr>
            <p:cNvPr id="330" name="Rectangle 55"/>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Rectangle 56"/>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3" name="Group 58"/>
          <p:cNvGrpSpPr/>
          <p:nvPr/>
        </p:nvGrpSpPr>
        <p:grpSpPr>
          <a:xfrm>
            <a:off x="5724000" y="6228000"/>
            <a:ext cx="628200" cy="607320"/>
            <a:chOff x="5724000" y="6228000"/>
            <a:chExt cx="628200" cy="607320"/>
          </a:xfrm>
        </p:grpSpPr>
        <p:sp>
          <p:nvSpPr>
            <p:cNvPr id="334" name="Rectangle 59"/>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Rectangle 60"/>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7" name="Group 62"/>
          <p:cNvGrpSpPr/>
          <p:nvPr/>
        </p:nvGrpSpPr>
        <p:grpSpPr>
          <a:xfrm>
            <a:off x="1485360" y="5599440"/>
            <a:ext cx="627840" cy="605880"/>
            <a:chOff x="1485360" y="5599440"/>
            <a:chExt cx="627840" cy="605880"/>
          </a:xfrm>
        </p:grpSpPr>
        <p:sp>
          <p:nvSpPr>
            <p:cNvPr id="338" name="Rectangle 63"/>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Rectangle 64"/>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6"/>
          <p:cNvGrpSpPr/>
          <p:nvPr/>
        </p:nvGrpSpPr>
        <p:grpSpPr>
          <a:xfrm>
            <a:off x="2057040" y="320760"/>
            <a:ext cx="629640" cy="608040"/>
            <a:chOff x="2057040" y="320760"/>
            <a:chExt cx="629640" cy="608040"/>
          </a:xfrm>
        </p:grpSpPr>
        <p:sp>
          <p:nvSpPr>
            <p:cNvPr id="342"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3" name="Rectangle 68"/>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TextBox 69"/>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5" name="Group 70"/>
          <p:cNvGrpSpPr/>
          <p:nvPr/>
        </p:nvGrpSpPr>
        <p:grpSpPr>
          <a:xfrm>
            <a:off x="609840" y="4263120"/>
            <a:ext cx="634680" cy="616320"/>
            <a:chOff x="609840" y="4263120"/>
            <a:chExt cx="634680" cy="616320"/>
          </a:xfrm>
        </p:grpSpPr>
        <p:sp>
          <p:nvSpPr>
            <p:cNvPr id="346" name="Rectangle 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Rectangle 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49" name="Group 74"/>
          <p:cNvGrpSpPr/>
          <p:nvPr/>
        </p:nvGrpSpPr>
        <p:grpSpPr>
          <a:xfrm>
            <a:off x="590400" y="1615680"/>
            <a:ext cx="895320" cy="582840"/>
            <a:chOff x="590400" y="1615680"/>
            <a:chExt cx="895320" cy="582840"/>
          </a:xfrm>
        </p:grpSpPr>
        <p:sp>
          <p:nvSpPr>
            <p:cNvPr id="350" name="Rectangle 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3" name="Group 78"/>
          <p:cNvGrpSpPr/>
          <p:nvPr/>
        </p:nvGrpSpPr>
        <p:grpSpPr>
          <a:xfrm>
            <a:off x="7910280" y="4176720"/>
            <a:ext cx="628200" cy="597600"/>
            <a:chOff x="7910280" y="4176720"/>
            <a:chExt cx="628200" cy="597600"/>
          </a:xfrm>
        </p:grpSpPr>
        <p:sp>
          <p:nvSpPr>
            <p:cNvPr id="354" name="Rectangle 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Rectangle 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Content Placeholder 3" descr=""/>
          <p:cNvPicPr/>
          <p:nvPr/>
        </p:nvPicPr>
        <p:blipFill>
          <a:blip r:embed="rId1"/>
          <a:stretch/>
        </p:blipFill>
        <p:spPr>
          <a:xfrm>
            <a:off x="133200" y="219240"/>
            <a:ext cx="8852040" cy="6626160"/>
          </a:xfrm>
          <a:prstGeom prst="rect">
            <a:avLst/>
          </a:prstGeom>
          <a:ln w="0">
            <a:noFill/>
          </a:ln>
        </p:spPr>
      </p:pic>
      <p:sp>
        <p:nvSpPr>
          <p:cNvPr id="358"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0"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5" name="Group 14"/>
          <p:cNvGrpSpPr/>
          <p:nvPr/>
        </p:nvGrpSpPr>
        <p:grpSpPr>
          <a:xfrm>
            <a:off x="6284520" y="355680"/>
            <a:ext cx="629280" cy="606600"/>
            <a:chOff x="6284520" y="355680"/>
            <a:chExt cx="629280" cy="606600"/>
          </a:xfrm>
        </p:grpSpPr>
        <p:sp>
          <p:nvSpPr>
            <p:cNvPr id="366"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69" name="Group 18"/>
          <p:cNvGrpSpPr/>
          <p:nvPr/>
        </p:nvGrpSpPr>
        <p:grpSpPr>
          <a:xfrm>
            <a:off x="7832520" y="2524320"/>
            <a:ext cx="627480" cy="605880"/>
            <a:chOff x="7832520" y="2524320"/>
            <a:chExt cx="627480" cy="605880"/>
          </a:xfrm>
        </p:grpSpPr>
        <p:sp>
          <p:nvSpPr>
            <p:cNvPr id="370"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3" name="Group 24"/>
          <p:cNvGrpSpPr/>
          <p:nvPr/>
        </p:nvGrpSpPr>
        <p:grpSpPr>
          <a:xfrm>
            <a:off x="5724000" y="6228000"/>
            <a:ext cx="628200" cy="607320"/>
            <a:chOff x="5724000" y="6228000"/>
            <a:chExt cx="628200" cy="607320"/>
          </a:xfrm>
        </p:grpSpPr>
        <p:sp>
          <p:nvSpPr>
            <p:cNvPr id="374"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7" name="Group 28"/>
          <p:cNvGrpSpPr/>
          <p:nvPr/>
        </p:nvGrpSpPr>
        <p:grpSpPr>
          <a:xfrm>
            <a:off x="1485360" y="5599440"/>
            <a:ext cx="627840" cy="605880"/>
            <a:chOff x="1485360" y="5599440"/>
            <a:chExt cx="627840" cy="605880"/>
          </a:xfrm>
        </p:grpSpPr>
        <p:sp>
          <p:nvSpPr>
            <p:cNvPr id="378"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32"/>
          <p:cNvGrpSpPr/>
          <p:nvPr/>
        </p:nvGrpSpPr>
        <p:grpSpPr>
          <a:xfrm>
            <a:off x="2057040" y="320760"/>
            <a:ext cx="629640" cy="608040"/>
            <a:chOff x="2057040" y="320760"/>
            <a:chExt cx="629640" cy="608040"/>
          </a:xfrm>
        </p:grpSpPr>
        <p:sp>
          <p:nvSpPr>
            <p:cNvPr id="382"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3"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86" name="Group 37"/>
          <p:cNvGrpSpPr/>
          <p:nvPr/>
        </p:nvGrpSpPr>
        <p:grpSpPr>
          <a:xfrm>
            <a:off x="609840" y="4263120"/>
            <a:ext cx="634680" cy="616320"/>
            <a:chOff x="609840" y="4263120"/>
            <a:chExt cx="634680" cy="616320"/>
          </a:xfrm>
        </p:grpSpPr>
        <p:sp>
          <p:nvSpPr>
            <p:cNvPr id="387" name="Rectangle 38"/>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Rectangle 39"/>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9"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0" name="Group 42"/>
          <p:cNvGrpSpPr/>
          <p:nvPr/>
        </p:nvGrpSpPr>
        <p:grpSpPr>
          <a:xfrm>
            <a:off x="590400" y="1615680"/>
            <a:ext cx="895320" cy="582840"/>
            <a:chOff x="590400" y="1615680"/>
            <a:chExt cx="895320" cy="582840"/>
          </a:xfrm>
        </p:grpSpPr>
        <p:sp>
          <p:nvSpPr>
            <p:cNvPr id="391" name="Rectangle 43"/>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Rectangle 44"/>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4" name="Group 47"/>
          <p:cNvGrpSpPr/>
          <p:nvPr/>
        </p:nvGrpSpPr>
        <p:grpSpPr>
          <a:xfrm>
            <a:off x="7910280" y="4176720"/>
            <a:ext cx="628200" cy="597600"/>
            <a:chOff x="7910280" y="4176720"/>
            <a:chExt cx="628200" cy="597600"/>
          </a:xfrm>
        </p:grpSpPr>
        <p:sp>
          <p:nvSpPr>
            <p:cNvPr id="395" name="Rectangle 4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Rectangle 4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4T16:45:00Z</dcterms:modified>
  <cp:revision>279</cp:revision>
  <dc:subject/>
  <dc:title>PowerPoint Presentation</dc:title>
</cp:coreProperties>
</file>