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F378A-992A-4A0F-8686-AFEAF91A4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A262C-5666-4E6F-BC7C-9661FA6E5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65362-E65B-4E09-8A65-A33B571A9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86343-CACE-4109-811E-62694A948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43ACE-5BFE-4EB5-AB2B-2481D0F77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0887-9D24-42CA-A3BF-6B97B44DD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91404-D687-4B1D-9376-F5E7C6D5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B5A50-2011-4F35-A4A9-D176AF52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9F284-92C0-4098-BA26-1B16BF704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6B56-E973-4B1B-93E5-3115B329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9D79-124F-4754-9DA4-00996CCB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3499-5855-49D1-AB3C-A6C210967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B2777-6C28-404B-8DC4-B80C713C3D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3" descr=""/>
          <p:cNvPicPr/>
          <p:nvPr/>
        </p:nvPicPr>
        <p:blipFill>
          <a:blip r:embed="rId1"/>
          <a:stretch/>
        </p:blipFill>
        <p:spPr>
          <a:xfrm>
            <a:off x="133200" y="219240"/>
            <a:ext cx="8852040" cy="6626160"/>
          </a:xfrm>
          <a:prstGeom prst="rect">
            <a:avLst/>
          </a:prstGeom>
          <a:ln w="0">
            <a:noFill/>
          </a:ln>
        </p:spPr>
      </p:pic>
      <p:sp>
        <p:nvSpPr>
          <p:cNvPr id="236"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7"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pic>
        <p:nvPicPr>
          <p:cNvPr id="239"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40"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1"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2"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3" name="Group 46"/>
          <p:cNvGrpSpPr/>
          <p:nvPr/>
        </p:nvGrpSpPr>
        <p:grpSpPr>
          <a:xfrm>
            <a:off x="6284520" y="355680"/>
            <a:ext cx="629280" cy="606600"/>
            <a:chOff x="6284520" y="355680"/>
            <a:chExt cx="629280" cy="606600"/>
          </a:xfrm>
        </p:grpSpPr>
        <p:sp>
          <p:nvSpPr>
            <p:cNvPr id="244" name="Rectangle 47"/>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5" name="Rectangle 48"/>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6" name="TextBox 49"/>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7" name="Group 50"/>
          <p:cNvGrpSpPr/>
          <p:nvPr/>
        </p:nvGrpSpPr>
        <p:grpSpPr>
          <a:xfrm>
            <a:off x="7832520" y="2524320"/>
            <a:ext cx="627480" cy="605880"/>
            <a:chOff x="7832520" y="2524320"/>
            <a:chExt cx="627480" cy="605880"/>
          </a:xfrm>
        </p:grpSpPr>
        <p:sp>
          <p:nvSpPr>
            <p:cNvPr id="248" name="Rectangle 51"/>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9" name="Rectangle 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1" name="Group 56"/>
          <p:cNvGrpSpPr/>
          <p:nvPr/>
        </p:nvGrpSpPr>
        <p:grpSpPr>
          <a:xfrm>
            <a:off x="5724000" y="6228000"/>
            <a:ext cx="627840" cy="607680"/>
            <a:chOff x="5724000" y="6228000"/>
            <a:chExt cx="627840" cy="607680"/>
          </a:xfrm>
        </p:grpSpPr>
        <p:sp>
          <p:nvSpPr>
            <p:cNvPr id="252" name="Rectangle 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Rectangle 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4"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5" name="Group 60"/>
          <p:cNvGrpSpPr/>
          <p:nvPr/>
        </p:nvGrpSpPr>
        <p:grpSpPr>
          <a:xfrm>
            <a:off x="1485360" y="5599440"/>
            <a:ext cx="627840" cy="606240"/>
            <a:chOff x="1485360" y="5599440"/>
            <a:chExt cx="627840" cy="606240"/>
          </a:xfrm>
        </p:grpSpPr>
        <p:sp>
          <p:nvSpPr>
            <p:cNvPr id="256" name="Rectangle 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7" name="Rectangle 63"/>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8"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9" name="Group 66"/>
          <p:cNvGrpSpPr/>
          <p:nvPr/>
        </p:nvGrpSpPr>
        <p:grpSpPr>
          <a:xfrm>
            <a:off x="2057040" y="320760"/>
            <a:ext cx="629280" cy="608040"/>
            <a:chOff x="2057040" y="320760"/>
            <a:chExt cx="629280" cy="608040"/>
          </a:xfrm>
        </p:grpSpPr>
        <p:sp>
          <p:nvSpPr>
            <p:cNvPr id="260"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1" name="Rectangle 69"/>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2" name="TextBox 71"/>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3" name="Group 73"/>
          <p:cNvGrpSpPr/>
          <p:nvPr/>
        </p:nvGrpSpPr>
        <p:grpSpPr>
          <a:xfrm>
            <a:off x="609840" y="4263120"/>
            <a:ext cx="634680" cy="615960"/>
            <a:chOff x="609840" y="4263120"/>
            <a:chExt cx="634680" cy="615960"/>
          </a:xfrm>
        </p:grpSpPr>
        <p:sp>
          <p:nvSpPr>
            <p:cNvPr id="264" name="Rectangle 7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5" name="Rectangle 7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TextBox 7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7" name="Group 77"/>
          <p:cNvGrpSpPr/>
          <p:nvPr/>
        </p:nvGrpSpPr>
        <p:grpSpPr>
          <a:xfrm>
            <a:off x="590400" y="1615680"/>
            <a:ext cx="895320" cy="582840"/>
            <a:chOff x="590400" y="1615680"/>
            <a:chExt cx="895320" cy="582840"/>
          </a:xfrm>
        </p:grpSpPr>
        <p:sp>
          <p:nvSpPr>
            <p:cNvPr id="268" name="Rectangle 8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Rectangle 8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0"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1" name="Group 84"/>
          <p:cNvGrpSpPr/>
          <p:nvPr/>
        </p:nvGrpSpPr>
        <p:grpSpPr>
          <a:xfrm>
            <a:off x="7910280" y="4176720"/>
            <a:ext cx="628560" cy="597600"/>
            <a:chOff x="7910280" y="4176720"/>
            <a:chExt cx="628560" cy="597600"/>
          </a:xfrm>
        </p:grpSpPr>
        <p:sp>
          <p:nvSpPr>
            <p:cNvPr id="272" name="Rectangle 8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Rectangle 8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4"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166680" y="1600200"/>
          <a:ext cx="8950320" cy="5197320"/>
        </p:xfrm>
        <a:graphic>
          <a:graphicData uri="http://schemas.openxmlformats.org/drawingml/2006/table">
            <a:tbl>
              <a:tblPr/>
              <a:tblGrid>
                <a:gridCol w="1790640"/>
                <a:gridCol w="1790640"/>
                <a:gridCol w="1789200"/>
                <a:gridCol w="1600200"/>
                <a:gridCol w="197964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527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orking Group is open to anyone interested to participate, either as an individual or as a representative of group / organiz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the GNSO web-site and, if timely, included in Monthly Policy Upda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be a trigger for assigning an unofficial liaison to the PDP Working Group, which would allow the early sharing of information and (informal) feedback?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ch a liaison could be in the form of an observer who is subscribed to the mailing list (not requiring active participation / attendanc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observer” or “liaison” options that could be considered?  Is there even the possibility that GAC members could participate as individuals? [Note – some GAC members are already participating as individuals in PDP WGs]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 current mechanism for reaching out to the GAC to encourage participation sufficient (e.g. circulate call for volunteers)?</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3" descr=""/>
          <p:cNvPicPr/>
          <p:nvPr/>
        </p:nvPicPr>
        <p:blipFill>
          <a:blip r:embed="rId1"/>
          <a:stretch/>
        </p:blipFill>
        <p:spPr>
          <a:xfrm>
            <a:off x="133200" y="219240"/>
            <a:ext cx="8852040" cy="6626160"/>
          </a:xfrm>
          <a:prstGeom prst="rect">
            <a:avLst/>
          </a:prstGeom>
          <a:ln w="0">
            <a:noFill/>
          </a:ln>
        </p:spPr>
      </p:pic>
      <p:sp>
        <p:nvSpPr>
          <p:cNvPr id="277"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8"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9"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80"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1"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2"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3"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4" name="Group 31"/>
          <p:cNvGrpSpPr/>
          <p:nvPr/>
        </p:nvGrpSpPr>
        <p:grpSpPr>
          <a:xfrm>
            <a:off x="6284520" y="355680"/>
            <a:ext cx="629280" cy="606600"/>
            <a:chOff x="6284520" y="355680"/>
            <a:chExt cx="629280" cy="606600"/>
          </a:xfrm>
        </p:grpSpPr>
        <p:sp>
          <p:nvSpPr>
            <p:cNvPr id="285" name="Rectangle 3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6" name="Rectangle 3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7" name="TextBox 3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8" name="Group 35"/>
          <p:cNvGrpSpPr/>
          <p:nvPr/>
        </p:nvGrpSpPr>
        <p:grpSpPr>
          <a:xfrm>
            <a:off x="7832520" y="2524320"/>
            <a:ext cx="627480" cy="605880"/>
            <a:chOff x="7832520" y="2524320"/>
            <a:chExt cx="627480" cy="605880"/>
          </a:xfrm>
        </p:grpSpPr>
        <p:sp>
          <p:nvSpPr>
            <p:cNvPr id="289" name="Rectangle 3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0" name="Rectangle 4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2" name="Group 43"/>
          <p:cNvGrpSpPr/>
          <p:nvPr/>
        </p:nvGrpSpPr>
        <p:grpSpPr>
          <a:xfrm>
            <a:off x="5724000" y="6228000"/>
            <a:ext cx="627840" cy="607680"/>
            <a:chOff x="5724000" y="6228000"/>
            <a:chExt cx="627840" cy="607680"/>
          </a:xfrm>
        </p:grpSpPr>
        <p:sp>
          <p:nvSpPr>
            <p:cNvPr id="29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6" name="Group 47"/>
          <p:cNvGrpSpPr/>
          <p:nvPr/>
        </p:nvGrpSpPr>
        <p:grpSpPr>
          <a:xfrm>
            <a:off x="1485360" y="5599440"/>
            <a:ext cx="627840" cy="606240"/>
            <a:chOff x="1485360" y="5599440"/>
            <a:chExt cx="627840" cy="606240"/>
          </a:xfrm>
        </p:grpSpPr>
        <p:sp>
          <p:nvSpPr>
            <p:cNvPr id="29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00" name="Group 51"/>
          <p:cNvGrpSpPr/>
          <p:nvPr/>
        </p:nvGrpSpPr>
        <p:grpSpPr>
          <a:xfrm>
            <a:off x="2057040" y="320760"/>
            <a:ext cx="629280" cy="608040"/>
            <a:chOff x="2057040" y="320760"/>
            <a:chExt cx="629280" cy="608040"/>
          </a:xfrm>
        </p:grpSpPr>
        <p:sp>
          <p:nvSpPr>
            <p:cNvPr id="30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4" name="Group 55"/>
          <p:cNvGrpSpPr/>
          <p:nvPr/>
        </p:nvGrpSpPr>
        <p:grpSpPr>
          <a:xfrm>
            <a:off x="609840" y="4263120"/>
            <a:ext cx="634680" cy="615960"/>
            <a:chOff x="609840" y="4263120"/>
            <a:chExt cx="634680" cy="615960"/>
          </a:xfrm>
        </p:grpSpPr>
        <p:sp>
          <p:nvSpPr>
            <p:cNvPr id="30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8" name="Group 59"/>
          <p:cNvGrpSpPr/>
          <p:nvPr/>
        </p:nvGrpSpPr>
        <p:grpSpPr>
          <a:xfrm>
            <a:off x="590400" y="1615680"/>
            <a:ext cx="895320" cy="582840"/>
            <a:chOff x="590400" y="1615680"/>
            <a:chExt cx="895320" cy="582840"/>
          </a:xfrm>
        </p:grpSpPr>
        <p:sp>
          <p:nvSpPr>
            <p:cNvPr id="30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2" name="Group 63"/>
          <p:cNvGrpSpPr/>
          <p:nvPr/>
        </p:nvGrpSpPr>
        <p:grpSpPr>
          <a:xfrm>
            <a:off x="7910280" y="4176720"/>
            <a:ext cx="628560" cy="597600"/>
            <a:chOff x="7910280" y="4176720"/>
            <a:chExt cx="628560" cy="597600"/>
          </a:xfrm>
        </p:grpSpPr>
        <p:sp>
          <p:nvSpPr>
            <p:cNvPr id="31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7" name=""/>
          <p:cNvGraphicFramePr/>
          <p:nvPr/>
        </p:nvGraphicFramePr>
        <p:xfrm>
          <a:off x="457200" y="1600200"/>
          <a:ext cx="8229600" cy="26827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0127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is required to reach out at an early stage to obtain input from other SO / 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DP WG will send email request for input to SO/AC Chair and secretaria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est will typically include questions / input that input is sought on as well as a deadline for input (noting that additional time may be requested if need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ubmit Premise of the PDP to the GAC for Review and Comment</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Engage in Consultations with the GAC as Necessary and Appropriate</a:t>
                      </a:r>
                      <a:endParaRPr b="0" lang="en-US" sz="1100" spc="-1" strike="noStrike">
                        <a:solidFill>
                          <a:srgbClr val="000000"/>
                        </a:solidFill>
                        <a:latin typeface="Calibri"/>
                      </a:endParaRPr>
                    </a:p>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orking Group Incorporates Input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19" name=""/>
          <p:cNvGraphicFramePr/>
          <p:nvPr/>
        </p:nvGraphicFramePr>
        <p:xfrm>
          <a:off x="457200" y="507960"/>
          <a:ext cx="8229600" cy="4373640"/>
        </p:xfrm>
        <a:graphic>
          <a:graphicData uri="http://schemas.openxmlformats.org/drawingml/2006/table">
            <a:tbl>
              <a:tblPr/>
              <a:tblGrid>
                <a:gridCol w="8229600"/>
              </a:tblGrid>
              <a:tr h="4413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932280">
                <a:tc>
                  <a:txBody>
                    <a:bodyPr lIns="90000" rIns="90000" tIns="46800" bIns="46800" anchor="t">
                      <a:no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meant with ‘premise’? At this stage the WG normally puts forward the charter questions and/or any other issues related to the PDP for input to all SO/ACs.</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ould be the timeframe required for the GAC to be able to review and commen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uld the GAC indicate upfront whether it intends to comment or not, or is the WG expected to wait until a GAC response is receiv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ubstantial time is needed to develop a GAC response, would it be acceptable if the WG would continue with its deliberations, noting that GAC input is forthcoming?</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 determines whether consultations are needed and how/when are these conducted?</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WG is required to acknowledge input received from other SO/ACs but may or may not agree with the input. If it does not agree, it will outline the rationale for its disagreement in its report. Is that in line with ‘incorporates GAC inpu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se’ or are the current Bylaws an impediment for the GAC to provide ‘Advice’ to GNSO Working Groups on public policy issues? (Note, from the GNSO’s perspective GAC input in the earlier stages of a WG does not have to be formal advice, but it would be helpful to get some informal information like what issues the GAC thinks may have public policy implications as well as any other input the GAC may have during the PDP so that the WG could discuss it).</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lead time is too short for full GAC consensus, would it be possible to establish an ongoing sub-group of the GAC that could provide broadly-representative, but informal, comments to WGs at this stage of the process?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 current mechanism for reaching out to obtain input sufficient?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barriers to the current option of the GAC providing input to the WG at an early stage? </a:t>
                      </a: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ent:  From the standpoint of a WG chair, THIS comment period is by far the most helpful and influential.  Many times the ideas expressed in this round shape the Final Report.  If the GAC were to choose only one, this would be the bes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Content Placeholder 3" descr=""/>
          <p:cNvPicPr/>
          <p:nvPr/>
        </p:nvPicPr>
        <p:blipFill>
          <a:blip r:embed="rId1"/>
          <a:stretch/>
        </p:blipFill>
        <p:spPr>
          <a:xfrm>
            <a:off x="133200" y="219240"/>
            <a:ext cx="8852040" cy="6626160"/>
          </a:xfrm>
          <a:prstGeom prst="rect">
            <a:avLst/>
          </a:prstGeom>
          <a:ln w="0">
            <a:noFill/>
          </a:ln>
        </p:spPr>
      </p:pic>
      <p:sp>
        <p:nvSpPr>
          <p:cNvPr id="321"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23"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24"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5"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6"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7"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8" name="Group 50"/>
          <p:cNvGrpSpPr/>
          <p:nvPr/>
        </p:nvGrpSpPr>
        <p:grpSpPr>
          <a:xfrm>
            <a:off x="6284520" y="355680"/>
            <a:ext cx="629280" cy="606600"/>
            <a:chOff x="6284520" y="355680"/>
            <a:chExt cx="629280" cy="606600"/>
          </a:xfrm>
        </p:grpSpPr>
        <p:sp>
          <p:nvSpPr>
            <p:cNvPr id="329" name="Rectangle 5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0" name="Rectangle 52"/>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1" name="TextBox 53"/>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2" name="Group 54"/>
          <p:cNvGrpSpPr/>
          <p:nvPr/>
        </p:nvGrpSpPr>
        <p:grpSpPr>
          <a:xfrm>
            <a:off x="7832520" y="2524320"/>
            <a:ext cx="627480" cy="605880"/>
            <a:chOff x="7832520" y="2524320"/>
            <a:chExt cx="627480" cy="605880"/>
          </a:xfrm>
        </p:grpSpPr>
        <p:sp>
          <p:nvSpPr>
            <p:cNvPr id="333" name="Rectangle 55"/>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4" name="Rectangle 56"/>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5"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6" name="Group 58"/>
          <p:cNvGrpSpPr/>
          <p:nvPr/>
        </p:nvGrpSpPr>
        <p:grpSpPr>
          <a:xfrm>
            <a:off x="5724000" y="6228000"/>
            <a:ext cx="627840" cy="607680"/>
            <a:chOff x="5724000" y="6228000"/>
            <a:chExt cx="627840" cy="607680"/>
          </a:xfrm>
        </p:grpSpPr>
        <p:sp>
          <p:nvSpPr>
            <p:cNvPr id="337" name="Rectangle 59"/>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8" name="Rectangle 60"/>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39"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0" name="Group 62"/>
          <p:cNvGrpSpPr/>
          <p:nvPr/>
        </p:nvGrpSpPr>
        <p:grpSpPr>
          <a:xfrm>
            <a:off x="1485360" y="5599440"/>
            <a:ext cx="627840" cy="606240"/>
            <a:chOff x="1485360" y="5599440"/>
            <a:chExt cx="627840" cy="606240"/>
          </a:xfrm>
        </p:grpSpPr>
        <p:sp>
          <p:nvSpPr>
            <p:cNvPr id="341" name="Rectangle 63"/>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2" name="Rectangle 64"/>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3"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4" name="Group 66"/>
          <p:cNvGrpSpPr/>
          <p:nvPr/>
        </p:nvGrpSpPr>
        <p:grpSpPr>
          <a:xfrm>
            <a:off x="2057040" y="320760"/>
            <a:ext cx="629280" cy="608040"/>
            <a:chOff x="2057040" y="320760"/>
            <a:chExt cx="629280" cy="608040"/>
          </a:xfrm>
        </p:grpSpPr>
        <p:sp>
          <p:nvSpPr>
            <p:cNvPr id="345" name="Rectangle 67"/>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6" name="Rectangle 68"/>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7" name="TextBox 69"/>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8" name="Group 70"/>
          <p:cNvGrpSpPr/>
          <p:nvPr/>
        </p:nvGrpSpPr>
        <p:grpSpPr>
          <a:xfrm>
            <a:off x="609840" y="4263120"/>
            <a:ext cx="634680" cy="615960"/>
            <a:chOff x="609840" y="4263120"/>
            <a:chExt cx="634680" cy="615960"/>
          </a:xfrm>
        </p:grpSpPr>
        <p:sp>
          <p:nvSpPr>
            <p:cNvPr id="349" name="Rectangle 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Rectangle 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1" name="TextBox 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52" name="Group 74"/>
          <p:cNvGrpSpPr/>
          <p:nvPr/>
        </p:nvGrpSpPr>
        <p:grpSpPr>
          <a:xfrm>
            <a:off x="590400" y="1615680"/>
            <a:ext cx="895320" cy="582840"/>
            <a:chOff x="590400" y="1615680"/>
            <a:chExt cx="895320" cy="582840"/>
          </a:xfrm>
        </p:grpSpPr>
        <p:sp>
          <p:nvSpPr>
            <p:cNvPr id="353" name="Rectangle 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4" name="Rectangle 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5"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6" name="Group 78"/>
          <p:cNvGrpSpPr/>
          <p:nvPr/>
        </p:nvGrpSpPr>
        <p:grpSpPr>
          <a:xfrm>
            <a:off x="7910280" y="4176720"/>
            <a:ext cx="628560" cy="597600"/>
            <a:chOff x="7910280" y="4176720"/>
            <a:chExt cx="628560" cy="597600"/>
          </a:xfrm>
        </p:grpSpPr>
        <p:sp>
          <p:nvSpPr>
            <p:cNvPr id="357" name="Rectangle 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8" name="Rectangle 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9"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1" name=""/>
          <p:cNvGraphicFramePr/>
          <p:nvPr/>
        </p:nvGraphicFramePr>
        <p:xfrm>
          <a:off x="457200" y="1600200"/>
          <a:ext cx="8229600" cy="1844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17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itial Report published for public comment</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Send to the GAC for Review</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Calibri"/>
                        </a:rPr>
                        <a:t>See next pag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363" name=""/>
          <p:cNvGraphicFramePr/>
          <p:nvPr/>
        </p:nvGraphicFramePr>
        <p:xfrm>
          <a:off x="457200" y="507960"/>
          <a:ext cx="8229600" cy="2165400"/>
        </p:xfrm>
        <a:graphic>
          <a:graphicData uri="http://schemas.openxmlformats.org/drawingml/2006/table">
            <a:tbl>
              <a:tblPr/>
              <a:tblGrid>
                <a:gridCol w="8229600"/>
              </a:tblGrid>
              <a:tr h="42876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736640">
                <a:tc>
                  <a:txBody>
                    <a:bodyPr lIns="90000" rIns="90000" tIns="46800" bIns="4680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Does the communication on the opening of the public comment forum meet the request to ‘send to the GAC for review’? If not, what is intended / expected?</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ould it be useful to expand this process to transmit Initial Reports to ALL AC/SOs for review, if they so choose?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observer” or “liaison” options that could be considered?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the possibility that GAC members could participate as individuals? ? [Note – some GAC members are already participating as individuals in PDP WGs]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Can we do a better job of incenting participation from GAC? </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How can we highlight the appeal process when a WG is ignoring the contribution of GAC person?</a:t>
                      </a:r>
                      <a:endParaRPr b="0" lang="en-US" sz="1200" spc="-1" strike="noStrike">
                        <a:solidFill>
                          <a:srgbClr val="000000"/>
                        </a:solidFill>
                        <a:latin typeface="Calibri"/>
                      </a:endParaRPr>
                    </a:p>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3" descr=""/>
          <p:cNvPicPr/>
          <p:nvPr/>
        </p:nvPicPr>
        <p:blipFill>
          <a:blip r:embed="rId1"/>
          <a:stretch/>
        </p:blipFill>
        <p:spPr>
          <a:xfrm>
            <a:off x="133200" y="219240"/>
            <a:ext cx="8852040" cy="6626160"/>
          </a:xfrm>
          <a:prstGeom prst="rect">
            <a:avLst/>
          </a:prstGeom>
          <a:ln w="0">
            <a:noFill/>
          </a:ln>
        </p:spPr>
      </p:pic>
      <p:sp>
        <p:nvSpPr>
          <p:cNvPr id="365"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367"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8"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9"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70"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71" name="Group 14"/>
          <p:cNvGrpSpPr/>
          <p:nvPr/>
        </p:nvGrpSpPr>
        <p:grpSpPr>
          <a:xfrm>
            <a:off x="6284520" y="355680"/>
            <a:ext cx="629280" cy="606600"/>
            <a:chOff x="6284520" y="355680"/>
            <a:chExt cx="629280" cy="606600"/>
          </a:xfrm>
        </p:grpSpPr>
        <p:sp>
          <p:nvSpPr>
            <p:cNvPr id="372"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3"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4"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5" name="Group 18"/>
          <p:cNvGrpSpPr/>
          <p:nvPr/>
        </p:nvGrpSpPr>
        <p:grpSpPr>
          <a:xfrm>
            <a:off x="7832520" y="2524320"/>
            <a:ext cx="627480" cy="605880"/>
            <a:chOff x="7832520" y="2524320"/>
            <a:chExt cx="627480" cy="605880"/>
          </a:xfrm>
        </p:grpSpPr>
        <p:sp>
          <p:nvSpPr>
            <p:cNvPr id="376"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8"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9" name="Group 24"/>
          <p:cNvGrpSpPr/>
          <p:nvPr/>
        </p:nvGrpSpPr>
        <p:grpSpPr>
          <a:xfrm>
            <a:off x="5724000" y="6228000"/>
            <a:ext cx="627840" cy="607680"/>
            <a:chOff x="5724000" y="6228000"/>
            <a:chExt cx="627840" cy="607680"/>
          </a:xfrm>
        </p:grpSpPr>
        <p:sp>
          <p:nvSpPr>
            <p:cNvPr id="380"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1"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2"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3" name="Group 28"/>
          <p:cNvGrpSpPr/>
          <p:nvPr/>
        </p:nvGrpSpPr>
        <p:grpSpPr>
          <a:xfrm>
            <a:off x="1485360" y="5599440"/>
            <a:ext cx="627840" cy="606240"/>
            <a:chOff x="1485360" y="5599440"/>
            <a:chExt cx="627840" cy="606240"/>
          </a:xfrm>
        </p:grpSpPr>
        <p:sp>
          <p:nvSpPr>
            <p:cNvPr id="384"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5"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7" name="Group 32"/>
          <p:cNvGrpSpPr/>
          <p:nvPr/>
        </p:nvGrpSpPr>
        <p:grpSpPr>
          <a:xfrm>
            <a:off x="2057040" y="320760"/>
            <a:ext cx="629280" cy="608040"/>
            <a:chOff x="2057040" y="320760"/>
            <a:chExt cx="629280" cy="608040"/>
          </a:xfrm>
        </p:grpSpPr>
        <p:sp>
          <p:nvSpPr>
            <p:cNvPr id="388"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9"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91"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92" name="Group 37"/>
          <p:cNvGrpSpPr/>
          <p:nvPr/>
        </p:nvGrpSpPr>
        <p:grpSpPr>
          <a:xfrm>
            <a:off x="609840" y="4263120"/>
            <a:ext cx="634680" cy="615960"/>
            <a:chOff x="609840" y="4263120"/>
            <a:chExt cx="634680" cy="615960"/>
          </a:xfrm>
        </p:grpSpPr>
        <p:sp>
          <p:nvSpPr>
            <p:cNvPr id="393" name="Rectangle 38"/>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4" name="Rectangle 39"/>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TextBox 40"/>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6" name="Group 42"/>
          <p:cNvGrpSpPr/>
          <p:nvPr/>
        </p:nvGrpSpPr>
        <p:grpSpPr>
          <a:xfrm>
            <a:off x="590400" y="1615680"/>
            <a:ext cx="895320" cy="582840"/>
            <a:chOff x="590400" y="1615680"/>
            <a:chExt cx="895320" cy="582840"/>
          </a:xfrm>
        </p:grpSpPr>
        <p:sp>
          <p:nvSpPr>
            <p:cNvPr id="397" name="Rectangle 43"/>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Rectangle 44"/>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00" name="Group 47"/>
          <p:cNvGrpSpPr/>
          <p:nvPr/>
        </p:nvGrpSpPr>
        <p:grpSpPr>
          <a:xfrm>
            <a:off x="7910280" y="4176720"/>
            <a:ext cx="628560" cy="597600"/>
            <a:chOff x="7910280" y="4176720"/>
            <a:chExt cx="628560" cy="597600"/>
          </a:xfrm>
        </p:grpSpPr>
        <p:sp>
          <p:nvSpPr>
            <p:cNvPr id="401" name="Rectangle 4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2" name="Rectangle 4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3"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05" name=""/>
          <p:cNvGraphicFramePr/>
          <p:nvPr/>
        </p:nvGraphicFramePr>
        <p:xfrm>
          <a:off x="318960" y="274680"/>
          <a:ext cx="8521920" cy="586728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19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Initial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ntended to encourage broad reaction from the community with respect to the preliminary findings of the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Final Report?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From the standpoint of a WG chair, receiving comments in this comment period is fine, but really large changes are more difficult to incorporate into the recommendations that comments received earlier</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pic>
        <p:nvPicPr>
          <p:cNvPr id="50"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1"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 name="Group 38"/>
          <p:cNvGrpSpPr/>
          <p:nvPr/>
        </p:nvGrpSpPr>
        <p:grpSpPr>
          <a:xfrm>
            <a:off x="6284520" y="355680"/>
            <a:ext cx="629280" cy="606600"/>
            <a:chOff x="6284520" y="355680"/>
            <a:chExt cx="629280" cy="606600"/>
          </a:xfrm>
        </p:grpSpPr>
        <p:sp>
          <p:nvSpPr>
            <p:cNvPr id="55"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 name="Group 39"/>
          <p:cNvGrpSpPr/>
          <p:nvPr/>
        </p:nvGrpSpPr>
        <p:grpSpPr>
          <a:xfrm>
            <a:off x="7832520" y="2524320"/>
            <a:ext cx="627480" cy="605880"/>
            <a:chOff x="7832520" y="2524320"/>
            <a:chExt cx="627480" cy="605880"/>
          </a:xfrm>
        </p:grpSpPr>
        <p:sp>
          <p:nvSpPr>
            <p:cNvPr id="59"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2" name="Group 43"/>
          <p:cNvGrpSpPr/>
          <p:nvPr/>
        </p:nvGrpSpPr>
        <p:grpSpPr>
          <a:xfrm>
            <a:off x="5724000" y="6228000"/>
            <a:ext cx="627840" cy="607680"/>
            <a:chOff x="5724000" y="6228000"/>
            <a:chExt cx="627840" cy="607680"/>
          </a:xfrm>
        </p:grpSpPr>
        <p:sp>
          <p:nvSpPr>
            <p:cNvPr id="63"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6" name="Group 47"/>
          <p:cNvGrpSpPr/>
          <p:nvPr/>
        </p:nvGrpSpPr>
        <p:grpSpPr>
          <a:xfrm>
            <a:off x="1485360" y="5599440"/>
            <a:ext cx="627840" cy="606240"/>
            <a:chOff x="1485360" y="5599440"/>
            <a:chExt cx="627840" cy="606240"/>
          </a:xfrm>
        </p:grpSpPr>
        <p:sp>
          <p:nvSpPr>
            <p:cNvPr id="67"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0" name="Group 51"/>
          <p:cNvGrpSpPr/>
          <p:nvPr/>
        </p:nvGrpSpPr>
        <p:grpSpPr>
          <a:xfrm>
            <a:off x="2057040" y="320760"/>
            <a:ext cx="629280" cy="608040"/>
            <a:chOff x="2057040" y="320760"/>
            <a:chExt cx="629280" cy="608040"/>
          </a:xfrm>
        </p:grpSpPr>
        <p:sp>
          <p:nvSpPr>
            <p:cNvPr id="71"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4" name="Group 55"/>
          <p:cNvGrpSpPr/>
          <p:nvPr/>
        </p:nvGrpSpPr>
        <p:grpSpPr>
          <a:xfrm>
            <a:off x="609840" y="4263120"/>
            <a:ext cx="634680" cy="615960"/>
            <a:chOff x="609840" y="4263120"/>
            <a:chExt cx="634680" cy="615960"/>
          </a:xfrm>
        </p:grpSpPr>
        <p:sp>
          <p:nvSpPr>
            <p:cNvPr id="75" name="Rectangle 5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Rectangle 5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7" name="TextBox 5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78" name="Group 59"/>
          <p:cNvGrpSpPr/>
          <p:nvPr/>
        </p:nvGrpSpPr>
        <p:grpSpPr>
          <a:xfrm>
            <a:off x="590400" y="1615680"/>
            <a:ext cx="895320" cy="582840"/>
            <a:chOff x="590400" y="1615680"/>
            <a:chExt cx="895320" cy="582840"/>
          </a:xfrm>
        </p:grpSpPr>
        <p:sp>
          <p:nvSpPr>
            <p:cNvPr id="79" name="Rectangle 6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Rectangle 61"/>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2" name="Group 63"/>
          <p:cNvGrpSpPr/>
          <p:nvPr/>
        </p:nvGrpSpPr>
        <p:grpSpPr>
          <a:xfrm>
            <a:off x="7910280" y="4176720"/>
            <a:ext cx="628560" cy="597600"/>
            <a:chOff x="7910280" y="4176720"/>
            <a:chExt cx="628560" cy="597600"/>
          </a:xfrm>
        </p:grpSpPr>
        <p:sp>
          <p:nvSpPr>
            <p:cNvPr id="83" name="Rectangle 64"/>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Rectangle 65"/>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133200" y="219240"/>
            <a:ext cx="8852040" cy="6626160"/>
          </a:xfrm>
          <a:prstGeom prst="rect">
            <a:avLst/>
          </a:prstGeom>
          <a:ln w="0">
            <a:noFill/>
          </a:ln>
        </p:spPr>
      </p:pic>
      <p:sp>
        <p:nvSpPr>
          <p:cNvPr id="407"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8"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10"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11"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12"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13"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14" name="Group 12"/>
          <p:cNvGrpSpPr/>
          <p:nvPr/>
        </p:nvGrpSpPr>
        <p:grpSpPr>
          <a:xfrm>
            <a:off x="6284520" y="355680"/>
            <a:ext cx="629280" cy="606600"/>
            <a:chOff x="6284520" y="355680"/>
            <a:chExt cx="629280" cy="606600"/>
          </a:xfrm>
        </p:grpSpPr>
        <p:sp>
          <p:nvSpPr>
            <p:cNvPr id="415" name="Rectangle 13"/>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6" name="Rectangle 1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7" name="TextBox 1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16"/>
          <p:cNvGrpSpPr/>
          <p:nvPr/>
        </p:nvGrpSpPr>
        <p:grpSpPr>
          <a:xfrm>
            <a:off x="7832520" y="2524320"/>
            <a:ext cx="627480" cy="605880"/>
            <a:chOff x="7832520" y="2524320"/>
            <a:chExt cx="627480" cy="605880"/>
          </a:xfrm>
        </p:grpSpPr>
        <p:sp>
          <p:nvSpPr>
            <p:cNvPr id="419" name="Rectangle 17"/>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0" name="Rectangle 1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1"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22" name="Group 22"/>
          <p:cNvGrpSpPr/>
          <p:nvPr/>
        </p:nvGrpSpPr>
        <p:grpSpPr>
          <a:xfrm>
            <a:off x="5724000" y="6228000"/>
            <a:ext cx="627840" cy="607680"/>
            <a:chOff x="5724000" y="6228000"/>
            <a:chExt cx="627840" cy="607680"/>
          </a:xfrm>
        </p:grpSpPr>
        <p:sp>
          <p:nvSpPr>
            <p:cNvPr id="423" name="Rectangle 2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4" name="Rectangle 2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5"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6" name="Group 26"/>
          <p:cNvGrpSpPr/>
          <p:nvPr/>
        </p:nvGrpSpPr>
        <p:grpSpPr>
          <a:xfrm>
            <a:off x="1485360" y="5599440"/>
            <a:ext cx="627840" cy="606240"/>
            <a:chOff x="1485360" y="5599440"/>
            <a:chExt cx="627840" cy="606240"/>
          </a:xfrm>
        </p:grpSpPr>
        <p:sp>
          <p:nvSpPr>
            <p:cNvPr id="427" name="Rectangle 2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8" name="Rectangle 2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9"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30" name="Group 30"/>
          <p:cNvGrpSpPr/>
          <p:nvPr/>
        </p:nvGrpSpPr>
        <p:grpSpPr>
          <a:xfrm>
            <a:off x="2057040" y="320760"/>
            <a:ext cx="629280" cy="608040"/>
            <a:chOff x="2057040" y="320760"/>
            <a:chExt cx="629280" cy="608040"/>
          </a:xfrm>
        </p:grpSpPr>
        <p:sp>
          <p:nvSpPr>
            <p:cNvPr id="431" name="Rectangle 3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2" name="Rectangle 3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3" name="TextBox 3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34"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35" name="Group 35"/>
          <p:cNvGrpSpPr/>
          <p:nvPr/>
        </p:nvGrpSpPr>
        <p:grpSpPr>
          <a:xfrm>
            <a:off x="609840" y="4263120"/>
            <a:ext cx="634680" cy="615960"/>
            <a:chOff x="609840" y="4263120"/>
            <a:chExt cx="634680" cy="615960"/>
          </a:xfrm>
        </p:grpSpPr>
        <p:sp>
          <p:nvSpPr>
            <p:cNvPr id="436" name="Rectangle 36"/>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7" name="Rectangle 37"/>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TextBox 38"/>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9" name="Group 39"/>
          <p:cNvGrpSpPr/>
          <p:nvPr/>
        </p:nvGrpSpPr>
        <p:grpSpPr>
          <a:xfrm>
            <a:off x="590400" y="1615680"/>
            <a:ext cx="895320" cy="582840"/>
            <a:chOff x="590400" y="1615680"/>
            <a:chExt cx="895320" cy="582840"/>
          </a:xfrm>
        </p:grpSpPr>
        <p:sp>
          <p:nvSpPr>
            <p:cNvPr id="440" name="Rectangle 40"/>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1" name="Rectangle 4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2"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43" name="Group 44"/>
          <p:cNvGrpSpPr/>
          <p:nvPr/>
        </p:nvGrpSpPr>
        <p:grpSpPr>
          <a:xfrm>
            <a:off x="7910280" y="4176720"/>
            <a:ext cx="628560" cy="597600"/>
            <a:chOff x="7910280" y="4176720"/>
            <a:chExt cx="628560" cy="597600"/>
          </a:xfrm>
        </p:grpSpPr>
        <p:sp>
          <p:nvSpPr>
            <p:cNvPr id="444" name="Rectangle 4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Rectangle 4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6"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133200" y="219240"/>
            <a:ext cx="8798040" cy="6589440"/>
          </a:xfrm>
          <a:prstGeom prst="rect">
            <a:avLst/>
          </a:prstGeom>
          <a:ln w="0">
            <a:noFill/>
          </a:ln>
        </p:spPr>
      </p:pic>
      <p:sp>
        <p:nvSpPr>
          <p:cNvPr id="448"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9"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50"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5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5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5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5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55" name="Group 38"/>
          <p:cNvGrpSpPr/>
          <p:nvPr/>
        </p:nvGrpSpPr>
        <p:grpSpPr>
          <a:xfrm>
            <a:off x="6284520" y="355680"/>
            <a:ext cx="629280" cy="606600"/>
            <a:chOff x="6284520" y="355680"/>
            <a:chExt cx="629280" cy="606600"/>
          </a:xfrm>
        </p:grpSpPr>
        <p:sp>
          <p:nvSpPr>
            <p:cNvPr id="45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39"/>
          <p:cNvGrpSpPr/>
          <p:nvPr/>
        </p:nvGrpSpPr>
        <p:grpSpPr>
          <a:xfrm>
            <a:off x="7832520" y="2524320"/>
            <a:ext cx="627480" cy="605880"/>
            <a:chOff x="7832520" y="2524320"/>
            <a:chExt cx="627480" cy="605880"/>
          </a:xfrm>
        </p:grpSpPr>
        <p:sp>
          <p:nvSpPr>
            <p:cNvPr id="46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63" name="Group 43"/>
          <p:cNvGrpSpPr/>
          <p:nvPr/>
        </p:nvGrpSpPr>
        <p:grpSpPr>
          <a:xfrm>
            <a:off x="5724000" y="6228000"/>
            <a:ext cx="627840" cy="607680"/>
            <a:chOff x="5724000" y="6228000"/>
            <a:chExt cx="627840" cy="607680"/>
          </a:xfrm>
        </p:grpSpPr>
        <p:sp>
          <p:nvSpPr>
            <p:cNvPr id="46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7" name="Group 47"/>
          <p:cNvGrpSpPr/>
          <p:nvPr/>
        </p:nvGrpSpPr>
        <p:grpSpPr>
          <a:xfrm>
            <a:off x="1485360" y="5599440"/>
            <a:ext cx="627840" cy="606240"/>
            <a:chOff x="1485360" y="5599440"/>
            <a:chExt cx="627840" cy="606240"/>
          </a:xfrm>
        </p:grpSpPr>
        <p:sp>
          <p:nvSpPr>
            <p:cNvPr id="46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71" name="Group 51"/>
          <p:cNvGrpSpPr/>
          <p:nvPr/>
        </p:nvGrpSpPr>
        <p:grpSpPr>
          <a:xfrm>
            <a:off x="2057040" y="320760"/>
            <a:ext cx="629280" cy="608040"/>
            <a:chOff x="2057040" y="320760"/>
            <a:chExt cx="629280" cy="608040"/>
          </a:xfrm>
        </p:grpSpPr>
        <p:sp>
          <p:nvSpPr>
            <p:cNvPr id="47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75"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76"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77"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8" name="Group 59"/>
          <p:cNvGrpSpPr/>
          <p:nvPr/>
        </p:nvGrpSpPr>
        <p:grpSpPr>
          <a:xfrm>
            <a:off x="609840" y="4263120"/>
            <a:ext cx="634680" cy="615960"/>
            <a:chOff x="609840" y="4263120"/>
            <a:chExt cx="634680" cy="615960"/>
          </a:xfrm>
        </p:grpSpPr>
        <p:sp>
          <p:nvSpPr>
            <p:cNvPr id="479"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0"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1"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82" name="Group 63"/>
          <p:cNvGrpSpPr/>
          <p:nvPr/>
        </p:nvGrpSpPr>
        <p:grpSpPr>
          <a:xfrm>
            <a:off x="590400" y="1615680"/>
            <a:ext cx="895320" cy="582840"/>
            <a:chOff x="590400" y="1615680"/>
            <a:chExt cx="895320" cy="582840"/>
          </a:xfrm>
        </p:grpSpPr>
        <p:sp>
          <p:nvSpPr>
            <p:cNvPr id="483" name="Rectangle 64"/>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4" name="Rectangle 65"/>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5"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86" name="Group 67"/>
          <p:cNvGrpSpPr/>
          <p:nvPr/>
        </p:nvGrpSpPr>
        <p:grpSpPr>
          <a:xfrm>
            <a:off x="7910280" y="4176720"/>
            <a:ext cx="628560" cy="597600"/>
            <a:chOff x="7910280" y="4176720"/>
            <a:chExt cx="628560" cy="597600"/>
          </a:xfrm>
        </p:grpSpPr>
        <p:sp>
          <p:nvSpPr>
            <p:cNvPr id="487" name="Rectangle 68"/>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Rectangle 69"/>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9"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1" name=""/>
          <p:cNvGraphicFramePr/>
          <p:nvPr/>
        </p:nvGraphicFramePr>
        <p:xfrm>
          <a:off x="457200" y="1600200"/>
          <a:ext cx="8229600" cy="167652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0065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ouncil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Recommendations Report to the Board which also includes an overview of consultations undertaken and input receiv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GNSO Council to Consult with the GAC Prior to Final Dec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Calibri"/>
                        </a:rPr>
                        <a:t>See next p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493" name=""/>
          <p:cNvGraphicFramePr/>
          <p:nvPr/>
        </p:nvGraphicFramePr>
        <p:xfrm>
          <a:off x="457200" y="507960"/>
          <a:ext cx="8229600" cy="4783320"/>
        </p:xfrm>
        <a:graphic>
          <a:graphicData uri="http://schemas.openxmlformats.org/drawingml/2006/table">
            <a:tbl>
              <a:tblPr/>
              <a:tblGrid>
                <a:gridCol w="8229600"/>
              </a:tblGrid>
              <a:tr h="440280">
                <a:tc>
                  <a:txBody>
                    <a:bodyPr lIns="90000" rIns="90000" tIns="46800" bIns="46800" anchor="t">
                      <a:noAutofit/>
                    </a:bodyPr>
                    <a:p>
                      <a:pPr marL="285840" indent="-285840">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Question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82404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intended / expected? Is this similar to the Board notification of the GAC prior to it considering policy recommendations for adoption? If so, how much time would be required for such consultations (note, typically the GNSO Council will vote on the first or second meeting following the submission of the Final WG Report). If another form of consultation is foreseen, how would this look / happen in practice?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459000">
                <a:tc>
                  <a:txBody>
                    <a:bodyPr lIns="90000" rIns="90000" tIns="46800" bIns="46800" anchor="t">
                      <a:noAutofit/>
                    </a:bodyPr>
                    <a:p>
                      <a:pPr marL="166680" indent="-1666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What happens if the GAC recommends that the GNSO Council should not adopt the recommendations, or if possible changes are suggested?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615960">
                <a:tc>
                  <a:txBody>
                    <a:bodyPr lIns="90000" rIns="90000" tIns="46800" bIns="46800" anchor="t">
                      <a:noAutofit/>
                    </a:bodyPr>
                    <a:p>
                      <a:pPr marL="166680" indent="-166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this feedback be considered ‘Advice’ or are the current Bylaws an impediment for the GAC to provide ‘Advice’ to GNSO Working Groups on public policy issu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61416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GNSO Council followed GAC Advice, would that bind the Board at a later stage so that the Board loses the right to disregard i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r h="4590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GAC Advice were also directed at the GNSO Council, would or should that be a second opportunity for the GAC to give Advice? If so, what would be the consequences of that?</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1e1"/>
                    </a:solidFill>
                  </a:tcPr>
                </a:tc>
              </a:tr>
              <a:tr h="1371600">
                <a:tc>
                  <a:txBody>
                    <a:bodyPr lIns="90000" rIns="90000" tIns="46800" bIns="4680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there some steps missing here?  This implies that the Final Report drafting process ends with the Initial Report, but what about the process where:</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WG incorporates the comments and creates a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reviews the Final Report</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optionally) sends the Final Report back to the WG for revision </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ＭＳ Ｐゴシック"/>
                        </a:rPr>
                        <a:t>the Council determines whether to send the Final Report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n’t all of these steps additional opportunities for GAC/GNSO engagement?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Content Placeholder 3" descr=""/>
          <p:cNvPicPr/>
          <p:nvPr/>
        </p:nvPicPr>
        <p:blipFill>
          <a:blip r:embed="rId1"/>
          <a:stretch/>
        </p:blipFill>
        <p:spPr>
          <a:xfrm>
            <a:off x="133200" y="219240"/>
            <a:ext cx="8852040" cy="6626160"/>
          </a:xfrm>
          <a:prstGeom prst="rect">
            <a:avLst/>
          </a:prstGeom>
          <a:ln w="0">
            <a:noFill/>
          </a:ln>
        </p:spPr>
      </p:pic>
      <p:sp>
        <p:nvSpPr>
          <p:cNvPr id="495"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97"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9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9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0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0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02" name="Group 14"/>
          <p:cNvGrpSpPr/>
          <p:nvPr/>
        </p:nvGrpSpPr>
        <p:grpSpPr>
          <a:xfrm>
            <a:off x="6284520" y="355680"/>
            <a:ext cx="629280" cy="606600"/>
            <a:chOff x="6284520" y="355680"/>
            <a:chExt cx="629280" cy="606600"/>
          </a:xfrm>
        </p:grpSpPr>
        <p:sp>
          <p:nvSpPr>
            <p:cNvPr id="50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18"/>
          <p:cNvGrpSpPr/>
          <p:nvPr/>
        </p:nvGrpSpPr>
        <p:grpSpPr>
          <a:xfrm>
            <a:off x="7832520" y="2524320"/>
            <a:ext cx="627480" cy="605880"/>
            <a:chOff x="7832520" y="2524320"/>
            <a:chExt cx="627480" cy="605880"/>
          </a:xfrm>
        </p:grpSpPr>
        <p:sp>
          <p:nvSpPr>
            <p:cNvPr id="50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10" name="Group 24"/>
          <p:cNvGrpSpPr/>
          <p:nvPr/>
        </p:nvGrpSpPr>
        <p:grpSpPr>
          <a:xfrm>
            <a:off x="5724000" y="6228000"/>
            <a:ext cx="627840" cy="607680"/>
            <a:chOff x="5724000" y="6228000"/>
            <a:chExt cx="627840" cy="607680"/>
          </a:xfrm>
        </p:grpSpPr>
        <p:sp>
          <p:nvSpPr>
            <p:cNvPr id="51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4" name="Group 28"/>
          <p:cNvGrpSpPr/>
          <p:nvPr/>
        </p:nvGrpSpPr>
        <p:grpSpPr>
          <a:xfrm>
            <a:off x="1485360" y="5599440"/>
            <a:ext cx="627840" cy="606240"/>
            <a:chOff x="1485360" y="5599440"/>
            <a:chExt cx="627840" cy="606240"/>
          </a:xfrm>
        </p:grpSpPr>
        <p:sp>
          <p:nvSpPr>
            <p:cNvPr id="51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18" name="Group 32"/>
          <p:cNvGrpSpPr/>
          <p:nvPr/>
        </p:nvGrpSpPr>
        <p:grpSpPr>
          <a:xfrm>
            <a:off x="2057040" y="320760"/>
            <a:ext cx="629280" cy="608040"/>
            <a:chOff x="2057040" y="320760"/>
            <a:chExt cx="629280" cy="608040"/>
          </a:xfrm>
        </p:grpSpPr>
        <p:sp>
          <p:nvSpPr>
            <p:cNvPr id="51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22"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23" name="Group 46"/>
          <p:cNvGrpSpPr/>
          <p:nvPr/>
        </p:nvGrpSpPr>
        <p:grpSpPr>
          <a:xfrm>
            <a:off x="609840" y="4263120"/>
            <a:ext cx="634680" cy="615960"/>
            <a:chOff x="609840" y="4263120"/>
            <a:chExt cx="634680" cy="615960"/>
          </a:xfrm>
        </p:grpSpPr>
        <p:sp>
          <p:nvSpPr>
            <p:cNvPr id="52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27" name="Group 50"/>
          <p:cNvGrpSpPr/>
          <p:nvPr/>
        </p:nvGrpSpPr>
        <p:grpSpPr>
          <a:xfrm>
            <a:off x="590400" y="1615680"/>
            <a:ext cx="895320" cy="582840"/>
            <a:chOff x="590400" y="1615680"/>
            <a:chExt cx="895320" cy="582840"/>
          </a:xfrm>
        </p:grpSpPr>
        <p:sp>
          <p:nvSpPr>
            <p:cNvPr id="52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31" name="Group 54"/>
          <p:cNvGrpSpPr/>
          <p:nvPr/>
        </p:nvGrpSpPr>
        <p:grpSpPr>
          <a:xfrm>
            <a:off x="7910280" y="4176720"/>
            <a:ext cx="628560" cy="597600"/>
            <a:chOff x="7910280" y="4176720"/>
            <a:chExt cx="628560" cy="597600"/>
          </a:xfrm>
        </p:grpSpPr>
        <p:sp>
          <p:nvSpPr>
            <p:cNvPr id="53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36" name=""/>
          <p:cNvGraphicFramePr/>
          <p:nvPr/>
        </p:nvGraphicFramePr>
        <p:xfrm>
          <a:off x="318960" y="274680"/>
          <a:ext cx="8521920" cy="36878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3017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ublic Comments on the Final Report that has been accepted by the GNSO and is on its way to the Board for final approva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is public comment period is focused on documenting reasons why the policy change is not in the best interests of the ICANN community or ICANN – the goal being no comments, as these issues should have been worked out during the WG deliber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mechanism for the GAC to form a “comment drafting” sub-group?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3" descr=""/>
          <p:cNvPicPr/>
          <p:nvPr/>
        </p:nvPicPr>
        <p:blipFill>
          <a:blip r:embed="rId1"/>
          <a:stretch/>
        </p:blipFill>
        <p:spPr>
          <a:xfrm>
            <a:off x="133200" y="219240"/>
            <a:ext cx="8798040" cy="6589440"/>
          </a:xfrm>
          <a:prstGeom prst="rect">
            <a:avLst/>
          </a:prstGeom>
          <a:ln w="0">
            <a:noFill/>
          </a:ln>
        </p:spPr>
      </p:pic>
      <p:sp>
        <p:nvSpPr>
          <p:cNvPr id="538"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39"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40"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41"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42"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3"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44"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45" name="Group 38"/>
          <p:cNvGrpSpPr/>
          <p:nvPr/>
        </p:nvGrpSpPr>
        <p:grpSpPr>
          <a:xfrm>
            <a:off x="6284520" y="355680"/>
            <a:ext cx="629280" cy="606600"/>
            <a:chOff x="6284520" y="355680"/>
            <a:chExt cx="629280" cy="606600"/>
          </a:xfrm>
        </p:grpSpPr>
        <p:sp>
          <p:nvSpPr>
            <p:cNvPr id="546" name="Rectangle 3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7" name="Rectangle 37"/>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8" name="TextBox 36"/>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9" name="Group 39"/>
          <p:cNvGrpSpPr/>
          <p:nvPr/>
        </p:nvGrpSpPr>
        <p:grpSpPr>
          <a:xfrm>
            <a:off x="7832520" y="2524320"/>
            <a:ext cx="627480" cy="605880"/>
            <a:chOff x="7832520" y="2524320"/>
            <a:chExt cx="627480" cy="605880"/>
          </a:xfrm>
        </p:grpSpPr>
        <p:sp>
          <p:nvSpPr>
            <p:cNvPr id="550" name="Rectangle 4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1" name="Rectangle 41"/>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2"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53" name="Group 43"/>
          <p:cNvGrpSpPr/>
          <p:nvPr/>
        </p:nvGrpSpPr>
        <p:grpSpPr>
          <a:xfrm>
            <a:off x="5724000" y="6228000"/>
            <a:ext cx="627840" cy="607680"/>
            <a:chOff x="5724000" y="6228000"/>
            <a:chExt cx="627840" cy="607680"/>
          </a:xfrm>
        </p:grpSpPr>
        <p:sp>
          <p:nvSpPr>
            <p:cNvPr id="554" name="Rectangle 44"/>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5" name="Rectangle 45"/>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6"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57" name="Group 47"/>
          <p:cNvGrpSpPr/>
          <p:nvPr/>
        </p:nvGrpSpPr>
        <p:grpSpPr>
          <a:xfrm>
            <a:off x="1485360" y="5599440"/>
            <a:ext cx="627840" cy="606240"/>
            <a:chOff x="1485360" y="5599440"/>
            <a:chExt cx="627840" cy="606240"/>
          </a:xfrm>
        </p:grpSpPr>
        <p:sp>
          <p:nvSpPr>
            <p:cNvPr id="558" name="Rectangle 48"/>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49"/>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0"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61" name="Group 51"/>
          <p:cNvGrpSpPr/>
          <p:nvPr/>
        </p:nvGrpSpPr>
        <p:grpSpPr>
          <a:xfrm>
            <a:off x="2057040" y="320760"/>
            <a:ext cx="629280" cy="608040"/>
            <a:chOff x="2057040" y="320760"/>
            <a:chExt cx="629280" cy="608040"/>
          </a:xfrm>
        </p:grpSpPr>
        <p:sp>
          <p:nvSpPr>
            <p:cNvPr id="562" name="Rectangle 52"/>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3" name="Rectangle 53"/>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4" name="TextBox 54"/>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65"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66"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67"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68"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569"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70" name="Group 15"/>
          <p:cNvGrpSpPr/>
          <p:nvPr/>
        </p:nvGrpSpPr>
        <p:grpSpPr>
          <a:xfrm>
            <a:off x="609840" y="4263120"/>
            <a:ext cx="634680" cy="615960"/>
            <a:chOff x="609840" y="4263120"/>
            <a:chExt cx="634680" cy="615960"/>
          </a:xfrm>
        </p:grpSpPr>
        <p:sp>
          <p:nvSpPr>
            <p:cNvPr id="571" name="Rectangle 60"/>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2" name="Rectangle 61"/>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3" name="TextBox 62"/>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74" name="Group 18"/>
          <p:cNvGrpSpPr/>
          <p:nvPr/>
        </p:nvGrpSpPr>
        <p:grpSpPr>
          <a:xfrm>
            <a:off x="590400" y="1615680"/>
            <a:ext cx="895320" cy="582840"/>
            <a:chOff x="590400" y="1615680"/>
            <a:chExt cx="895320" cy="582840"/>
          </a:xfrm>
        </p:grpSpPr>
        <p:sp>
          <p:nvSpPr>
            <p:cNvPr id="575" name="Rectangle 72"/>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6" name="Rectangle 73"/>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7"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78" name="Group 17"/>
          <p:cNvGrpSpPr/>
          <p:nvPr/>
        </p:nvGrpSpPr>
        <p:grpSpPr>
          <a:xfrm>
            <a:off x="7910280" y="4176720"/>
            <a:ext cx="628560" cy="597600"/>
            <a:chOff x="7910280" y="4176720"/>
            <a:chExt cx="628560" cy="597600"/>
          </a:xfrm>
        </p:grpSpPr>
        <p:sp>
          <p:nvSpPr>
            <p:cNvPr id="579" name="Rectangle 76"/>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0" name="Rectangle 77"/>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1"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583" name=""/>
          <p:cNvGraphicFramePr/>
          <p:nvPr/>
        </p:nvGraphicFramePr>
        <p:xfrm>
          <a:off x="457200" y="1600200"/>
          <a:ext cx="8229600" cy="43592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forum prior to Board consideration of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ublic-comment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23479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Board Vot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Requirement for the ICANN Board to inform the GAC if policy recommendations affect public policy concerns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Board will notify GAC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What is the mechanism for modifying a Final Report if the GAC determines there is a public policy concern?  Is the Board responsible for making those changes, or should it be sent back to the GNSO, and ultimately the WG, for revis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Content Placeholder 3" descr=""/>
          <p:cNvPicPr/>
          <p:nvPr/>
        </p:nvPicPr>
        <p:blipFill>
          <a:blip r:embed="rId1"/>
          <a:stretch/>
        </p:blipFill>
        <p:spPr>
          <a:xfrm>
            <a:off x="133200" y="219240"/>
            <a:ext cx="8852040" cy="6626160"/>
          </a:xfrm>
          <a:prstGeom prst="rect">
            <a:avLst/>
          </a:prstGeom>
          <a:ln w="0">
            <a:noFill/>
          </a:ln>
        </p:spPr>
      </p:pic>
      <p:sp>
        <p:nvSpPr>
          <p:cNvPr id="585"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6"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87"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88"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89"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90"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91"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92" name="Group 14"/>
          <p:cNvGrpSpPr/>
          <p:nvPr/>
        </p:nvGrpSpPr>
        <p:grpSpPr>
          <a:xfrm>
            <a:off x="6284520" y="355680"/>
            <a:ext cx="629280" cy="606600"/>
            <a:chOff x="6284520" y="355680"/>
            <a:chExt cx="629280" cy="606600"/>
          </a:xfrm>
        </p:grpSpPr>
        <p:sp>
          <p:nvSpPr>
            <p:cNvPr id="593" name="Rectangle 15"/>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4" name="Rectangle 16"/>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5" name="TextBox 17"/>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6" name="Group 18"/>
          <p:cNvGrpSpPr/>
          <p:nvPr/>
        </p:nvGrpSpPr>
        <p:grpSpPr>
          <a:xfrm>
            <a:off x="7832520" y="2524320"/>
            <a:ext cx="627480" cy="605880"/>
            <a:chOff x="7832520" y="2524320"/>
            <a:chExt cx="627480" cy="605880"/>
          </a:xfrm>
        </p:grpSpPr>
        <p:sp>
          <p:nvSpPr>
            <p:cNvPr id="597" name="Rectangle 20"/>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Rectangle 22"/>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9"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00" name="Group 24"/>
          <p:cNvGrpSpPr/>
          <p:nvPr/>
        </p:nvGrpSpPr>
        <p:grpSpPr>
          <a:xfrm>
            <a:off x="5724000" y="6228000"/>
            <a:ext cx="627840" cy="607680"/>
            <a:chOff x="5724000" y="6228000"/>
            <a:chExt cx="627840" cy="607680"/>
          </a:xfrm>
        </p:grpSpPr>
        <p:sp>
          <p:nvSpPr>
            <p:cNvPr id="601" name="Rectangle 25"/>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2" name="Rectangle 26"/>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3"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4" name="Group 28"/>
          <p:cNvGrpSpPr/>
          <p:nvPr/>
        </p:nvGrpSpPr>
        <p:grpSpPr>
          <a:xfrm>
            <a:off x="1485360" y="5599440"/>
            <a:ext cx="627840" cy="606240"/>
            <a:chOff x="1485360" y="5599440"/>
            <a:chExt cx="627840" cy="606240"/>
          </a:xfrm>
        </p:grpSpPr>
        <p:sp>
          <p:nvSpPr>
            <p:cNvPr id="605" name="Rectangle 29"/>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6" name="Rectangle 30"/>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7"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8" name="Group 32"/>
          <p:cNvGrpSpPr/>
          <p:nvPr/>
        </p:nvGrpSpPr>
        <p:grpSpPr>
          <a:xfrm>
            <a:off x="2057040" y="320760"/>
            <a:ext cx="629280" cy="608040"/>
            <a:chOff x="2057040" y="320760"/>
            <a:chExt cx="629280" cy="608040"/>
          </a:xfrm>
        </p:grpSpPr>
        <p:sp>
          <p:nvSpPr>
            <p:cNvPr id="609" name="Rectangle 33"/>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0" name="Rectangle 34"/>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1" name="TextBox 35"/>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612"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613" name="Group 46"/>
          <p:cNvGrpSpPr/>
          <p:nvPr/>
        </p:nvGrpSpPr>
        <p:grpSpPr>
          <a:xfrm>
            <a:off x="609840" y="4263120"/>
            <a:ext cx="634680" cy="615960"/>
            <a:chOff x="609840" y="4263120"/>
            <a:chExt cx="634680" cy="615960"/>
          </a:xfrm>
        </p:grpSpPr>
        <p:sp>
          <p:nvSpPr>
            <p:cNvPr id="614" name="Rectangle 47"/>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5" name="Rectangle 48"/>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6" name="TextBox 49"/>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17" name="Group 50"/>
          <p:cNvGrpSpPr/>
          <p:nvPr/>
        </p:nvGrpSpPr>
        <p:grpSpPr>
          <a:xfrm>
            <a:off x="590400" y="1615680"/>
            <a:ext cx="895320" cy="582840"/>
            <a:chOff x="590400" y="1615680"/>
            <a:chExt cx="895320" cy="582840"/>
          </a:xfrm>
        </p:grpSpPr>
        <p:sp>
          <p:nvSpPr>
            <p:cNvPr id="618" name="Rectangle 51"/>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9" name="Rectangle 52"/>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0"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21" name="Group 54"/>
          <p:cNvGrpSpPr/>
          <p:nvPr/>
        </p:nvGrpSpPr>
        <p:grpSpPr>
          <a:xfrm>
            <a:off x="7910280" y="4176720"/>
            <a:ext cx="628560" cy="597600"/>
            <a:chOff x="7910280" y="4176720"/>
            <a:chExt cx="628560" cy="597600"/>
          </a:xfrm>
        </p:grpSpPr>
        <p:sp>
          <p:nvSpPr>
            <p:cNvPr id="622" name="Rectangle 55"/>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3" name="Rectangle 56"/>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4"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626" name=""/>
          <p:cNvGraphicFramePr/>
          <p:nvPr/>
        </p:nvGraphicFramePr>
        <p:xfrm>
          <a:off x="457200" y="1600200"/>
          <a:ext cx="8229600" cy="335268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ncil has the option to form Implementation Review Team to assist Staff in developing the implementation details (in principle open to al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all for volunteers will be circulated to PDP WG</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e Implementation Review Team?</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13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mplement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mplementation plans may be posted for public comment or additional consultations held depending on nature of policy recommenda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343080" indent="-343080">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similar opportunities for informal/”birds of a feather group” GAC participation in this phase of the process?</a:t>
                      </a:r>
                      <a:endParaRPr b="0" lang="en-US" sz="11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87" name=""/>
          <p:cNvGraphicFramePr/>
          <p:nvPr/>
        </p:nvGraphicFramePr>
        <p:xfrm>
          <a:off x="457200" y="1600200"/>
          <a:ext cx="8229600" cy="516564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4495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Identify or frame an issu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The Board, AC and SO’s and Constituencies and Stakeholder Groups of the GNSO scan the environment and identify issues that would benefit from GNSO policy</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within the GAC based on significant changes in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Are there barriers to the GAC contributing issues for consideration?</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Is there a way for the GAC to highlight issues pertaining the GNSO in their advice to the Board?</a:t>
                      </a:r>
                      <a:endParaRPr b="0" lang="en-US" sz="12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Mincho"/>
                        </a:rPr>
                        <a:t>Our conversations have specifically focused on PDPs – are there any scenarios in which the GAC may have input or want the GNSO Council to consider issues that do not require a PDP?</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110"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1"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2"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3"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4" name="Group 148"/>
          <p:cNvGrpSpPr/>
          <p:nvPr/>
        </p:nvGrpSpPr>
        <p:grpSpPr>
          <a:xfrm>
            <a:off x="6284520" y="355680"/>
            <a:ext cx="629280" cy="606600"/>
            <a:chOff x="6284520" y="355680"/>
            <a:chExt cx="629280" cy="606600"/>
          </a:xfrm>
        </p:grpSpPr>
        <p:sp>
          <p:nvSpPr>
            <p:cNvPr id="115" name="Rectangle 149"/>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Rectangle 150"/>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151"/>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8" name="Group 152"/>
          <p:cNvGrpSpPr/>
          <p:nvPr/>
        </p:nvGrpSpPr>
        <p:grpSpPr>
          <a:xfrm>
            <a:off x="7832520" y="2524320"/>
            <a:ext cx="627480" cy="605880"/>
            <a:chOff x="7832520" y="2524320"/>
            <a:chExt cx="627480" cy="605880"/>
          </a:xfrm>
        </p:grpSpPr>
        <p:sp>
          <p:nvSpPr>
            <p:cNvPr id="119" name="Rectangle 153"/>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0" name="Rectangle 154"/>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2" name="Group 156"/>
          <p:cNvGrpSpPr/>
          <p:nvPr/>
        </p:nvGrpSpPr>
        <p:grpSpPr>
          <a:xfrm>
            <a:off x="5724000" y="6228000"/>
            <a:ext cx="627840" cy="607680"/>
            <a:chOff x="5724000" y="6228000"/>
            <a:chExt cx="627840" cy="607680"/>
          </a:xfrm>
        </p:grpSpPr>
        <p:sp>
          <p:nvSpPr>
            <p:cNvPr id="123" name="Rectangle 157"/>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Rectangle 158"/>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6" name="Group 160"/>
          <p:cNvGrpSpPr/>
          <p:nvPr/>
        </p:nvGrpSpPr>
        <p:grpSpPr>
          <a:xfrm>
            <a:off x="1485360" y="5599440"/>
            <a:ext cx="627840" cy="606240"/>
            <a:chOff x="1485360" y="5599440"/>
            <a:chExt cx="627840" cy="606240"/>
          </a:xfrm>
        </p:grpSpPr>
        <p:sp>
          <p:nvSpPr>
            <p:cNvPr id="127" name="Rectangle 161"/>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Rectangle 162"/>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9"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0" name="Group 164"/>
          <p:cNvGrpSpPr/>
          <p:nvPr/>
        </p:nvGrpSpPr>
        <p:grpSpPr>
          <a:xfrm>
            <a:off x="2057040" y="320760"/>
            <a:ext cx="629280" cy="608040"/>
            <a:chOff x="2057040" y="320760"/>
            <a:chExt cx="629280" cy="608040"/>
          </a:xfrm>
        </p:grpSpPr>
        <p:sp>
          <p:nvSpPr>
            <p:cNvPr id="131" name="Rectangle 165"/>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2" name="Rectangle 166"/>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3" name="TextBox 167"/>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4" name="Group 170"/>
          <p:cNvGrpSpPr/>
          <p:nvPr/>
        </p:nvGrpSpPr>
        <p:grpSpPr>
          <a:xfrm>
            <a:off x="609840" y="4263120"/>
            <a:ext cx="634680" cy="615960"/>
            <a:chOff x="609840" y="4263120"/>
            <a:chExt cx="634680" cy="615960"/>
          </a:xfrm>
        </p:grpSpPr>
        <p:sp>
          <p:nvSpPr>
            <p:cNvPr id="135" name="Rectangle 171"/>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6" name="Rectangle 172"/>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TextBox 173"/>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8" name="Group 174"/>
          <p:cNvGrpSpPr/>
          <p:nvPr/>
        </p:nvGrpSpPr>
        <p:grpSpPr>
          <a:xfrm>
            <a:off x="590400" y="1615680"/>
            <a:ext cx="895320" cy="582840"/>
            <a:chOff x="590400" y="1615680"/>
            <a:chExt cx="895320" cy="582840"/>
          </a:xfrm>
        </p:grpSpPr>
        <p:sp>
          <p:nvSpPr>
            <p:cNvPr id="139" name="Rectangle 175"/>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0" name="Rectangle 176"/>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2" name="Group 178"/>
          <p:cNvGrpSpPr/>
          <p:nvPr/>
        </p:nvGrpSpPr>
        <p:grpSpPr>
          <a:xfrm>
            <a:off x="7910280" y="4176720"/>
            <a:ext cx="628560" cy="597600"/>
            <a:chOff x="7910280" y="4176720"/>
            <a:chExt cx="628560" cy="597600"/>
          </a:xfrm>
        </p:grpSpPr>
        <p:sp>
          <p:nvSpPr>
            <p:cNvPr id="143" name="Rectangle 179"/>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4" name="Rectangle 180"/>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5"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47" name=""/>
          <p:cNvGraphicFramePr/>
          <p:nvPr/>
        </p:nvGraphicFramePr>
        <p:xfrm>
          <a:off x="457200" y="1600200"/>
          <a:ext cx="8229600" cy="3184560"/>
        </p:xfrm>
        <a:graphic>
          <a:graphicData uri="http://schemas.openxmlformats.org/drawingml/2006/table">
            <a:tbl>
              <a:tblPr/>
              <a:tblGrid>
                <a:gridCol w="1646280"/>
                <a:gridCol w="1646280"/>
                <a:gridCol w="1644480"/>
                <a:gridCol w="1646280"/>
                <a:gridCol w="16462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2514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quest for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 Advisory Committee may raise an issue for policy development by action of such committee to request an Issue Report, and transmission of that request to the Staff Manager and GNSO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sn’t this a stage of the process that’s specifically designed for GAC (along with SSAC and ALAC) participation?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more coordination between GAC/GNSO staff regarding applicability of law or public policy during the creation of the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ontent Placeholder 3" descr=""/>
          <p:cNvPicPr/>
          <p:nvPr/>
        </p:nvPicPr>
        <p:blipFill>
          <a:blip r:embed="rId1"/>
          <a:stretch/>
        </p:blipFill>
        <p:spPr>
          <a:xfrm>
            <a:off x="133200" y="219240"/>
            <a:ext cx="8798040" cy="6589440"/>
          </a:xfrm>
          <a:prstGeom prst="rect">
            <a:avLst/>
          </a:prstGeom>
          <a:ln w="0">
            <a:noFill/>
          </a:ln>
        </p:spPr>
      </p:pic>
      <p:sp>
        <p:nvSpPr>
          <p:cNvPr id="149"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0" name="TextBox 14"/>
          <p:cNvSpPr/>
          <p:nvPr/>
        </p:nvSpPr>
        <p:spPr>
          <a:xfrm>
            <a:off x="3606840" y="2432160"/>
            <a:ext cx="2049480" cy="155412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 </a:t>
            </a:r>
            <a:r>
              <a:rPr b="0" lang="en-US" sz="1200" spc="-1" strike="noStrike">
                <a:solidFill>
                  <a:srgbClr val="ff0000"/>
                </a:solidFill>
                <a:latin typeface="Calibri"/>
              </a:rPr>
              <a:t>on Preliminary Issue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t>
            </a:r>
            <a:r>
              <a:rPr b="0" lang="en-US" sz="1200" spc="-1" strike="noStrike">
                <a:solidFill>
                  <a:srgbClr val="ff0000"/>
                </a:solidFill>
                <a:latin typeface="Calibri"/>
              </a:rPr>
              <a:t>and incorporate where appropriate comments in Final Issue Report for GNSO Council </a:t>
            </a:r>
            <a:r>
              <a:rPr b="0" lang="en-US" sz="1200" spc="-1" strike="noStrike">
                <a:solidFill>
                  <a:srgbClr val="000000"/>
                </a:solidFill>
                <a:latin typeface="Calibri"/>
              </a:rPr>
              <a:t>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7" name="Rectangle 24"/>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58" name="TextBox 25"/>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Rectangle 30"/>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7840" cy="607680"/>
            <a:chOff x="5724000" y="6228000"/>
            <a:chExt cx="627840" cy="607680"/>
          </a:xfrm>
        </p:grpSpPr>
        <p:sp>
          <p:nvSpPr>
            <p:cNvPr id="164" name="Rectangle 33"/>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5" name="Rectangle 34"/>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6240"/>
            <a:chOff x="1485360" y="5599440"/>
            <a:chExt cx="627840" cy="606240"/>
          </a:xfrm>
        </p:grpSpPr>
        <p:sp>
          <p:nvSpPr>
            <p:cNvPr id="168" name="Rectangle 37"/>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9" name="Rectangle 38"/>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280" cy="608040"/>
            <a:chOff x="2057040" y="320760"/>
            <a:chExt cx="629280" cy="608040"/>
          </a:xfrm>
        </p:grpSpPr>
        <p:sp>
          <p:nvSpPr>
            <p:cNvPr id="172" name="Rectangle 41"/>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3" name="Rectangle 42"/>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4" name="TextBox 43"/>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5960"/>
            <a:chOff x="609840" y="4263120"/>
            <a:chExt cx="634680" cy="615960"/>
          </a:xfrm>
        </p:grpSpPr>
        <p:sp>
          <p:nvSpPr>
            <p:cNvPr id="176" name="Rectangle 45"/>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7" name="Rectangle 46"/>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78" name="TextBox 47"/>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1" name="Rectangle 50"/>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560" cy="597600"/>
            <a:chOff x="7910280" y="4176720"/>
            <a:chExt cx="628560" cy="597600"/>
          </a:xfrm>
        </p:grpSpPr>
        <p:sp>
          <p:nvSpPr>
            <p:cNvPr id="184" name="Rectangle 53"/>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5" name="Rectangle 54"/>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graphicFrame>
        <p:nvGraphicFramePr>
          <p:cNvPr id="188" name=""/>
          <p:cNvGraphicFramePr/>
          <p:nvPr/>
        </p:nvGraphicFramePr>
        <p:xfrm>
          <a:off x="318960" y="274680"/>
          <a:ext cx="8521920" cy="6202440"/>
        </p:xfrm>
        <a:graphic>
          <a:graphicData uri="http://schemas.openxmlformats.org/drawingml/2006/table">
            <a:tbl>
              <a:tblPr/>
              <a:tblGrid>
                <a:gridCol w="1646280"/>
                <a:gridCol w="1646280"/>
                <a:gridCol w="1646280"/>
                <a:gridCol w="1644480"/>
                <a:gridCol w="193860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55324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reliminary Issue Repor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Public comment period on Preliminary Issue Report to encourage additional data / information as well as views on whether PDP should be initia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ICANN &amp; GNSO web-site and public comment forum opened</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the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the GAC to form a “comment drafting” sub-group with a focus on related issues of law or public policy?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 results of that drafting-group either be brought back to full GAC for review/approval (which may be hard logistically), or simply be submitted directly as a volunteer/designated group that doesn’t speak officially for the GAC but is broadly representative?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mment: These early-stage public comments are a great help because they influence/frame the issues/direction of the Working Group at an easy-to-modify point</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ere be a trigger for GAC comment on applicability of national or international law? </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o the current option of the GAC making a statement about a Preliminary Issue Report, prior to consideration by the Council?</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Content Placeholder 3" descr=""/>
          <p:cNvPicPr/>
          <p:nvPr/>
        </p:nvPicPr>
        <p:blipFill>
          <a:blip r:embed="rId1"/>
          <a:stretch/>
        </p:blipFill>
        <p:spPr>
          <a:xfrm>
            <a:off x="133200" y="219240"/>
            <a:ext cx="8852040" cy="6626160"/>
          </a:xfrm>
          <a:prstGeom prst="rect">
            <a:avLst/>
          </a:prstGeom>
          <a:ln w="0">
            <a:noFill/>
          </a:ln>
        </p:spPr>
      </p:pic>
      <p:sp>
        <p:nvSpPr>
          <p:cNvPr id="190"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91"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3"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4"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5"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6"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7"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pic>
        <p:nvPicPr>
          <p:cNvPr id="198"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9"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200"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1"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2" name="Group 100"/>
          <p:cNvGrpSpPr/>
          <p:nvPr/>
        </p:nvGrpSpPr>
        <p:grpSpPr>
          <a:xfrm>
            <a:off x="6284520" y="355680"/>
            <a:ext cx="629280" cy="606600"/>
            <a:chOff x="6284520" y="355680"/>
            <a:chExt cx="629280" cy="606600"/>
          </a:xfrm>
        </p:grpSpPr>
        <p:sp>
          <p:nvSpPr>
            <p:cNvPr id="203" name="Rectangle 101"/>
            <p:cNvSpPr/>
            <p:nvPr/>
          </p:nvSpPr>
          <p:spPr>
            <a:xfrm rot="20796600">
              <a:off x="6440400" y="433080"/>
              <a:ext cx="422640" cy="48672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4" name="Rectangle 103"/>
            <p:cNvSpPr/>
            <p:nvPr/>
          </p:nvSpPr>
          <p:spPr>
            <a:xfrm rot="20796600">
              <a:off x="6398640" y="45576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TextBox 104"/>
            <p:cNvSpPr/>
            <p:nvPr/>
          </p:nvSpPr>
          <p:spPr>
            <a:xfrm rot="20796600">
              <a:off x="6300720" y="40932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6" name="Group 105"/>
          <p:cNvGrpSpPr/>
          <p:nvPr/>
        </p:nvGrpSpPr>
        <p:grpSpPr>
          <a:xfrm>
            <a:off x="7832520" y="2524320"/>
            <a:ext cx="627480" cy="605880"/>
            <a:chOff x="7832520" y="2524320"/>
            <a:chExt cx="627480" cy="605880"/>
          </a:xfrm>
        </p:grpSpPr>
        <p:sp>
          <p:nvSpPr>
            <p:cNvPr id="207" name="Rectangle 106"/>
            <p:cNvSpPr/>
            <p:nvPr/>
          </p:nvSpPr>
          <p:spPr>
            <a:xfrm rot="20796600">
              <a:off x="7988400" y="2601360"/>
              <a:ext cx="420840" cy="48672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8" name="Rectangle 108"/>
            <p:cNvSpPr/>
            <p:nvPr/>
          </p:nvSpPr>
          <p:spPr>
            <a:xfrm rot="20796600">
              <a:off x="7945200" y="2626920"/>
              <a:ext cx="2919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9"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10" name="Group 110"/>
          <p:cNvGrpSpPr/>
          <p:nvPr/>
        </p:nvGrpSpPr>
        <p:grpSpPr>
          <a:xfrm>
            <a:off x="5724000" y="6228000"/>
            <a:ext cx="627840" cy="607680"/>
            <a:chOff x="5724000" y="6228000"/>
            <a:chExt cx="627840" cy="607680"/>
          </a:xfrm>
        </p:grpSpPr>
        <p:sp>
          <p:nvSpPr>
            <p:cNvPr id="211" name="Rectangle 111"/>
            <p:cNvSpPr/>
            <p:nvPr/>
          </p:nvSpPr>
          <p:spPr>
            <a:xfrm rot="20796600">
              <a:off x="5879880" y="6305400"/>
              <a:ext cx="421200" cy="48816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2" name="Rectangle 112"/>
            <p:cNvSpPr/>
            <p:nvPr/>
          </p:nvSpPr>
          <p:spPr>
            <a:xfrm rot="20796600">
              <a:off x="5837040" y="633060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3"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4" name="Group 114"/>
          <p:cNvGrpSpPr/>
          <p:nvPr/>
        </p:nvGrpSpPr>
        <p:grpSpPr>
          <a:xfrm>
            <a:off x="1485360" y="5599440"/>
            <a:ext cx="627840" cy="606240"/>
            <a:chOff x="1485360" y="5599440"/>
            <a:chExt cx="627840" cy="606240"/>
          </a:xfrm>
        </p:grpSpPr>
        <p:sp>
          <p:nvSpPr>
            <p:cNvPr id="215" name="Rectangle 115"/>
            <p:cNvSpPr/>
            <p:nvPr/>
          </p:nvSpPr>
          <p:spPr>
            <a:xfrm rot="20796600">
              <a:off x="1641240" y="5676840"/>
              <a:ext cx="421200" cy="48672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6" name="Rectangle 116"/>
            <p:cNvSpPr/>
            <p:nvPr/>
          </p:nvSpPr>
          <p:spPr>
            <a:xfrm rot="20796600">
              <a:off x="1598040" y="5702040"/>
              <a:ext cx="29232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17"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8" name="Group 119"/>
          <p:cNvGrpSpPr/>
          <p:nvPr/>
        </p:nvGrpSpPr>
        <p:grpSpPr>
          <a:xfrm>
            <a:off x="2057040" y="320760"/>
            <a:ext cx="629280" cy="608040"/>
            <a:chOff x="2057040" y="320760"/>
            <a:chExt cx="629280" cy="608040"/>
          </a:xfrm>
        </p:grpSpPr>
        <p:sp>
          <p:nvSpPr>
            <p:cNvPr id="219" name="Rectangle 120"/>
            <p:cNvSpPr/>
            <p:nvPr/>
          </p:nvSpPr>
          <p:spPr>
            <a:xfrm rot="20796600">
              <a:off x="2212920" y="398160"/>
              <a:ext cx="422640" cy="48816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Rectangle 121"/>
            <p:cNvSpPr/>
            <p:nvPr/>
          </p:nvSpPr>
          <p:spPr>
            <a:xfrm rot="20796600">
              <a:off x="2171520" y="420840"/>
              <a:ext cx="293760" cy="1083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1" name="TextBox 122"/>
            <p:cNvSpPr/>
            <p:nvPr/>
          </p:nvSpPr>
          <p:spPr>
            <a:xfrm rot="20796600">
              <a:off x="2073240" y="374400"/>
              <a:ext cx="4903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2" name="Group 123"/>
          <p:cNvGrpSpPr/>
          <p:nvPr/>
        </p:nvGrpSpPr>
        <p:grpSpPr>
          <a:xfrm>
            <a:off x="609840" y="4263120"/>
            <a:ext cx="634680" cy="615960"/>
            <a:chOff x="609840" y="4263120"/>
            <a:chExt cx="634680" cy="615960"/>
          </a:xfrm>
        </p:grpSpPr>
        <p:sp>
          <p:nvSpPr>
            <p:cNvPr id="223" name="Rectangle 124"/>
            <p:cNvSpPr/>
            <p:nvPr/>
          </p:nvSpPr>
          <p:spPr>
            <a:xfrm rot="20799000">
              <a:off x="773280" y="4349520"/>
              <a:ext cx="420480" cy="4874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4" name="Rectangle 125"/>
            <p:cNvSpPr/>
            <p:nvPr/>
          </p:nvSpPr>
          <p:spPr>
            <a:xfrm rot="20799000">
              <a:off x="741240" y="4372200"/>
              <a:ext cx="291960" cy="1915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5" name="TextBox 126"/>
            <p:cNvSpPr/>
            <p:nvPr/>
          </p:nvSpPr>
          <p:spPr>
            <a:xfrm rot="20799000">
              <a:off x="638640" y="4315320"/>
              <a:ext cx="489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6" name="Group 127"/>
          <p:cNvGrpSpPr/>
          <p:nvPr/>
        </p:nvGrpSpPr>
        <p:grpSpPr>
          <a:xfrm>
            <a:off x="590400" y="1615680"/>
            <a:ext cx="895320" cy="582840"/>
            <a:chOff x="590400" y="1615680"/>
            <a:chExt cx="895320" cy="582840"/>
          </a:xfrm>
        </p:grpSpPr>
        <p:sp>
          <p:nvSpPr>
            <p:cNvPr id="227" name="Rectangle 128"/>
            <p:cNvSpPr/>
            <p:nvPr/>
          </p:nvSpPr>
          <p:spPr>
            <a:xfrm rot="20799000">
              <a:off x="725400" y="1765080"/>
              <a:ext cx="68724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8" name="Rectangle 129"/>
            <p:cNvSpPr/>
            <p:nvPr/>
          </p:nvSpPr>
          <p:spPr>
            <a:xfrm rot="20799000">
              <a:off x="711360" y="1769400"/>
              <a:ext cx="68076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30" name="Group 131"/>
          <p:cNvGrpSpPr/>
          <p:nvPr/>
        </p:nvGrpSpPr>
        <p:grpSpPr>
          <a:xfrm>
            <a:off x="7910280" y="4176720"/>
            <a:ext cx="628560" cy="597600"/>
            <a:chOff x="7910280" y="4176720"/>
            <a:chExt cx="628560" cy="597600"/>
          </a:xfrm>
        </p:grpSpPr>
        <p:sp>
          <p:nvSpPr>
            <p:cNvPr id="231" name="Rectangle 132"/>
            <p:cNvSpPr/>
            <p:nvPr/>
          </p:nvSpPr>
          <p:spPr>
            <a:xfrm rot="20796600">
              <a:off x="8067240" y="4248000"/>
              <a:ext cx="420840" cy="48420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Rectangle 133"/>
            <p:cNvSpPr/>
            <p:nvPr/>
          </p:nvSpPr>
          <p:spPr>
            <a:xfrm rot="20796600">
              <a:off x="8042040" y="4268520"/>
              <a:ext cx="292320" cy="24912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3"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88920" y="276120"/>
          <a:ext cx="8934480" cy="6369120"/>
        </p:xfrm>
        <a:graphic>
          <a:graphicData uri="http://schemas.openxmlformats.org/drawingml/2006/table">
            <a:tbl>
              <a:tblPr/>
              <a:tblGrid>
                <a:gridCol w="1785960"/>
                <a:gridCol w="1787400"/>
                <a:gridCol w="1787760"/>
                <a:gridCol w="1565280"/>
                <a:gridCol w="2008080"/>
              </a:tblGrid>
              <a:tr h="6699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Phase of the PD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Opportunity for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Current Method for seeking input</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GAC Proposed Engagement (per Suzanne/US proposal, see Annex 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Question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1c55a7"/>
                    </a:solidFill>
                  </a:tcPr>
                </a:tc>
              </a:tr>
              <a:tr h="184464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Rejection of PDP requested by Advisory Committee</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If GNSO Council rejects initiation of a PDP requested by an AC, then option to meet with AC reps to discuss rationale followed by possible request for reconsidera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A</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barriers that could be removed?</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re there ways to improve the reconsideration process?</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Note – this process has never been used to date so it may be difficult to assess what can be improved without any actual experience with the existing process?]</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1e1"/>
                    </a:solidFill>
                  </a:tcPr>
                </a:tc>
              </a:tr>
              <a:tr h="3854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MS Mincho"/>
                        </a:rPr>
                        <a:t>Developing charter for the PDP Working Group</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Drafting team to develop charter for PDP WG open to anyone interested</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posted to GNSO web-site</a:t>
                      </a:r>
                      <a:endParaRPr b="0" lang="en-US" sz="1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Announcement sent to GAC Secretariat for distribution</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 </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c>
                  <a:txBody>
                    <a:bodyPr lIns="68760" rIns="68760" tIns="0" bIns="0" anchor="t">
                      <a:no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Mincho"/>
                        </a:rPr>
                        <a:t>Could this trigger participation by the GAC “</a:t>
                      </a:r>
                      <a:r>
                        <a:rPr b="0" lang="en-US" sz="1100" spc="-1" strike="noStrike">
                          <a:solidFill>
                            <a:srgbClr val="000000"/>
                          </a:solidFill>
                          <a:latin typeface="Calibri"/>
                        </a:rPr>
                        <a:t>comment drafting” sub-team in GNSO charter-drafting teams (especially with an eye to issues of law or public policy?)</a:t>
                      </a:r>
                      <a:endParaRPr b="0" lang="en-US" sz="11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se teams are another very-informal process where  participants from the GAC, either as individuals or as members an informal interest group, would be welcome.  Drafting-teams are usually short-duration (6-8 weeks).  They are without power or authority – they prepare a draft charter which then goes to the Council for amendment and approval.  An opportunity for early-stage issue-framing course corrections from the GAC?</a:t>
                      </a:r>
                      <a:endParaRPr b="0" lang="en-US" sz="11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9f1"/>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21T22:59:14Z</dcterms:modified>
  <cp:revision>361</cp:revision>
  <dc:subject/>
  <dc:title>PowerPoint Presentation</dc:title>
</cp:coreProperties>
</file>