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23C-6288-4912-AB31-DBEE0EC8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E1C-6853-49CD-B17B-552603B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442-8338-40AD-8A5D-3430A1A6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EF6-BD4C-486A-8462-DC23EA53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489-D786-418E-97DA-EEC31E5F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A89-27CB-4DF1-A988-692B61A9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C93-7F7D-414B-9B80-41B459C7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4CF-3BBF-4C33-AC0A-77960243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FCF-309A-4721-B01C-9CF4487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8A0-DE6E-4F63-89D0-430EFBCE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3DC-1151-4D71-8695-DEBCC5A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744-1AED-48DC-A916-A646B3F6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4E11D-BE9A-45D0-89B0-0E44DC575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3960" y="45252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41960" y="26222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6560"/>
            <a:ext cx="627840" cy="610200"/>
            <a:chOff x="5724000" y="6226560"/>
            <a:chExt cx="627840" cy="61020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5200" y="6301800"/>
              <a:ext cx="425520" cy="492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7760" y="6330600"/>
              <a:ext cx="2952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920"/>
              <a:ext cx="49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4800" y="56973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9320"/>
            <a:ext cx="629280" cy="610560"/>
            <a:chOff x="2057040" y="319320"/>
            <a:chExt cx="629280" cy="61056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8240" y="394920"/>
              <a:ext cx="426960" cy="492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6120" y="417240"/>
              <a:ext cx="2970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400"/>
            <a:ext cx="634680" cy="617400"/>
            <a:chOff x="609840" y="4262400"/>
            <a:chExt cx="634680" cy="61740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9680" y="4346280"/>
              <a:ext cx="423720" cy="4910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5840" y="4368600"/>
              <a:ext cx="2941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3960" y="45252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41960" y="26222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6560"/>
            <a:ext cx="627840" cy="610200"/>
            <a:chOff x="5724000" y="6226560"/>
            <a:chExt cx="627840" cy="61020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5200" y="6301800"/>
              <a:ext cx="425520" cy="492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7760" y="6330600"/>
              <a:ext cx="2952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920"/>
              <a:ext cx="49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4800" y="56973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9320"/>
            <a:ext cx="629280" cy="610560"/>
            <a:chOff x="2057040" y="319320"/>
            <a:chExt cx="629280" cy="61056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8240" y="394920"/>
              <a:ext cx="426960" cy="492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6120" y="417240"/>
              <a:ext cx="297000" cy="10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400"/>
            <a:ext cx="634680" cy="617400"/>
            <a:chOff x="609840" y="4262400"/>
            <a:chExt cx="634680" cy="61740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9680" y="4346280"/>
              <a:ext cx="423720" cy="491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5840" y="4368600"/>
              <a:ext cx="2941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options and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im for comments in the first two comment periods, rather than the l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“issue triggers” for staff and participants to watch for and take proactive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ore options for informal, issue-focused GAC (joint GAC/GNSO?) drafting teams to frame issues, draft comments and funnel the conversation between WGs, the GAC and the GNSO Council for analysis and appro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sufficient lead time (and align comment deadlines with GAC meeting schedule) to allow time for deliberation and approv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 coordination between GAC and GNSO secretari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 notification of pending issues and work deadlines, both direc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0T20:49:38Z</dcterms:modified>
  <cp:revision>451</cp:revision>
  <dc:subject/>
  <dc:title>PowerPoint Presentation</dc:title>
</cp:coreProperties>
</file>