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45F-B07F-4EA9-B76F-D22CAD52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6A9-F9EB-46B3-9A61-9E2995EE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39C-6157-418B-BF43-A9698A57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79BA-BBAE-4EDB-8430-997D84A2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C6CE-DD0B-4C02-85D7-BA5925FF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65B-5FF3-4835-9F69-03F53A9B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EF54-84FC-4145-AB8F-99BCA666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9D6-10D2-4F55-8CC2-20ED9D50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FAA-D4FE-4235-AA26-CFC59C21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B69-C56F-4B44-8A8F-4472B162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3F97-F7CC-4BC4-BC32-E1E1F144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023-5036-48DC-B5C3-5C068912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42733-3DE9-4E0B-A6EF-0BA316400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PDP Process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 – V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an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51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rot="20796600">
              <a:off x="6393960" y="45252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55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30"/>
            <p:cNvSpPr/>
            <p:nvPr/>
          </p:nvSpPr>
          <p:spPr>
            <a:xfrm rot="20796600">
              <a:off x="7941960" y="26222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32"/>
          <p:cNvGrpSpPr/>
          <p:nvPr/>
        </p:nvGrpSpPr>
        <p:grpSpPr>
          <a:xfrm>
            <a:off x="5724000" y="6226560"/>
            <a:ext cx="627840" cy="610200"/>
            <a:chOff x="5724000" y="6226560"/>
            <a:chExt cx="627840" cy="610200"/>
          </a:xfrm>
        </p:grpSpPr>
        <p:sp>
          <p:nvSpPr>
            <p:cNvPr id="59" name="Rectangle 33"/>
            <p:cNvSpPr/>
            <p:nvPr/>
          </p:nvSpPr>
          <p:spPr>
            <a:xfrm rot="20796600">
              <a:off x="5875200" y="6301800"/>
              <a:ext cx="425520" cy="4921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34"/>
            <p:cNvSpPr/>
            <p:nvPr/>
          </p:nvSpPr>
          <p:spPr>
            <a:xfrm rot="20796600">
              <a:off x="5837760" y="6330600"/>
              <a:ext cx="295200" cy="10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35"/>
            <p:cNvSpPr/>
            <p:nvPr/>
          </p:nvSpPr>
          <p:spPr>
            <a:xfrm rot="20796600">
              <a:off x="5740200" y="6280920"/>
              <a:ext cx="49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63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38"/>
            <p:cNvSpPr/>
            <p:nvPr/>
          </p:nvSpPr>
          <p:spPr>
            <a:xfrm rot="20796600">
              <a:off x="1594800" y="56973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2057040" y="319320"/>
            <a:ext cx="629280" cy="610560"/>
            <a:chOff x="2057040" y="319320"/>
            <a:chExt cx="629280" cy="610560"/>
          </a:xfrm>
        </p:grpSpPr>
        <p:sp>
          <p:nvSpPr>
            <p:cNvPr id="67" name="Rectangle 41"/>
            <p:cNvSpPr/>
            <p:nvPr/>
          </p:nvSpPr>
          <p:spPr>
            <a:xfrm rot="20796600">
              <a:off x="2208240" y="394920"/>
              <a:ext cx="426960" cy="4921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 rot="20796600">
              <a:off x="2166120" y="417240"/>
              <a:ext cx="297000" cy="10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43"/>
            <p:cNvSpPr/>
            <p:nvPr/>
          </p:nvSpPr>
          <p:spPr>
            <a:xfrm rot="20796600">
              <a:off x="2073240" y="373680"/>
              <a:ext cx="49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4"/>
          <p:cNvGrpSpPr/>
          <p:nvPr/>
        </p:nvGrpSpPr>
        <p:grpSpPr>
          <a:xfrm>
            <a:off x="609840" y="4262400"/>
            <a:ext cx="634680" cy="617400"/>
            <a:chOff x="609840" y="4262400"/>
            <a:chExt cx="634680" cy="617400"/>
          </a:xfrm>
        </p:grpSpPr>
        <p:sp>
          <p:nvSpPr>
            <p:cNvPr id="71" name="Rectangle 45"/>
            <p:cNvSpPr/>
            <p:nvPr/>
          </p:nvSpPr>
          <p:spPr>
            <a:xfrm rot="20799000">
              <a:off x="769680" y="4346280"/>
              <a:ext cx="423720" cy="4910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 rot="20799000">
              <a:off x="735840" y="4368600"/>
              <a:ext cx="2941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47"/>
            <p:cNvSpPr/>
            <p:nvPr/>
          </p:nvSpPr>
          <p:spPr>
            <a:xfrm rot="20799000">
              <a:off x="638280" y="4314960"/>
              <a:ext cx="49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75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79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86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 rot="20796600">
              <a:off x="6393960" y="45252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90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 rot="20796600">
              <a:off x="7941960" y="26222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5724000" y="6226560"/>
            <a:ext cx="627840" cy="610200"/>
            <a:chOff x="5724000" y="6226560"/>
            <a:chExt cx="627840" cy="610200"/>
          </a:xfrm>
        </p:grpSpPr>
        <p:sp>
          <p:nvSpPr>
            <p:cNvPr id="94" name="Rectangle 33"/>
            <p:cNvSpPr/>
            <p:nvPr/>
          </p:nvSpPr>
          <p:spPr>
            <a:xfrm rot="20796600">
              <a:off x="5875200" y="6301800"/>
              <a:ext cx="425520" cy="492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 rot="20796600">
              <a:off x="5837760" y="6330600"/>
              <a:ext cx="295200" cy="10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 rot="20796600">
              <a:off x="5740200" y="6280920"/>
              <a:ext cx="49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98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 rot="20796600">
              <a:off x="1594800" y="56973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2057040" y="319320"/>
            <a:ext cx="629280" cy="610560"/>
            <a:chOff x="2057040" y="319320"/>
            <a:chExt cx="629280" cy="610560"/>
          </a:xfrm>
        </p:grpSpPr>
        <p:sp>
          <p:nvSpPr>
            <p:cNvPr id="102" name="Rectangle 41"/>
            <p:cNvSpPr/>
            <p:nvPr/>
          </p:nvSpPr>
          <p:spPr>
            <a:xfrm rot="20796600">
              <a:off x="2208240" y="394920"/>
              <a:ext cx="426960" cy="4921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 rot="20796600">
              <a:off x="2166120" y="417240"/>
              <a:ext cx="297000" cy="10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3"/>
            <p:cNvSpPr/>
            <p:nvPr/>
          </p:nvSpPr>
          <p:spPr>
            <a:xfrm rot="20796600">
              <a:off x="2073240" y="373680"/>
              <a:ext cx="49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609840" y="4262400"/>
            <a:ext cx="634680" cy="617400"/>
            <a:chOff x="609840" y="4262400"/>
            <a:chExt cx="634680" cy="617400"/>
          </a:xfrm>
        </p:grpSpPr>
        <p:sp>
          <p:nvSpPr>
            <p:cNvPr id="106" name="Rectangle 45"/>
            <p:cNvSpPr/>
            <p:nvPr/>
          </p:nvSpPr>
          <p:spPr>
            <a:xfrm rot="20799000">
              <a:off x="769680" y="4346280"/>
              <a:ext cx="423720" cy="4910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 rot="20799000">
              <a:off x="735840" y="4368600"/>
              <a:ext cx="2941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47"/>
            <p:cNvSpPr/>
            <p:nvPr/>
          </p:nvSpPr>
          <p:spPr>
            <a:xfrm rot="20799000">
              <a:off x="638280" y="4314960"/>
              <a:ext cx="49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10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14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9360">
            <a:solidFill>
              <a:srgbClr val="1852a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00" y="258480"/>
            <a:ext cx="185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o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all options and opport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im for comments in the first two comment periods, rather than the la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“issue triggers” for staff and participants to watch for and take proactive 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lore options for informal, issue-focused GAC (joint GAC/GNSO?) drafting teams to frame issues, draft comments and funnel the conversation between WGs, the GAC and the GNSO Council for analysis and approv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sufficient lead time (and align comment deadlines with GAC meeting schedule) to allow time for deliberation and approv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 coordination between GAC and GNSO secretari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 notification of pending issues and work deadlines, both dire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2-10T20:49:38Z</dcterms:modified>
  <cp:revision>451</cp:revision>
  <dc:subject/>
  <dc:title>PowerPoint Presentation</dc:title>
</cp:coreProperties>
</file>