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43462-2E65-4C0D-AC4C-70BBF7C94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0C840-79CF-4832-92E7-2404B6931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5701F-7602-42FA-8AFD-E67A0D871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A00C3-024C-4881-A0AD-EC2B22CA1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D4A92-AD71-43F2-8F74-0D4FF0B0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D5AA0-37AC-44FC-B7C3-261BC3479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BEC91-2D05-42D6-9012-1A024F9D0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462B4-CDA9-4457-A303-197B5D528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D51AB-9DAD-4DA3-8A5D-B950B80D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4F18E-89C0-4F68-AA15-C4339950A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5E5FB-6184-4B1F-A601-D7B7B066F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6F9B6-42FD-4DD7-A413-BA8052060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81016-5C53-4B5A-AA51-2089FA7DE6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3" descr=""/>
          <p:cNvPicPr/>
          <p:nvPr/>
        </p:nvPicPr>
        <p:blipFill>
          <a:blip r:embed="rId1"/>
          <a:stretch/>
        </p:blipFill>
        <p:spPr>
          <a:xfrm>
            <a:off x="133200" y="219240"/>
            <a:ext cx="8852040" cy="6626160"/>
          </a:xfrm>
          <a:prstGeom prst="rect">
            <a:avLst/>
          </a:prstGeom>
          <a:ln w="0">
            <a:noFill/>
          </a:ln>
        </p:spPr>
      </p:pic>
      <p:sp>
        <p:nvSpPr>
          <p:cNvPr id="236"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680"/>
            <a:ext cx="629280" cy="606600"/>
            <a:chOff x="6284520" y="355680"/>
            <a:chExt cx="629280" cy="606600"/>
          </a:xfrm>
        </p:grpSpPr>
        <p:sp>
          <p:nvSpPr>
            <p:cNvPr id="244" name="Rectangle 47"/>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5880"/>
            <a:chOff x="7832520" y="2524320"/>
            <a:chExt cx="627480" cy="605880"/>
          </a:xfrm>
        </p:grpSpPr>
        <p:sp>
          <p:nvSpPr>
            <p:cNvPr id="248" name="Rectangle 51"/>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8000"/>
            <a:ext cx="627840" cy="607680"/>
            <a:chOff x="5724000" y="6228000"/>
            <a:chExt cx="627840" cy="607680"/>
          </a:xfrm>
        </p:grpSpPr>
        <p:sp>
          <p:nvSpPr>
            <p:cNvPr id="252" name="Rectangle 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440"/>
            <a:ext cx="627840" cy="606240"/>
            <a:chOff x="1485360" y="5599440"/>
            <a:chExt cx="627840" cy="606240"/>
          </a:xfrm>
        </p:grpSpPr>
        <p:sp>
          <p:nvSpPr>
            <p:cNvPr id="256" name="Rectangle 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760"/>
            <a:ext cx="629280" cy="608040"/>
            <a:chOff x="2057040" y="320760"/>
            <a:chExt cx="629280" cy="608040"/>
          </a:xfrm>
        </p:grpSpPr>
        <p:sp>
          <p:nvSpPr>
            <p:cNvPr id="260"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5960"/>
            <a:chOff x="609840" y="4263120"/>
            <a:chExt cx="634680" cy="615960"/>
          </a:xfrm>
        </p:grpSpPr>
        <p:sp>
          <p:nvSpPr>
            <p:cNvPr id="264" name="Rectangle 7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6680" y="1600200"/>
          <a:ext cx="8950320" cy="5197320"/>
        </p:xfrm>
        <a:graphic>
          <a:graphicData uri="http://schemas.openxmlformats.org/drawingml/2006/table">
            <a:tbl>
              <a:tblPr/>
              <a:tblGrid>
                <a:gridCol w="1790640"/>
                <a:gridCol w="1790640"/>
                <a:gridCol w="1789200"/>
                <a:gridCol w="1600200"/>
                <a:gridCol w="197964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527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orking Group is open to anyone interested to participate, either as an individual or as a representative of group / organiz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the GNSO web-site and, if timely, included in Monthly Policy Upda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be a trigger for assigning an unofficial liaison to the PDP Working Group, which would allow the early sharing of information and (informal) feedback?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ch a liaison could be in the form of an observer who is subscribed to the mailing list (not requiring active participation / attendanc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observer” or “liaison” options that could be considered?  Is there even the possibility that GAC members could participate as individuals? [Note – some GAC members are already participating as individuals in PDP WGs]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 current mechanism for reaching out to the GAC to encourage participation sufficient (e.g. circulate call for volunteers)?</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9"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0"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1"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2"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3"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4" name="Group 31"/>
          <p:cNvGrpSpPr/>
          <p:nvPr/>
        </p:nvGrpSpPr>
        <p:grpSpPr>
          <a:xfrm>
            <a:off x="6284520" y="355680"/>
            <a:ext cx="629280" cy="606600"/>
            <a:chOff x="6284520" y="355680"/>
            <a:chExt cx="629280" cy="606600"/>
          </a:xfrm>
        </p:grpSpPr>
        <p:sp>
          <p:nvSpPr>
            <p:cNvPr id="285" name="Rectangle 3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6" name="Rectangle 3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TextBox 3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8" name="Group 35"/>
          <p:cNvGrpSpPr/>
          <p:nvPr/>
        </p:nvGrpSpPr>
        <p:grpSpPr>
          <a:xfrm>
            <a:off x="7832520" y="2524320"/>
            <a:ext cx="627480" cy="605880"/>
            <a:chOff x="7832520" y="2524320"/>
            <a:chExt cx="627480" cy="605880"/>
          </a:xfrm>
        </p:grpSpPr>
        <p:sp>
          <p:nvSpPr>
            <p:cNvPr id="289" name="Rectangle 3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0" name="Rectangle 4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2" name="Group 43"/>
          <p:cNvGrpSpPr/>
          <p:nvPr/>
        </p:nvGrpSpPr>
        <p:grpSpPr>
          <a:xfrm>
            <a:off x="5724000" y="6228000"/>
            <a:ext cx="627840" cy="607680"/>
            <a:chOff x="5724000" y="6228000"/>
            <a:chExt cx="627840" cy="607680"/>
          </a:xfrm>
        </p:grpSpPr>
        <p:sp>
          <p:nvSpPr>
            <p:cNvPr id="29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6" name="Group 47"/>
          <p:cNvGrpSpPr/>
          <p:nvPr/>
        </p:nvGrpSpPr>
        <p:grpSpPr>
          <a:xfrm>
            <a:off x="1485360" y="5599440"/>
            <a:ext cx="627840" cy="606240"/>
            <a:chOff x="1485360" y="5599440"/>
            <a:chExt cx="627840" cy="606240"/>
          </a:xfrm>
        </p:grpSpPr>
        <p:sp>
          <p:nvSpPr>
            <p:cNvPr id="29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0" name="Group 51"/>
          <p:cNvGrpSpPr/>
          <p:nvPr/>
        </p:nvGrpSpPr>
        <p:grpSpPr>
          <a:xfrm>
            <a:off x="2057040" y="320760"/>
            <a:ext cx="629280" cy="608040"/>
            <a:chOff x="2057040" y="320760"/>
            <a:chExt cx="629280" cy="608040"/>
          </a:xfrm>
        </p:grpSpPr>
        <p:sp>
          <p:nvSpPr>
            <p:cNvPr id="30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4" name="Group 55"/>
          <p:cNvGrpSpPr/>
          <p:nvPr/>
        </p:nvGrpSpPr>
        <p:grpSpPr>
          <a:xfrm>
            <a:off x="609840" y="4263120"/>
            <a:ext cx="634680" cy="615960"/>
            <a:chOff x="609840" y="4263120"/>
            <a:chExt cx="634680" cy="615960"/>
          </a:xfrm>
        </p:grpSpPr>
        <p:sp>
          <p:nvSpPr>
            <p:cNvPr id="30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8" name="Group 59"/>
          <p:cNvGrpSpPr/>
          <p:nvPr/>
        </p:nvGrpSpPr>
        <p:grpSpPr>
          <a:xfrm>
            <a:off x="590400" y="1615680"/>
            <a:ext cx="895320" cy="582840"/>
            <a:chOff x="590400" y="1615680"/>
            <a:chExt cx="895320" cy="582840"/>
          </a:xfrm>
        </p:grpSpPr>
        <p:sp>
          <p:nvSpPr>
            <p:cNvPr id="30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2" name="Group 63"/>
          <p:cNvGrpSpPr/>
          <p:nvPr/>
        </p:nvGrpSpPr>
        <p:grpSpPr>
          <a:xfrm>
            <a:off x="7910280" y="4176720"/>
            <a:ext cx="628560" cy="597600"/>
            <a:chOff x="7910280" y="4176720"/>
            <a:chExt cx="628560" cy="597600"/>
          </a:xfrm>
        </p:grpSpPr>
        <p:sp>
          <p:nvSpPr>
            <p:cNvPr id="31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7" name=""/>
          <p:cNvGraphicFramePr/>
          <p:nvPr/>
        </p:nvGraphicFramePr>
        <p:xfrm>
          <a:off x="457200" y="1600200"/>
          <a:ext cx="8229600" cy="26827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0127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is required to reach out at an early stage to obtain input from other SO / 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will send email request for input to SO/AC Chair and secretaria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est will typically include questions / input that input is sought on as well as a deadline for input (noting that additional time may be requested if need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bmit Premise of the PDP to the GAC for Review and Comment</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Engage in Consultations with the GAC as Necessary and Appropriate</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orking Group Incorporates Input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9" name=""/>
          <p:cNvGraphicFramePr/>
          <p:nvPr/>
        </p:nvGraphicFramePr>
        <p:xfrm>
          <a:off x="457200" y="507960"/>
          <a:ext cx="8229600" cy="4373640"/>
        </p:xfrm>
        <a:graphic>
          <a:graphicData uri="http://schemas.openxmlformats.org/drawingml/2006/table">
            <a:tbl>
              <a:tblPr/>
              <a:tblGrid>
                <a:gridCol w="8229600"/>
              </a:tblGrid>
              <a:tr h="4413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932280">
                <a:tc>
                  <a:txBody>
                    <a:bodyPr lIns="90000" rIns="90000" tIns="46800" bIns="46800" anchor="t">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ant with ‘premise’? At this stage the WG normally puts forward the charter questions and/or any other issues related to the PDP for input to all SO/ACs.</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ould be the timeframe required for the GAC to be able to review and commen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GAC indicate upfront whether it intends to comment or not, or is the WG expected to wait until a GAC response is receiv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ubstantial time is needed to develop a GAC response, would it be acceptable if the WG would continue with its deliberations, noting that GAC input is forthcoming?</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 determines whether consultations are needed and how/when are these conduct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WG is required to acknowledge input received from other SO/ACs but may or may not agree with the input. If it does not agree, it will outline the rationale for its disagreement in its report. Is that in line with ‘incorporates GAC inpu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se’ or are the current Bylaws an impediment for the GAC to provide ‘Advice’ to GNSO Working Groups on public policy issues? (Note, from the GNSO’s perspective GAC input in the earlier stages of a WG does not have to be formal advice, but it would be helpful to get some informal information like what issues the GAC thinks may have public policy implications as well as any other input the GAC may have during the PDP so that the WG could discuss i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lead time is too short for full GAC consensus, would it be possible to establish an ongoing sub-group of the GAC that could provide broadly-representative, but informal, comments to WGs at this stage of the process?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 current mechanism for reaching out to obtain input sufficient?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barriers to the current option of the GAC providing input to the WG at an early stage?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ent:  From the standpoint of a WG chair, THIS comment period is by far the most helpful and influential.  Many times the ideas expressed in this round shape the Final Report.  If the GAC were to choose only one, this would be the bes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
          <p:cNvPicPr/>
          <p:nvPr/>
        </p:nvPicPr>
        <p:blipFill>
          <a:blip r:embed="rId1"/>
          <a:stretch/>
        </p:blipFill>
        <p:spPr>
          <a:xfrm>
            <a:off x="133200" y="219240"/>
            <a:ext cx="8852040" cy="6626160"/>
          </a:xfrm>
          <a:prstGeom prst="rect">
            <a:avLst/>
          </a:prstGeom>
          <a:ln w="0">
            <a:noFill/>
          </a:ln>
        </p:spPr>
      </p:pic>
      <p:sp>
        <p:nvSpPr>
          <p:cNvPr id="321"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24"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5"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6"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7"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8" name="Group 50"/>
          <p:cNvGrpSpPr/>
          <p:nvPr/>
        </p:nvGrpSpPr>
        <p:grpSpPr>
          <a:xfrm>
            <a:off x="6284520" y="355680"/>
            <a:ext cx="629280" cy="606600"/>
            <a:chOff x="6284520" y="355680"/>
            <a:chExt cx="629280" cy="606600"/>
          </a:xfrm>
        </p:grpSpPr>
        <p:sp>
          <p:nvSpPr>
            <p:cNvPr id="329" name="Rectangle 5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0" name="Rectangle 52"/>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TextBox 53"/>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2" name="Group 54"/>
          <p:cNvGrpSpPr/>
          <p:nvPr/>
        </p:nvGrpSpPr>
        <p:grpSpPr>
          <a:xfrm>
            <a:off x="7832520" y="2524320"/>
            <a:ext cx="627480" cy="605880"/>
            <a:chOff x="7832520" y="2524320"/>
            <a:chExt cx="627480" cy="605880"/>
          </a:xfrm>
        </p:grpSpPr>
        <p:sp>
          <p:nvSpPr>
            <p:cNvPr id="333" name="Rectangle 55"/>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4" name="Rectangle 56"/>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6" name="Group 58"/>
          <p:cNvGrpSpPr/>
          <p:nvPr/>
        </p:nvGrpSpPr>
        <p:grpSpPr>
          <a:xfrm>
            <a:off x="5724000" y="6228000"/>
            <a:ext cx="627840" cy="607680"/>
            <a:chOff x="5724000" y="6228000"/>
            <a:chExt cx="627840" cy="607680"/>
          </a:xfrm>
        </p:grpSpPr>
        <p:sp>
          <p:nvSpPr>
            <p:cNvPr id="337" name="Rectangle 59"/>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8" name="Rectangle 60"/>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0" name="Group 62"/>
          <p:cNvGrpSpPr/>
          <p:nvPr/>
        </p:nvGrpSpPr>
        <p:grpSpPr>
          <a:xfrm>
            <a:off x="1485360" y="5599440"/>
            <a:ext cx="627840" cy="606240"/>
            <a:chOff x="1485360" y="5599440"/>
            <a:chExt cx="627840" cy="606240"/>
          </a:xfrm>
        </p:grpSpPr>
        <p:sp>
          <p:nvSpPr>
            <p:cNvPr id="341" name="Rectangle 63"/>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Rectangle 64"/>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4" name="Group 66"/>
          <p:cNvGrpSpPr/>
          <p:nvPr/>
        </p:nvGrpSpPr>
        <p:grpSpPr>
          <a:xfrm>
            <a:off x="2057040" y="320760"/>
            <a:ext cx="629280" cy="608040"/>
            <a:chOff x="2057040" y="320760"/>
            <a:chExt cx="629280" cy="608040"/>
          </a:xfrm>
        </p:grpSpPr>
        <p:sp>
          <p:nvSpPr>
            <p:cNvPr id="345"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6" name="Rectangle 68"/>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TextBox 69"/>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8" name="Group 70"/>
          <p:cNvGrpSpPr/>
          <p:nvPr/>
        </p:nvGrpSpPr>
        <p:grpSpPr>
          <a:xfrm>
            <a:off x="609840" y="4263120"/>
            <a:ext cx="634680" cy="615960"/>
            <a:chOff x="609840" y="4263120"/>
            <a:chExt cx="634680" cy="615960"/>
          </a:xfrm>
        </p:grpSpPr>
        <p:sp>
          <p:nvSpPr>
            <p:cNvPr id="349" name="Rectangle 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Rectangle 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TextBox 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2" name="Group 74"/>
          <p:cNvGrpSpPr/>
          <p:nvPr/>
        </p:nvGrpSpPr>
        <p:grpSpPr>
          <a:xfrm>
            <a:off x="590400" y="1615680"/>
            <a:ext cx="895320" cy="582840"/>
            <a:chOff x="590400" y="1615680"/>
            <a:chExt cx="895320" cy="582840"/>
          </a:xfrm>
        </p:grpSpPr>
        <p:sp>
          <p:nvSpPr>
            <p:cNvPr id="353"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4"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6" name="Group 78"/>
          <p:cNvGrpSpPr/>
          <p:nvPr/>
        </p:nvGrpSpPr>
        <p:grpSpPr>
          <a:xfrm>
            <a:off x="7910280" y="4176720"/>
            <a:ext cx="628560" cy="597600"/>
            <a:chOff x="7910280" y="4176720"/>
            <a:chExt cx="628560" cy="597600"/>
          </a:xfrm>
        </p:grpSpPr>
        <p:sp>
          <p:nvSpPr>
            <p:cNvPr id="357"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8"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1" name=""/>
          <p:cNvGraphicFramePr/>
          <p:nvPr/>
        </p:nvGraphicFramePr>
        <p:xfrm>
          <a:off x="457200" y="1600200"/>
          <a:ext cx="8229600" cy="1844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17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itial Report published for public commen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end to the GAC for Review</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ee next pag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3" name=""/>
          <p:cNvGraphicFramePr/>
          <p:nvPr/>
        </p:nvGraphicFramePr>
        <p:xfrm>
          <a:off x="457200" y="507960"/>
          <a:ext cx="8229600" cy="2165400"/>
        </p:xfrm>
        <a:graphic>
          <a:graphicData uri="http://schemas.openxmlformats.org/drawingml/2006/table">
            <a:tbl>
              <a:tblPr/>
              <a:tblGrid>
                <a:gridCol w="8229600"/>
              </a:tblGrid>
              <a:tr h="4287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736640">
                <a:tc>
                  <a:txBody>
                    <a:bodyPr lIns="90000" rIns="90000" tIns="46800" bIns="4680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Does the communication on the opening of the public comment forum meet the request to ‘send to the GAC for review’? If not, what is intended / expected?</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ould it be useful to expand this process to transmit Initial Reports to ALL AC/SOs for review, if they so choose?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observer” or “liaison” options that could be considered?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the possibility that GAC members could participate as individuals? ? [Note – some GAC members are already participating as individuals in PDP WGs]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Can we do a better job of incenting participation from GAC?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How can we highlight the appeal process when a WG is ignoring the contribution of GAC person?</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3" descr=""/>
          <p:cNvPicPr/>
          <p:nvPr/>
        </p:nvPicPr>
        <p:blipFill>
          <a:blip r:embed="rId1"/>
          <a:stretch/>
        </p:blipFill>
        <p:spPr>
          <a:xfrm>
            <a:off x="133200" y="219240"/>
            <a:ext cx="8852040" cy="6626160"/>
          </a:xfrm>
          <a:prstGeom prst="rect">
            <a:avLst/>
          </a:prstGeom>
          <a:ln w="0">
            <a:noFill/>
          </a:ln>
        </p:spPr>
      </p:pic>
      <p:sp>
        <p:nvSpPr>
          <p:cNvPr id="365"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6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7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71" name="Group 14"/>
          <p:cNvGrpSpPr/>
          <p:nvPr/>
        </p:nvGrpSpPr>
        <p:grpSpPr>
          <a:xfrm>
            <a:off x="6284520" y="355680"/>
            <a:ext cx="629280" cy="606600"/>
            <a:chOff x="6284520" y="355680"/>
            <a:chExt cx="629280" cy="606600"/>
          </a:xfrm>
        </p:grpSpPr>
        <p:sp>
          <p:nvSpPr>
            <p:cNvPr id="372"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3"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4"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5" name="Group 18"/>
          <p:cNvGrpSpPr/>
          <p:nvPr/>
        </p:nvGrpSpPr>
        <p:grpSpPr>
          <a:xfrm>
            <a:off x="7832520" y="2524320"/>
            <a:ext cx="627480" cy="605880"/>
            <a:chOff x="7832520" y="2524320"/>
            <a:chExt cx="627480" cy="605880"/>
          </a:xfrm>
        </p:grpSpPr>
        <p:sp>
          <p:nvSpPr>
            <p:cNvPr id="376"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8"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9" name="Group 24"/>
          <p:cNvGrpSpPr/>
          <p:nvPr/>
        </p:nvGrpSpPr>
        <p:grpSpPr>
          <a:xfrm>
            <a:off x="5724000" y="6228000"/>
            <a:ext cx="627840" cy="607680"/>
            <a:chOff x="5724000" y="6228000"/>
            <a:chExt cx="627840" cy="607680"/>
          </a:xfrm>
        </p:grpSpPr>
        <p:sp>
          <p:nvSpPr>
            <p:cNvPr id="380"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1"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2"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3" name="Group 28"/>
          <p:cNvGrpSpPr/>
          <p:nvPr/>
        </p:nvGrpSpPr>
        <p:grpSpPr>
          <a:xfrm>
            <a:off x="1485360" y="5599440"/>
            <a:ext cx="627840" cy="606240"/>
            <a:chOff x="1485360" y="5599440"/>
            <a:chExt cx="627840" cy="606240"/>
          </a:xfrm>
        </p:grpSpPr>
        <p:sp>
          <p:nvSpPr>
            <p:cNvPr id="384"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5"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7" name="Group 32"/>
          <p:cNvGrpSpPr/>
          <p:nvPr/>
        </p:nvGrpSpPr>
        <p:grpSpPr>
          <a:xfrm>
            <a:off x="2057040" y="320760"/>
            <a:ext cx="629280" cy="608040"/>
            <a:chOff x="2057040" y="320760"/>
            <a:chExt cx="629280" cy="608040"/>
          </a:xfrm>
        </p:grpSpPr>
        <p:sp>
          <p:nvSpPr>
            <p:cNvPr id="388"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9"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91"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2" name="Group 37"/>
          <p:cNvGrpSpPr/>
          <p:nvPr/>
        </p:nvGrpSpPr>
        <p:grpSpPr>
          <a:xfrm>
            <a:off x="609840" y="4263120"/>
            <a:ext cx="634680" cy="615960"/>
            <a:chOff x="609840" y="4263120"/>
            <a:chExt cx="634680" cy="615960"/>
          </a:xfrm>
        </p:grpSpPr>
        <p:sp>
          <p:nvSpPr>
            <p:cNvPr id="393" name="Rectangle 38"/>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4" name="Rectangle 39"/>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TextBox 40"/>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6" name="Group 42"/>
          <p:cNvGrpSpPr/>
          <p:nvPr/>
        </p:nvGrpSpPr>
        <p:grpSpPr>
          <a:xfrm>
            <a:off x="590400" y="1615680"/>
            <a:ext cx="895320" cy="582840"/>
            <a:chOff x="590400" y="1615680"/>
            <a:chExt cx="895320" cy="582840"/>
          </a:xfrm>
        </p:grpSpPr>
        <p:sp>
          <p:nvSpPr>
            <p:cNvPr id="397"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00" name="Group 47"/>
          <p:cNvGrpSpPr/>
          <p:nvPr/>
        </p:nvGrpSpPr>
        <p:grpSpPr>
          <a:xfrm>
            <a:off x="7910280" y="4176720"/>
            <a:ext cx="628560" cy="597600"/>
            <a:chOff x="7910280" y="4176720"/>
            <a:chExt cx="628560" cy="597600"/>
          </a:xfrm>
        </p:grpSpPr>
        <p:sp>
          <p:nvSpPr>
            <p:cNvPr id="401"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2"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3"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05" name=""/>
          <p:cNvGraphicFramePr/>
          <p:nvPr/>
        </p:nvGraphicFramePr>
        <p:xfrm>
          <a:off x="318960" y="274680"/>
          <a:ext cx="8521920" cy="586728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19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Initial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tended to encourage broad reaction from the community with respect to the preliminary findings of the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Final Report?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From the standpoint of a WG chair, receiving comments in this comment period is fine, but really large changes are more difficult to incorporate into the recommendations that comments received earlier</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pic>
        <p:nvPicPr>
          <p:cNvPr id="50"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1"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 name="Group 38"/>
          <p:cNvGrpSpPr/>
          <p:nvPr/>
        </p:nvGrpSpPr>
        <p:grpSpPr>
          <a:xfrm>
            <a:off x="6284520" y="355680"/>
            <a:ext cx="629280" cy="606600"/>
            <a:chOff x="6284520" y="355680"/>
            <a:chExt cx="629280" cy="606600"/>
          </a:xfrm>
        </p:grpSpPr>
        <p:sp>
          <p:nvSpPr>
            <p:cNvPr id="55"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 name="Group 39"/>
          <p:cNvGrpSpPr/>
          <p:nvPr/>
        </p:nvGrpSpPr>
        <p:grpSpPr>
          <a:xfrm>
            <a:off x="7832520" y="2524320"/>
            <a:ext cx="627480" cy="605880"/>
            <a:chOff x="7832520" y="2524320"/>
            <a:chExt cx="627480" cy="605880"/>
          </a:xfrm>
        </p:grpSpPr>
        <p:sp>
          <p:nvSpPr>
            <p:cNvPr id="59"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2" name="Group 43"/>
          <p:cNvGrpSpPr/>
          <p:nvPr/>
        </p:nvGrpSpPr>
        <p:grpSpPr>
          <a:xfrm>
            <a:off x="5724000" y="6228000"/>
            <a:ext cx="627840" cy="607680"/>
            <a:chOff x="5724000" y="6228000"/>
            <a:chExt cx="627840" cy="607680"/>
          </a:xfrm>
        </p:grpSpPr>
        <p:sp>
          <p:nvSpPr>
            <p:cNvPr id="6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6" name="Group 47"/>
          <p:cNvGrpSpPr/>
          <p:nvPr/>
        </p:nvGrpSpPr>
        <p:grpSpPr>
          <a:xfrm>
            <a:off x="1485360" y="5599440"/>
            <a:ext cx="627840" cy="606240"/>
            <a:chOff x="1485360" y="5599440"/>
            <a:chExt cx="627840" cy="606240"/>
          </a:xfrm>
        </p:grpSpPr>
        <p:sp>
          <p:nvSpPr>
            <p:cNvPr id="6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0" name="Group 51"/>
          <p:cNvGrpSpPr/>
          <p:nvPr/>
        </p:nvGrpSpPr>
        <p:grpSpPr>
          <a:xfrm>
            <a:off x="2057040" y="320760"/>
            <a:ext cx="629280" cy="608040"/>
            <a:chOff x="2057040" y="320760"/>
            <a:chExt cx="629280" cy="608040"/>
          </a:xfrm>
        </p:grpSpPr>
        <p:sp>
          <p:nvSpPr>
            <p:cNvPr id="7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4" name="Group 55"/>
          <p:cNvGrpSpPr/>
          <p:nvPr/>
        </p:nvGrpSpPr>
        <p:grpSpPr>
          <a:xfrm>
            <a:off x="609840" y="4263120"/>
            <a:ext cx="634680" cy="615960"/>
            <a:chOff x="609840" y="4263120"/>
            <a:chExt cx="634680" cy="615960"/>
          </a:xfrm>
        </p:grpSpPr>
        <p:sp>
          <p:nvSpPr>
            <p:cNvPr id="7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78" name="Group 59"/>
          <p:cNvGrpSpPr/>
          <p:nvPr/>
        </p:nvGrpSpPr>
        <p:grpSpPr>
          <a:xfrm>
            <a:off x="590400" y="1615680"/>
            <a:ext cx="895320" cy="582840"/>
            <a:chOff x="590400" y="1615680"/>
            <a:chExt cx="895320" cy="582840"/>
          </a:xfrm>
        </p:grpSpPr>
        <p:sp>
          <p:nvSpPr>
            <p:cNvPr id="7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2" name="Group 63"/>
          <p:cNvGrpSpPr/>
          <p:nvPr/>
        </p:nvGrpSpPr>
        <p:grpSpPr>
          <a:xfrm>
            <a:off x="7910280" y="4176720"/>
            <a:ext cx="628560" cy="597600"/>
            <a:chOff x="7910280" y="4176720"/>
            <a:chExt cx="628560" cy="597600"/>
          </a:xfrm>
        </p:grpSpPr>
        <p:sp>
          <p:nvSpPr>
            <p:cNvPr id="8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133200" y="219240"/>
            <a:ext cx="8852040" cy="6626160"/>
          </a:xfrm>
          <a:prstGeom prst="rect">
            <a:avLst/>
          </a:prstGeom>
          <a:ln w="0">
            <a:noFill/>
          </a:ln>
        </p:spPr>
      </p:pic>
      <p:sp>
        <p:nvSpPr>
          <p:cNvPr id="407"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8"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10"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11"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12"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3"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4" name="Group 12"/>
          <p:cNvGrpSpPr/>
          <p:nvPr/>
        </p:nvGrpSpPr>
        <p:grpSpPr>
          <a:xfrm>
            <a:off x="6284520" y="355680"/>
            <a:ext cx="629280" cy="606600"/>
            <a:chOff x="6284520" y="355680"/>
            <a:chExt cx="629280" cy="606600"/>
          </a:xfrm>
        </p:grpSpPr>
        <p:sp>
          <p:nvSpPr>
            <p:cNvPr id="415" name="Rectangle 13"/>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6" name="Rectangle 1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TextBox 1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16"/>
          <p:cNvGrpSpPr/>
          <p:nvPr/>
        </p:nvGrpSpPr>
        <p:grpSpPr>
          <a:xfrm>
            <a:off x="7832520" y="2524320"/>
            <a:ext cx="627480" cy="605880"/>
            <a:chOff x="7832520" y="2524320"/>
            <a:chExt cx="627480" cy="605880"/>
          </a:xfrm>
        </p:grpSpPr>
        <p:sp>
          <p:nvSpPr>
            <p:cNvPr id="419" name="Rectangle 17"/>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0" name="Rectangle 1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22" name="Group 22"/>
          <p:cNvGrpSpPr/>
          <p:nvPr/>
        </p:nvGrpSpPr>
        <p:grpSpPr>
          <a:xfrm>
            <a:off x="5724000" y="6228000"/>
            <a:ext cx="627840" cy="607680"/>
            <a:chOff x="5724000" y="6228000"/>
            <a:chExt cx="627840" cy="607680"/>
          </a:xfrm>
        </p:grpSpPr>
        <p:sp>
          <p:nvSpPr>
            <p:cNvPr id="423" name="Rectangle 2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Rectangle 2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6" name="Group 26"/>
          <p:cNvGrpSpPr/>
          <p:nvPr/>
        </p:nvGrpSpPr>
        <p:grpSpPr>
          <a:xfrm>
            <a:off x="1485360" y="5599440"/>
            <a:ext cx="627840" cy="606240"/>
            <a:chOff x="1485360" y="5599440"/>
            <a:chExt cx="627840" cy="606240"/>
          </a:xfrm>
        </p:grpSpPr>
        <p:sp>
          <p:nvSpPr>
            <p:cNvPr id="427" name="Rectangle 2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8" name="Rectangle 2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30" name="Group 30"/>
          <p:cNvGrpSpPr/>
          <p:nvPr/>
        </p:nvGrpSpPr>
        <p:grpSpPr>
          <a:xfrm>
            <a:off x="2057040" y="320760"/>
            <a:ext cx="629280" cy="608040"/>
            <a:chOff x="2057040" y="320760"/>
            <a:chExt cx="629280" cy="608040"/>
          </a:xfrm>
        </p:grpSpPr>
        <p:sp>
          <p:nvSpPr>
            <p:cNvPr id="431" name="Rectangle 3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2" name="Rectangle 3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3" name="TextBox 3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4"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5" name="Group 35"/>
          <p:cNvGrpSpPr/>
          <p:nvPr/>
        </p:nvGrpSpPr>
        <p:grpSpPr>
          <a:xfrm>
            <a:off x="609840" y="4263120"/>
            <a:ext cx="634680" cy="615960"/>
            <a:chOff x="609840" y="4263120"/>
            <a:chExt cx="634680" cy="615960"/>
          </a:xfrm>
        </p:grpSpPr>
        <p:sp>
          <p:nvSpPr>
            <p:cNvPr id="436" name="Rectangle 3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7" name="Rectangle 3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TextBox 3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9" name="Group 39"/>
          <p:cNvGrpSpPr/>
          <p:nvPr/>
        </p:nvGrpSpPr>
        <p:grpSpPr>
          <a:xfrm>
            <a:off x="590400" y="1615680"/>
            <a:ext cx="895320" cy="582840"/>
            <a:chOff x="590400" y="1615680"/>
            <a:chExt cx="895320" cy="582840"/>
          </a:xfrm>
        </p:grpSpPr>
        <p:sp>
          <p:nvSpPr>
            <p:cNvPr id="440"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1"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3" name="Group 44"/>
          <p:cNvGrpSpPr/>
          <p:nvPr/>
        </p:nvGrpSpPr>
        <p:grpSpPr>
          <a:xfrm>
            <a:off x="7910280" y="4176720"/>
            <a:ext cx="628560" cy="597600"/>
            <a:chOff x="7910280" y="4176720"/>
            <a:chExt cx="628560" cy="597600"/>
          </a:xfrm>
        </p:grpSpPr>
        <p:sp>
          <p:nvSpPr>
            <p:cNvPr id="444"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6"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133200" y="219240"/>
            <a:ext cx="8798040" cy="6589440"/>
          </a:xfrm>
          <a:prstGeom prst="rect">
            <a:avLst/>
          </a:prstGeom>
          <a:ln w="0">
            <a:noFill/>
          </a:ln>
        </p:spPr>
      </p:pic>
      <p:sp>
        <p:nvSpPr>
          <p:cNvPr id="448"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9"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50"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5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5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5" name="Group 38"/>
          <p:cNvGrpSpPr/>
          <p:nvPr/>
        </p:nvGrpSpPr>
        <p:grpSpPr>
          <a:xfrm>
            <a:off x="6284520" y="355680"/>
            <a:ext cx="629280" cy="606600"/>
            <a:chOff x="6284520" y="355680"/>
            <a:chExt cx="629280" cy="606600"/>
          </a:xfrm>
        </p:grpSpPr>
        <p:sp>
          <p:nvSpPr>
            <p:cNvPr id="45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39"/>
          <p:cNvGrpSpPr/>
          <p:nvPr/>
        </p:nvGrpSpPr>
        <p:grpSpPr>
          <a:xfrm>
            <a:off x="7832520" y="2524320"/>
            <a:ext cx="627480" cy="605880"/>
            <a:chOff x="7832520" y="2524320"/>
            <a:chExt cx="627480" cy="605880"/>
          </a:xfrm>
        </p:grpSpPr>
        <p:sp>
          <p:nvSpPr>
            <p:cNvPr id="46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3" name="Group 43"/>
          <p:cNvGrpSpPr/>
          <p:nvPr/>
        </p:nvGrpSpPr>
        <p:grpSpPr>
          <a:xfrm>
            <a:off x="5724000" y="6228000"/>
            <a:ext cx="627840" cy="607680"/>
            <a:chOff x="5724000" y="6228000"/>
            <a:chExt cx="627840" cy="607680"/>
          </a:xfrm>
        </p:grpSpPr>
        <p:sp>
          <p:nvSpPr>
            <p:cNvPr id="46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7" name="Group 47"/>
          <p:cNvGrpSpPr/>
          <p:nvPr/>
        </p:nvGrpSpPr>
        <p:grpSpPr>
          <a:xfrm>
            <a:off x="1485360" y="5599440"/>
            <a:ext cx="627840" cy="606240"/>
            <a:chOff x="1485360" y="5599440"/>
            <a:chExt cx="627840" cy="606240"/>
          </a:xfrm>
        </p:grpSpPr>
        <p:sp>
          <p:nvSpPr>
            <p:cNvPr id="46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71" name="Group 51"/>
          <p:cNvGrpSpPr/>
          <p:nvPr/>
        </p:nvGrpSpPr>
        <p:grpSpPr>
          <a:xfrm>
            <a:off x="2057040" y="320760"/>
            <a:ext cx="629280" cy="608040"/>
            <a:chOff x="2057040" y="320760"/>
            <a:chExt cx="629280" cy="608040"/>
          </a:xfrm>
        </p:grpSpPr>
        <p:sp>
          <p:nvSpPr>
            <p:cNvPr id="47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5"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6"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7"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8" name="Group 59"/>
          <p:cNvGrpSpPr/>
          <p:nvPr/>
        </p:nvGrpSpPr>
        <p:grpSpPr>
          <a:xfrm>
            <a:off x="609840" y="4263120"/>
            <a:ext cx="634680" cy="615960"/>
            <a:chOff x="609840" y="4263120"/>
            <a:chExt cx="634680" cy="615960"/>
          </a:xfrm>
        </p:grpSpPr>
        <p:sp>
          <p:nvSpPr>
            <p:cNvPr id="479"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0"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82" name="Group 63"/>
          <p:cNvGrpSpPr/>
          <p:nvPr/>
        </p:nvGrpSpPr>
        <p:grpSpPr>
          <a:xfrm>
            <a:off x="590400" y="1615680"/>
            <a:ext cx="895320" cy="582840"/>
            <a:chOff x="590400" y="1615680"/>
            <a:chExt cx="895320" cy="582840"/>
          </a:xfrm>
        </p:grpSpPr>
        <p:sp>
          <p:nvSpPr>
            <p:cNvPr id="483"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4"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6" name="Group 67"/>
          <p:cNvGrpSpPr/>
          <p:nvPr/>
        </p:nvGrpSpPr>
        <p:grpSpPr>
          <a:xfrm>
            <a:off x="7910280" y="4176720"/>
            <a:ext cx="628560" cy="597600"/>
            <a:chOff x="7910280" y="4176720"/>
            <a:chExt cx="628560" cy="597600"/>
          </a:xfrm>
        </p:grpSpPr>
        <p:sp>
          <p:nvSpPr>
            <p:cNvPr id="487"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1" name=""/>
          <p:cNvGraphicFramePr/>
          <p:nvPr/>
        </p:nvGraphicFramePr>
        <p:xfrm>
          <a:off x="457200" y="1600200"/>
          <a:ext cx="8229600" cy="16765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0065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ouncil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Recommendations Report to the Board which also includes an overview of consultations undertaken and input receiv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GNSO Council to Consult with the GAC Prior to Final Dec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3" name=""/>
          <p:cNvGraphicFramePr/>
          <p:nvPr/>
        </p:nvGraphicFramePr>
        <p:xfrm>
          <a:off x="457200" y="507960"/>
          <a:ext cx="8229600" cy="4783320"/>
        </p:xfrm>
        <a:graphic>
          <a:graphicData uri="http://schemas.openxmlformats.org/drawingml/2006/table">
            <a:tbl>
              <a:tblPr/>
              <a:tblGrid>
                <a:gridCol w="8229600"/>
              </a:tblGrid>
              <a:tr h="44028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82404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ntended / expected? Is this similar to the Board notification of the GAC prior to it considering policy recommendations for adoption? If so, how much time would be required for such consultations (note, typically the GNSO Council will vote on the first or second meeting following the submission of the Final WG Report). If another form of consultation is foreseen, how would this look / happen in practice?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45900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hat happens if the GAC recommends that the GNSO Council should not adopt the recommendations, or if possible changes are suggested?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615960">
                <a:tc>
                  <a:txBody>
                    <a:bodyPr lIns="90000" rIns="90000" tIns="46800" bIns="46800" anchor="t">
                      <a:noAutofit/>
                    </a:bodyPr>
                    <a:p>
                      <a:pPr marL="166680" indent="-166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ce’ or are the current Bylaws an impediment for the GAC to provide ‘Advice’ to GNSO Working Groups on public policy issu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61416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GNSO Council followed GAC Advice, would that bind the Board at a later stage so that the Board loses the right to disregard i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4590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GAC Advice were also directed at the GNSO Council, would or should that be a second opportunity for the GAC to give Advice? If so, what would be the consequences of tha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13716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there some steps missing here?  This implies that the Final Report drafting process ends with the Initial Report, but what about the process where:</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WG incorporates the comments and creates a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reviews the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optionally) sends the Final Report back to the WG for revision </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determines whether to send the Final Report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all of these steps additional opportunities for GAC/GNSO engagemen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Content Placeholder 3" descr=""/>
          <p:cNvPicPr/>
          <p:nvPr/>
        </p:nvPicPr>
        <p:blipFill>
          <a:blip r:embed="rId1"/>
          <a:stretch/>
        </p:blipFill>
        <p:spPr>
          <a:xfrm>
            <a:off x="133200" y="219240"/>
            <a:ext cx="8852040" cy="6626160"/>
          </a:xfrm>
          <a:prstGeom prst="rect">
            <a:avLst/>
          </a:prstGeom>
          <a:ln w="0">
            <a:noFill/>
          </a:ln>
        </p:spPr>
      </p:pic>
      <p:sp>
        <p:nvSpPr>
          <p:cNvPr id="495"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7"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0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0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02" name="Group 14"/>
          <p:cNvGrpSpPr/>
          <p:nvPr/>
        </p:nvGrpSpPr>
        <p:grpSpPr>
          <a:xfrm>
            <a:off x="6284520" y="355680"/>
            <a:ext cx="629280" cy="606600"/>
            <a:chOff x="6284520" y="355680"/>
            <a:chExt cx="629280" cy="606600"/>
          </a:xfrm>
        </p:grpSpPr>
        <p:sp>
          <p:nvSpPr>
            <p:cNvPr id="50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18"/>
          <p:cNvGrpSpPr/>
          <p:nvPr/>
        </p:nvGrpSpPr>
        <p:grpSpPr>
          <a:xfrm>
            <a:off x="7832520" y="2524320"/>
            <a:ext cx="627480" cy="605880"/>
            <a:chOff x="7832520" y="2524320"/>
            <a:chExt cx="627480" cy="605880"/>
          </a:xfrm>
        </p:grpSpPr>
        <p:sp>
          <p:nvSpPr>
            <p:cNvPr id="50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10" name="Group 24"/>
          <p:cNvGrpSpPr/>
          <p:nvPr/>
        </p:nvGrpSpPr>
        <p:grpSpPr>
          <a:xfrm>
            <a:off x="5724000" y="6228000"/>
            <a:ext cx="627840" cy="607680"/>
            <a:chOff x="5724000" y="6228000"/>
            <a:chExt cx="627840" cy="607680"/>
          </a:xfrm>
        </p:grpSpPr>
        <p:sp>
          <p:nvSpPr>
            <p:cNvPr id="51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4" name="Group 28"/>
          <p:cNvGrpSpPr/>
          <p:nvPr/>
        </p:nvGrpSpPr>
        <p:grpSpPr>
          <a:xfrm>
            <a:off x="1485360" y="5599440"/>
            <a:ext cx="627840" cy="606240"/>
            <a:chOff x="1485360" y="5599440"/>
            <a:chExt cx="627840" cy="606240"/>
          </a:xfrm>
        </p:grpSpPr>
        <p:sp>
          <p:nvSpPr>
            <p:cNvPr id="51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8" name="Group 32"/>
          <p:cNvGrpSpPr/>
          <p:nvPr/>
        </p:nvGrpSpPr>
        <p:grpSpPr>
          <a:xfrm>
            <a:off x="2057040" y="320760"/>
            <a:ext cx="629280" cy="608040"/>
            <a:chOff x="2057040" y="320760"/>
            <a:chExt cx="629280" cy="608040"/>
          </a:xfrm>
        </p:grpSpPr>
        <p:sp>
          <p:nvSpPr>
            <p:cNvPr id="51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22"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23" name="Group 46"/>
          <p:cNvGrpSpPr/>
          <p:nvPr/>
        </p:nvGrpSpPr>
        <p:grpSpPr>
          <a:xfrm>
            <a:off x="609840" y="4263120"/>
            <a:ext cx="634680" cy="615960"/>
            <a:chOff x="609840" y="4263120"/>
            <a:chExt cx="634680" cy="615960"/>
          </a:xfrm>
        </p:grpSpPr>
        <p:sp>
          <p:nvSpPr>
            <p:cNvPr id="52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7" name="Group 50"/>
          <p:cNvGrpSpPr/>
          <p:nvPr/>
        </p:nvGrpSpPr>
        <p:grpSpPr>
          <a:xfrm>
            <a:off x="590400" y="1615680"/>
            <a:ext cx="895320" cy="582840"/>
            <a:chOff x="590400" y="1615680"/>
            <a:chExt cx="895320" cy="582840"/>
          </a:xfrm>
        </p:grpSpPr>
        <p:sp>
          <p:nvSpPr>
            <p:cNvPr id="52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31" name="Group 54"/>
          <p:cNvGrpSpPr/>
          <p:nvPr/>
        </p:nvGrpSpPr>
        <p:grpSpPr>
          <a:xfrm>
            <a:off x="7910280" y="4176720"/>
            <a:ext cx="628560" cy="597600"/>
            <a:chOff x="7910280" y="4176720"/>
            <a:chExt cx="628560" cy="597600"/>
          </a:xfrm>
        </p:grpSpPr>
        <p:sp>
          <p:nvSpPr>
            <p:cNvPr id="53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36" name=""/>
          <p:cNvGraphicFramePr/>
          <p:nvPr/>
        </p:nvGraphicFramePr>
        <p:xfrm>
          <a:off x="318960" y="274680"/>
          <a:ext cx="8521920" cy="36878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017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Final Report that has been accepted by the GNSO and is on its way to the Board for final approva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is public comment period is focused on documenting reasons why the policy change is not in the best interests of the ICANN community or ICANN – the goal being no comments, as these issues should have been worked out during the WG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3" descr=""/>
          <p:cNvPicPr/>
          <p:nvPr/>
        </p:nvPicPr>
        <p:blipFill>
          <a:blip r:embed="rId1"/>
          <a:stretch/>
        </p:blipFill>
        <p:spPr>
          <a:xfrm>
            <a:off x="133200" y="219240"/>
            <a:ext cx="8798040" cy="6589440"/>
          </a:xfrm>
          <a:prstGeom prst="rect">
            <a:avLst/>
          </a:prstGeom>
          <a:ln w="0">
            <a:noFill/>
          </a:ln>
        </p:spPr>
      </p:pic>
      <p:sp>
        <p:nvSpPr>
          <p:cNvPr id="538"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9"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40"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4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4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4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5" name="Group 38"/>
          <p:cNvGrpSpPr/>
          <p:nvPr/>
        </p:nvGrpSpPr>
        <p:grpSpPr>
          <a:xfrm>
            <a:off x="6284520" y="355680"/>
            <a:ext cx="629280" cy="606600"/>
            <a:chOff x="6284520" y="355680"/>
            <a:chExt cx="629280" cy="606600"/>
          </a:xfrm>
        </p:grpSpPr>
        <p:sp>
          <p:nvSpPr>
            <p:cNvPr id="54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9" name="Group 39"/>
          <p:cNvGrpSpPr/>
          <p:nvPr/>
        </p:nvGrpSpPr>
        <p:grpSpPr>
          <a:xfrm>
            <a:off x="7832520" y="2524320"/>
            <a:ext cx="627480" cy="605880"/>
            <a:chOff x="7832520" y="2524320"/>
            <a:chExt cx="627480" cy="605880"/>
          </a:xfrm>
        </p:grpSpPr>
        <p:sp>
          <p:nvSpPr>
            <p:cNvPr id="55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53" name="Group 43"/>
          <p:cNvGrpSpPr/>
          <p:nvPr/>
        </p:nvGrpSpPr>
        <p:grpSpPr>
          <a:xfrm>
            <a:off x="5724000" y="6228000"/>
            <a:ext cx="627840" cy="607680"/>
            <a:chOff x="5724000" y="6228000"/>
            <a:chExt cx="627840" cy="607680"/>
          </a:xfrm>
        </p:grpSpPr>
        <p:sp>
          <p:nvSpPr>
            <p:cNvPr id="55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7" name="Group 47"/>
          <p:cNvGrpSpPr/>
          <p:nvPr/>
        </p:nvGrpSpPr>
        <p:grpSpPr>
          <a:xfrm>
            <a:off x="1485360" y="5599440"/>
            <a:ext cx="627840" cy="606240"/>
            <a:chOff x="1485360" y="5599440"/>
            <a:chExt cx="627840" cy="606240"/>
          </a:xfrm>
        </p:grpSpPr>
        <p:sp>
          <p:nvSpPr>
            <p:cNvPr id="55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61" name="Group 51"/>
          <p:cNvGrpSpPr/>
          <p:nvPr/>
        </p:nvGrpSpPr>
        <p:grpSpPr>
          <a:xfrm>
            <a:off x="2057040" y="320760"/>
            <a:ext cx="629280" cy="608040"/>
            <a:chOff x="2057040" y="320760"/>
            <a:chExt cx="629280" cy="608040"/>
          </a:xfrm>
        </p:grpSpPr>
        <p:sp>
          <p:nvSpPr>
            <p:cNvPr id="56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65"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66"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67"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68"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9"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70" name="Group 15"/>
          <p:cNvGrpSpPr/>
          <p:nvPr/>
        </p:nvGrpSpPr>
        <p:grpSpPr>
          <a:xfrm>
            <a:off x="609840" y="4263120"/>
            <a:ext cx="634680" cy="615960"/>
            <a:chOff x="609840" y="4263120"/>
            <a:chExt cx="634680" cy="615960"/>
          </a:xfrm>
        </p:grpSpPr>
        <p:sp>
          <p:nvSpPr>
            <p:cNvPr id="571"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3"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74" name="Group 18"/>
          <p:cNvGrpSpPr/>
          <p:nvPr/>
        </p:nvGrpSpPr>
        <p:grpSpPr>
          <a:xfrm>
            <a:off x="590400" y="1615680"/>
            <a:ext cx="895320" cy="582840"/>
            <a:chOff x="590400" y="1615680"/>
            <a:chExt cx="895320" cy="582840"/>
          </a:xfrm>
        </p:grpSpPr>
        <p:sp>
          <p:nvSpPr>
            <p:cNvPr id="575"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6"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7"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78" name="Group 17"/>
          <p:cNvGrpSpPr/>
          <p:nvPr/>
        </p:nvGrpSpPr>
        <p:grpSpPr>
          <a:xfrm>
            <a:off x="7910280" y="4176720"/>
            <a:ext cx="628560" cy="597600"/>
            <a:chOff x="7910280" y="4176720"/>
            <a:chExt cx="628560" cy="597600"/>
          </a:xfrm>
        </p:grpSpPr>
        <p:sp>
          <p:nvSpPr>
            <p:cNvPr id="579"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0"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1"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83" name=""/>
          <p:cNvGraphicFramePr/>
          <p:nvPr/>
        </p:nvGraphicFramePr>
        <p:xfrm>
          <a:off x="457200" y="1600200"/>
          <a:ext cx="8229600" cy="43592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forum prior to Board consideration of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ublic-comment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23479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irement for the ICANN Board to inform the GAC if policy recommendations affect public policy concerns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Board will notify G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hat is the mechanism for modifying a Final Report if the GAC determines there is a public policy concern?  Is the Board responsible for making those changes, or should it be sent back to the GNSO, and ultimately the WG, for rev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Content Placeholder 3" descr=""/>
          <p:cNvPicPr/>
          <p:nvPr/>
        </p:nvPicPr>
        <p:blipFill>
          <a:blip r:embed="rId1"/>
          <a:stretch/>
        </p:blipFill>
        <p:spPr>
          <a:xfrm>
            <a:off x="133200" y="219240"/>
            <a:ext cx="8852040" cy="6626160"/>
          </a:xfrm>
          <a:prstGeom prst="rect">
            <a:avLst/>
          </a:prstGeom>
          <a:ln w="0">
            <a:noFill/>
          </a:ln>
        </p:spPr>
      </p:pic>
      <p:sp>
        <p:nvSpPr>
          <p:cNvPr id="585"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87"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8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8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9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9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92" name="Group 14"/>
          <p:cNvGrpSpPr/>
          <p:nvPr/>
        </p:nvGrpSpPr>
        <p:grpSpPr>
          <a:xfrm>
            <a:off x="6284520" y="355680"/>
            <a:ext cx="629280" cy="606600"/>
            <a:chOff x="6284520" y="355680"/>
            <a:chExt cx="629280" cy="606600"/>
          </a:xfrm>
        </p:grpSpPr>
        <p:sp>
          <p:nvSpPr>
            <p:cNvPr id="59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6" name="Group 18"/>
          <p:cNvGrpSpPr/>
          <p:nvPr/>
        </p:nvGrpSpPr>
        <p:grpSpPr>
          <a:xfrm>
            <a:off x="7832520" y="2524320"/>
            <a:ext cx="627480" cy="605880"/>
            <a:chOff x="7832520" y="2524320"/>
            <a:chExt cx="627480" cy="605880"/>
          </a:xfrm>
        </p:grpSpPr>
        <p:sp>
          <p:nvSpPr>
            <p:cNvPr id="59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00" name="Group 24"/>
          <p:cNvGrpSpPr/>
          <p:nvPr/>
        </p:nvGrpSpPr>
        <p:grpSpPr>
          <a:xfrm>
            <a:off x="5724000" y="6228000"/>
            <a:ext cx="627840" cy="607680"/>
            <a:chOff x="5724000" y="6228000"/>
            <a:chExt cx="627840" cy="607680"/>
          </a:xfrm>
        </p:grpSpPr>
        <p:sp>
          <p:nvSpPr>
            <p:cNvPr id="60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4" name="Group 28"/>
          <p:cNvGrpSpPr/>
          <p:nvPr/>
        </p:nvGrpSpPr>
        <p:grpSpPr>
          <a:xfrm>
            <a:off x="1485360" y="5599440"/>
            <a:ext cx="627840" cy="606240"/>
            <a:chOff x="1485360" y="5599440"/>
            <a:chExt cx="627840" cy="606240"/>
          </a:xfrm>
        </p:grpSpPr>
        <p:sp>
          <p:nvSpPr>
            <p:cNvPr id="60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8" name="Group 32"/>
          <p:cNvGrpSpPr/>
          <p:nvPr/>
        </p:nvGrpSpPr>
        <p:grpSpPr>
          <a:xfrm>
            <a:off x="2057040" y="320760"/>
            <a:ext cx="629280" cy="608040"/>
            <a:chOff x="2057040" y="320760"/>
            <a:chExt cx="629280" cy="608040"/>
          </a:xfrm>
        </p:grpSpPr>
        <p:sp>
          <p:nvSpPr>
            <p:cNvPr id="60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12"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13" name="Group 46"/>
          <p:cNvGrpSpPr/>
          <p:nvPr/>
        </p:nvGrpSpPr>
        <p:grpSpPr>
          <a:xfrm>
            <a:off x="609840" y="4263120"/>
            <a:ext cx="634680" cy="615960"/>
            <a:chOff x="609840" y="4263120"/>
            <a:chExt cx="634680" cy="615960"/>
          </a:xfrm>
        </p:grpSpPr>
        <p:sp>
          <p:nvSpPr>
            <p:cNvPr id="61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17" name="Group 50"/>
          <p:cNvGrpSpPr/>
          <p:nvPr/>
        </p:nvGrpSpPr>
        <p:grpSpPr>
          <a:xfrm>
            <a:off x="590400" y="1615680"/>
            <a:ext cx="895320" cy="582840"/>
            <a:chOff x="590400" y="1615680"/>
            <a:chExt cx="895320" cy="582840"/>
          </a:xfrm>
        </p:grpSpPr>
        <p:sp>
          <p:nvSpPr>
            <p:cNvPr id="61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21" name="Group 54"/>
          <p:cNvGrpSpPr/>
          <p:nvPr/>
        </p:nvGrpSpPr>
        <p:grpSpPr>
          <a:xfrm>
            <a:off x="7910280" y="4176720"/>
            <a:ext cx="628560" cy="597600"/>
            <a:chOff x="7910280" y="4176720"/>
            <a:chExt cx="628560" cy="597600"/>
          </a:xfrm>
        </p:grpSpPr>
        <p:sp>
          <p:nvSpPr>
            <p:cNvPr id="62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626" name=""/>
          <p:cNvGraphicFramePr/>
          <p:nvPr/>
        </p:nvGraphicFramePr>
        <p:xfrm>
          <a:off x="457200" y="1600200"/>
          <a:ext cx="8229600" cy="335268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has the option to form Implementation Review Team to assist Staff in developing the implementation details (in principle open to al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all for volunteers will be circulated to PDP WG</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e Implementation Review Team?</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mplementation plans may be posted for public comment or additional consultations held depending on nature of policy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hase of the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87" name=""/>
          <p:cNvGraphicFramePr/>
          <p:nvPr/>
        </p:nvGraphicFramePr>
        <p:xfrm>
          <a:off x="457200" y="1600200"/>
          <a:ext cx="8229600" cy="5165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495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dentify or frame an issu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e Board, AC and SO’s and Constituencies and Stakeholder Groups of the GNSO scan the environment and identify issues that would benefit from GNSO policy</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within the GAC based on significant changes in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barriers to the GAC contributing issues for consideration?</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a way for the GAC to highlight issues pertaining the GNSO in their advice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10"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1"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2"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3"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4" name="Group 148"/>
          <p:cNvGrpSpPr/>
          <p:nvPr/>
        </p:nvGrpSpPr>
        <p:grpSpPr>
          <a:xfrm>
            <a:off x="6284520" y="355680"/>
            <a:ext cx="629280" cy="606600"/>
            <a:chOff x="6284520" y="355680"/>
            <a:chExt cx="629280" cy="606600"/>
          </a:xfrm>
        </p:grpSpPr>
        <p:sp>
          <p:nvSpPr>
            <p:cNvPr id="115" name="Rectangle 149"/>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Rectangle 150"/>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151"/>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8" name="Group 152"/>
          <p:cNvGrpSpPr/>
          <p:nvPr/>
        </p:nvGrpSpPr>
        <p:grpSpPr>
          <a:xfrm>
            <a:off x="7832520" y="2524320"/>
            <a:ext cx="627480" cy="605880"/>
            <a:chOff x="7832520" y="2524320"/>
            <a:chExt cx="627480" cy="605880"/>
          </a:xfrm>
        </p:grpSpPr>
        <p:sp>
          <p:nvSpPr>
            <p:cNvPr id="119" name="Rectangle 153"/>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Rectangle 1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2" name="Group 156"/>
          <p:cNvGrpSpPr/>
          <p:nvPr/>
        </p:nvGrpSpPr>
        <p:grpSpPr>
          <a:xfrm>
            <a:off x="5724000" y="6228000"/>
            <a:ext cx="627840" cy="607680"/>
            <a:chOff x="5724000" y="6228000"/>
            <a:chExt cx="627840" cy="607680"/>
          </a:xfrm>
        </p:grpSpPr>
        <p:sp>
          <p:nvSpPr>
            <p:cNvPr id="123" name="Rectangle 1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Rectangle 1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6" name="Group 160"/>
          <p:cNvGrpSpPr/>
          <p:nvPr/>
        </p:nvGrpSpPr>
        <p:grpSpPr>
          <a:xfrm>
            <a:off x="1485360" y="5599440"/>
            <a:ext cx="627840" cy="606240"/>
            <a:chOff x="1485360" y="5599440"/>
            <a:chExt cx="627840" cy="606240"/>
          </a:xfrm>
        </p:grpSpPr>
        <p:sp>
          <p:nvSpPr>
            <p:cNvPr id="127" name="Rectangle 1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Rectangle 162"/>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0" name="Group 164"/>
          <p:cNvGrpSpPr/>
          <p:nvPr/>
        </p:nvGrpSpPr>
        <p:grpSpPr>
          <a:xfrm>
            <a:off x="2057040" y="320760"/>
            <a:ext cx="629280" cy="608040"/>
            <a:chOff x="2057040" y="320760"/>
            <a:chExt cx="629280" cy="608040"/>
          </a:xfrm>
        </p:grpSpPr>
        <p:sp>
          <p:nvSpPr>
            <p:cNvPr id="131" name="Rectangle 165"/>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ectangle 166"/>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67"/>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4" name="Group 170"/>
          <p:cNvGrpSpPr/>
          <p:nvPr/>
        </p:nvGrpSpPr>
        <p:grpSpPr>
          <a:xfrm>
            <a:off x="609840" y="4263120"/>
            <a:ext cx="634680" cy="615960"/>
            <a:chOff x="609840" y="4263120"/>
            <a:chExt cx="634680" cy="615960"/>
          </a:xfrm>
        </p:grpSpPr>
        <p:sp>
          <p:nvSpPr>
            <p:cNvPr id="135" name="Rectangle 1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Rectangle 1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TextBox 1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8" name="Group 174"/>
          <p:cNvGrpSpPr/>
          <p:nvPr/>
        </p:nvGrpSpPr>
        <p:grpSpPr>
          <a:xfrm>
            <a:off x="590400" y="1615680"/>
            <a:ext cx="895320" cy="582840"/>
            <a:chOff x="590400" y="1615680"/>
            <a:chExt cx="895320" cy="582840"/>
          </a:xfrm>
        </p:grpSpPr>
        <p:sp>
          <p:nvSpPr>
            <p:cNvPr id="139"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2" name="Group 178"/>
          <p:cNvGrpSpPr/>
          <p:nvPr/>
        </p:nvGrpSpPr>
        <p:grpSpPr>
          <a:xfrm>
            <a:off x="7910280" y="4176720"/>
            <a:ext cx="628560" cy="597600"/>
            <a:chOff x="7910280" y="4176720"/>
            <a:chExt cx="628560" cy="597600"/>
          </a:xfrm>
        </p:grpSpPr>
        <p:sp>
          <p:nvSpPr>
            <p:cNvPr id="143"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5"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47" name=""/>
          <p:cNvGraphicFramePr/>
          <p:nvPr/>
        </p:nvGraphicFramePr>
        <p:xfrm>
          <a:off x="457200" y="1600200"/>
          <a:ext cx="8229600" cy="318456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514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quest for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 Advisory Committee may raise an issue for policy development by action of such committee to request an Issue Report, and transmission of that request to the Staff Manager and GNSO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sn’t this a stage of the process that’s specifically designed for GAC (along with SSAC and ALAC) participation?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more coordination between GAC/GNSO staff regarding applicability of law or public policy during the creation of the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2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TextBox 2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Rectangle 3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7840" cy="607680"/>
            <a:chOff x="5724000" y="6228000"/>
            <a:chExt cx="627840" cy="607680"/>
          </a:xfrm>
        </p:grpSpPr>
        <p:sp>
          <p:nvSpPr>
            <p:cNvPr id="164" name="Rectangle 3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Rectangle 3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6240"/>
            <a:chOff x="1485360" y="5599440"/>
            <a:chExt cx="627840" cy="606240"/>
          </a:xfrm>
        </p:grpSpPr>
        <p:sp>
          <p:nvSpPr>
            <p:cNvPr id="168" name="Rectangle 3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Rectangle 3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280" cy="608040"/>
            <a:chOff x="2057040" y="320760"/>
            <a:chExt cx="629280" cy="608040"/>
          </a:xfrm>
        </p:grpSpPr>
        <p:sp>
          <p:nvSpPr>
            <p:cNvPr id="172" name="Rectangle 4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Rectangle 4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TextBox 4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5960"/>
            <a:chOff x="609840" y="4263120"/>
            <a:chExt cx="634680" cy="615960"/>
          </a:xfrm>
        </p:grpSpPr>
        <p:sp>
          <p:nvSpPr>
            <p:cNvPr id="176" name="Rectangle 45"/>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7" name="Rectangle 46"/>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TextBox 47"/>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560" cy="597600"/>
            <a:chOff x="7910280" y="4176720"/>
            <a:chExt cx="628560" cy="597600"/>
          </a:xfrm>
        </p:grpSpPr>
        <p:sp>
          <p:nvSpPr>
            <p:cNvPr id="184"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88" name=""/>
          <p:cNvGraphicFramePr/>
          <p:nvPr/>
        </p:nvGraphicFramePr>
        <p:xfrm>
          <a:off x="318960" y="274680"/>
          <a:ext cx="8521920" cy="62024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532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reliminary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period on Preliminary Issue Report to encourage additional data / information as well as views on whether PDP should be initia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the GAC to form a “comment drafting” sub-group with a focus on related issues of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These early-stage public comments are a great help because they influence/frame the issues/direction of the Working Group at an easy-to-modify point</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Preliminary Issue Report, prior to consideration by the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
          <p:cNvPicPr/>
          <p:nvPr/>
        </p:nvPicPr>
        <p:blipFill>
          <a:blip r:embed="rId1"/>
          <a:stretch/>
        </p:blipFill>
        <p:spPr>
          <a:xfrm>
            <a:off x="133200" y="219240"/>
            <a:ext cx="8852040" cy="6626160"/>
          </a:xfrm>
          <a:prstGeom prst="rect">
            <a:avLst/>
          </a:prstGeom>
          <a:ln w="0">
            <a:noFill/>
          </a:ln>
        </p:spPr>
      </p:pic>
      <p:sp>
        <p:nvSpPr>
          <p:cNvPr id="190"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3"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4"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5"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6"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7"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680"/>
            <a:ext cx="629280" cy="606600"/>
            <a:chOff x="6284520" y="355680"/>
            <a:chExt cx="629280" cy="606600"/>
          </a:xfrm>
        </p:grpSpPr>
        <p:sp>
          <p:nvSpPr>
            <p:cNvPr id="203" name="Rectangle 10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5880"/>
            <a:chOff x="7832520" y="2524320"/>
            <a:chExt cx="627480" cy="605880"/>
          </a:xfrm>
        </p:grpSpPr>
        <p:sp>
          <p:nvSpPr>
            <p:cNvPr id="207" name="Rectangle 106"/>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8000"/>
            <a:ext cx="627840" cy="607680"/>
            <a:chOff x="5724000" y="6228000"/>
            <a:chExt cx="627840" cy="607680"/>
          </a:xfrm>
        </p:grpSpPr>
        <p:sp>
          <p:nvSpPr>
            <p:cNvPr id="211" name="Rectangle 111"/>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440"/>
            <a:ext cx="627840" cy="606240"/>
            <a:chOff x="1485360" y="5599440"/>
            <a:chExt cx="627840" cy="606240"/>
          </a:xfrm>
        </p:grpSpPr>
        <p:sp>
          <p:nvSpPr>
            <p:cNvPr id="215" name="Rectangle 115"/>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760"/>
            <a:ext cx="629280" cy="608040"/>
            <a:chOff x="2057040" y="320760"/>
            <a:chExt cx="629280" cy="608040"/>
          </a:xfrm>
        </p:grpSpPr>
        <p:sp>
          <p:nvSpPr>
            <p:cNvPr id="219" name="Rectangle 120"/>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5960"/>
            <a:chOff x="609840" y="4263120"/>
            <a:chExt cx="634680" cy="615960"/>
          </a:xfrm>
        </p:grpSpPr>
        <p:sp>
          <p:nvSpPr>
            <p:cNvPr id="223" name="Rectangle 12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88920" y="276120"/>
          <a:ext cx="8934480" cy="6369120"/>
        </p:xfrm>
        <a:graphic>
          <a:graphicData uri="http://schemas.openxmlformats.org/drawingml/2006/table">
            <a:tbl>
              <a:tblPr/>
              <a:tblGrid>
                <a:gridCol w="1785960"/>
                <a:gridCol w="1787400"/>
                <a:gridCol w="1787760"/>
                <a:gridCol w="1565280"/>
                <a:gridCol w="20080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84464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jection of PDP requested by Advisory Committe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f GNSO Council rejects initiation of a PDP requested by an AC, then option to meet with AC reps to discuss rationale followed by possible request for reconsider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ways to improve the reconsideration process?</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ote – this process has never been used to date so it may be difficult to assess what can be improved without any actual experience with the existing proces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3854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Developing charter for the PDP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Drafting team to develop charter for PDP WG open to anyone interes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GNSO web-si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trigger participation by the GAC “</a:t>
                      </a:r>
                      <a:r>
                        <a:rPr b="0" lang="en-US" sz="1100" spc="-1" strike="noStrike">
                          <a:solidFill>
                            <a:srgbClr val="000000"/>
                          </a:solidFill>
                          <a:latin typeface="Calibri"/>
                        </a:rPr>
                        <a:t>comment drafting” sub-team in GNSO charter-drafting teams (especially with an eye to issues of law or public policy?)</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se teams are another very-informal process where  participants from the GAC, either as individuals or as members an informal interest group, would be welcome.  Drafting-teams are usually short-duration (6-8 weeks).  They are without power or authority – they prepare a draft charter which then goes to the Council for amendment and approval.  An opportunity for early-stage issue-framing course corrections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21T22:59:14Z</dcterms:modified>
  <cp:revision>361</cp:revision>
  <dc:subject/>
  <dc:title>PowerPoint Presentation</dc:title>
</cp:coreProperties>
</file>