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225-6069-4BDB-BF38-070356E7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DCD-59C9-42B3-B0E0-95F8BE3E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EE0-A8C3-4578-A696-F17B128C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F4B-59E2-4FC0-9391-D7EB51CD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953-491B-4FB2-88DC-E920571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CC7-A724-4443-88AF-E6B75C08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931-C76E-4D24-984F-449F4819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3D7-14BF-4A37-A9BC-50E4A4B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2E6-E11C-424E-8A12-A7D75469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7E5-95EC-4ABA-A964-010E23A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3F6-8C6E-4DDC-BFE8-FCF35EB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805-9BF6-4CD6-A081-D1584D71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38F5B-4A70-4218-AB42-D335DF5CB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rocess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96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90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2680" y="6299640"/>
              <a:ext cx="427680" cy="494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600"/>
              <a:ext cx="29700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19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5720" y="393120"/>
              <a:ext cx="429120" cy="494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7200" y="413640"/>
              <a:ext cx="298440" cy="1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8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120"/>
            <a:chOff x="609840" y="4262040"/>
            <a:chExt cx="634680" cy="61812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8600" y="4343400"/>
              <a:ext cx="424440" cy="49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6200" y="4366080"/>
              <a:ext cx="294480" cy="19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960"/>
              <a:ext cx="49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9360">
            <a:solidFill>
              <a:srgbClr val="1852a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9360">
            <a:solidFill>
              <a:srgbClr val="39813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00" y="258480"/>
            <a:ext cx="185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19T15:56:18Z</dcterms:modified>
  <cp:revision>489</cp:revision>
  <dc:subject/>
  <dc:title>PowerPoint Presentation</dc:title>
</cp:coreProperties>
</file>