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372D-0201-47A9-BCDA-B749FB79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876C-33E6-4A31-98D9-6A497E66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A2DC-B962-44B4-9B4E-F11E846D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0D19-1F5C-4A44-A405-62B3B235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BE41-6928-4083-B023-02021A3E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4910-B9E3-40D4-A4C2-E73FC473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749A-540B-4D8B-812C-F2C9834B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05A9-3A9F-4064-AC86-170A8B6A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01A2-8125-4F15-8C5A-84731ABB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6077-5AD2-4C99-8D7A-6C1D17AA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EBA4-DA5A-4633-BFCC-F022A9BD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E25F-5508-4C94-873C-33FBBAF5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56106D-FF46-429E-9504-15E9F69910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3320" y="0"/>
            <a:ext cx="27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Draft – for discussion purposes on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NSO PDP Process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RAFT – V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r Discussion Purpos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51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4"/>
            <p:cNvSpPr/>
            <p:nvPr/>
          </p:nvSpPr>
          <p:spPr>
            <a:xfrm rot="20796600">
              <a:off x="6392520" y="4496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55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30"/>
            <p:cNvSpPr/>
            <p:nvPr/>
          </p:nvSpPr>
          <p:spPr>
            <a:xfrm rot="20796600">
              <a:off x="79390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32"/>
          <p:cNvGrpSpPr/>
          <p:nvPr/>
        </p:nvGrpSpPr>
        <p:grpSpPr>
          <a:xfrm>
            <a:off x="5724000" y="6225840"/>
            <a:ext cx="628200" cy="611280"/>
            <a:chOff x="5724000" y="6225840"/>
            <a:chExt cx="628200" cy="611280"/>
          </a:xfrm>
        </p:grpSpPr>
        <p:sp>
          <p:nvSpPr>
            <p:cNvPr id="59" name="Rectangle 33"/>
            <p:cNvSpPr/>
            <p:nvPr/>
          </p:nvSpPr>
          <p:spPr>
            <a:xfrm rot="20796600">
              <a:off x="5872680" y="6299640"/>
              <a:ext cx="427680" cy="4942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34"/>
            <p:cNvSpPr/>
            <p:nvPr/>
          </p:nvSpPr>
          <p:spPr>
            <a:xfrm rot="20796600">
              <a:off x="5838840" y="6330600"/>
              <a:ext cx="29700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Box 35"/>
            <p:cNvSpPr/>
            <p:nvPr/>
          </p:nvSpPr>
          <p:spPr>
            <a:xfrm rot="20796600">
              <a:off x="5740200" y="6280560"/>
              <a:ext cx="496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63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38"/>
            <p:cNvSpPr/>
            <p:nvPr/>
          </p:nvSpPr>
          <p:spPr>
            <a:xfrm rot="20796600">
              <a:off x="159192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40"/>
          <p:cNvGrpSpPr/>
          <p:nvPr/>
        </p:nvGrpSpPr>
        <p:grpSpPr>
          <a:xfrm>
            <a:off x="2057040" y="318600"/>
            <a:ext cx="629640" cy="612000"/>
            <a:chOff x="2057040" y="318600"/>
            <a:chExt cx="629640" cy="612000"/>
          </a:xfrm>
        </p:grpSpPr>
        <p:sp>
          <p:nvSpPr>
            <p:cNvPr id="67" name="Rectangle 41"/>
            <p:cNvSpPr/>
            <p:nvPr/>
          </p:nvSpPr>
          <p:spPr>
            <a:xfrm rot="20796600">
              <a:off x="2205720" y="393120"/>
              <a:ext cx="429120" cy="4942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42"/>
            <p:cNvSpPr/>
            <p:nvPr/>
          </p:nvSpPr>
          <p:spPr>
            <a:xfrm rot="20796600">
              <a:off x="2167200" y="413640"/>
              <a:ext cx="29844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43"/>
            <p:cNvSpPr/>
            <p:nvPr/>
          </p:nvSpPr>
          <p:spPr>
            <a:xfrm rot="20796600">
              <a:off x="2073240" y="373680"/>
              <a:ext cx="498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44"/>
          <p:cNvGrpSpPr/>
          <p:nvPr/>
        </p:nvGrpSpPr>
        <p:grpSpPr>
          <a:xfrm>
            <a:off x="609840" y="4262040"/>
            <a:ext cx="634680" cy="618120"/>
            <a:chOff x="609840" y="4262040"/>
            <a:chExt cx="634680" cy="618120"/>
          </a:xfrm>
        </p:grpSpPr>
        <p:sp>
          <p:nvSpPr>
            <p:cNvPr id="71" name="Rectangle 45"/>
            <p:cNvSpPr/>
            <p:nvPr/>
          </p:nvSpPr>
          <p:spPr>
            <a:xfrm rot="20799000">
              <a:off x="768600" y="4343400"/>
              <a:ext cx="424440" cy="4942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 rot="20799000">
              <a:off x="736200" y="4366080"/>
              <a:ext cx="294480" cy="19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47"/>
            <p:cNvSpPr/>
            <p:nvPr/>
          </p:nvSpPr>
          <p:spPr>
            <a:xfrm rot="20799000">
              <a:off x="638280" y="4314960"/>
              <a:ext cx="49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75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79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86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4"/>
            <p:cNvSpPr/>
            <p:nvPr/>
          </p:nvSpPr>
          <p:spPr>
            <a:xfrm rot="20796600">
              <a:off x="6392520" y="4496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90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0"/>
            <p:cNvSpPr/>
            <p:nvPr/>
          </p:nvSpPr>
          <p:spPr>
            <a:xfrm rot="20796600">
              <a:off x="79390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32"/>
          <p:cNvGrpSpPr/>
          <p:nvPr/>
        </p:nvGrpSpPr>
        <p:grpSpPr>
          <a:xfrm>
            <a:off x="5724000" y="6225840"/>
            <a:ext cx="628200" cy="611280"/>
            <a:chOff x="5724000" y="6225840"/>
            <a:chExt cx="628200" cy="611280"/>
          </a:xfrm>
        </p:grpSpPr>
        <p:sp>
          <p:nvSpPr>
            <p:cNvPr id="94" name="Rectangle 33"/>
            <p:cNvSpPr/>
            <p:nvPr/>
          </p:nvSpPr>
          <p:spPr>
            <a:xfrm rot="20796600">
              <a:off x="5872680" y="6299640"/>
              <a:ext cx="427680" cy="494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34"/>
            <p:cNvSpPr/>
            <p:nvPr/>
          </p:nvSpPr>
          <p:spPr>
            <a:xfrm rot="20796600">
              <a:off x="5838840" y="6330600"/>
              <a:ext cx="29700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35"/>
            <p:cNvSpPr/>
            <p:nvPr/>
          </p:nvSpPr>
          <p:spPr>
            <a:xfrm rot="20796600">
              <a:off x="5740200" y="6280560"/>
              <a:ext cx="496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98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38"/>
            <p:cNvSpPr/>
            <p:nvPr/>
          </p:nvSpPr>
          <p:spPr>
            <a:xfrm rot="20796600">
              <a:off x="159192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2057040" y="318600"/>
            <a:ext cx="629640" cy="612000"/>
            <a:chOff x="2057040" y="318600"/>
            <a:chExt cx="629640" cy="612000"/>
          </a:xfrm>
        </p:grpSpPr>
        <p:sp>
          <p:nvSpPr>
            <p:cNvPr id="102" name="Rectangle 41"/>
            <p:cNvSpPr/>
            <p:nvPr/>
          </p:nvSpPr>
          <p:spPr>
            <a:xfrm rot="20796600">
              <a:off x="2205720" y="393120"/>
              <a:ext cx="429120" cy="4942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42"/>
            <p:cNvSpPr/>
            <p:nvPr/>
          </p:nvSpPr>
          <p:spPr>
            <a:xfrm rot="20796600">
              <a:off x="2167200" y="413640"/>
              <a:ext cx="29844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43"/>
            <p:cNvSpPr/>
            <p:nvPr/>
          </p:nvSpPr>
          <p:spPr>
            <a:xfrm rot="20796600">
              <a:off x="2073240" y="373680"/>
              <a:ext cx="498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44"/>
          <p:cNvGrpSpPr/>
          <p:nvPr/>
        </p:nvGrpSpPr>
        <p:grpSpPr>
          <a:xfrm>
            <a:off x="609840" y="4262040"/>
            <a:ext cx="634680" cy="618120"/>
            <a:chOff x="609840" y="4262040"/>
            <a:chExt cx="634680" cy="618120"/>
          </a:xfrm>
        </p:grpSpPr>
        <p:sp>
          <p:nvSpPr>
            <p:cNvPr id="106" name="Rectangle 45"/>
            <p:cNvSpPr/>
            <p:nvPr/>
          </p:nvSpPr>
          <p:spPr>
            <a:xfrm rot="20799000">
              <a:off x="768600" y="4343400"/>
              <a:ext cx="424440" cy="4942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46"/>
            <p:cNvSpPr/>
            <p:nvPr/>
          </p:nvSpPr>
          <p:spPr>
            <a:xfrm rot="20799000">
              <a:off x="736200" y="4366080"/>
              <a:ext cx="294480" cy="19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47"/>
            <p:cNvSpPr/>
            <p:nvPr/>
          </p:nvSpPr>
          <p:spPr>
            <a:xfrm rot="20799000">
              <a:off x="638280" y="4314960"/>
              <a:ext cx="49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110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114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Oval 2"/>
          <p:cNvSpPr/>
          <p:nvPr/>
        </p:nvSpPr>
        <p:spPr>
          <a:xfrm>
            <a:off x="41400" y="259704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9360">
            <a:solidFill>
              <a:srgbClr val="cd541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43"/>
          <p:cNvSpPr/>
          <p:nvPr/>
        </p:nvSpPr>
        <p:spPr>
          <a:xfrm>
            <a:off x="2244600" y="5794200"/>
            <a:ext cx="226872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9360">
            <a:solidFill>
              <a:srgbClr val="1852a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44"/>
          <p:cNvSpPr/>
          <p:nvPr/>
        </p:nvSpPr>
        <p:spPr>
          <a:xfrm>
            <a:off x="5802480" y="513720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9360">
            <a:solidFill>
              <a:srgbClr val="39813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47"/>
          <p:cNvSpPr/>
          <p:nvPr/>
        </p:nvSpPr>
        <p:spPr>
          <a:xfrm>
            <a:off x="6278400" y="1282680"/>
            <a:ext cx="226728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9360">
            <a:solidFill>
              <a:srgbClr val="39813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5" descr="PDP4.jpg"/>
          <p:cNvPicPr/>
          <p:nvPr/>
        </p:nvPicPr>
        <p:blipFill>
          <a:blip r:embed="rId11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PDP4.jpg"/>
          <p:cNvPicPr/>
          <p:nvPr/>
        </p:nvPicPr>
        <p:blipFill>
          <a:blip r:embed="rId12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PDP4.jpg"/>
          <p:cNvPicPr/>
          <p:nvPr/>
        </p:nvPicPr>
        <p:blipFill>
          <a:blip r:embed="rId13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PDP4.jpg"/>
          <p:cNvPicPr/>
          <p:nvPr/>
        </p:nvPicPr>
        <p:blipFill>
          <a:blip r:embed="rId14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400" y="258480"/>
            <a:ext cx="185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o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: GAC and GNSO fully aligned in the PD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4211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Ste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  <a:tr h="2316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irm whether these are the objectives &amp; expectations and/or whether any additions / revisions are nee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otential objectives &amp; expecta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btain updates &amp; ale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 of GNSO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reate greater sensitivity within the GNSO regarding what may constitute public policy concerns and would/could require GAC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s to raise issues that would require GNSO policy consid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btain responses to questions and be able to convey questions / requires for further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finding common grounds in case of conflicting vie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otential objectives &amp; expecta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Encourage timely GAC input into GNSO Policy Development Activ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rovide a mechanism to flag upcoming GNSO policy issues / answer / relay GAC ques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 of GAC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ongoing dialog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finding common grounds in case of conflicting vie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1523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are the options to be considered to achieve these objectives? Any additional one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Aim for comments in the first two comment periods, rather than the l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velop “issue triggers” for staff and participants to watch for and take proactive 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Explore options for informal, issue-focused GAC (joint GAC/GNSO?) drafting teams to frame issues, draft comments and funnel the conversation between WGs, the GAC and the GNSO Council for analysis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rovide sufficient lead time (and align comment deadlines with GAC meeting schedule) to allow time for deliberation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coordination between GAC and GNSO secretari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notification of pending issues and work deadlines, both dire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279440"/>
          <a:ext cx="8229600" cy="55166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scribe option in det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trive for GAC comments in “ID &amp; Launch” or “Develop Consensus” phases of the P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velop of list of key topics that are likely to be of interest to the GAC and watch PDPs for th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mall groups, like this one, which can develop concepts and drafts for formal review &amp;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Keep a close eye on the calendar, also schedule comment periods to align with the GAC work cycl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harter a joint steering group to help align the efforts of the three teams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documentation, training, work processes and par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76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How does this mechanism achieve the objectiv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MS Mincho"/>
                        </a:rPr>
                        <a:t>Common ground, timely input, ongoing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sensitivity within GNSO, raise issues, common ground, timely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, common ground, ongoing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Greater sensitivity, raise issues, timely input,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greater sensitivity, responses to questions, better understanding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better understanding, common ground, timely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What are potential issues /complicatio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54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How would this work in practic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s additional funding required to implemen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ay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Would it be possible to implement this option as a pilo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ike O'Connor</cp:lastModifiedBy>
  <dcterms:modified xsi:type="dcterms:W3CDTF">2014-02-19T15:56:18Z</dcterms:modified>
  <cp:revision>489</cp:revision>
  <dc:subject/>
  <dc:title>PowerPoint Presentation</dc:title>
</cp:coreProperties>
</file>