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2C2-8AFB-4D6A-B40C-94E6C102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3D76-CE51-4586-B1A9-673125B0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3FF-5ABE-404C-BA72-FE6A86D0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6D9-94AA-4BA7-BF1A-659C7B0C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FC9-659B-4FB9-89DF-AEFE756B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0FB-3D2C-4414-925A-DF207655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30D-B017-4072-A0DD-65537192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ABB-D330-49D5-AC0A-13AEBC5B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61C-A994-47BC-A95C-121006D4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F16-57E6-4024-8B3F-4E58C4DD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58B-8907-4E82-9793-3BA7FFB2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AE6-2A4E-414A-9522-8C291ABB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4DA24-252B-46DB-AF59-93A8C02A0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PDP Process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9360">
            <a:solidFill>
              <a:srgbClr val="1852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00" y="258480"/>
            <a:ext cx="185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: GAC and GNSO fully aligned in the P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St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231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rm whether these are the objectives &amp; expectations and/or whether any additions / revisions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updates &amp; ale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NSO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reate greater sensitivity within the GNSO regarding what may constitute public policy concerns and would/could require GAC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s to raise issues that would require GNSO policy consi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responses to questions and be able to convey questions / requires for further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ncourage timely GAC input into GNSO Policy Development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a mechanism to flag upcoming GNSO policy issues / answer / relay GAC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AC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ongoing dialog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1523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options to be considered to achieve these objectives? Any additional on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im for comments in the first two comment periods, rather than the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“issue triggers” for staff and participants to watch for and take proactive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xplore options for informal, issue-focused GAC (joint GAC/GNSO?) drafting teams to frame issues, draft comments and funnel the conversation between WGs, the GAC and the GNSO Council for analysis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sufficient lead time (and align comment deadlines with GAC meeting schedule) to allow time for deliberation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coordination between GAC and GNSO secretari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notification of pending issues and work deadlines, both dir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279440"/>
          <a:ext cx="8229600" cy="5516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scribe option in 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ive for GAC comments in “ID &amp; Launch” or “Develop Consensus” phases of the P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of list of key topics that are likely to be of interest to the GAC and watch PDPs for th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mall groups, like this one, which can develop concepts and drafts for formal review &amp;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Keep a close eye on the calendar, also schedule comment periods to align with the GAC work cycl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harter a joint steering group to help align the efforts of the three team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documentation, training, work processes and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does this mechanism achieve the object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MS Mincho"/>
                        </a:rPr>
                        <a:t>Common ground, timely input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sensitivity within GNSO, raise issues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, common ground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Greater sensitivity, raise issues, timely input,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greater sensitivity, responses to questions, better understanding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better understanding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hat are potential issues /complica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would this work in practi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s additional funding required to impl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y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ould it be possible to implement this option as a pilo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19T15:56:18Z</dcterms:modified>
  <cp:revision>489</cp:revision>
  <dc:subject/>
  <dc:title>PowerPoint Presentation</dc:title>
</cp:coreProperties>
</file>