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151-F3A6-46DE-8D9D-BE758898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D7B-C787-41C2-83E7-B6ACB027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A97-A644-4ED1-8CAE-004178AB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03B-B101-4AE0-B6B0-354957B2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BAB-F9F4-4963-9C06-CE6E74C0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0C2-FE33-4DE6-91EB-BB848897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CEC-E5E5-4475-9F7C-A9267269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790-C42A-4F70-8C2D-927D2728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B82-5BE1-489B-842B-9E035DBE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18C-D3A3-44F8-96E4-32A2D007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740-B291-4A58-8978-87FE73E3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4C9-078C-4DEF-96DC-70824FF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9AEDC-90C8-4416-A22E-04AA04572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9T15:56:18Z</dcterms:modified>
  <cp:revision>489</cp:revision>
  <dc:subject/>
  <dc:title>PowerPoint Presentation</dc:title>
</cp:coreProperties>
</file>