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B1CF-CF58-4DEA-B5A6-0CE29E0F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313F-054F-4094-A85F-1D8B025C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025D-78C3-4A03-945A-4FDBCBB8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84C-0D0C-44AE-A485-445397F3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7AC-BC8F-4FCE-B283-7E40B192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07D-81D0-460C-BDDB-CCCC3584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B85-8DF5-4847-98FB-05C9091B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5DA-31DF-497E-8A3B-3A091DD3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AAC-860D-46E8-A461-5FBF8730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C95-EB21-4820-861B-62E06E48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B59D-5C38-4D17-AD7F-E09D99DC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B26B-9F58-489A-8362-788A6D25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6BDE5-7CD9-4FD8-8ED6-873313413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NSO PDP Process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 – V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51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4"/>
            <p:cNvSpPr/>
            <p:nvPr/>
          </p:nvSpPr>
          <p:spPr>
            <a:xfrm rot="20796600">
              <a:off x="6392520" y="4496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55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30"/>
            <p:cNvSpPr/>
            <p:nvPr/>
          </p:nvSpPr>
          <p:spPr>
            <a:xfrm rot="20796600">
              <a:off x="79390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59" name="Rectangle 33"/>
            <p:cNvSpPr/>
            <p:nvPr/>
          </p:nvSpPr>
          <p:spPr>
            <a:xfrm rot="20796600">
              <a:off x="5872680" y="6299640"/>
              <a:ext cx="427680" cy="4942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34"/>
            <p:cNvSpPr/>
            <p:nvPr/>
          </p:nvSpPr>
          <p:spPr>
            <a:xfrm rot="20796600">
              <a:off x="5838840" y="6330600"/>
              <a:ext cx="29700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35"/>
            <p:cNvSpPr/>
            <p:nvPr/>
          </p:nvSpPr>
          <p:spPr>
            <a:xfrm rot="20796600">
              <a:off x="5740200" y="6280560"/>
              <a:ext cx="496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63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38"/>
            <p:cNvSpPr/>
            <p:nvPr/>
          </p:nvSpPr>
          <p:spPr>
            <a:xfrm rot="20796600">
              <a:off x="15919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67" name="Rectangle 41"/>
            <p:cNvSpPr/>
            <p:nvPr/>
          </p:nvSpPr>
          <p:spPr>
            <a:xfrm rot="20796600">
              <a:off x="2205720" y="393120"/>
              <a:ext cx="429120" cy="4942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42"/>
            <p:cNvSpPr/>
            <p:nvPr/>
          </p:nvSpPr>
          <p:spPr>
            <a:xfrm rot="20796600">
              <a:off x="2167200" y="413640"/>
              <a:ext cx="29844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43"/>
            <p:cNvSpPr/>
            <p:nvPr/>
          </p:nvSpPr>
          <p:spPr>
            <a:xfrm rot="20796600">
              <a:off x="2073240" y="373680"/>
              <a:ext cx="498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44"/>
          <p:cNvGrpSpPr/>
          <p:nvPr/>
        </p:nvGrpSpPr>
        <p:grpSpPr>
          <a:xfrm>
            <a:off x="609840" y="4262040"/>
            <a:ext cx="634680" cy="618120"/>
            <a:chOff x="609840" y="4262040"/>
            <a:chExt cx="634680" cy="618120"/>
          </a:xfrm>
        </p:grpSpPr>
        <p:sp>
          <p:nvSpPr>
            <p:cNvPr id="71" name="Rectangle 45"/>
            <p:cNvSpPr/>
            <p:nvPr/>
          </p:nvSpPr>
          <p:spPr>
            <a:xfrm rot="20799000">
              <a:off x="768600" y="4343400"/>
              <a:ext cx="424440" cy="4942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 rot="20799000">
              <a:off x="736200" y="4366080"/>
              <a:ext cx="294480" cy="19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47"/>
            <p:cNvSpPr/>
            <p:nvPr/>
          </p:nvSpPr>
          <p:spPr>
            <a:xfrm rot="20799000">
              <a:off x="638280" y="4314960"/>
              <a:ext cx="49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75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79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86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4"/>
            <p:cNvSpPr/>
            <p:nvPr/>
          </p:nvSpPr>
          <p:spPr>
            <a:xfrm rot="20796600">
              <a:off x="6392520" y="4496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90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0"/>
            <p:cNvSpPr/>
            <p:nvPr/>
          </p:nvSpPr>
          <p:spPr>
            <a:xfrm rot="20796600">
              <a:off x="79390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94" name="Rectangle 33"/>
            <p:cNvSpPr/>
            <p:nvPr/>
          </p:nvSpPr>
          <p:spPr>
            <a:xfrm rot="20796600">
              <a:off x="5872680" y="6299640"/>
              <a:ext cx="427680" cy="494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34"/>
            <p:cNvSpPr/>
            <p:nvPr/>
          </p:nvSpPr>
          <p:spPr>
            <a:xfrm rot="20796600">
              <a:off x="5838840" y="6330600"/>
              <a:ext cx="29700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35"/>
            <p:cNvSpPr/>
            <p:nvPr/>
          </p:nvSpPr>
          <p:spPr>
            <a:xfrm rot="20796600">
              <a:off x="5740200" y="6280560"/>
              <a:ext cx="496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98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38"/>
            <p:cNvSpPr/>
            <p:nvPr/>
          </p:nvSpPr>
          <p:spPr>
            <a:xfrm rot="20796600">
              <a:off x="15919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102" name="Rectangle 41"/>
            <p:cNvSpPr/>
            <p:nvPr/>
          </p:nvSpPr>
          <p:spPr>
            <a:xfrm rot="20796600">
              <a:off x="2205720" y="393120"/>
              <a:ext cx="429120" cy="494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 rot="20796600">
              <a:off x="2167200" y="413640"/>
              <a:ext cx="29844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43"/>
            <p:cNvSpPr/>
            <p:nvPr/>
          </p:nvSpPr>
          <p:spPr>
            <a:xfrm rot="20796600">
              <a:off x="2073240" y="373680"/>
              <a:ext cx="498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44"/>
          <p:cNvGrpSpPr/>
          <p:nvPr/>
        </p:nvGrpSpPr>
        <p:grpSpPr>
          <a:xfrm>
            <a:off x="609840" y="4262040"/>
            <a:ext cx="634680" cy="618120"/>
            <a:chOff x="609840" y="4262040"/>
            <a:chExt cx="634680" cy="618120"/>
          </a:xfrm>
        </p:grpSpPr>
        <p:sp>
          <p:nvSpPr>
            <p:cNvPr id="106" name="Rectangle 45"/>
            <p:cNvSpPr/>
            <p:nvPr/>
          </p:nvSpPr>
          <p:spPr>
            <a:xfrm rot="20799000">
              <a:off x="768600" y="4343400"/>
              <a:ext cx="424440" cy="494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46"/>
            <p:cNvSpPr/>
            <p:nvPr/>
          </p:nvSpPr>
          <p:spPr>
            <a:xfrm rot="20799000">
              <a:off x="736200" y="4366080"/>
              <a:ext cx="294480" cy="19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47"/>
            <p:cNvSpPr/>
            <p:nvPr/>
          </p:nvSpPr>
          <p:spPr>
            <a:xfrm rot="20799000">
              <a:off x="638280" y="4314960"/>
              <a:ext cx="49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10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14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9360">
            <a:solidFill>
              <a:srgbClr val="1852a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00" y="258480"/>
            <a:ext cx="185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o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: GAC and GNSO fully aligned in the P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211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Ste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2316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irm whether these are the objectives &amp; expectations and/or whether any additions / revisions are nee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updates &amp; ale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NSO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reate greater sensitivity within the GNSO regarding what may constitute public policy concerns and would/could require GAC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s to raise issues that would require GNSO policy consid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responses to questions and be able to convey questions / requires for further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ncourage timely GAC input into GNSO Policy Development Activ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a mechanism to flag upcoming GNSO policy issues / answer / relay GAC 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AC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ongoing dialog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1523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options to be considered to achieve these objectives? Any additional on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Aim for comments in the first two comment periods, rather than the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“issue triggers” for staff and participants to watch for and take proactive 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xplore options for informal, issue-focused GAC (joint GAC/GNSO?) drafting teams to frame issues, draft comments and funnel the conversation between WGs, the GAC and the GNSO Council for analysis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sufficient lead time (and align comment deadlines with GAC meeting schedule) to allow time for deliberation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coordination between GAC and GNSO secretari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notification of pending issues and work deadlines, both dire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279440"/>
          <a:ext cx="8229600" cy="55166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scribe option in de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rive for GAC comments in “ID &amp; Launch” or “Develop Consensus” phases of the P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of list of key topics that are likely to be of interest to the GAC and watch PDPs for th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mall groups, like this one, which can develop concepts and drafts for formal review &amp;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Keep a close eye on the calendar, also schedule comment periods to align with the GAC work cycl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harter a joint steering group to help align the efforts of the three team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documentation, training, work processes and 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does this mechanism achieve the objectiv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MS Mincho"/>
                        </a:rPr>
                        <a:t>Common ground, timely input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sensitivity within GNSO, raise issues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, common ground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Greater sensitivity, raise issues, timely input,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greater sensitivity, responses to questions, better understanding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better understanding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hat are potential issues /complicat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would this work in practic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s additional funding required to implemen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ay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ould it be possible to implement this option as a pilo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2-19T15:56:18Z</dcterms:modified>
  <cp:revision>489</cp:revision>
  <dc:subject/>
  <dc:title>PowerPoint Presentation</dc:title>
</cp:coreProperties>
</file>