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589-67FE-4F3B-9A3E-07BAA02F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A90-09B4-4EF4-93AE-6A8E05F3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C5E-8D74-4CD4-8E6A-8633CC9C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42D-BC57-4638-93F4-28D156C9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F2C-EB40-4B79-BD87-F7F4D4FA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D4F-753A-49D2-93A2-90CADC07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3193-E0EC-40D6-9584-411157DD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E9E-0036-47E3-A1D1-AF1E14CB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20C-699D-462E-825D-6B0B6F05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50F-3A57-4969-B9DD-33404F3D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576-1237-48DE-BC2E-0663611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6A5-DD54-4181-A731-9B3B463B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18390-FCD4-4322-956F-7DA8545FA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748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72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6200"/>
            <a:ext cx="628200" cy="610920"/>
            <a:chOff x="5724000" y="6226200"/>
            <a:chExt cx="628200" cy="61092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3040" y="6298200"/>
              <a:ext cx="427320" cy="495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960"/>
              <a:ext cx="29664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048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960"/>
            <a:ext cx="629640" cy="611640"/>
            <a:chOff x="2057040" y="318960"/>
            <a:chExt cx="629640" cy="61164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6080" y="391680"/>
              <a:ext cx="428760" cy="495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5400" y="412200"/>
              <a:ext cx="29808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480"/>
            <a:chOff x="609840" y="4262040"/>
            <a:chExt cx="634680" cy="61848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7880" y="4341960"/>
              <a:ext cx="42516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5120" y="4364280"/>
              <a:ext cx="29520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6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748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72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6200"/>
            <a:ext cx="628200" cy="610920"/>
            <a:chOff x="5724000" y="6226200"/>
            <a:chExt cx="628200" cy="61092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3040" y="6298200"/>
              <a:ext cx="427320" cy="495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960"/>
              <a:ext cx="29664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048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960"/>
            <a:ext cx="629640" cy="611640"/>
            <a:chOff x="2057040" y="318960"/>
            <a:chExt cx="629640" cy="61164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6080" y="391680"/>
              <a:ext cx="428760" cy="495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5400" y="412200"/>
              <a:ext cx="29808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480"/>
            <a:chOff x="609840" y="4262040"/>
            <a:chExt cx="634680" cy="61848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7880" y="4341960"/>
              <a:ext cx="425160" cy="496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5120" y="4364280"/>
              <a:ext cx="29520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6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0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9"/>
          <p:cNvSpPr/>
          <p:nvPr/>
        </p:nvSpPr>
        <p:spPr>
          <a:xfrm>
            <a:off x="2536920" y="1317600"/>
            <a:ext cx="6514920" cy="24782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7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3033720" y="2066760"/>
            <a:ext cx="1441440" cy="1587600"/>
            <a:chOff x="3033720" y="2066760"/>
            <a:chExt cx="1441440" cy="1587600"/>
          </a:xfrm>
        </p:grpSpPr>
        <p:sp>
          <p:nvSpPr>
            <p:cNvPr id="130" name="Freeform 3"/>
            <p:cNvSpPr/>
            <p:nvPr/>
          </p:nvSpPr>
          <p:spPr>
            <a:xfrm>
              <a:off x="3033720" y="2066760"/>
              <a:ext cx="1441440" cy="1587600"/>
            </a:xfrm>
            <a:prstGeom prst="pie">
              <a:avLst/>
            </a:prstGeom>
            <a:gradFill rotWithShape="0">
              <a:gsLst>
                <a:gs pos="0">
                  <a:srgbClr val="fbe7e7"/>
                </a:gs>
                <a:gs pos="100000">
                  <a:srgbClr val="f0a8a8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1960" rIns="111960" tIns="937440" bIns="85320" anchor="t">
              <a:noAutofit/>
            </a:bodyPr>
            <a:p>
              <a:pPr lvl="1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quests for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lvl="1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articipa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lvl="1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3105720" y="2347200"/>
              <a:ext cx="1009080" cy="498240"/>
            </a:xfrm>
            <a:prstGeom prst="pie">
              <a:avLst/>
            </a:prstGeom>
            <a:gradFill rotWithShape="0">
              <a:gsLst>
                <a:gs pos="0">
                  <a:srgbClr val="99b0fc"/>
                </a:gs>
                <a:gs pos="100000">
                  <a:srgbClr val="0751bc"/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760" rIns="59760" tIns="21600" bIns="21600" anchor="ctr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Queue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108" descr=""/>
          <p:cNvPicPr/>
          <p:nvPr/>
        </p:nvPicPr>
        <p:blipFill>
          <a:blip r:embed="rId1"/>
          <a:stretch/>
        </p:blipFill>
        <p:spPr>
          <a:xfrm>
            <a:off x="4203720" y="4427640"/>
            <a:ext cx="2347920" cy="1788840"/>
          </a:xfrm>
          <a:prstGeom prst="rect">
            <a:avLst/>
          </a:prstGeom>
          <a:ln w="0">
            <a:noFill/>
          </a:ln>
        </p:spPr>
      </p:pic>
      <p:sp>
        <p:nvSpPr>
          <p:cNvPr id="133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249" h="3846244">
                <a:moveTo>
                  <a:pt x="0" y="3846244"/>
                </a:moveTo>
                <a:lnTo>
                  <a:pt x="0" y="1408281"/>
                </a:lnTo>
                <a:cubicBezTo>
                  <a:pt x="0" y="630509"/>
                  <a:pt x="630509" y="0"/>
                  <a:pt x="1408281" y="0"/>
                </a:cubicBezTo>
                <a:lnTo>
                  <a:pt x="2005716" y="0"/>
                </a:lnTo>
                <a:cubicBezTo>
                  <a:pt x="2783488" y="0"/>
                  <a:pt x="3413997" y="630509"/>
                  <a:pt x="3413997" y="1408281"/>
                </a:cubicBezTo>
                <a:lnTo>
                  <a:pt x="3413997" y="1408281"/>
                </a:lnTo>
                <a:lnTo>
                  <a:pt x="3830249" y="1408281"/>
                </a:lnTo>
                <a:lnTo>
                  <a:pt x="2879811" y="2342593"/>
                </a:lnTo>
                <a:lnTo>
                  <a:pt x="1929373" y="1408281"/>
                </a:lnTo>
                <a:lnTo>
                  <a:pt x="2345625" y="1408281"/>
                </a:lnTo>
                <a:lnTo>
                  <a:pt x="2345625" y="1408281"/>
                </a:lnTo>
                <a:cubicBezTo>
                  <a:pt x="2345625" y="1220554"/>
                  <a:pt x="2193443" y="1068372"/>
                  <a:pt x="2005716" y="1068372"/>
                </a:cubicBezTo>
                <a:lnTo>
                  <a:pt x="1408281" y="1068371"/>
                </a:lnTo>
                <a:cubicBezTo>
                  <a:pt x="1220554" y="1068371"/>
                  <a:pt x="1068372" y="1220553"/>
                  <a:pt x="1068372" y="1408280"/>
                </a:cubicBezTo>
                <a:cubicBezTo>
                  <a:pt x="1068372" y="2220935"/>
                  <a:pt x="1068371" y="3033589"/>
                  <a:pt x="1068371" y="3846244"/>
                </a:cubicBezTo>
                <a:lnTo>
                  <a:pt x="0" y="3846244"/>
                </a:lnTo>
                <a:close/>
              </a:path>
            </a:pathLst>
          </a:custGeom>
          <a:gradFill rotWithShape="0">
            <a:gsLst>
              <a:gs pos="0">
                <a:srgbClr val="aedfad"/>
              </a:gs>
              <a:gs pos="100000">
                <a:srgbClr val="328d2d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27"/>
          <p:cNvSpPr/>
          <p:nvPr/>
        </p:nvSpPr>
        <p:spPr>
          <a:xfrm>
            <a:off x="1517040" y="27208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U-Turn Arrow 26"/>
          <p:cNvSpPr/>
          <p:nvPr/>
        </p:nvSpPr>
        <p:spPr>
          <a:xfrm flipH="1" flipV="1" rot="16200000">
            <a:off x="4979880" y="2261880"/>
            <a:ext cx="3829320" cy="3846600"/>
          </a:xfrm>
          <a:custGeom>
            <a:avLst/>
            <a:gdLst/>
            <a:ahLst/>
            <a:rect l="l" t="t" r="r" b="b"/>
            <a:pathLst>
              <a:path w="3830251" h="3846244">
                <a:moveTo>
                  <a:pt x="0" y="3846244"/>
                </a:moveTo>
                <a:lnTo>
                  <a:pt x="0" y="1408280"/>
                </a:lnTo>
                <a:cubicBezTo>
                  <a:pt x="0" y="630508"/>
                  <a:pt x="630508" y="0"/>
                  <a:pt x="1408280" y="0"/>
                </a:cubicBezTo>
                <a:lnTo>
                  <a:pt x="2005718" y="0"/>
                </a:lnTo>
                <a:cubicBezTo>
                  <a:pt x="2783490" y="0"/>
                  <a:pt x="3413998" y="630508"/>
                  <a:pt x="3413998" y="1408280"/>
                </a:cubicBezTo>
                <a:lnTo>
                  <a:pt x="3413998" y="1408280"/>
                </a:lnTo>
                <a:lnTo>
                  <a:pt x="3830251" y="1408280"/>
                </a:lnTo>
                <a:lnTo>
                  <a:pt x="2879813" y="2342593"/>
                </a:lnTo>
                <a:lnTo>
                  <a:pt x="1929374" y="1408280"/>
                </a:lnTo>
                <a:lnTo>
                  <a:pt x="2345627" y="1408280"/>
                </a:lnTo>
                <a:lnTo>
                  <a:pt x="2345627" y="1408280"/>
                </a:lnTo>
                <a:cubicBezTo>
                  <a:pt x="2345627" y="1220554"/>
                  <a:pt x="2193445" y="1068372"/>
                  <a:pt x="2005719" y="1068372"/>
                </a:cubicBezTo>
                <a:lnTo>
                  <a:pt x="1408280" y="1068372"/>
                </a:lnTo>
                <a:cubicBezTo>
                  <a:pt x="1220554" y="1068372"/>
                  <a:pt x="1068372" y="1220554"/>
                  <a:pt x="1068372" y="1408280"/>
                </a:cubicBezTo>
                <a:lnTo>
                  <a:pt x="1068372" y="3846244"/>
                </a:lnTo>
                <a:lnTo>
                  <a:pt x="0" y="3846244"/>
                </a:lnTo>
                <a:close/>
              </a:path>
            </a:pathLst>
          </a:custGeom>
          <a:gradFill rotWithShape="0">
            <a:gsLst>
              <a:gs pos="0">
                <a:srgbClr val="aedfad"/>
              </a:gs>
              <a:gs pos="100000">
                <a:srgbClr val="328d2d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Diagram 111" descr=""/>
          <p:cNvPicPr/>
          <p:nvPr/>
        </p:nvPicPr>
        <p:blipFill>
          <a:blip r:embed="rId2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28"/>
          <p:cNvSpPr/>
          <p:nvPr/>
        </p:nvSpPr>
        <p:spPr>
          <a:xfrm>
            <a:off x="6895080" y="480528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Diagram 27" descr=""/>
          <p:cNvPicPr/>
          <p:nvPr/>
        </p:nvPicPr>
        <p:blipFill>
          <a:blip r:embed="rId3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or event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  <p:sp>
        <p:nvSpPr>
          <p:cNvPr id="143" name="Rectangle 1"/>
          <p:cNvSpPr/>
          <p:nvPr/>
        </p:nvSpPr>
        <p:spPr>
          <a:xfrm>
            <a:off x="1587600" y="1036800"/>
            <a:ext cx="4744800" cy="242640"/>
          </a:xfrm>
          <a:prstGeom prst="rect">
            <a:avLst/>
          </a:prstGeom>
          <a:gradFill rotWithShape="0">
            <a:gsLst>
              <a:gs pos="0">
                <a:srgbClr val="eaf6ea"/>
              </a:gs>
              <a:gs pos="100000">
                <a:srgbClr val="b2dcb0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332400" y="395280"/>
            <a:ext cx="2354400" cy="884160"/>
          </a:xfrm>
          <a:prstGeom prst="rect">
            <a:avLst/>
          </a:prstGeom>
          <a:gradFill rotWithShape="0">
            <a:gsLst>
              <a:gs pos="0">
                <a:srgbClr val="efebf5"/>
              </a:gs>
              <a:gs pos="100000">
                <a:srgbClr val="c4b7db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Engagement AND Day to Day Op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28T20:21:42Z</dcterms:modified>
  <cp:revision>607</cp:revision>
  <dc:subject/>
  <dc:title>PowerPoint Presentation</dc:title>
</cp:coreProperties>
</file>