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792-3BF4-4867-8756-4431A081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37B-1345-4D15-A92E-D35F4B1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7EA-EF78-4D51-9ABC-575F4D3E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EA1-A530-4B49-863D-2C925DC8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7AB-8E24-4327-9BD1-EE9C9D6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9D0-FA0B-49F8-A427-717570F7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25F-0FB8-4985-8B1D-A6D62870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AD7-CD56-40DC-9DD3-709605D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BE4-A04C-4280-BF2E-6C40121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00C-F96A-41FB-94C5-2759A6E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878-A893-443A-92BB-91CC2CE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C5F-B9A3-408D-93CE-6128773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DF8CD-A4C3-4EDA-B704-F3AA2EC68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186600" y="4481640"/>
            <a:ext cx="2957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90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the multi-stakeholder nature of the organization as early as possible and directly between the GNSO and the GAC rather than through the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3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67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71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75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79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83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87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91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Diagram 5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98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102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106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110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14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118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22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26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 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9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412928" y="1408737"/>
                </a:ln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111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8"/>
          <p:cNvSpPr/>
          <p:nvPr/>
        </p:nvSpPr>
        <p:spPr>
          <a:xfrm>
            <a:off x="6745680" y="45594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Diagram 27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"/>
          <p:cNvPicPr/>
          <p:nvPr/>
        </p:nvPicPr>
        <p:blipFill>
          <a:blip r:embed="rId3"/>
          <a:stretch/>
        </p:blipFill>
        <p:spPr>
          <a:xfrm>
            <a:off x="3930480" y="4235400"/>
            <a:ext cx="29577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05T02:59:16Z</dcterms:modified>
  <cp:revision>692</cp:revision>
  <dc:subject/>
  <dc:title>PowerPoint Presentation</dc:title>
</cp:coreProperties>
</file>