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1C8-A931-4910-870E-EADBF2E5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55EF-C1C1-456C-9681-D918B08B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5C23-4807-4DE2-8465-85E59298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C09-D614-4BE7-B494-D403CEAA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895-D9C2-4EB2-AE70-830CA799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99A-708B-4DFB-A5E2-94B0E898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2F0-89D6-4D18-A90C-5DC435AB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AFC-BA2D-4854-93A8-CD34FF41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E59-0A93-4B94-BBED-77450A60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71F-DD71-45B6-8279-1A61E36D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C3D-898C-42E0-ACF9-DEBD7112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E416-8349-49D9-88CB-5505EF2E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713E5-E40B-46D2-AAB3-2BE22605E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3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-GNSO Consultation Group on 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C Early Engagement in Policy Development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7080" y="434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RAFT – V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arch,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6186600" y="4481640"/>
            <a:ext cx="295740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que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990720"/>
            <a:ext cx="9144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ge 1: Identify and laun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end the Uniform Dispute Resolution Polic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iform Rapid Suspens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UDRP/URS) procedu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 enable access to them by protected International Governmental Organiz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International Non-Governmental Organiz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GO/INGOs) – Preliminary Issue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ross Community Working Grou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Drafting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&amp; Metrics for Policy Mak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alibri"/>
              </a:rPr>
              <a:t>Stage 2: Develop consens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vacy &amp; Proxy Services Accreditation Issu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PSAI) 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anslation and Transliteration of Contact Inform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y &amp; 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7bc477"/>
                </a:solidFill>
                <a:latin typeface="Calibri"/>
              </a:rPr>
              <a:t>Stage 3: Refine and endo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-Registrar Transfer Poli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RTP) Part D Policy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760" y="1419120"/>
            <a:ext cx="912024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is wide agreement on the need to engage the GAC early within the GNSO PD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sue has been identifi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-Board Joint Working Group (J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ard-GAC Recommendation Implementation Working Group (BGRI-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to be ga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fficient P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decisions at the Board level, as this give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tter chance and more probability for the GAC and the GNSO to find an agreed way for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ing from the multi-stakeholder nature of the organization as early as possible and directly between the GNSO and the GAC rather than through the 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ATRT recommendations, also widely supported by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 and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4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AC early engagement in GNSO PDP projects and closer functional coordination between the GAC and the GNSO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going smooth and timely information exchan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going smooth early eng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GAC in GNSO PDP proje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dure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w to proceed in cases where GAC early input is in conflict with a GNSO proposal and a mutual agreement could not be re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al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mmodating the different working metho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7086600" y="2540160"/>
            <a:ext cx="1925640" cy="4317840"/>
          </a:xfrm>
          <a:prstGeom prst="rect">
            <a:avLst/>
          </a:prstGeom>
          <a:gradFill rotWithShape="0">
            <a:gsLst>
              <a:gs pos="0">
                <a:srgbClr val="ffe6e0"/>
              </a:gs>
              <a:gs pos="100000">
                <a:srgbClr val="ffa692"/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e99871"/>
                </a:solidFill>
                <a:latin typeface="Calibri"/>
              </a:rPr>
              <a:t>Shar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racks of work 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y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000" y="1560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y-to-day ongoing cooper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Manal Ismail and Jonathan Robinson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Suzanne Radell and Mikey O’Conn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73280" y="53020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7200"/>
                <a:gridCol w="162864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73280" y="27082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7200"/>
                <a:gridCol w="162864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 Liaison to the G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gular interaction between GAC and GNSO Ch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opic leads buddy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think recurring joint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63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24"/>
            <p:cNvSpPr/>
            <p:nvPr/>
          </p:nvSpPr>
          <p:spPr>
            <a:xfrm rot="20796600">
              <a:off x="6391080" y="4460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67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30"/>
            <p:cNvSpPr/>
            <p:nvPr/>
          </p:nvSpPr>
          <p:spPr>
            <a:xfrm rot="20796600">
              <a:off x="79354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71" name="Rectangle 33"/>
            <p:cNvSpPr/>
            <p:nvPr/>
          </p:nvSpPr>
          <p:spPr>
            <a:xfrm rot="20796600">
              <a:off x="5871600" y="6296400"/>
              <a:ext cx="428400" cy="4978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34"/>
            <p:cNvSpPr/>
            <p:nvPr/>
          </p:nvSpPr>
          <p:spPr>
            <a:xfrm rot="20796600">
              <a:off x="5838840" y="6330960"/>
              <a:ext cx="29736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35"/>
            <p:cNvSpPr/>
            <p:nvPr/>
          </p:nvSpPr>
          <p:spPr>
            <a:xfrm rot="20796600">
              <a:off x="5740200" y="6280560"/>
              <a:ext cx="497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75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38"/>
            <p:cNvSpPr/>
            <p:nvPr/>
          </p:nvSpPr>
          <p:spPr>
            <a:xfrm rot="20796600">
              <a:off x="15883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79" name="Rectangle 41"/>
            <p:cNvSpPr/>
            <p:nvPr/>
          </p:nvSpPr>
          <p:spPr>
            <a:xfrm rot="20796600">
              <a:off x="2204640" y="389520"/>
              <a:ext cx="429840" cy="4978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42"/>
            <p:cNvSpPr/>
            <p:nvPr/>
          </p:nvSpPr>
          <p:spPr>
            <a:xfrm rot="20796600">
              <a:off x="2163960" y="412200"/>
              <a:ext cx="29880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43"/>
            <p:cNvSpPr/>
            <p:nvPr/>
          </p:nvSpPr>
          <p:spPr>
            <a:xfrm rot="20796600">
              <a:off x="2073240" y="373320"/>
              <a:ext cx="498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Group 44"/>
          <p:cNvGrpSpPr/>
          <p:nvPr/>
        </p:nvGrpSpPr>
        <p:grpSpPr>
          <a:xfrm>
            <a:off x="609840" y="4261680"/>
            <a:ext cx="634680" cy="618840"/>
            <a:chOff x="609840" y="4261680"/>
            <a:chExt cx="634680" cy="618840"/>
          </a:xfrm>
        </p:grpSpPr>
        <p:sp>
          <p:nvSpPr>
            <p:cNvPr id="83" name="Rectangle 45"/>
            <p:cNvSpPr/>
            <p:nvPr/>
          </p:nvSpPr>
          <p:spPr>
            <a:xfrm rot="20799000">
              <a:off x="766440" y="4341240"/>
              <a:ext cx="426600" cy="4964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46"/>
            <p:cNvSpPr/>
            <p:nvPr/>
          </p:nvSpPr>
          <p:spPr>
            <a:xfrm rot="20799000">
              <a:off x="733680" y="436212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47"/>
            <p:cNvSpPr/>
            <p:nvPr/>
          </p:nvSpPr>
          <p:spPr>
            <a:xfrm rot="20799000">
              <a:off x="638280" y="43146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87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91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Diagram 5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98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24"/>
            <p:cNvSpPr/>
            <p:nvPr/>
          </p:nvSpPr>
          <p:spPr>
            <a:xfrm rot="20796600">
              <a:off x="6391080" y="4460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102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0"/>
            <p:cNvSpPr/>
            <p:nvPr/>
          </p:nvSpPr>
          <p:spPr>
            <a:xfrm rot="20796600">
              <a:off x="79354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106" name="Rectangle 33"/>
            <p:cNvSpPr/>
            <p:nvPr/>
          </p:nvSpPr>
          <p:spPr>
            <a:xfrm rot="20796600">
              <a:off x="5871600" y="6296400"/>
              <a:ext cx="428400" cy="497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4"/>
            <p:cNvSpPr/>
            <p:nvPr/>
          </p:nvSpPr>
          <p:spPr>
            <a:xfrm rot="20796600">
              <a:off x="5838840" y="6330960"/>
              <a:ext cx="29736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35"/>
            <p:cNvSpPr/>
            <p:nvPr/>
          </p:nvSpPr>
          <p:spPr>
            <a:xfrm rot="20796600">
              <a:off x="5740200" y="6280560"/>
              <a:ext cx="497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110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38"/>
            <p:cNvSpPr/>
            <p:nvPr/>
          </p:nvSpPr>
          <p:spPr>
            <a:xfrm rot="20796600">
              <a:off x="15883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114" name="Rectangle 41"/>
            <p:cNvSpPr/>
            <p:nvPr/>
          </p:nvSpPr>
          <p:spPr>
            <a:xfrm rot="20796600">
              <a:off x="2204640" y="389520"/>
              <a:ext cx="429840" cy="4978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42"/>
            <p:cNvSpPr/>
            <p:nvPr/>
          </p:nvSpPr>
          <p:spPr>
            <a:xfrm rot="20796600">
              <a:off x="2163960" y="412200"/>
              <a:ext cx="29880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43"/>
            <p:cNvSpPr/>
            <p:nvPr/>
          </p:nvSpPr>
          <p:spPr>
            <a:xfrm rot="20796600">
              <a:off x="2073240" y="373320"/>
              <a:ext cx="498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44"/>
          <p:cNvGrpSpPr/>
          <p:nvPr/>
        </p:nvGrpSpPr>
        <p:grpSpPr>
          <a:xfrm>
            <a:off x="609840" y="4261680"/>
            <a:ext cx="634680" cy="618840"/>
            <a:chOff x="609840" y="4261680"/>
            <a:chExt cx="634680" cy="618840"/>
          </a:xfrm>
        </p:grpSpPr>
        <p:sp>
          <p:nvSpPr>
            <p:cNvPr id="118" name="Rectangle 45"/>
            <p:cNvSpPr/>
            <p:nvPr/>
          </p:nvSpPr>
          <p:spPr>
            <a:xfrm rot="20799000">
              <a:off x="766440" y="4341240"/>
              <a:ext cx="426600" cy="4964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46"/>
            <p:cNvSpPr/>
            <p:nvPr/>
          </p:nvSpPr>
          <p:spPr>
            <a:xfrm rot="20799000">
              <a:off x="733680" y="436212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47"/>
            <p:cNvSpPr/>
            <p:nvPr/>
          </p:nvSpPr>
          <p:spPr>
            <a:xfrm rot="20799000">
              <a:off x="638280" y="43146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22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26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0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your reac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is the right approac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e we asking the right 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ere something we have overlook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 have an example of our early thinking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9"/>
          <p:cNvSpPr/>
          <p:nvPr/>
        </p:nvSpPr>
        <p:spPr>
          <a:xfrm>
            <a:off x="2629080" y="1382760"/>
            <a:ext cx="6514920" cy="24778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07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2743200" y="1643040"/>
            <a:ext cx="2038320" cy="2217600"/>
          </a:xfrm>
          <a:prstGeom prst="pie">
            <a:avLst/>
          </a:prstGeom>
          <a:gradFill rotWithShape="0">
            <a:gsLst>
              <a:gs pos="0">
                <a:srgbClr val="fbe7e7"/>
              </a:gs>
              <a:gs pos="100000">
                <a:srgbClr val="f0a8a8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960" rIns="111960" tIns="937440" bIns="85320" anchor="t">
            <a:noAutofit/>
          </a:bodyPr>
          <a:p>
            <a:pPr lvl="1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est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2921040" y="1763640"/>
            <a:ext cx="1390680" cy="496800"/>
          </a:xfrm>
          <a:prstGeom prst="pie">
            <a:avLst/>
          </a:prstGeom>
          <a:gradFill rotWithShape="0">
            <a:gsLst>
              <a:gs pos="0">
                <a:srgbClr val="f6a3a2"/>
              </a:gs>
              <a:gs pos="100000">
                <a:srgbClr val="b33431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9760" rIns="59760" tIns="21600" bIns="21600" anchor="ctr">
            <a:noAutofit/>
          </a:bodyPr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e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638" h="3846513">
                <a:moveTo>
                  <a:pt x="0" y="3846513"/>
                </a:moveTo>
                <a:lnTo>
                  <a:pt x="0" y="1408350"/>
                </a:lnTo>
                <a:cubicBezTo>
                  <a:pt x="0" y="630540"/>
                  <a:pt x="630540" y="0"/>
                  <a:pt x="1408350" y="0"/>
                </a:cubicBezTo>
                <a:lnTo>
                  <a:pt x="2005994" y="0"/>
                </a:lnTo>
                <a:cubicBezTo>
                  <a:pt x="2783804" y="0"/>
                  <a:pt x="3414344" y="630540"/>
                  <a:pt x="3414344" y="1408350"/>
                </a:cubicBezTo>
                <a:lnTo>
                  <a:pt x="3414343" y="1408350"/>
                </a:lnTo>
                <a:lnTo>
                  <a:pt x="3830638" y="1408350"/>
                </a:lnTo>
                <a:lnTo>
                  <a:pt x="2880103" y="2342757"/>
                </a:lnTo>
                <a:lnTo>
                  <a:pt x="1929569" y="1408350"/>
                </a:lnTo>
                <a:lnTo>
                  <a:pt x="2345864" y="1408350"/>
                </a:lnTo>
                <a:lnTo>
                  <a:pt x="2345864" y="1408350"/>
                </a:lnTo>
                <a:cubicBezTo>
                  <a:pt x="2345864" y="1220645"/>
                  <a:pt x="2193699" y="1068480"/>
                  <a:pt x="2005994" y="1068480"/>
                </a:cubicBezTo>
                <a:lnTo>
                  <a:pt x="1408350" y="1068480"/>
                </a:lnTo>
                <a:cubicBezTo>
                  <a:pt x="1220645" y="1068480"/>
                  <a:pt x="1068480" y="1220645"/>
                  <a:pt x="1068480" y="1408350"/>
                </a:cubicBezTo>
                <a:lnTo>
                  <a:pt x="1068480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27"/>
          <p:cNvSpPr/>
          <p:nvPr/>
        </p:nvSpPr>
        <p:spPr>
          <a:xfrm>
            <a:off x="974520" y="25732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U-Turn Arrow 26"/>
          <p:cNvSpPr/>
          <p:nvPr/>
        </p:nvSpPr>
        <p:spPr>
          <a:xfrm flipH="1" flipV="1" rot="16200000">
            <a:off x="4979880" y="2261880"/>
            <a:ext cx="3829320" cy="3846600"/>
          </a:xfrm>
          <a:custGeom>
            <a:avLst/>
            <a:gdLst/>
            <a:ahLst/>
            <a:rect l="l" t="t" r="r" b="b"/>
            <a:pathLst>
              <a:path w="3829050" h="3846513">
                <a:moveTo>
                  <a:pt x="0" y="3846513"/>
                </a:moveTo>
                <a:lnTo>
                  <a:pt x="0" y="1408737"/>
                </a:lnTo>
                <a:cubicBezTo>
                  <a:pt x="0" y="630713"/>
                  <a:pt x="630713" y="0"/>
                  <a:pt x="1408737" y="0"/>
                </a:cubicBezTo>
                <a:lnTo>
                  <a:pt x="2004191" y="0"/>
                </a:lnTo>
                <a:cubicBezTo>
                  <a:pt x="2782215" y="0"/>
                  <a:pt x="3412928" y="630713"/>
                  <a:pt x="3412928" y="1408737"/>
                </a:cubicBezTo>
                <a:lnTo>
                  <a:pt x="3412928" y="1408737"/>
                </a:lnTo>
                <a:lnTo>
                  <a:pt x="3829050" y="1408737"/>
                </a:lnTo>
                <a:lnTo>
                  <a:pt x="2878910" y="2342757"/>
                </a:lnTo>
                <a:lnTo>
                  <a:pt x="1928769" y="1408737"/>
                </a:lnTo>
                <a:lnTo>
                  <a:pt x="2344891" y="1408737"/>
                </a:lnTo>
                <a:lnTo>
                  <a:pt x="2344891" y="1408737"/>
                </a:lnTo>
                <a:cubicBezTo>
                  <a:pt x="2344891" y="1220574"/>
                  <a:pt x="2192354" y="1068037"/>
                  <a:pt x="2004191" y="1068037"/>
                </a:cubicBezTo>
                <a:lnTo>
                  <a:pt x="1408737" y="1068037"/>
                </a:lnTo>
                <a:cubicBezTo>
                  <a:pt x="1220574" y="1068037"/>
                  <a:pt x="1068037" y="1220574"/>
                  <a:pt x="1068037" y="1408737"/>
                </a:cubicBezTo>
                <a:lnTo>
                  <a:pt x="1068037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Diagram 111" descr=""/>
          <p:cNvPicPr/>
          <p:nvPr/>
        </p:nvPicPr>
        <p:blipFill>
          <a:blip r:embed="rId1"/>
          <a:stretch/>
        </p:blipFill>
        <p:spPr>
          <a:xfrm>
            <a:off x="6473880" y="143820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28"/>
          <p:cNvSpPr/>
          <p:nvPr/>
        </p:nvSpPr>
        <p:spPr>
          <a:xfrm>
            <a:off x="6745680" y="4559400"/>
            <a:ext cx="196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ent &am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r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Diagram 27" descr=""/>
          <p:cNvPicPr/>
          <p:nvPr/>
        </p:nvPicPr>
        <p:blipFill>
          <a:blip r:embed="rId2"/>
          <a:stretch/>
        </p:blipFill>
        <p:spPr>
          <a:xfrm>
            <a:off x="0" y="3859200"/>
            <a:ext cx="2468520" cy="24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" descr=""/>
          <p:cNvPicPr/>
          <p:nvPr/>
        </p:nvPicPr>
        <p:blipFill>
          <a:blip r:embed="rId3"/>
          <a:stretch/>
        </p:blipFill>
        <p:spPr>
          <a:xfrm>
            <a:off x="3930480" y="4235400"/>
            <a:ext cx="295776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3-05T02:59:16Z</dcterms:modified>
  <cp:revision>692</cp:revision>
  <dc:subject/>
  <dc:title>PowerPoint Presentation</dc:title>
</cp:coreProperties>
</file>