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B25-0039-43E1-84B6-8E9E68E3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AEA-BBDC-4A76-B7B8-AEB9AF8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B17-048F-4D89-946A-5BAF03B8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107-05E3-4066-9354-9B0B9592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059-FCA0-48CE-837F-4F73C85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AAC-42B3-4486-9544-FAF02D5D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6B1-8B22-4727-A108-685DCFB6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595-4B82-4212-B0DC-4A3A3D2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9B6-3D53-4BAB-A302-C78A8A47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EF9-EFD0-4D42-B236-D7C71DC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8C4-CAD4-4F13-9FF0-23F49E6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E5C-6398-481E-9479-E169B24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B54B9-0A4F-4172-9AA5-47A73C7E5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186600" y="4481640"/>
            <a:ext cx="2957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90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the multi-stakeholder nature of the organization as early as possible and directly between the GNSO and the GAC rather than through the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3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67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71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75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79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83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87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91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Diagram 5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98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102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106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110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14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118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22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26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 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9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412928" y="1408737"/>
                </a:ln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111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8"/>
          <p:cNvSpPr/>
          <p:nvPr/>
        </p:nvSpPr>
        <p:spPr>
          <a:xfrm>
            <a:off x="6745680" y="45594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Diagram 27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"/>
          <p:cNvPicPr/>
          <p:nvPr/>
        </p:nvPicPr>
        <p:blipFill>
          <a:blip r:embed="rId3"/>
          <a:stretch/>
        </p:blipFill>
        <p:spPr>
          <a:xfrm>
            <a:off x="3930480" y="4235400"/>
            <a:ext cx="29577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05T02:59:16Z</dcterms:modified>
  <cp:revision>692</cp:revision>
  <dc:subject/>
  <dc:title>PowerPoint Presentation</dc:title>
</cp:coreProperties>
</file>