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nal Ismail" initials="M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4-03-05T09:39:37.211000000" idx="1">
    <p:pos x="4503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429-2088-4C0F-8A42-BB143FA5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4C2-0A0E-4B87-AAEE-1E8CD1B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F6E-E7CA-456E-8975-99B22540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310-A9E0-421F-9377-A11892E9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667-27BA-4D14-AE06-BB6D0B5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2E4-5FB2-4001-A9C3-35D1B65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FAB-1248-4183-833D-375FF92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98F-9B9C-431F-97C5-C792F83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160-B0DF-4F90-A052-EE86F7D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6B1-9FE4-4066-83A3-607AB29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37E-BFD1-436B-8546-3FE9AD8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1BB-B5CD-4D88-B453-D63C47D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70DFA-3465-473D-A8D3-19E0B10E3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hyperlink" Target="http://tinyurl.com/Charter-GAC-GNS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2"/>
              </a:rPr>
              <a:t>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9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3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7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81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5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9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3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0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4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8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2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6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20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4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8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’s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6T12:44:21Z</dcterms:modified>
  <cp:revision>713</cp:revision>
  <dc:subject/>
  <dc:title>PowerPoint Presentation</dc:title>
</cp:coreProperties>
</file>