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nal Ismail" initials="MI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4-03-05T09:39:37.211000000" idx="1">
    <p:pos x="4503" y="2765"/>
    <p:text>we can mention here the community request for funding a GNSO liaison to the GAC, noting that it was filed to meet the deadline of ICANN fiscal year and is not intended to pre-empt the discussion on the different options .. we should also note that, if decided, it can be withdrawn at any point. 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0FF-0161-4A47-9399-EA2709A0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1B0-B021-4C20-B4C0-10A3E054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AD1-71B7-4441-89D6-0B8EAF55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12E-4B7E-4A84-B2F3-C7CA1040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175-2291-4F45-8517-5CA80CB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8CB-3FBF-4706-AF1D-2533FB18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6D7-4C6D-4D90-A32F-8C4CE2E4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997A-CFA4-474C-91D4-09C95643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4F1-4AE1-463F-83E9-21A5EC85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621-25BC-44CB-8A77-BE0FF588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DD2-4C51-48B5-919E-D20383E4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3CD-C116-4415-8DCE-3941EB1C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C28F5-F8B6-482B-A0EB-BED3AD6F1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Charter-GAC-GNSO" TargetMode="External"/><Relationship Id="rId2" Type="http://schemas.openxmlformats.org/officeDocument/2006/relationships/hyperlink" Target="http://tinyurl.com/Charter-GAC-GNSO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3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-GNSO Consultation Group on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C Early Engagement in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NS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olicy Development 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7080" y="434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RAFT – V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rch,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186600" y="4481640"/>
            <a:ext cx="29574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reac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is the right approa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re we asking the right 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there something we have overlook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hen would be a reasonable date to receive your comments or green l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have an example of our early thinking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9"/>
          <p:cNvSpPr/>
          <p:nvPr/>
        </p:nvSpPr>
        <p:spPr>
          <a:xfrm>
            <a:off x="2629080" y="1382760"/>
            <a:ext cx="6514920" cy="24778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743200" y="1643040"/>
            <a:ext cx="2038320" cy="2217600"/>
          </a:xfrm>
          <a:prstGeom prst="pie">
            <a:avLst/>
          </a:prstGeom>
          <a:gradFill rotWithShape="0">
            <a:gsLst>
              <a:gs pos="0">
                <a:srgbClr val="fbe7e7"/>
              </a:gs>
              <a:gs pos="100000">
                <a:srgbClr val="f0a8a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960" rIns="111960" tIns="937440" bIns="85320" anchor="t">
            <a:noAutofit/>
          </a:bodyPr>
          <a:p>
            <a:pPr lvl="1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Calibri"/>
              <a:buChar char="•"/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2921040" y="1763640"/>
            <a:ext cx="1390680" cy="496800"/>
          </a:xfrm>
          <a:prstGeom prst="pie">
            <a:avLst/>
          </a:prstGeom>
          <a:gradFill rotWithShape="0">
            <a:gsLst>
              <a:gs pos="0">
                <a:srgbClr val="f6a3a2"/>
              </a:gs>
              <a:gs pos="100000">
                <a:srgbClr val="b33431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9760" rIns="59760" tIns="21600" bIns="2160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e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638" h="3846513">
                <a:moveTo>
                  <a:pt x="0" y="3846513"/>
                </a:moveTo>
                <a:lnTo>
                  <a:pt x="0" y="1408350"/>
                </a:lnTo>
                <a:cubicBezTo>
                  <a:pt x="0" y="630540"/>
                  <a:pt x="630540" y="0"/>
                  <a:pt x="1408350" y="0"/>
                </a:cubicBezTo>
                <a:lnTo>
                  <a:pt x="2005994" y="0"/>
                </a:lnTo>
                <a:cubicBezTo>
                  <a:pt x="2783804" y="0"/>
                  <a:pt x="3414344" y="630540"/>
                  <a:pt x="3414344" y="1408350"/>
                </a:cubicBezTo>
                <a:lnTo>
                  <a:pt x="3414343" y="1408350"/>
                </a:lnTo>
                <a:lnTo>
                  <a:pt x="3830638" y="1408350"/>
                </a:lnTo>
                <a:lnTo>
                  <a:pt x="2880103" y="2342757"/>
                </a:lnTo>
                <a:lnTo>
                  <a:pt x="1929569" y="1408350"/>
                </a:lnTo>
                <a:lnTo>
                  <a:pt x="2345864" y="1408350"/>
                </a:lnTo>
                <a:cubicBezTo>
                  <a:pt x="2345864" y="1220645"/>
                  <a:pt x="2193699" y="1068480"/>
                  <a:pt x="2005994" y="1068480"/>
                </a:cubicBezTo>
                <a:lnTo>
                  <a:pt x="1408350" y="1068480"/>
                </a:lnTo>
                <a:cubicBezTo>
                  <a:pt x="1220645" y="1068480"/>
                  <a:pt x="1068480" y="1220645"/>
                  <a:pt x="1068480" y="1408350"/>
                </a:cubicBezTo>
                <a:lnTo>
                  <a:pt x="1068480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27"/>
          <p:cNvSpPr/>
          <p:nvPr/>
        </p:nvSpPr>
        <p:spPr>
          <a:xfrm>
            <a:off x="974520" y="257328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29050" h="3846513">
                <a:moveTo>
                  <a:pt x="0" y="3846513"/>
                </a:moveTo>
                <a:lnTo>
                  <a:pt x="0" y="1408737"/>
                </a:lnTo>
                <a:cubicBezTo>
                  <a:pt x="0" y="630713"/>
                  <a:pt x="630713" y="0"/>
                  <a:pt x="1408737" y="0"/>
                </a:cubicBezTo>
                <a:lnTo>
                  <a:pt x="2004191" y="0"/>
                </a:lnTo>
                <a:cubicBezTo>
                  <a:pt x="2782215" y="0"/>
                  <a:pt x="3412928" y="630713"/>
                  <a:pt x="3412928" y="1408737"/>
                </a:cubicBezTo>
                <a:lnTo>
                  <a:pt x="3829050" y="1408737"/>
                </a:lnTo>
                <a:lnTo>
                  <a:pt x="2878910" y="2342757"/>
                </a:lnTo>
                <a:lnTo>
                  <a:pt x="1928769" y="1408737"/>
                </a:lnTo>
                <a:lnTo>
                  <a:pt x="2344891" y="1408737"/>
                </a:lnTo>
                <a:cubicBezTo>
                  <a:pt x="2344891" y="1220574"/>
                  <a:pt x="2192354" y="1068037"/>
                  <a:pt x="2004191" y="1068037"/>
                </a:cubicBezTo>
                <a:lnTo>
                  <a:pt x="1408737" y="1068037"/>
                </a:lnTo>
                <a:cubicBezTo>
                  <a:pt x="1220574" y="1068037"/>
                  <a:pt x="1068037" y="1220574"/>
                  <a:pt x="1068037" y="1408737"/>
                </a:cubicBezTo>
                <a:lnTo>
                  <a:pt x="1068037" y="3846513"/>
                </a:lnTo>
                <a:lnTo>
                  <a:pt x="0" y="3846513"/>
                </a:lnTo>
                <a:close/>
              </a:path>
            </a:pathLst>
          </a:custGeom>
          <a:gradFill rotWithShape="0">
            <a:gsLst>
              <a:gs pos="0">
                <a:srgbClr val="99b0fc"/>
              </a:gs>
              <a:gs pos="100000">
                <a:srgbClr val="0751bc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Diagram 111" descr=""/>
          <p:cNvPicPr/>
          <p:nvPr/>
        </p:nvPicPr>
        <p:blipFill>
          <a:blip r:embed="rId1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8"/>
          <p:cNvSpPr/>
          <p:nvPr/>
        </p:nvSpPr>
        <p:spPr>
          <a:xfrm>
            <a:off x="6745680" y="4559400"/>
            <a:ext cx="19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Diagram 27" descr=""/>
          <p:cNvPicPr/>
          <p:nvPr/>
        </p:nvPicPr>
        <p:blipFill>
          <a:blip r:embed="rId2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3930480" y="4235400"/>
            <a:ext cx="295776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que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90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ge 1: Identify and lau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mend the Uniform Dispute Resolution Polic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form Rapid Suspen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UDRP/URS) procedu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enable access to them by protected International Governmental Organiz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International Non-Governmental Organiz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GO/INGOs) – Preliminary Issue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oss Community Working Group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Drafting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&amp; Metrics for Policy Mak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libri"/>
              </a:rPr>
              <a:t>Stage 2: Develop cons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vacy &amp; Proxy Services Accreditation Issu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PSAI) 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anslation and Transliteration of Contact Inform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cy 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&amp; 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Non-PDP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bc477"/>
                </a:solidFill>
                <a:latin typeface="Calibri"/>
              </a:rPr>
              <a:t>Stage 3: Refine and endo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RTP) Part D Policy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760" y="1419120"/>
            <a:ext cx="91202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is wide agreement on the need to engage the GAC early within the GNSO PD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sue has been identifi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-Board Joint Working Group (J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ard-GAC Recommendation Implementation Working Group (BGRI-W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 and Transparency Review Team (ATRT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to be ga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P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er decisions at the Board level, as this giv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ter chance and more probability for the GAC and the GNSO to find an agreed way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ing from the multi-stakeholder nature of the organization as early as possible and directly between the GNSO and the GAC rather than through the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ATRT recommendations, also widely supported by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 and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4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C early engagement in GNSO PDP projects and closer functional coordination between the GAC and the GNSO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and timely information ex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s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going smooth early engag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GAC in GNSO PDP proje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greed procedure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proceed in cases where GAC early input is in conflict with a GNSO proposal and a mutual agreement could not be re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5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als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commodating the different working metho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GAC and the GN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lete description of this effort is included in the Chart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1"/>
              </a:rPr>
              <a:t>TinyURL.com</a:t>
            </a:r>
            <a:r>
              <a:rPr b="0" lang="en-US" sz="3200" spc="-1" strike="noStrike" u="sng">
                <a:solidFill>
                  <a:srgbClr val="0000d4"/>
                </a:solidFill>
                <a:uFillTx/>
                <a:latin typeface="Calibri"/>
                <a:hlinkClick r:id="rId2"/>
              </a:rPr>
              <a:t>/Charter-GAC-G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er approved by the group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GAC and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by the GAC and the GNSO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 date for GAC/GNSO approval –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7086600" y="2540160"/>
            <a:ext cx="1925640" cy="4317840"/>
          </a:xfrm>
          <a:prstGeom prst="rect">
            <a:avLst/>
          </a:prstGeom>
          <a:gradFill rotWithShape="0">
            <a:gsLst>
              <a:gs pos="0">
                <a:srgbClr val="ffe6e0"/>
              </a:gs>
              <a:gs pos="100000">
                <a:srgbClr val="ffa692"/>
              </a:gs>
            </a:gsLst>
            <a:lin ang="5400000"/>
          </a:gradFill>
          <a:ln w="9360">
            <a:solidFill>
              <a:srgbClr val="cd541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99871"/>
                </a:solidFill>
                <a:latin typeface="Calibri"/>
              </a:rPr>
              <a:t>Shar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tracks of work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ly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000" y="1560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y-to-day ongoing coope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Manal Ismail and Jonathan Robinson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-led by Suzanne Radell and Mikey O’Conn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73280" y="53020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7200"/>
                <a:gridCol w="162864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73280" y="2708280"/>
          <a:ext cx="8138880" cy="1371600"/>
        </p:xfrm>
        <a:graphic>
          <a:graphicData uri="http://schemas.openxmlformats.org/drawingml/2006/table">
            <a:tbl>
              <a:tblPr/>
              <a:tblGrid>
                <a:gridCol w="1627200"/>
                <a:gridCol w="1628640"/>
                <a:gridCol w="1627200"/>
                <a:gridCol w="1628640"/>
                <a:gridCol w="162720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 Liaison to the G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gular interaction between GAC and GNSO Cha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opic leads buddy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Rethink recurring joint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65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69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73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77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81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85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89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93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Diagram 5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100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24"/>
            <p:cNvSpPr/>
            <p:nvPr/>
          </p:nvSpPr>
          <p:spPr>
            <a:xfrm rot="20796600">
              <a:off x="6391080" y="44604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104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 rot="20796600">
              <a:off x="79354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32"/>
          <p:cNvGrpSpPr/>
          <p:nvPr/>
        </p:nvGrpSpPr>
        <p:grpSpPr>
          <a:xfrm>
            <a:off x="5724000" y="6225840"/>
            <a:ext cx="628200" cy="611280"/>
            <a:chOff x="5724000" y="6225840"/>
            <a:chExt cx="628200" cy="611280"/>
          </a:xfrm>
        </p:grpSpPr>
        <p:sp>
          <p:nvSpPr>
            <p:cNvPr id="108" name="Rectangle 33"/>
            <p:cNvSpPr/>
            <p:nvPr/>
          </p:nvSpPr>
          <p:spPr>
            <a:xfrm rot="20796600">
              <a:off x="5871600" y="6296400"/>
              <a:ext cx="428400" cy="497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34"/>
            <p:cNvSpPr/>
            <p:nvPr/>
          </p:nvSpPr>
          <p:spPr>
            <a:xfrm rot="20796600">
              <a:off x="5838840" y="6330960"/>
              <a:ext cx="29736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35"/>
            <p:cNvSpPr/>
            <p:nvPr/>
          </p:nvSpPr>
          <p:spPr>
            <a:xfrm rot="20796600">
              <a:off x="5740200" y="6280560"/>
              <a:ext cx="497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112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38"/>
            <p:cNvSpPr/>
            <p:nvPr/>
          </p:nvSpPr>
          <p:spPr>
            <a:xfrm rot="20796600">
              <a:off x="158832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40"/>
          <p:cNvGrpSpPr/>
          <p:nvPr/>
        </p:nvGrpSpPr>
        <p:grpSpPr>
          <a:xfrm>
            <a:off x="2057040" y="318600"/>
            <a:ext cx="629640" cy="612000"/>
            <a:chOff x="2057040" y="318600"/>
            <a:chExt cx="629640" cy="612000"/>
          </a:xfrm>
        </p:grpSpPr>
        <p:sp>
          <p:nvSpPr>
            <p:cNvPr id="116" name="Rectangle 41"/>
            <p:cNvSpPr/>
            <p:nvPr/>
          </p:nvSpPr>
          <p:spPr>
            <a:xfrm rot="20796600">
              <a:off x="2204640" y="389520"/>
              <a:ext cx="429840" cy="497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42"/>
            <p:cNvSpPr/>
            <p:nvPr/>
          </p:nvSpPr>
          <p:spPr>
            <a:xfrm rot="20796600">
              <a:off x="2163960" y="412200"/>
              <a:ext cx="298800" cy="1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43"/>
            <p:cNvSpPr/>
            <p:nvPr/>
          </p:nvSpPr>
          <p:spPr>
            <a:xfrm rot="20796600">
              <a:off x="2073240" y="373320"/>
              <a:ext cx="498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44"/>
          <p:cNvGrpSpPr/>
          <p:nvPr/>
        </p:nvGrpSpPr>
        <p:grpSpPr>
          <a:xfrm>
            <a:off x="609840" y="4261680"/>
            <a:ext cx="634680" cy="618840"/>
            <a:chOff x="609840" y="4261680"/>
            <a:chExt cx="634680" cy="618840"/>
          </a:xfrm>
        </p:grpSpPr>
        <p:sp>
          <p:nvSpPr>
            <p:cNvPr id="120" name="Rectangle 45"/>
            <p:cNvSpPr/>
            <p:nvPr/>
          </p:nvSpPr>
          <p:spPr>
            <a:xfrm rot="20799000">
              <a:off x="766440" y="4341240"/>
              <a:ext cx="426600" cy="496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46"/>
            <p:cNvSpPr/>
            <p:nvPr/>
          </p:nvSpPr>
          <p:spPr>
            <a:xfrm rot="20799000">
              <a:off x="733680" y="4362120"/>
              <a:ext cx="29628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47"/>
            <p:cNvSpPr/>
            <p:nvPr/>
          </p:nvSpPr>
          <p:spPr>
            <a:xfrm rot="20799000">
              <a:off x="638280" y="43146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24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28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Ongoing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r each option, we are currently working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Its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achieves the agreed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Potential issues or questions to be add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How it works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it requires additional 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hether it’s possible to implement it as a pi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Overall assessment in terms of pros and c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3-16T12:44:21Z</dcterms:modified>
  <cp:revision>713</cp:revision>
  <dc:subject/>
  <dc:title>PowerPoint Presentation</dc:title>
</cp:coreProperties>
</file>