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nal Ismail" initials="M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4-03-05T09:39:37.211000000" idx="1">
    <p:pos x="4503" y="2765"/>
    <p:text>we can mention here the community request for funding a GNSO liaison to the GAC, noting that it was filed to meet the deadline of ICANN fiscal year and is not intended to pre-empt the discussion on the different options .. we should also note that, if decided, it can be withdrawn at any point. 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1FF-6798-4DB6-AEDD-3E2B8E88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901-F2A0-4E94-9D9A-44C952A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022-7189-4119-A31F-174045F1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6FB-789E-42B4-B003-830E3B0C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CB8-017A-4A49-8332-5A813F95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E20-9578-4A19-8893-22EAD294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A7F-0A30-4A8D-8AA4-423E5F01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2EB-A854-4237-AF61-5D4530E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EFF-731D-48A8-9C9C-B8E3820C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303-A226-4DC6-A499-086D6E8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92A-8C39-4A02-8A42-0AEDF12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EFE-0170-4AA9-9CED-B83EF458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6F7E2-D20F-47F7-AFE7-2812111F3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hyperlink" Target="http://tinyurl.com/Charter-GAC-GNSO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NS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186600" y="4481640"/>
            <a:ext cx="29574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 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9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Diagram 111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8"/>
          <p:cNvSpPr/>
          <p:nvPr/>
        </p:nvSpPr>
        <p:spPr>
          <a:xfrm>
            <a:off x="6745680" y="45594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Diagram 27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930480" y="4235400"/>
            <a:ext cx="29577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90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the multi-stakeholder nature of the organization as early as possible and directly between the GNSO and the GAC rather than through the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2"/>
              </a:rPr>
              <a:t>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date for GAC/GNSO approval –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5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69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73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77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81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85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89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93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5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00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104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108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112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16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120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24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28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’s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6T12:44:21Z</dcterms:modified>
  <cp:revision>713</cp:revision>
  <dc:subject/>
  <dc:title>PowerPoint Presentation</dc:title>
</cp:coreProperties>
</file>