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comments/comment3.xml" ContentType="application/vnd.openxmlformats-officedocument.presentationml.comments+xml"/>
  <Override PartName="/ppt/comments/comment10.xml" ContentType="application/vnd.openxmlformats-officedocument.presentationml.comments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1" name="Manal Ismail" initials="MI" lastIdx="1" clrIdx="1"/>
  <p:cmAuthor id="0" name="Jonathan Robinson" initials="JR" lastIdx="4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<Relationship Id="rId16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4-03-17T09:40:34.720000000" idx="4">
    <p:pos x="4349" y="3603"/>
    <p:text>Removed "We have"</p:text>
  </p:cm>
</p:cmLst>
</file>

<file path=ppt/comments/comment3.xml><?xml version="1.0" encoding="utf-8"?>
<p:cmLst xmlns:p="http://schemas.openxmlformats.org/presentationml/2006/main">
  <p:cm authorId="0" dt="2014-03-17T09:20:06.633000000" idx="1">
    <p:pos x="5419" y="1190"/>
    <p:text>Bold provides emphasis.  Reduced to a single font size throughout bullet</p:text>
  </p:cm>
  <p:cm authorId="0" dt="2014-03-17T09:39:42.153000000" idx="2">
    <p:pos x="5278" y="2048"/>
    <p:text>Removed four instances of "the"</p:text>
  </p:cm>
</p:cmLst>
</file>

<file path=ppt/comments/comment9.xml><?xml version="1.0" encoding="utf-8"?>
<p:cmLst xmlns:p="http://schemas.openxmlformats.org/presentationml/2006/main">
  <p:cm authorId="1" dt="2014-03-05T09:39:37.211000000" idx="1">
    <p:pos x="4494" y="2765"/>
    <p:text>we can mention here the community request for funding a GNSO liaison to the GAC, noting that it was filed to meet the deadline of ICANN fiscal year and is not intended to pre-empt the discussion on the different options .. we should also note that, if decided, it can be withdrawn at any point.  </p:text>
  </p:cm>
  <p:cm authorId="0" dt="2014-03-17T09:25:04.616000000" idx="3">
    <p:pos x="5112" y="3187"/>
    <p:text>Removed "it's"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D7AB-419E-44B9-B801-59C8D6D3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63EE-E457-4374-8FD6-6F7D5BAD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1DF1-ACB2-4654-8091-B7B5C039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4EB7-72F9-42F2-9FBE-7261382F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37FC-0738-4CD4-B182-D1819733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ECBE-82E8-4A45-9743-832C9858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E878-041A-40D4-9D3B-D366AE50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07C1-BB3A-477B-AC19-193B92E3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44FC-3D50-483D-9AED-D8163C37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34EE-039A-4991-9AEE-046EF13D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00EB-5635-42EF-A583-7ED1A128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7FE-A5FD-4B17-911F-EF60F5BE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0291E-48BF-415C-87CE-712DFC1F3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3320" y="0"/>
            <a:ext cx="27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Draft – for discussion purposes on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inyurl.com/Charter-GAC-GNSO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3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-GNSO Consultation Group on 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AC Early Engagement in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GNSO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Policy Development 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7080" y="434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RAFT – V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or Discussion Purposes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March,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6296040" y="4562640"/>
            <a:ext cx="3014640" cy="22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your reac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is the right approach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re we asking the right question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ere something we have overlook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When would be a reasonable date to receive your comments or green ligh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 example of our early thinking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4"/>
          <p:cNvSpPr/>
          <p:nvPr/>
        </p:nvSpPr>
        <p:spPr>
          <a:xfrm>
            <a:off x="2629080" y="1382760"/>
            <a:ext cx="6514920" cy="24778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7240" y="4064040"/>
            <a:ext cx="6573600" cy="273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licy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6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ing PDP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17"/>
          <p:cNvSpPr/>
          <p:nvPr/>
        </p:nvSpPr>
        <p:spPr>
          <a:xfrm>
            <a:off x="2743200" y="1643040"/>
            <a:ext cx="2038320" cy="2217600"/>
          </a:xfrm>
          <a:prstGeom prst="pie">
            <a:avLst/>
          </a:prstGeom>
          <a:gradFill rotWithShape="0">
            <a:gsLst>
              <a:gs pos="0">
                <a:srgbClr val="fbe7e7"/>
              </a:gs>
              <a:gs pos="100000">
                <a:srgbClr val="f0a8a8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1960" rIns="111960" tIns="937440" bIns="85320" anchor="t">
            <a:noAutofit/>
          </a:bodyPr>
          <a:p>
            <a:pPr lvl="1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Requests f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18"/>
          <p:cNvSpPr/>
          <p:nvPr/>
        </p:nvSpPr>
        <p:spPr>
          <a:xfrm>
            <a:off x="2921040" y="1763640"/>
            <a:ext cx="1390680" cy="496800"/>
          </a:xfrm>
          <a:prstGeom prst="pie">
            <a:avLst/>
          </a:prstGeom>
          <a:gradFill rotWithShape="0">
            <a:gsLst>
              <a:gs pos="0">
                <a:srgbClr val="f6a3a2"/>
              </a:gs>
              <a:gs pos="100000">
                <a:srgbClr val="b33431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9760" rIns="59760" tIns="21600" bIns="21600" anchor="ctr">
            <a:noAutofit/>
          </a:bodyPr>
          <a:p>
            <a:pPr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e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U-Turn Arrow 118"/>
          <p:cNvSpPr/>
          <p:nvPr/>
        </p:nvSpPr>
        <p:spPr>
          <a:xfrm flipH="1" flipV="1" rot="5400000">
            <a:off x="359280" y="1918440"/>
            <a:ext cx="3830760" cy="3846600"/>
          </a:xfrm>
          <a:custGeom>
            <a:avLst/>
            <a:gdLst/>
            <a:ahLst/>
            <a:rect l="l" t="t" r="r" b="b"/>
            <a:pathLst>
              <a:path w="3830638" h="3846513">
                <a:moveTo>
                  <a:pt x="0" y="3846513"/>
                </a:moveTo>
                <a:lnTo>
                  <a:pt x="0" y="1408350"/>
                </a:lnTo>
                <a:cubicBezTo>
                  <a:pt x="0" y="630540"/>
                  <a:pt x="630540" y="0"/>
                  <a:pt x="1408350" y="0"/>
                </a:cubicBezTo>
                <a:lnTo>
                  <a:pt x="2005994" y="0"/>
                </a:lnTo>
                <a:cubicBezTo>
                  <a:pt x="2783804" y="0"/>
                  <a:pt x="3414344" y="630540"/>
                  <a:pt x="3414344" y="1408350"/>
                </a:cubicBezTo>
                <a:lnTo>
                  <a:pt x="3414343" y="1408350"/>
                </a:lnTo>
                <a:lnTo>
                  <a:pt x="3830638" y="1408350"/>
                </a:lnTo>
                <a:lnTo>
                  <a:pt x="2880103" y="2342757"/>
                </a:lnTo>
                <a:lnTo>
                  <a:pt x="1929569" y="1408350"/>
                </a:lnTo>
                <a:lnTo>
                  <a:pt x="2345864" y="1408350"/>
                </a:lnTo>
                <a:cubicBezTo>
                  <a:pt x="2345864" y="1220645"/>
                  <a:pt x="2193699" y="1068480"/>
                  <a:pt x="2005994" y="1068480"/>
                </a:cubicBezTo>
                <a:lnTo>
                  <a:pt x="1408350" y="1068480"/>
                </a:lnTo>
                <a:cubicBezTo>
                  <a:pt x="1220645" y="1068480"/>
                  <a:pt x="1068480" y="1220645"/>
                  <a:pt x="1068480" y="1408350"/>
                </a:cubicBezTo>
                <a:lnTo>
                  <a:pt x="1068480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27"/>
          <p:cNvSpPr/>
          <p:nvPr/>
        </p:nvSpPr>
        <p:spPr>
          <a:xfrm>
            <a:off x="974520" y="257328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Requ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U-Turn Arrow 26"/>
          <p:cNvSpPr/>
          <p:nvPr/>
        </p:nvSpPr>
        <p:spPr>
          <a:xfrm flipH="1" flipV="1" rot="16200000">
            <a:off x="4921920" y="2320560"/>
            <a:ext cx="3944880" cy="3846600"/>
          </a:xfrm>
          <a:custGeom>
            <a:avLst/>
            <a:gdLst/>
            <a:ahLst/>
            <a:rect l="l" t="t" r="r" b="b"/>
            <a:pathLst>
              <a:path w="3829050" h="3846513">
                <a:moveTo>
                  <a:pt x="0" y="3846513"/>
                </a:moveTo>
                <a:lnTo>
                  <a:pt x="0" y="1408737"/>
                </a:lnTo>
                <a:cubicBezTo>
                  <a:pt x="0" y="630713"/>
                  <a:pt x="630713" y="0"/>
                  <a:pt x="1408737" y="0"/>
                </a:cubicBezTo>
                <a:lnTo>
                  <a:pt x="2004191" y="0"/>
                </a:lnTo>
                <a:cubicBezTo>
                  <a:pt x="2782215" y="0"/>
                  <a:pt x="3412928" y="630713"/>
                  <a:pt x="3412928" y="1408737"/>
                </a:cubicBezTo>
                <a:lnTo>
                  <a:pt x="3829050" y="1408737"/>
                </a:lnTo>
                <a:lnTo>
                  <a:pt x="2878910" y="2342757"/>
                </a:lnTo>
                <a:lnTo>
                  <a:pt x="1928769" y="1408737"/>
                </a:lnTo>
                <a:lnTo>
                  <a:pt x="2344891" y="1408737"/>
                </a:lnTo>
                <a:cubicBezTo>
                  <a:pt x="2344891" y="1220574"/>
                  <a:pt x="2192354" y="1068037"/>
                  <a:pt x="2004191" y="1068037"/>
                </a:cubicBezTo>
                <a:lnTo>
                  <a:pt x="1408737" y="1068037"/>
                </a:lnTo>
                <a:cubicBezTo>
                  <a:pt x="1220574" y="1068037"/>
                  <a:pt x="1068037" y="1220574"/>
                  <a:pt x="1068037" y="1408737"/>
                </a:cubicBezTo>
                <a:lnTo>
                  <a:pt x="1068037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Diagram 22" descr=""/>
          <p:cNvPicPr/>
          <p:nvPr/>
        </p:nvPicPr>
        <p:blipFill>
          <a:blip r:embed="rId1"/>
          <a:stretch/>
        </p:blipFill>
        <p:spPr>
          <a:xfrm>
            <a:off x="6473880" y="1438200"/>
            <a:ext cx="2359080" cy="23590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28"/>
          <p:cNvSpPr/>
          <p:nvPr/>
        </p:nvSpPr>
        <p:spPr>
          <a:xfrm>
            <a:off x="6809400" y="4584600"/>
            <a:ext cx="196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mment &amp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articip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Diagram 24" descr=""/>
          <p:cNvPicPr/>
          <p:nvPr/>
        </p:nvPicPr>
        <p:blipFill>
          <a:blip r:embed="rId2"/>
          <a:stretch/>
        </p:blipFill>
        <p:spPr>
          <a:xfrm>
            <a:off x="0" y="3859200"/>
            <a:ext cx="2468520" cy="2425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" descr=""/>
          <p:cNvPicPr/>
          <p:nvPr/>
        </p:nvPicPr>
        <p:blipFill>
          <a:blip r:embed="rId3"/>
          <a:stretch/>
        </p:blipFill>
        <p:spPr>
          <a:xfrm>
            <a:off x="3390840" y="3860640"/>
            <a:ext cx="39607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que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17160" y="990720"/>
            <a:ext cx="8699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Stage 1: Identify and laun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mend the Uniform Dispute Resolution Polic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iform Rapid Suspens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DRP/URS) procedu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 enable access to them by protected International Governmental Organization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International Non-Governmental Organiz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(IGO/INGOs) – Preliminary Issue Re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ss Community Working Group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-PDP Drafting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ta &amp; Metrics for Policy Mak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alibri"/>
                <a:ea typeface="ＭＳ Ｐゴシック"/>
              </a:rPr>
              <a:t>Stage 2: Develop consens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ivacy &amp; Proxy Services Accreditation Issu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PPSAI) 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nslation and Transliteration of Contact Inform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cy &amp; Imple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 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7bc477"/>
                </a:solidFill>
                <a:latin typeface="Calibri"/>
                <a:ea typeface="ＭＳ Ｐゴシック"/>
              </a:rPr>
              <a:t>Stage 3: Refine and endo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r-Registrar Transfer Poli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(IRTP) Part D Policy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760" y="1419120"/>
            <a:ext cx="912024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re is wide agreement on the need to engage the GAC early within the GNSO PDP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sue has been identifi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C-Board Joint Working Group (J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ard-GAC Recommendation Implementation Working Group (BGRI-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to be gai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efficient PD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er decisions at the Board level, as this giv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tter chance and more probability for the GAC and the GNSO to find an agreed way for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efiting from multi-stakeholder nature of the organization as early as possible and directly between GNSO and GAC rather than through 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ing ATRT recommendations, also widely supported by the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 and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449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al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AC early engagement in GNSO PDP projects and closer functional coordination between the GAC and the GNSO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going smooth and timely information exchang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going smooth early eng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of GAC in GNSO PDP projec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agreed procedure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to proceed in cases where GAC early input is in conflict with a GNSO proposal and a mutual agreement could not be reach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posal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commodating the different working metho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mplete description of this effort is included in the Charte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d4"/>
                </a:solidFill>
                <a:uFillTx/>
                <a:latin typeface="Calibri"/>
                <a:hlinkClick r:id="rId1"/>
              </a:rPr>
              <a:t>TinyURL.com/Charter-GAC-GN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u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ter approved by the group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dback from GAC and GNSO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prog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val by the GAC and the GNSO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rget date for GAC/GNSO approval –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7086600" y="2540160"/>
            <a:ext cx="1925640" cy="4317840"/>
          </a:xfrm>
          <a:prstGeom prst="rect">
            <a:avLst/>
          </a:prstGeom>
          <a:gradFill rotWithShape="0">
            <a:gsLst>
              <a:gs pos="0">
                <a:srgbClr val="ffe6e0"/>
              </a:gs>
              <a:gs pos="100000">
                <a:srgbClr val="ffa692"/>
              </a:gs>
            </a:gsLst>
            <a:lin ang="5400000"/>
          </a:gradFill>
          <a:ln w="9360">
            <a:solidFill>
              <a:srgbClr val="cd541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e99871"/>
                </a:solidFill>
                <a:latin typeface="Calibri"/>
              </a:rPr>
              <a:t>Shar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tracks of work –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ly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7000" y="1560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y-to-day ongoing cooperati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Manal Ismail and Jonathan Robinson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C early engagement in GNSO PD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Suzanne Radell and Mikey O’Conn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73280" y="53020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7200"/>
                <a:gridCol w="162864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73280" y="27082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8640"/>
                <a:gridCol w="1627200"/>
              </a:tblGrid>
              <a:tr h="1371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 Liaison to the G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gular interaction between GAC and GNSO Cha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Topic leads buddy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think recurring joint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iagram 43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10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24308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6480000" y="5807160"/>
            <a:ext cx="655920" cy="698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1924200" y="5821200"/>
            <a:ext cx="655560" cy="70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20680" y="2506680"/>
            <a:ext cx="654120" cy="7002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65" name="Rectangle 56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ectangle 57"/>
            <p:cNvSpPr/>
            <p:nvPr/>
          </p:nvSpPr>
          <p:spPr>
            <a:xfrm rot="20796600">
              <a:off x="6389640" y="4460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26"/>
          <p:cNvGrpSpPr/>
          <p:nvPr/>
        </p:nvGrpSpPr>
        <p:grpSpPr>
          <a:xfrm>
            <a:off x="7938720" y="2497320"/>
            <a:ext cx="627840" cy="606240"/>
            <a:chOff x="7938720" y="2497320"/>
            <a:chExt cx="627840" cy="606240"/>
          </a:xfrm>
        </p:grpSpPr>
        <p:sp>
          <p:nvSpPr>
            <p:cNvPr id="69" name="Rectangle 60"/>
            <p:cNvSpPr/>
            <p:nvPr/>
          </p:nvSpPr>
          <p:spPr>
            <a:xfrm rot="20796600">
              <a:off x="8094960" y="2573280"/>
              <a:ext cx="42084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ectangle 61"/>
            <p:cNvSpPr/>
            <p:nvPr/>
          </p:nvSpPr>
          <p:spPr>
            <a:xfrm rot="20796600">
              <a:off x="8040240" y="259200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Box 31"/>
            <p:cNvSpPr/>
            <p:nvPr/>
          </p:nvSpPr>
          <p:spPr>
            <a:xfrm rot="20796600">
              <a:off x="7955280" y="255096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32"/>
          <p:cNvGrpSpPr/>
          <p:nvPr/>
        </p:nvGrpSpPr>
        <p:grpSpPr>
          <a:xfrm>
            <a:off x="3463560" y="6260400"/>
            <a:ext cx="627840" cy="612000"/>
            <a:chOff x="3463560" y="6260400"/>
            <a:chExt cx="627840" cy="612000"/>
          </a:xfrm>
        </p:grpSpPr>
        <p:sp>
          <p:nvSpPr>
            <p:cNvPr id="73" name="Rectangle 64"/>
            <p:cNvSpPr/>
            <p:nvPr/>
          </p:nvSpPr>
          <p:spPr>
            <a:xfrm rot="20796600">
              <a:off x="3609720" y="6330960"/>
              <a:ext cx="429840" cy="4982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65"/>
            <p:cNvSpPr/>
            <p:nvPr/>
          </p:nvSpPr>
          <p:spPr>
            <a:xfrm rot="20796600">
              <a:off x="3578760" y="6365160"/>
              <a:ext cx="29844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35"/>
            <p:cNvSpPr/>
            <p:nvPr/>
          </p:nvSpPr>
          <p:spPr>
            <a:xfrm rot="20796600">
              <a:off x="3479760" y="6315120"/>
              <a:ext cx="498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36"/>
          <p:cNvGrpSpPr/>
          <p:nvPr/>
        </p:nvGrpSpPr>
        <p:grpSpPr>
          <a:xfrm>
            <a:off x="817200" y="5023080"/>
            <a:ext cx="627840" cy="606240"/>
            <a:chOff x="817200" y="5023080"/>
            <a:chExt cx="627840" cy="606240"/>
          </a:xfrm>
        </p:grpSpPr>
        <p:sp>
          <p:nvSpPr>
            <p:cNvPr id="77" name="Rectangle 68"/>
            <p:cNvSpPr/>
            <p:nvPr/>
          </p:nvSpPr>
          <p:spPr>
            <a:xfrm rot="20796600">
              <a:off x="973440" y="509904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69"/>
            <p:cNvSpPr/>
            <p:nvPr/>
          </p:nvSpPr>
          <p:spPr>
            <a:xfrm rot="20796600">
              <a:off x="918720" y="51177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Box 39"/>
            <p:cNvSpPr/>
            <p:nvPr/>
          </p:nvSpPr>
          <p:spPr>
            <a:xfrm rot="20796600">
              <a:off x="833760" y="507672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40"/>
          <p:cNvGrpSpPr/>
          <p:nvPr/>
        </p:nvGrpSpPr>
        <p:grpSpPr>
          <a:xfrm>
            <a:off x="2057040" y="318240"/>
            <a:ext cx="629640" cy="612720"/>
            <a:chOff x="2057040" y="318240"/>
            <a:chExt cx="629640" cy="612720"/>
          </a:xfrm>
        </p:grpSpPr>
        <p:sp>
          <p:nvSpPr>
            <p:cNvPr id="81" name="Rectangle 72"/>
            <p:cNvSpPr/>
            <p:nvPr/>
          </p:nvSpPr>
          <p:spPr>
            <a:xfrm rot="20796600">
              <a:off x="2203200" y="389520"/>
              <a:ext cx="431280" cy="4982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tangle 73"/>
            <p:cNvSpPr/>
            <p:nvPr/>
          </p:nvSpPr>
          <p:spPr>
            <a:xfrm rot="20796600">
              <a:off x="2162520" y="412200"/>
              <a:ext cx="29988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43"/>
            <p:cNvSpPr/>
            <p:nvPr/>
          </p:nvSpPr>
          <p:spPr>
            <a:xfrm rot="20796600">
              <a:off x="2073240" y="373320"/>
              <a:ext cx="500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44"/>
          <p:cNvGrpSpPr/>
          <p:nvPr/>
        </p:nvGrpSpPr>
        <p:grpSpPr>
          <a:xfrm>
            <a:off x="292320" y="3729960"/>
            <a:ext cx="634680" cy="618480"/>
            <a:chOff x="292320" y="3729960"/>
            <a:chExt cx="634680" cy="618480"/>
          </a:xfrm>
        </p:grpSpPr>
        <p:sp>
          <p:nvSpPr>
            <p:cNvPr id="85" name="Rectangle 76"/>
            <p:cNvSpPr/>
            <p:nvPr/>
          </p:nvSpPr>
          <p:spPr>
            <a:xfrm rot="20799000">
              <a:off x="448920" y="3809520"/>
              <a:ext cx="426600" cy="496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Rectangle 77"/>
            <p:cNvSpPr/>
            <p:nvPr/>
          </p:nvSpPr>
          <p:spPr>
            <a:xfrm rot="20799000">
              <a:off x="414720" y="383040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47"/>
            <p:cNvSpPr/>
            <p:nvPr/>
          </p:nvSpPr>
          <p:spPr>
            <a:xfrm rot="20799000">
              <a:off x="320760" y="378288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48"/>
          <p:cNvGrpSpPr/>
          <p:nvPr/>
        </p:nvGrpSpPr>
        <p:grpSpPr>
          <a:xfrm>
            <a:off x="738000" y="1514160"/>
            <a:ext cx="895320" cy="582840"/>
            <a:chOff x="738000" y="1514160"/>
            <a:chExt cx="895320" cy="582840"/>
          </a:xfrm>
        </p:grpSpPr>
        <p:sp>
          <p:nvSpPr>
            <p:cNvPr id="89" name="Rectangle 80"/>
            <p:cNvSpPr/>
            <p:nvPr/>
          </p:nvSpPr>
          <p:spPr>
            <a:xfrm rot="20799000">
              <a:off x="873000" y="166356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81"/>
            <p:cNvSpPr/>
            <p:nvPr/>
          </p:nvSpPr>
          <p:spPr>
            <a:xfrm rot="20799000">
              <a:off x="858960" y="166788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Box 51"/>
            <p:cNvSpPr/>
            <p:nvPr/>
          </p:nvSpPr>
          <p:spPr>
            <a:xfrm rot="20799000">
              <a:off x="761760" y="160776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Group 52"/>
          <p:cNvGrpSpPr/>
          <p:nvPr/>
        </p:nvGrpSpPr>
        <p:grpSpPr>
          <a:xfrm>
            <a:off x="7594200" y="4370040"/>
            <a:ext cx="628560" cy="597960"/>
            <a:chOff x="7594200" y="4370040"/>
            <a:chExt cx="628560" cy="597960"/>
          </a:xfrm>
        </p:grpSpPr>
        <p:sp>
          <p:nvSpPr>
            <p:cNvPr id="93" name="Rectangle 84"/>
            <p:cNvSpPr/>
            <p:nvPr/>
          </p:nvSpPr>
          <p:spPr>
            <a:xfrm rot="20796600">
              <a:off x="7751160" y="4441320"/>
              <a:ext cx="420840" cy="4845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ectangle 85"/>
            <p:cNvSpPr/>
            <p:nvPr/>
          </p:nvSpPr>
          <p:spPr>
            <a:xfrm rot="20796600">
              <a:off x="7725960" y="446184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55"/>
            <p:cNvSpPr/>
            <p:nvPr/>
          </p:nvSpPr>
          <p:spPr>
            <a:xfrm rot="20796600">
              <a:off x="7623000" y="442224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Diagram 52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10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24308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6480000" y="5807160"/>
            <a:ext cx="655920" cy="698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1924200" y="5821200"/>
            <a:ext cx="655560" cy="702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20680" y="2506680"/>
            <a:ext cx="654120" cy="7002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104" name="Rectangle 61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62"/>
            <p:cNvSpPr/>
            <p:nvPr/>
          </p:nvSpPr>
          <p:spPr>
            <a:xfrm rot="20796600">
              <a:off x="6389640" y="4460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26"/>
          <p:cNvGrpSpPr/>
          <p:nvPr/>
        </p:nvGrpSpPr>
        <p:grpSpPr>
          <a:xfrm>
            <a:off x="7938720" y="2497320"/>
            <a:ext cx="627840" cy="606240"/>
            <a:chOff x="7938720" y="2497320"/>
            <a:chExt cx="627840" cy="606240"/>
          </a:xfrm>
        </p:grpSpPr>
        <p:sp>
          <p:nvSpPr>
            <p:cNvPr id="108" name="Rectangle 65"/>
            <p:cNvSpPr/>
            <p:nvPr/>
          </p:nvSpPr>
          <p:spPr>
            <a:xfrm rot="20796600">
              <a:off x="8094960" y="2573280"/>
              <a:ext cx="42084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66"/>
            <p:cNvSpPr/>
            <p:nvPr/>
          </p:nvSpPr>
          <p:spPr>
            <a:xfrm rot="20796600">
              <a:off x="8040240" y="259200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31"/>
            <p:cNvSpPr/>
            <p:nvPr/>
          </p:nvSpPr>
          <p:spPr>
            <a:xfrm rot="20796600">
              <a:off x="7955280" y="255096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32"/>
          <p:cNvGrpSpPr/>
          <p:nvPr/>
        </p:nvGrpSpPr>
        <p:grpSpPr>
          <a:xfrm>
            <a:off x="3463560" y="6260400"/>
            <a:ext cx="627840" cy="612000"/>
            <a:chOff x="3463560" y="6260400"/>
            <a:chExt cx="627840" cy="612000"/>
          </a:xfrm>
        </p:grpSpPr>
        <p:sp>
          <p:nvSpPr>
            <p:cNvPr id="112" name="Rectangle 69"/>
            <p:cNvSpPr/>
            <p:nvPr/>
          </p:nvSpPr>
          <p:spPr>
            <a:xfrm rot="20796600">
              <a:off x="3609720" y="6330960"/>
              <a:ext cx="429840" cy="4982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Rectangle 70"/>
            <p:cNvSpPr/>
            <p:nvPr/>
          </p:nvSpPr>
          <p:spPr>
            <a:xfrm rot="20796600">
              <a:off x="3578760" y="6365160"/>
              <a:ext cx="29844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Box 35"/>
            <p:cNvSpPr/>
            <p:nvPr/>
          </p:nvSpPr>
          <p:spPr>
            <a:xfrm rot="20796600">
              <a:off x="3479760" y="6315120"/>
              <a:ext cx="498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36"/>
          <p:cNvGrpSpPr/>
          <p:nvPr/>
        </p:nvGrpSpPr>
        <p:grpSpPr>
          <a:xfrm>
            <a:off x="817200" y="5023080"/>
            <a:ext cx="627840" cy="606240"/>
            <a:chOff x="817200" y="5023080"/>
            <a:chExt cx="627840" cy="606240"/>
          </a:xfrm>
        </p:grpSpPr>
        <p:sp>
          <p:nvSpPr>
            <p:cNvPr id="116" name="Rectangle 73"/>
            <p:cNvSpPr/>
            <p:nvPr/>
          </p:nvSpPr>
          <p:spPr>
            <a:xfrm rot="20796600">
              <a:off x="973440" y="509904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74"/>
            <p:cNvSpPr/>
            <p:nvPr/>
          </p:nvSpPr>
          <p:spPr>
            <a:xfrm rot="20796600">
              <a:off x="918720" y="51177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TextBox 39"/>
            <p:cNvSpPr/>
            <p:nvPr/>
          </p:nvSpPr>
          <p:spPr>
            <a:xfrm rot="20796600">
              <a:off x="833760" y="507672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40"/>
          <p:cNvGrpSpPr/>
          <p:nvPr/>
        </p:nvGrpSpPr>
        <p:grpSpPr>
          <a:xfrm>
            <a:off x="2057040" y="318240"/>
            <a:ext cx="629640" cy="612720"/>
            <a:chOff x="2057040" y="318240"/>
            <a:chExt cx="629640" cy="612720"/>
          </a:xfrm>
        </p:grpSpPr>
        <p:sp>
          <p:nvSpPr>
            <p:cNvPr id="120" name="Rectangle 77"/>
            <p:cNvSpPr/>
            <p:nvPr/>
          </p:nvSpPr>
          <p:spPr>
            <a:xfrm rot="20796600">
              <a:off x="2203200" y="389520"/>
              <a:ext cx="431280" cy="4982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78"/>
            <p:cNvSpPr/>
            <p:nvPr/>
          </p:nvSpPr>
          <p:spPr>
            <a:xfrm rot="20796600">
              <a:off x="2162520" y="412200"/>
              <a:ext cx="29988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Box 43"/>
            <p:cNvSpPr/>
            <p:nvPr/>
          </p:nvSpPr>
          <p:spPr>
            <a:xfrm rot="20796600">
              <a:off x="2073240" y="373320"/>
              <a:ext cx="500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44"/>
          <p:cNvGrpSpPr/>
          <p:nvPr/>
        </p:nvGrpSpPr>
        <p:grpSpPr>
          <a:xfrm>
            <a:off x="292320" y="3729960"/>
            <a:ext cx="634680" cy="618480"/>
            <a:chOff x="292320" y="3729960"/>
            <a:chExt cx="634680" cy="618480"/>
          </a:xfrm>
        </p:grpSpPr>
        <p:sp>
          <p:nvSpPr>
            <p:cNvPr id="124" name="Rectangle 81"/>
            <p:cNvSpPr/>
            <p:nvPr/>
          </p:nvSpPr>
          <p:spPr>
            <a:xfrm rot="20799000">
              <a:off x="448920" y="3809520"/>
              <a:ext cx="426600" cy="496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ectangle 82"/>
            <p:cNvSpPr/>
            <p:nvPr/>
          </p:nvSpPr>
          <p:spPr>
            <a:xfrm rot="20799000">
              <a:off x="414720" y="383040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Box 47"/>
            <p:cNvSpPr/>
            <p:nvPr/>
          </p:nvSpPr>
          <p:spPr>
            <a:xfrm rot="20799000">
              <a:off x="320760" y="378288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48"/>
          <p:cNvGrpSpPr/>
          <p:nvPr/>
        </p:nvGrpSpPr>
        <p:grpSpPr>
          <a:xfrm>
            <a:off x="738000" y="1514160"/>
            <a:ext cx="895320" cy="582840"/>
            <a:chOff x="738000" y="1514160"/>
            <a:chExt cx="895320" cy="582840"/>
          </a:xfrm>
        </p:grpSpPr>
        <p:sp>
          <p:nvSpPr>
            <p:cNvPr id="128" name="Rectangle 85"/>
            <p:cNvSpPr/>
            <p:nvPr/>
          </p:nvSpPr>
          <p:spPr>
            <a:xfrm rot="20799000">
              <a:off x="873000" y="166356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ectangle 86"/>
            <p:cNvSpPr/>
            <p:nvPr/>
          </p:nvSpPr>
          <p:spPr>
            <a:xfrm rot="20799000">
              <a:off x="858960" y="166788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51"/>
            <p:cNvSpPr/>
            <p:nvPr/>
          </p:nvSpPr>
          <p:spPr>
            <a:xfrm rot="20799000">
              <a:off x="761760" y="160776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Group 52"/>
          <p:cNvGrpSpPr/>
          <p:nvPr/>
        </p:nvGrpSpPr>
        <p:grpSpPr>
          <a:xfrm>
            <a:off x="7594200" y="4370040"/>
            <a:ext cx="628560" cy="597960"/>
            <a:chOff x="7594200" y="4370040"/>
            <a:chExt cx="628560" cy="597960"/>
          </a:xfrm>
        </p:grpSpPr>
        <p:sp>
          <p:nvSpPr>
            <p:cNvPr id="132" name="Rectangle 89"/>
            <p:cNvSpPr/>
            <p:nvPr/>
          </p:nvSpPr>
          <p:spPr>
            <a:xfrm rot="20796600">
              <a:off x="7751160" y="4441320"/>
              <a:ext cx="420840" cy="4845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90"/>
            <p:cNvSpPr/>
            <p:nvPr/>
          </p:nvSpPr>
          <p:spPr>
            <a:xfrm rot="20796600">
              <a:off x="7725960" y="446184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TextBox 55"/>
            <p:cNvSpPr/>
            <p:nvPr/>
          </p:nvSpPr>
          <p:spPr>
            <a:xfrm rot="20796600">
              <a:off x="7623000" y="442224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Oval 92"/>
          <p:cNvSpPr/>
          <p:nvPr/>
        </p:nvSpPr>
        <p:spPr>
          <a:xfrm>
            <a:off x="87480" y="229392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Go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Oval 93"/>
          <p:cNvSpPr/>
          <p:nvPr/>
        </p:nvSpPr>
        <p:spPr>
          <a:xfrm>
            <a:off x="1017720" y="571500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t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Oval 94"/>
          <p:cNvSpPr/>
          <p:nvPr/>
        </p:nvSpPr>
        <p:spPr>
          <a:xfrm>
            <a:off x="5780160" y="561672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Oval 95"/>
          <p:cNvSpPr/>
          <p:nvPr/>
        </p:nvSpPr>
        <p:spPr>
          <a:xfrm>
            <a:off x="6659640" y="100188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98640" y="258480"/>
            <a:ext cx="233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lier is b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Ongoing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For each option, we are currently working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Its 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How it achieves the agreed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Potential issues or questions to be addre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How it works in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Whether it requires additional fu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Whether possible to implement it as a pil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Overall assessment in terms of pros and c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ike O'Connor</cp:lastModifiedBy>
  <dcterms:modified xsi:type="dcterms:W3CDTF">2014-03-17T12:39:58Z</dcterms:modified>
  <cp:revision>725</cp:revision>
  <dc:subject/>
  <dc:title>PowerPoint Presentation</dc:title>
</cp:coreProperties>
</file>