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Manal Ismail" initials="MI" lastIdx="1" clrIdx="1"/>
  <p:cmAuthor id="0" name="Jonathan Robinson" initials="JR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3-17T09:40:34.720000000" idx="4">
    <p:pos x="4349" y="3603"/>
    <p:text>Removed "We have"</p:text>
  </p:cm>
</p:cmLst>
</file>

<file path=ppt/comments/comment3.xml><?xml version="1.0" encoding="utf-8"?>
<p:cmLst xmlns:p="http://schemas.openxmlformats.org/presentationml/2006/main">
  <p:cm authorId="0" dt="2014-03-17T09:20:06.633000000" idx="1">
    <p:pos x="5419" y="1190"/>
    <p:text>Bold provides emphasis.  Reduced to a single font size throughout bullet</p:text>
  </p:cm>
  <p:cm authorId="0" dt="2014-03-17T09:39:42.153000000" idx="2">
    <p:pos x="5278" y="2048"/>
    <p:text>Removed four instances of "the"</p:text>
  </p:cm>
</p:cmLst>
</file>

<file path=ppt/comments/comment9.xml><?xml version="1.0" encoding="utf-8"?>
<p:cmLst xmlns:p="http://schemas.openxmlformats.org/presentationml/2006/main">
  <p:cm authorId="1" dt="2014-03-05T09:39:37.211000000" idx="1">
    <p:pos x="4494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  <p:cm authorId="0" dt="2014-03-17T09:25:04.616000000" idx="3">
    <p:pos x="5112" y="3187"/>
    <p:text>Removed "it's"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D4C-DD15-42C4-8813-CBA7672B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0E6-5C6F-4B02-BD91-B3205569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F6B-9B71-4776-8571-3E103C96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169-2045-45F2-AD58-E470655F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175-CB9F-4D5F-96C2-3BA5852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FE9-8FE1-4D2D-862C-0D1C8DF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098-2D11-4B1B-A30A-6BDAFE1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75C-D195-4C99-826C-98DA4BB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ED0-B2AC-48C0-BA71-CD380081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CAE-010D-4CB1-B0A9-F3BF1F3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42C-EC81-4BAF-9566-370004C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82C-8C49-4503-ACCE-F84B65C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39665-7919-4ED8-BE91-F2C45DE30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17160" y="990720"/>
            <a:ext cx="869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7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69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73" name="Rectangle 64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65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77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9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81" name="Rectangle 72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73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85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89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3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4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08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66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112" name="Rectangle 69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70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16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120" name="Rectangle 77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24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28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2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7T12:39:58Z</dcterms:modified>
  <cp:revision>725</cp:revision>
  <dc:subject/>
  <dc:title>PowerPoint Presentation</dc:title>
</cp:coreProperties>
</file>