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EFA-0FDD-4C86-8153-CC788030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277-09AA-42B6-A1E7-ABBDEEA5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F98-F088-4802-BB48-08A08C84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115-6A40-4990-A0B0-2BECDB3E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192-A568-491D-9199-A916F4A0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9CC-B8CF-4E39-9180-8E39B43B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219-9692-49BA-A345-7B43ABAA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61E-10E7-4AE5-8D8C-6ECFB424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886-9BF7-40D8-B291-ABBEE40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5FB-0AE0-4EF6-A676-3BAB8D1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C51-B37A-45A0-9446-F9CF69F5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1FE-A75A-47DD-BBAF-BAC30564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DD304-72A4-4A59-822D-B005DF3D2B3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AA125-D9A5-4E7F-93F3-5A11B65E016B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F03DE-F843-4911-9D35-DB000FA9A333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24919-06AB-47F0-85D6-71C5E8082522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E5483-9910-42F8-9A59-47C16F71F335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  <a:ea typeface="ＭＳ Ｐゴシック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  <a:ea typeface="ＭＳ Ｐゴシック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63F28-BA3B-4D57-9820-241D6CFF821B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F4E16-EC37-4857-B34C-1A2EA4DD546E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AF43F-B436-4C67-913A-AB5A042D38FE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C096C-4D89-47D4-9777-AD4435010BEE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6E30F-37A0-433E-B20E-B6EEABB94C48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3BC8C-DD9E-4D46-ACEF-39A1A3288228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AE874-D343-4262-ACF9-555B48210270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425EA-D5EF-452F-A551-0D492650FE22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76182-A2BE-48CE-BE8D-FDA435AEC762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8T14:44:46Z</dcterms:modified>
  <cp:revision>736</cp:revision>
  <dc:subject/>
  <dc:title>PowerPoint Presentation</dc:title>
</cp:coreProperties>
</file>