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AAC-3BB5-4C9F-B324-447301DF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DC1-C211-41B7-92B9-BEDB0DB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D26-7AF5-45F6-8C55-5742A8CB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EED-6F39-47FE-A3C3-2D24E0DB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5EA-F5CE-4FCA-A612-35FD650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6DB-52E1-4634-98CE-FC7C2DC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553-BAB2-4BE2-864B-A93C7F72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879-FCED-4B1B-93EB-CDAF144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DDD-D288-4447-A8DB-CD75763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744-57B1-40DE-8646-A82D1B92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D2B-0C94-4F22-A0A3-836B832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85B-5D02-4648-BFDA-9C81CDA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FA7A2-8139-4140-8AC9-49A59E2FA44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7F3A4-A373-4DAB-97B9-FBE60DF84BFA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2F25F-3280-4C00-865F-56EC70DFB079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0387E-03F3-40FD-BF39-7D0BF4BF0ED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74CD6-5ABF-45EE-A8A5-0EF273BADDEA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  <a:ea typeface="ＭＳ Ｐゴシック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  <a:ea typeface="ＭＳ Ｐゴシック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E1047-9A02-46D4-87ED-67CDBA312E08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C4C61-89DB-4C2A-BA7F-BA87432980CC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4B0BA-4250-4A20-AED5-2A62BD29D64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3CEFB-A2FC-46FF-BF9F-D11E62C11A5C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8C7BE-DC03-44F4-A0EE-663DFD9E102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EC21B-AEAD-4B8F-9AF2-C7232C20225D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A7173-0C67-4662-9447-B5D4C972E3B0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63EB6-5CA6-4C7B-B540-785D5769F224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CCC0C-7108-4B59-BEFE-C3ACA1504D0D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8T14:44:46Z</dcterms:modified>
  <cp:revision>736</cp:revision>
  <dc:subject/>
  <dc:title>PowerPoint Presentation</dc:title>
</cp:coreProperties>
</file>