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606-9CD6-4C31-91AC-8BAEC794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9B9-68A8-461D-A4F9-B479ABEC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537-6334-4573-99C8-8D0A3887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9D3-06F5-49D8-88A5-D685C287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1C-428D-4BEE-B40A-16074B7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B03-1153-4972-85E8-C7158C3C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DBD-1577-4744-A76B-0378C83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D4E-A881-4FC4-A6AE-2C75271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27F-4D9A-494D-A697-E90B9087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614-2B5F-4DEA-84A2-7E30B10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A52-5817-4522-BB62-FF8A525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60D-7EFA-42FF-BD53-5F3DAC45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E41D2-7655-49B0-9F6F-03C13B7BD7D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81549-7A8A-47DE-AE4A-33D78A782DB7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5EB8E-DBDB-4626-873B-05EE5C1D543B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1E6EA-D132-4D87-98B4-4FAC8B8977C3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19F06-B869-4B65-A712-7580204829F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467B5-89F5-4F13-9F2C-35BEBDFB19F2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6AC4D-41A1-4AB8-8960-67EC7BDEDFD4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60EE0-1E04-41A2-A29C-77761EF67C39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6D276-814F-43EB-95F9-DF66494DF495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65790-807B-47C6-B894-31ADFC2BC0A3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689B1-E808-4130-A835-79239611FF8B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1D7C2-A56E-4DB8-AD97-256513882907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F1A20-81B6-4F2E-A416-88C2198868F0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8354F-2197-43F5-8B59-D1AFA41E4C37}" type="slidenum">
              <a:rPr b="0" lang="en-US" sz="24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8T14:44:46Z</dcterms:modified>
  <cp:revision>736</cp:revision>
  <dc:subject/>
  <dc:title>PowerPoint Presentation</dc:title>
</cp:coreProperties>
</file>