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2EE-FFC0-4212-90A9-1A93F3EC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EA0-68AB-402E-BB22-7017FE8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875-BBAE-432E-B09A-31DC2DCA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951-7041-47ED-A4F0-809C4D52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ECF-670F-4CB4-B371-5B433C8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4C2-C6EF-43B1-8D99-293C34FD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883-FA25-417D-B3D6-6F03B9A5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7CD-E72C-45D4-A874-549A263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056-6068-43FF-AB3F-6354D95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611-2AE8-4EF3-9EEA-13089E2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A98-EECD-46E7-91D8-1A125BB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9B4-1C0B-48B5-A962-7E82968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9A0FB-C106-4E82-B137-0992DF3F6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6748D-8FA9-44CA-8959-7A68AEE5451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1CA9D-CA1A-40E5-85C4-56B2FC01EAB9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23586-D86E-4605-9F5E-85E4BA71503D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80000" y="1444680"/>
            <a:ext cx="2346480" cy="23526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2040" cy="244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0D87-1557-4FB1-BC90-5280B08BC22D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7AA58-E1D1-45AB-AD8F-B860E351923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CF0B9-A3D2-4546-A8A7-99D4623577F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538E1-B58E-4BAB-ABAD-04C485B5878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62331-530C-47D1-BA45-1EAC09D06ED9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0CFBA-471A-4783-9907-5227445387D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47406-5332-4836-AFAD-72F38A05CA2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4078D-114E-4AFC-BD04-5F2C9C2BA6DC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9040"/>
            <a:ext cx="761976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9680" y="219240"/>
            <a:ext cx="878508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46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40240" y="25887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680"/>
            <a:ext cx="627840" cy="613440"/>
            <a:chOff x="3463560" y="6259680"/>
            <a:chExt cx="627840" cy="61344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7200" y="6330960"/>
              <a:ext cx="432360" cy="498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160"/>
              <a:ext cx="30024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8720" y="51145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520"/>
            <a:ext cx="629280" cy="613800"/>
            <a:chOff x="2057040" y="317520"/>
            <a:chExt cx="629280" cy="61380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200680" y="388800"/>
              <a:ext cx="433800" cy="498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440" y="408600"/>
              <a:ext cx="301680" cy="11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E9249-6FF8-4BB3-B965-6869502AAA10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93B34-0AFD-4712-A4A6-5060E6BA54B4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nal Ismail</cp:lastModifiedBy>
  <dcterms:modified xsi:type="dcterms:W3CDTF">2014-03-18T17:54:34Z</dcterms:modified>
  <cp:revision>736</cp:revision>
  <dc:subject/>
  <dc:title>PowerPoint Presentation</dc:title>
</cp:coreProperties>
</file>