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FB2-C70A-48AB-B945-E161F9A1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7F2-8D7F-4273-87E8-D5C433B7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6BB9-A9C0-42AB-B741-8AF4F1E6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822-EB62-4EF2-8879-CB9FD0CD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526B-ABBE-4989-9025-4290741E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C254-ABBF-4204-883A-D4C310E9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3DC2-9EA4-4E01-B052-0CEB44FE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06C9-5D22-4410-8786-D46D64EC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104A-E458-42DE-9B21-368FD26E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4A1E-96A0-4FCA-AA74-D3FD51C8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4220-B9C1-4476-B52B-4DD71291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A173-E5EA-4FAD-8AEC-2CD782D7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38F22-79BA-41E9-8242-D7CA4D4416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D0454-69E5-4122-8521-4A63EC787DB8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inyurl.com/Charter-GAC-GNSO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3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-GNSO Consultation Group on 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AC Early Engagement in GNSO Policy Development 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7080" y="434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ch,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6296040" y="4562640"/>
            <a:ext cx="3014640" cy="2234880"/>
          </a:xfrm>
          <a:prstGeom prst="rect">
            <a:avLst/>
          </a:prstGeom>
          <a:ln w="0">
            <a:noFill/>
          </a:ln>
        </p:spPr>
      </p:pic>
      <p:sp>
        <p:nvSpPr>
          <p:cNvPr id="4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CCD25-7BA3-4C4E-A0E5-BAD58D365377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your reac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is the right approach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e we asking the right question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ere something we have overlook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n would be a reasonable date to receive your comments or green ligh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n example of our early thinking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485B0-FE99-4281-BB7C-05FC4C0C0AE7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4"/>
          <p:cNvSpPr/>
          <p:nvPr/>
        </p:nvSpPr>
        <p:spPr>
          <a:xfrm>
            <a:off x="2629080" y="1382760"/>
            <a:ext cx="6514920" cy="24778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57240" y="4064040"/>
            <a:ext cx="6573600" cy="273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cy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6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7"/>
          <p:cNvSpPr/>
          <p:nvPr/>
        </p:nvSpPr>
        <p:spPr>
          <a:xfrm>
            <a:off x="2743200" y="1643040"/>
            <a:ext cx="2038320" cy="2217600"/>
          </a:xfrm>
          <a:prstGeom prst="pie">
            <a:avLst/>
          </a:prstGeom>
          <a:gradFill rotWithShape="0">
            <a:gsLst>
              <a:gs pos="0">
                <a:srgbClr val="fbe7e7"/>
              </a:gs>
              <a:gs pos="100000">
                <a:srgbClr val="f0a8a8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1960" rIns="111960" tIns="937440" bIns="85320" anchor="t">
            <a:noAutofit/>
          </a:bodyPr>
          <a:p>
            <a:pPr lvl="1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Requests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18"/>
          <p:cNvSpPr/>
          <p:nvPr/>
        </p:nvSpPr>
        <p:spPr>
          <a:xfrm>
            <a:off x="2921040" y="1763640"/>
            <a:ext cx="1390680" cy="496800"/>
          </a:xfrm>
          <a:prstGeom prst="pie">
            <a:avLst/>
          </a:prstGeom>
          <a:gradFill rotWithShape="0">
            <a:gsLst>
              <a:gs pos="0">
                <a:srgbClr val="f6a3a2"/>
              </a:gs>
              <a:gs pos="100000">
                <a:srgbClr val="b33431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9760" rIns="59760" tIns="21600" bIns="21600" anchor="ctr">
            <a:noAutofit/>
          </a:bodyPr>
          <a:p>
            <a:pPr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e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U-Turn Arrow 118"/>
          <p:cNvSpPr/>
          <p:nvPr/>
        </p:nvSpPr>
        <p:spPr>
          <a:xfrm flipH="1" flipV="1" rot="5400000">
            <a:off x="359280" y="1918440"/>
            <a:ext cx="3830760" cy="3846600"/>
          </a:xfrm>
          <a:custGeom>
            <a:avLst/>
            <a:gdLst/>
            <a:ahLst/>
            <a:rect l="l" t="t" r="r" b="b"/>
            <a:pathLst>
              <a:path w="3830638" h="3846513">
                <a:moveTo>
                  <a:pt x="0" y="3846513"/>
                </a:moveTo>
                <a:lnTo>
                  <a:pt x="0" y="1408350"/>
                </a:lnTo>
                <a:cubicBezTo>
                  <a:pt x="0" y="630540"/>
                  <a:pt x="630540" y="0"/>
                  <a:pt x="1408350" y="0"/>
                </a:cubicBezTo>
                <a:lnTo>
                  <a:pt x="2005994" y="0"/>
                </a:lnTo>
                <a:cubicBezTo>
                  <a:pt x="2783804" y="0"/>
                  <a:pt x="3414344" y="630540"/>
                  <a:pt x="3414344" y="1408350"/>
                </a:cubicBezTo>
                <a:lnTo>
                  <a:pt x="3414343" y="1408350"/>
                </a:lnTo>
                <a:lnTo>
                  <a:pt x="3830638" y="1408350"/>
                </a:lnTo>
                <a:lnTo>
                  <a:pt x="2880103" y="2342757"/>
                </a:lnTo>
                <a:lnTo>
                  <a:pt x="1929569" y="1408350"/>
                </a:lnTo>
                <a:lnTo>
                  <a:pt x="2345864" y="1408350"/>
                </a:lnTo>
                <a:cubicBezTo>
                  <a:pt x="2345864" y="1220645"/>
                  <a:pt x="2193699" y="1068480"/>
                  <a:pt x="2005994" y="1068480"/>
                </a:cubicBezTo>
                <a:lnTo>
                  <a:pt x="1408350" y="1068480"/>
                </a:lnTo>
                <a:cubicBezTo>
                  <a:pt x="1220645" y="1068480"/>
                  <a:pt x="1068480" y="1220645"/>
                  <a:pt x="1068480" y="1408350"/>
                </a:cubicBezTo>
                <a:lnTo>
                  <a:pt x="1068480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27"/>
          <p:cNvSpPr/>
          <p:nvPr/>
        </p:nvSpPr>
        <p:spPr>
          <a:xfrm>
            <a:off x="974520" y="25732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U-Turn Arrow 26"/>
          <p:cNvSpPr/>
          <p:nvPr/>
        </p:nvSpPr>
        <p:spPr>
          <a:xfrm flipH="1" flipV="1" rot="16200000">
            <a:off x="4921920" y="2320560"/>
            <a:ext cx="3944880" cy="3846600"/>
          </a:xfrm>
          <a:custGeom>
            <a:avLst/>
            <a:gdLst/>
            <a:ahLst/>
            <a:rect l="l" t="t" r="r" b="b"/>
            <a:pathLst>
              <a:path w="3829050" h="3846513">
                <a:moveTo>
                  <a:pt x="0" y="3846513"/>
                </a:moveTo>
                <a:lnTo>
                  <a:pt x="0" y="1408737"/>
                </a:lnTo>
                <a:cubicBezTo>
                  <a:pt x="0" y="630713"/>
                  <a:pt x="630713" y="0"/>
                  <a:pt x="1408737" y="0"/>
                </a:cubicBezTo>
                <a:lnTo>
                  <a:pt x="2004191" y="0"/>
                </a:lnTo>
                <a:cubicBezTo>
                  <a:pt x="2782215" y="0"/>
                  <a:pt x="3412928" y="630713"/>
                  <a:pt x="3412928" y="1408737"/>
                </a:cubicBezTo>
                <a:lnTo>
                  <a:pt x="3829050" y="1408737"/>
                </a:lnTo>
                <a:lnTo>
                  <a:pt x="2878910" y="2342757"/>
                </a:lnTo>
                <a:lnTo>
                  <a:pt x="1928769" y="1408737"/>
                </a:lnTo>
                <a:lnTo>
                  <a:pt x="2344891" y="1408737"/>
                </a:lnTo>
                <a:cubicBezTo>
                  <a:pt x="2344891" y="1220574"/>
                  <a:pt x="2192354" y="1068037"/>
                  <a:pt x="2004191" y="1068037"/>
                </a:cubicBezTo>
                <a:lnTo>
                  <a:pt x="1408737" y="1068037"/>
                </a:lnTo>
                <a:cubicBezTo>
                  <a:pt x="1220574" y="1068037"/>
                  <a:pt x="1068037" y="1220574"/>
                  <a:pt x="1068037" y="1408737"/>
                </a:cubicBezTo>
                <a:lnTo>
                  <a:pt x="1068037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Diagram 22" descr=""/>
          <p:cNvPicPr/>
          <p:nvPr/>
        </p:nvPicPr>
        <p:blipFill>
          <a:blip r:embed="rId1"/>
          <a:stretch/>
        </p:blipFill>
        <p:spPr>
          <a:xfrm>
            <a:off x="6480000" y="1444680"/>
            <a:ext cx="2346480" cy="23526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28"/>
          <p:cNvSpPr/>
          <p:nvPr/>
        </p:nvSpPr>
        <p:spPr>
          <a:xfrm>
            <a:off x="6809400" y="4584600"/>
            <a:ext cx="196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mment &amp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articip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Diagram 24" descr=""/>
          <p:cNvPicPr/>
          <p:nvPr/>
        </p:nvPicPr>
        <p:blipFill>
          <a:blip r:embed="rId2"/>
          <a:stretch/>
        </p:blipFill>
        <p:spPr>
          <a:xfrm>
            <a:off x="0" y="3859200"/>
            <a:ext cx="2462040" cy="2444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" descr=""/>
          <p:cNvPicPr/>
          <p:nvPr/>
        </p:nvPicPr>
        <p:blipFill>
          <a:blip r:embed="rId3"/>
          <a:stretch/>
        </p:blipFill>
        <p:spPr>
          <a:xfrm>
            <a:off x="3390840" y="3860640"/>
            <a:ext cx="3960720" cy="2936880"/>
          </a:xfrm>
          <a:prstGeom prst="rect">
            <a:avLst/>
          </a:prstGeom>
          <a:ln w="0">
            <a:noFill/>
          </a:ln>
        </p:spPr>
      </p:pic>
      <p:sp>
        <p:nvSpPr>
          <p:cNvPr id="1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A4C2AA-1DC7-4D94-92B5-F00A80D4FE33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que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10960" y="883800"/>
            <a:ext cx="86997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tage 1: Identify and laun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mend the Uniform Dispute Resolution Polic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iform Rapid Suspens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UDRP/URS) procedu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 enable access to them by protected International Governmental Organizatio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International Non-Governmental Organiz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IGO/INGOs) – Preliminary Issue Re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ross Community Working Group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PDP Drafting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&amp; Metrics for Policy Mak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Stage 2: Develop consen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ivacy &amp; Proxy Services Accreditation Issu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PSAI) 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anslation and Transliteration of Contact Inform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icy &amp; 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7bc477"/>
                </a:solidFill>
                <a:latin typeface="Calibri"/>
              </a:rPr>
              <a:t>Stage 3: Refine and endo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-Registrar Transfer Poli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IRTP) Part D Policy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BA148-F21B-4ADD-8BC9-2721B4124D43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760" y="1419120"/>
            <a:ext cx="912024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is wide agreement on the need to engage the GAC early within the GNSO PDP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sue has been identifi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C-Board Joint Working Group (J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ard-GAC Recommendation Implementation Working Group (BGRI-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3802D-913E-4743-BBE5-A5BA33806928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to be gai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efficient PD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er decisions at the Board level, as this giv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tter chance and more probability for the GAC and the GNSO to find an agreed way 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efiting from multi-stakeholder nature of the organization as early as possible and directly between GNSO and GAC rather than through 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ing ATRT recommendations, also widely supported by the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33439-4FB3-4DC8-8521-16D5155A0F1E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 and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449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al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AC early engagement in GNSO PDP projects and closer functional coordination between the GAC and the GNSO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going smooth and timely information exchan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going smooth early eng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GAC in GNSO PDP projec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greed procedure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ow to proceed in cases where GAC early input is in conflict with a GNSO proposal and a mutual agreement could not be reach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osal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commodating the different working metho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B1E16-F1EF-469D-AF56-293EADD26F7F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plete description of this effort is included in the Charte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d4"/>
                </a:solidFill>
                <a:uFillTx/>
                <a:latin typeface="Calibri"/>
                <a:hlinkClick r:id="rId1"/>
              </a:rPr>
              <a:t>TinyURL.com/Charter-GAC-GN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u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ter approved by the group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from GAC and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val by the GAC and the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rget: date for GAC/GNSO approval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CAN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ngap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309B4-A28D-43D0-88C8-40D2CEA8CD14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7086600" y="2540160"/>
            <a:ext cx="1925640" cy="4317840"/>
          </a:xfrm>
          <a:prstGeom prst="rect">
            <a:avLst/>
          </a:prstGeom>
          <a:gradFill rotWithShape="0">
            <a:gsLst>
              <a:gs pos="0">
                <a:srgbClr val="ffe6e0"/>
              </a:gs>
              <a:gs pos="100000">
                <a:srgbClr val="ffa692"/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e99871"/>
                </a:solidFill>
                <a:latin typeface="Calibri"/>
              </a:rPr>
              <a:t>Shar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tracks of work –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y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7000" y="1560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y-to-day ongoing cooperat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Manal Ismail and Jonathan Robinson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C early engagement in GNSO PD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Suzanne Radell and Mikey O’Conn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73280" y="53020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7200"/>
                <a:gridCol w="162864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773280" y="27082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8640"/>
                <a:gridCol w="1627200"/>
              </a:tblGrid>
              <a:tr h="1371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 Liaison to the G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gular interaction between GAC and GNSO Cha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Topic leads buddy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think recurring joint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  <p:sp>
        <p:nvSpPr>
          <p:cNvPr id="6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51DE8A-3FB5-46D3-99BA-8571E1B8EC78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iagram 43" descr=""/>
          <p:cNvPicPr/>
          <p:nvPr/>
        </p:nvPicPr>
        <p:blipFill>
          <a:blip r:embed="rId1"/>
          <a:stretch/>
        </p:blipFill>
        <p:spPr>
          <a:xfrm>
            <a:off x="762120" y="689040"/>
            <a:ext cx="7619760" cy="548640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3" descr=""/>
          <p:cNvPicPr/>
          <p:nvPr/>
        </p:nvPicPr>
        <p:blipFill>
          <a:blip r:embed="rId2"/>
          <a:stretch/>
        </p:blipFill>
        <p:spPr>
          <a:xfrm>
            <a:off x="139680" y="219240"/>
            <a:ext cx="8785080" cy="651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24308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6480000" y="5807160"/>
            <a:ext cx="655920" cy="698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1924200" y="5821200"/>
            <a:ext cx="655560" cy="702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20680" y="2506680"/>
            <a:ext cx="654120" cy="7002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70" name="Rectangle 56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57"/>
            <p:cNvSpPr/>
            <p:nvPr/>
          </p:nvSpPr>
          <p:spPr>
            <a:xfrm rot="20796600">
              <a:off x="6386040" y="44460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7938720" y="2497320"/>
            <a:ext cx="627840" cy="606240"/>
            <a:chOff x="7938720" y="2497320"/>
            <a:chExt cx="627840" cy="606240"/>
          </a:xfrm>
        </p:grpSpPr>
        <p:sp>
          <p:nvSpPr>
            <p:cNvPr id="74" name="Rectangle 60"/>
            <p:cNvSpPr/>
            <p:nvPr/>
          </p:nvSpPr>
          <p:spPr>
            <a:xfrm rot="20796600">
              <a:off x="8094960" y="2573280"/>
              <a:ext cx="42084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61"/>
            <p:cNvSpPr/>
            <p:nvPr/>
          </p:nvSpPr>
          <p:spPr>
            <a:xfrm rot="20796600">
              <a:off x="8040240" y="25887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31"/>
            <p:cNvSpPr/>
            <p:nvPr/>
          </p:nvSpPr>
          <p:spPr>
            <a:xfrm rot="20796600">
              <a:off x="7955280" y="255096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32"/>
          <p:cNvGrpSpPr/>
          <p:nvPr/>
        </p:nvGrpSpPr>
        <p:grpSpPr>
          <a:xfrm>
            <a:off x="3463560" y="6259680"/>
            <a:ext cx="627840" cy="613440"/>
            <a:chOff x="3463560" y="6259680"/>
            <a:chExt cx="627840" cy="613440"/>
          </a:xfrm>
        </p:grpSpPr>
        <p:sp>
          <p:nvSpPr>
            <p:cNvPr id="78" name="Rectangle 64"/>
            <p:cNvSpPr/>
            <p:nvPr/>
          </p:nvSpPr>
          <p:spPr>
            <a:xfrm rot="20796600">
              <a:off x="3607200" y="6330960"/>
              <a:ext cx="432360" cy="4989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Rectangle 65"/>
            <p:cNvSpPr/>
            <p:nvPr/>
          </p:nvSpPr>
          <p:spPr>
            <a:xfrm rot="20796600">
              <a:off x="3579480" y="6365160"/>
              <a:ext cx="300240" cy="11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35"/>
            <p:cNvSpPr/>
            <p:nvPr/>
          </p:nvSpPr>
          <p:spPr>
            <a:xfrm rot="20796600">
              <a:off x="3479760" y="631476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36"/>
          <p:cNvGrpSpPr/>
          <p:nvPr/>
        </p:nvGrpSpPr>
        <p:grpSpPr>
          <a:xfrm>
            <a:off x="817200" y="5023080"/>
            <a:ext cx="627840" cy="606240"/>
            <a:chOff x="817200" y="5023080"/>
            <a:chExt cx="627840" cy="606240"/>
          </a:xfrm>
        </p:grpSpPr>
        <p:sp>
          <p:nvSpPr>
            <p:cNvPr id="82" name="Rectangle 68"/>
            <p:cNvSpPr/>
            <p:nvPr/>
          </p:nvSpPr>
          <p:spPr>
            <a:xfrm rot="20796600">
              <a:off x="973440" y="509904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69"/>
            <p:cNvSpPr/>
            <p:nvPr/>
          </p:nvSpPr>
          <p:spPr>
            <a:xfrm rot="20796600">
              <a:off x="918720" y="511452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39"/>
            <p:cNvSpPr/>
            <p:nvPr/>
          </p:nvSpPr>
          <p:spPr>
            <a:xfrm rot="20796600">
              <a:off x="833760" y="507672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40"/>
          <p:cNvGrpSpPr/>
          <p:nvPr/>
        </p:nvGrpSpPr>
        <p:grpSpPr>
          <a:xfrm>
            <a:off x="2057040" y="317520"/>
            <a:ext cx="629280" cy="613800"/>
            <a:chOff x="2057040" y="317520"/>
            <a:chExt cx="629280" cy="613800"/>
          </a:xfrm>
        </p:grpSpPr>
        <p:sp>
          <p:nvSpPr>
            <p:cNvPr id="86" name="Rectangle 72"/>
            <p:cNvSpPr/>
            <p:nvPr/>
          </p:nvSpPr>
          <p:spPr>
            <a:xfrm rot="20796600">
              <a:off x="2200680" y="388800"/>
              <a:ext cx="433800" cy="4989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73"/>
            <p:cNvSpPr/>
            <p:nvPr/>
          </p:nvSpPr>
          <p:spPr>
            <a:xfrm rot="20796600">
              <a:off x="2161440" y="408600"/>
              <a:ext cx="301680" cy="11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43"/>
            <p:cNvSpPr/>
            <p:nvPr/>
          </p:nvSpPr>
          <p:spPr>
            <a:xfrm rot="20796600">
              <a:off x="2073240" y="37296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44"/>
          <p:cNvGrpSpPr/>
          <p:nvPr/>
        </p:nvGrpSpPr>
        <p:grpSpPr>
          <a:xfrm>
            <a:off x="292320" y="3729960"/>
            <a:ext cx="634680" cy="618480"/>
            <a:chOff x="292320" y="3729960"/>
            <a:chExt cx="634680" cy="618480"/>
          </a:xfrm>
        </p:grpSpPr>
        <p:sp>
          <p:nvSpPr>
            <p:cNvPr id="90" name="Rectangle 76"/>
            <p:cNvSpPr/>
            <p:nvPr/>
          </p:nvSpPr>
          <p:spPr>
            <a:xfrm rot="20799000">
              <a:off x="448920" y="3809520"/>
              <a:ext cx="42660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77"/>
            <p:cNvSpPr/>
            <p:nvPr/>
          </p:nvSpPr>
          <p:spPr>
            <a:xfrm rot="20799000">
              <a:off x="414720" y="383040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47"/>
            <p:cNvSpPr/>
            <p:nvPr/>
          </p:nvSpPr>
          <p:spPr>
            <a:xfrm rot="20799000">
              <a:off x="320760" y="378288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48"/>
          <p:cNvGrpSpPr/>
          <p:nvPr/>
        </p:nvGrpSpPr>
        <p:grpSpPr>
          <a:xfrm>
            <a:off x="738000" y="1514160"/>
            <a:ext cx="895320" cy="582840"/>
            <a:chOff x="738000" y="1514160"/>
            <a:chExt cx="895320" cy="582840"/>
          </a:xfrm>
        </p:grpSpPr>
        <p:sp>
          <p:nvSpPr>
            <p:cNvPr id="94" name="Rectangle 80"/>
            <p:cNvSpPr/>
            <p:nvPr/>
          </p:nvSpPr>
          <p:spPr>
            <a:xfrm rot="20799000">
              <a:off x="873000" y="166356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81"/>
            <p:cNvSpPr/>
            <p:nvPr/>
          </p:nvSpPr>
          <p:spPr>
            <a:xfrm rot="20799000">
              <a:off x="858960" y="166788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51"/>
            <p:cNvSpPr/>
            <p:nvPr/>
          </p:nvSpPr>
          <p:spPr>
            <a:xfrm rot="20799000">
              <a:off x="761760" y="160776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52"/>
          <p:cNvGrpSpPr/>
          <p:nvPr/>
        </p:nvGrpSpPr>
        <p:grpSpPr>
          <a:xfrm>
            <a:off x="7594200" y="4370040"/>
            <a:ext cx="628560" cy="597960"/>
            <a:chOff x="7594200" y="4370040"/>
            <a:chExt cx="628560" cy="597960"/>
          </a:xfrm>
        </p:grpSpPr>
        <p:sp>
          <p:nvSpPr>
            <p:cNvPr id="98" name="Rectangle 84"/>
            <p:cNvSpPr/>
            <p:nvPr/>
          </p:nvSpPr>
          <p:spPr>
            <a:xfrm rot="20796600">
              <a:off x="7751160" y="4441320"/>
              <a:ext cx="420840" cy="4845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85"/>
            <p:cNvSpPr/>
            <p:nvPr/>
          </p:nvSpPr>
          <p:spPr>
            <a:xfrm rot="20796600">
              <a:off x="7725960" y="446184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55"/>
            <p:cNvSpPr/>
            <p:nvPr/>
          </p:nvSpPr>
          <p:spPr>
            <a:xfrm rot="20796600">
              <a:off x="7623000" y="442224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AD343-9600-4600-8718-FBCADD2F78D2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Diagram 52" descr=""/>
          <p:cNvPicPr/>
          <p:nvPr/>
        </p:nvPicPr>
        <p:blipFill>
          <a:blip r:embed="rId1"/>
          <a:stretch/>
        </p:blipFill>
        <p:spPr>
          <a:xfrm>
            <a:off x="762120" y="689040"/>
            <a:ext cx="7619760" cy="548640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3" descr=""/>
          <p:cNvPicPr/>
          <p:nvPr/>
        </p:nvPicPr>
        <p:blipFill>
          <a:blip r:embed="rId2"/>
          <a:stretch/>
        </p:blipFill>
        <p:spPr>
          <a:xfrm>
            <a:off x="139680" y="219240"/>
            <a:ext cx="8785080" cy="6510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24308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6480000" y="5807160"/>
            <a:ext cx="655920" cy="698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1924200" y="5821200"/>
            <a:ext cx="655560" cy="70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20680" y="2506680"/>
            <a:ext cx="654120" cy="7002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110" name="Rectangle 61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62"/>
            <p:cNvSpPr/>
            <p:nvPr/>
          </p:nvSpPr>
          <p:spPr>
            <a:xfrm rot="20796600">
              <a:off x="6386040" y="44460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7938720" y="2497320"/>
            <a:ext cx="627840" cy="606240"/>
            <a:chOff x="7938720" y="2497320"/>
            <a:chExt cx="627840" cy="606240"/>
          </a:xfrm>
        </p:grpSpPr>
        <p:sp>
          <p:nvSpPr>
            <p:cNvPr id="114" name="Rectangle 65"/>
            <p:cNvSpPr/>
            <p:nvPr/>
          </p:nvSpPr>
          <p:spPr>
            <a:xfrm rot="20796600">
              <a:off x="8094960" y="2573280"/>
              <a:ext cx="42084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66"/>
            <p:cNvSpPr/>
            <p:nvPr/>
          </p:nvSpPr>
          <p:spPr>
            <a:xfrm rot="20796600">
              <a:off x="8040240" y="25887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31"/>
            <p:cNvSpPr/>
            <p:nvPr/>
          </p:nvSpPr>
          <p:spPr>
            <a:xfrm rot="20796600">
              <a:off x="7955280" y="255096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32"/>
          <p:cNvGrpSpPr/>
          <p:nvPr/>
        </p:nvGrpSpPr>
        <p:grpSpPr>
          <a:xfrm>
            <a:off x="3463560" y="6259680"/>
            <a:ext cx="627840" cy="613440"/>
            <a:chOff x="3463560" y="6259680"/>
            <a:chExt cx="627840" cy="613440"/>
          </a:xfrm>
        </p:grpSpPr>
        <p:sp>
          <p:nvSpPr>
            <p:cNvPr id="118" name="Rectangle 69"/>
            <p:cNvSpPr/>
            <p:nvPr/>
          </p:nvSpPr>
          <p:spPr>
            <a:xfrm rot="20796600">
              <a:off x="3607200" y="6330960"/>
              <a:ext cx="432360" cy="4989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70"/>
            <p:cNvSpPr/>
            <p:nvPr/>
          </p:nvSpPr>
          <p:spPr>
            <a:xfrm rot="20796600">
              <a:off x="3579480" y="6365160"/>
              <a:ext cx="300240" cy="11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35"/>
            <p:cNvSpPr/>
            <p:nvPr/>
          </p:nvSpPr>
          <p:spPr>
            <a:xfrm rot="20796600">
              <a:off x="3479760" y="631476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Group 36"/>
          <p:cNvGrpSpPr/>
          <p:nvPr/>
        </p:nvGrpSpPr>
        <p:grpSpPr>
          <a:xfrm>
            <a:off x="817200" y="5023080"/>
            <a:ext cx="627840" cy="606240"/>
            <a:chOff x="817200" y="5023080"/>
            <a:chExt cx="627840" cy="606240"/>
          </a:xfrm>
        </p:grpSpPr>
        <p:sp>
          <p:nvSpPr>
            <p:cNvPr id="122" name="Rectangle 73"/>
            <p:cNvSpPr/>
            <p:nvPr/>
          </p:nvSpPr>
          <p:spPr>
            <a:xfrm rot="20796600">
              <a:off x="973440" y="509904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74"/>
            <p:cNvSpPr/>
            <p:nvPr/>
          </p:nvSpPr>
          <p:spPr>
            <a:xfrm rot="20796600">
              <a:off x="918720" y="511452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Box 39"/>
            <p:cNvSpPr/>
            <p:nvPr/>
          </p:nvSpPr>
          <p:spPr>
            <a:xfrm rot="20796600">
              <a:off x="833760" y="507672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2057040" y="317520"/>
            <a:ext cx="629280" cy="613800"/>
            <a:chOff x="2057040" y="317520"/>
            <a:chExt cx="629280" cy="613800"/>
          </a:xfrm>
        </p:grpSpPr>
        <p:sp>
          <p:nvSpPr>
            <p:cNvPr id="126" name="Rectangle 77"/>
            <p:cNvSpPr/>
            <p:nvPr/>
          </p:nvSpPr>
          <p:spPr>
            <a:xfrm rot="20796600">
              <a:off x="2200680" y="388800"/>
              <a:ext cx="433800" cy="4989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78"/>
            <p:cNvSpPr/>
            <p:nvPr/>
          </p:nvSpPr>
          <p:spPr>
            <a:xfrm rot="20796600">
              <a:off x="2161440" y="408600"/>
              <a:ext cx="301680" cy="11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43"/>
            <p:cNvSpPr/>
            <p:nvPr/>
          </p:nvSpPr>
          <p:spPr>
            <a:xfrm rot="20796600">
              <a:off x="2073240" y="37296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44"/>
          <p:cNvGrpSpPr/>
          <p:nvPr/>
        </p:nvGrpSpPr>
        <p:grpSpPr>
          <a:xfrm>
            <a:off x="292320" y="3729960"/>
            <a:ext cx="634680" cy="618480"/>
            <a:chOff x="292320" y="3729960"/>
            <a:chExt cx="634680" cy="618480"/>
          </a:xfrm>
        </p:grpSpPr>
        <p:sp>
          <p:nvSpPr>
            <p:cNvPr id="130" name="Rectangle 81"/>
            <p:cNvSpPr/>
            <p:nvPr/>
          </p:nvSpPr>
          <p:spPr>
            <a:xfrm rot="20799000">
              <a:off x="448920" y="3809520"/>
              <a:ext cx="42660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82"/>
            <p:cNvSpPr/>
            <p:nvPr/>
          </p:nvSpPr>
          <p:spPr>
            <a:xfrm rot="20799000">
              <a:off x="414720" y="383040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Box 47"/>
            <p:cNvSpPr/>
            <p:nvPr/>
          </p:nvSpPr>
          <p:spPr>
            <a:xfrm rot="20799000">
              <a:off x="320760" y="378288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Group 48"/>
          <p:cNvGrpSpPr/>
          <p:nvPr/>
        </p:nvGrpSpPr>
        <p:grpSpPr>
          <a:xfrm>
            <a:off x="738000" y="1514160"/>
            <a:ext cx="895320" cy="582840"/>
            <a:chOff x="738000" y="1514160"/>
            <a:chExt cx="895320" cy="582840"/>
          </a:xfrm>
        </p:grpSpPr>
        <p:sp>
          <p:nvSpPr>
            <p:cNvPr id="134" name="Rectangle 85"/>
            <p:cNvSpPr/>
            <p:nvPr/>
          </p:nvSpPr>
          <p:spPr>
            <a:xfrm rot="20799000">
              <a:off x="873000" y="166356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86"/>
            <p:cNvSpPr/>
            <p:nvPr/>
          </p:nvSpPr>
          <p:spPr>
            <a:xfrm rot="20799000">
              <a:off x="858960" y="166788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51"/>
            <p:cNvSpPr/>
            <p:nvPr/>
          </p:nvSpPr>
          <p:spPr>
            <a:xfrm rot="20799000">
              <a:off x="761760" y="160776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52"/>
          <p:cNvGrpSpPr/>
          <p:nvPr/>
        </p:nvGrpSpPr>
        <p:grpSpPr>
          <a:xfrm>
            <a:off x="7594200" y="4370040"/>
            <a:ext cx="628560" cy="597960"/>
            <a:chOff x="7594200" y="4370040"/>
            <a:chExt cx="628560" cy="597960"/>
          </a:xfrm>
        </p:grpSpPr>
        <p:sp>
          <p:nvSpPr>
            <p:cNvPr id="138" name="Rectangle 89"/>
            <p:cNvSpPr/>
            <p:nvPr/>
          </p:nvSpPr>
          <p:spPr>
            <a:xfrm rot="20796600">
              <a:off x="7751160" y="4441320"/>
              <a:ext cx="420840" cy="4845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90"/>
            <p:cNvSpPr/>
            <p:nvPr/>
          </p:nvSpPr>
          <p:spPr>
            <a:xfrm rot="20796600">
              <a:off x="7725960" y="446184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55"/>
            <p:cNvSpPr/>
            <p:nvPr/>
          </p:nvSpPr>
          <p:spPr>
            <a:xfrm rot="20796600">
              <a:off x="7623000" y="442224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Oval 92"/>
          <p:cNvSpPr/>
          <p:nvPr/>
        </p:nvSpPr>
        <p:spPr>
          <a:xfrm>
            <a:off x="87480" y="229392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Go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93"/>
          <p:cNvSpPr/>
          <p:nvPr/>
        </p:nvSpPr>
        <p:spPr>
          <a:xfrm>
            <a:off x="1017720" y="571500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t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94"/>
          <p:cNvSpPr/>
          <p:nvPr/>
        </p:nvSpPr>
        <p:spPr>
          <a:xfrm>
            <a:off x="5780160" y="561672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95"/>
          <p:cNvSpPr/>
          <p:nvPr/>
        </p:nvSpPr>
        <p:spPr>
          <a:xfrm>
            <a:off x="6659640" y="100188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98640" y="258480"/>
            <a:ext cx="233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i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9CBC0-76BF-40A2-BFD8-65E086629A66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ngoing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ach option, we are currently working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t achieves the agreed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issues or questions to be addre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t works in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ther it requires additional fu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ther possible to implement it as a pil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all assessment in terms of pros and c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6A293-CE85-4A26-A007-497106A210E2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anal Ismail</cp:lastModifiedBy>
  <dcterms:modified xsi:type="dcterms:W3CDTF">2014-03-18T17:54:34Z</dcterms:modified>
  <cp:revision>736</cp:revision>
  <dc:subject/>
  <dc:title>PowerPoint Presentation</dc:title>
</cp:coreProperties>
</file>