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164-AE59-4B7A-A54A-8CF41FCD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D80-472F-4BF6-9627-228ADCEA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5C7-9AB5-49B7-8C8D-62C6771F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EF2-F8D6-4F9D-A08E-41016860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53D-4FC6-4619-A25C-079C706C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BF2-E150-45C1-84D5-2F0B740C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7F29-6E27-4BDB-90F7-93FB33A4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244-3DA4-4B5F-9D27-139C5A2D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8EE-402B-48CA-9AD4-453C173F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640-E8FB-42C0-BA5E-6C0A7F28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177-BC09-4A95-82F9-02617897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1BF-787E-48B1-9B7D-118CEF74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FC1AE-10C4-439F-9B5C-71B2714BDB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CC0F5-7D5D-4E81-87F7-BF31BFD733C4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inyurl.com/Charter-GAC-GNS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GNSO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296040" y="4562640"/>
            <a:ext cx="3014640" cy="2234880"/>
          </a:xfrm>
          <a:prstGeom prst="rect">
            <a:avLst/>
          </a:prstGeom>
          <a:ln w="0">
            <a:noFill/>
          </a:ln>
        </p:spPr>
      </p:pic>
      <p:sp>
        <p:nvSpPr>
          <p:cNvPr id="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8D760-DEB2-45D6-BA38-418CDE3BD645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would be a reasonable date to receive your comments or green l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448DE-A3AC-4FAD-AB98-533FB14D8A06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4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7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8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U-Turn Arrow 26"/>
          <p:cNvSpPr/>
          <p:nvPr/>
        </p:nvSpPr>
        <p:spPr>
          <a:xfrm flipH="1" flipV="1" rot="16200000">
            <a:off x="4921920" y="2320560"/>
            <a:ext cx="394488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Diagram 22" descr=""/>
          <p:cNvPicPr/>
          <p:nvPr/>
        </p:nvPicPr>
        <p:blipFill>
          <a:blip r:embed="rId1"/>
          <a:stretch/>
        </p:blipFill>
        <p:spPr>
          <a:xfrm>
            <a:off x="6480000" y="1444680"/>
            <a:ext cx="2346480" cy="23526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28"/>
          <p:cNvSpPr/>
          <p:nvPr/>
        </p:nvSpPr>
        <p:spPr>
          <a:xfrm>
            <a:off x="6809400" y="45846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Diagram 24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2040" cy="2444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"/>
          <p:cNvPicPr/>
          <p:nvPr/>
        </p:nvPicPr>
        <p:blipFill>
          <a:blip r:embed="rId3"/>
          <a:stretch/>
        </p:blipFill>
        <p:spPr>
          <a:xfrm>
            <a:off x="3390840" y="3860640"/>
            <a:ext cx="3960720" cy="293688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A8842-E50B-45B9-8D9A-905A8BD253DB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10960" y="883800"/>
            <a:ext cx="86997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age 1: Identify and lau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Stage 2: Develop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7bc477"/>
                </a:solidFill>
                <a:latin typeface="Calibri"/>
              </a:rPr>
              <a:t>Stage 3: Refine and end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CB6F8-86E7-4F47-81F3-F5D7FC00E847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A9986-0F43-45CB-AB00-13978CCD17A8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multi-stakeholder nature of the organization as early as possible and directly between GNSO and GAC rather than through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AA5FA-EE5B-4D32-B518-8A083FC28731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A8671-B831-4D87-B410-50FD2FF73CF0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lete description of this effort is included in the Chart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TinyURL.com/Charter-GAC-G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er approved by the group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GAC and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by the GAC and the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: date for GAC/GNSO approval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ap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B9BA8-B3A3-47E0-8767-932833F9970F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8640"/>
                <a:gridCol w="1627200"/>
              </a:tblGrid>
              <a:tr h="137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sp>
        <p:nvSpPr>
          <p:cNvPr id="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44B38-942F-4A63-B174-44CEC8216968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iagram 43" descr=""/>
          <p:cNvPicPr/>
          <p:nvPr/>
        </p:nvPicPr>
        <p:blipFill>
          <a:blip r:embed="rId1"/>
          <a:stretch/>
        </p:blipFill>
        <p:spPr>
          <a:xfrm>
            <a:off x="762120" y="689040"/>
            <a:ext cx="7619760" cy="54864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3" descr=""/>
          <p:cNvPicPr/>
          <p:nvPr/>
        </p:nvPicPr>
        <p:blipFill>
          <a:blip r:embed="rId2"/>
          <a:stretch/>
        </p:blipFill>
        <p:spPr>
          <a:xfrm>
            <a:off x="139680" y="219240"/>
            <a:ext cx="8785080" cy="65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70" name="Rectangle 56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57"/>
            <p:cNvSpPr/>
            <p:nvPr/>
          </p:nvSpPr>
          <p:spPr>
            <a:xfrm rot="20796600">
              <a:off x="6386040" y="4446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74" name="Rectangle 60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61"/>
            <p:cNvSpPr/>
            <p:nvPr/>
          </p:nvSpPr>
          <p:spPr>
            <a:xfrm rot="20796600">
              <a:off x="8040240" y="2588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32"/>
          <p:cNvGrpSpPr/>
          <p:nvPr/>
        </p:nvGrpSpPr>
        <p:grpSpPr>
          <a:xfrm>
            <a:off x="3463560" y="6259680"/>
            <a:ext cx="627840" cy="613440"/>
            <a:chOff x="3463560" y="6259680"/>
            <a:chExt cx="627840" cy="613440"/>
          </a:xfrm>
        </p:grpSpPr>
        <p:sp>
          <p:nvSpPr>
            <p:cNvPr id="78" name="Rectangle 64"/>
            <p:cNvSpPr/>
            <p:nvPr/>
          </p:nvSpPr>
          <p:spPr>
            <a:xfrm rot="20796600">
              <a:off x="3607200" y="6330960"/>
              <a:ext cx="432360" cy="498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65"/>
            <p:cNvSpPr/>
            <p:nvPr/>
          </p:nvSpPr>
          <p:spPr>
            <a:xfrm rot="20796600">
              <a:off x="3579480" y="6365160"/>
              <a:ext cx="30024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35"/>
            <p:cNvSpPr/>
            <p:nvPr/>
          </p:nvSpPr>
          <p:spPr>
            <a:xfrm rot="20796600">
              <a:off x="3479760" y="631476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82" name="Rectangle 68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69"/>
            <p:cNvSpPr/>
            <p:nvPr/>
          </p:nvSpPr>
          <p:spPr>
            <a:xfrm rot="20796600">
              <a:off x="918720" y="51145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2057040" y="317520"/>
            <a:ext cx="629280" cy="613800"/>
            <a:chOff x="2057040" y="317520"/>
            <a:chExt cx="629280" cy="613800"/>
          </a:xfrm>
        </p:grpSpPr>
        <p:sp>
          <p:nvSpPr>
            <p:cNvPr id="86" name="Rectangle 72"/>
            <p:cNvSpPr/>
            <p:nvPr/>
          </p:nvSpPr>
          <p:spPr>
            <a:xfrm rot="20796600">
              <a:off x="2200680" y="388800"/>
              <a:ext cx="433800" cy="498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73"/>
            <p:cNvSpPr/>
            <p:nvPr/>
          </p:nvSpPr>
          <p:spPr>
            <a:xfrm rot="20796600">
              <a:off x="2161440" y="408600"/>
              <a:ext cx="30168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43"/>
            <p:cNvSpPr/>
            <p:nvPr/>
          </p:nvSpPr>
          <p:spPr>
            <a:xfrm rot="20796600">
              <a:off x="2073240" y="37296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90" name="Rectangle 76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77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94" name="Rectangle 80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81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98" name="Rectangle 84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85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B3C15-E670-423D-9205-8AE592625FC4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Diagram 52" descr=""/>
          <p:cNvPicPr/>
          <p:nvPr/>
        </p:nvPicPr>
        <p:blipFill>
          <a:blip r:embed="rId1"/>
          <a:stretch/>
        </p:blipFill>
        <p:spPr>
          <a:xfrm>
            <a:off x="762120" y="689040"/>
            <a:ext cx="7619760" cy="548640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"/>
          <p:cNvPicPr/>
          <p:nvPr/>
        </p:nvPicPr>
        <p:blipFill>
          <a:blip r:embed="rId2"/>
          <a:stretch/>
        </p:blipFill>
        <p:spPr>
          <a:xfrm>
            <a:off x="139680" y="219240"/>
            <a:ext cx="8785080" cy="651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110" name="Rectangle 61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62"/>
            <p:cNvSpPr/>
            <p:nvPr/>
          </p:nvSpPr>
          <p:spPr>
            <a:xfrm rot="20796600">
              <a:off x="6386040" y="4446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114" name="Rectangle 65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66"/>
            <p:cNvSpPr/>
            <p:nvPr/>
          </p:nvSpPr>
          <p:spPr>
            <a:xfrm rot="20796600">
              <a:off x="8040240" y="2588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32"/>
          <p:cNvGrpSpPr/>
          <p:nvPr/>
        </p:nvGrpSpPr>
        <p:grpSpPr>
          <a:xfrm>
            <a:off x="3463560" y="6259680"/>
            <a:ext cx="627840" cy="613440"/>
            <a:chOff x="3463560" y="6259680"/>
            <a:chExt cx="627840" cy="613440"/>
          </a:xfrm>
        </p:grpSpPr>
        <p:sp>
          <p:nvSpPr>
            <p:cNvPr id="118" name="Rectangle 69"/>
            <p:cNvSpPr/>
            <p:nvPr/>
          </p:nvSpPr>
          <p:spPr>
            <a:xfrm rot="20796600">
              <a:off x="3607200" y="6330960"/>
              <a:ext cx="432360" cy="498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70"/>
            <p:cNvSpPr/>
            <p:nvPr/>
          </p:nvSpPr>
          <p:spPr>
            <a:xfrm rot="20796600">
              <a:off x="3579480" y="6365160"/>
              <a:ext cx="30024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 rot="20796600">
              <a:off x="3479760" y="631476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122" name="Rectangle 73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74"/>
            <p:cNvSpPr/>
            <p:nvPr/>
          </p:nvSpPr>
          <p:spPr>
            <a:xfrm rot="20796600">
              <a:off x="918720" y="51145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2057040" y="317520"/>
            <a:ext cx="629280" cy="613800"/>
            <a:chOff x="2057040" y="317520"/>
            <a:chExt cx="629280" cy="613800"/>
          </a:xfrm>
        </p:grpSpPr>
        <p:sp>
          <p:nvSpPr>
            <p:cNvPr id="126" name="Rectangle 77"/>
            <p:cNvSpPr/>
            <p:nvPr/>
          </p:nvSpPr>
          <p:spPr>
            <a:xfrm rot="20796600">
              <a:off x="2200680" y="388800"/>
              <a:ext cx="433800" cy="498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78"/>
            <p:cNvSpPr/>
            <p:nvPr/>
          </p:nvSpPr>
          <p:spPr>
            <a:xfrm rot="20796600">
              <a:off x="2161440" y="408600"/>
              <a:ext cx="30168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43"/>
            <p:cNvSpPr/>
            <p:nvPr/>
          </p:nvSpPr>
          <p:spPr>
            <a:xfrm rot="20796600">
              <a:off x="2073240" y="37296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130" name="Rectangle 81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82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134" name="Rectangle 85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86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138" name="Rectangle 89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90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Oval 92"/>
          <p:cNvSpPr/>
          <p:nvPr/>
        </p:nvSpPr>
        <p:spPr>
          <a:xfrm>
            <a:off x="87480" y="229392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3"/>
          <p:cNvSpPr/>
          <p:nvPr/>
        </p:nvSpPr>
        <p:spPr>
          <a:xfrm>
            <a:off x="1017720" y="571500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94"/>
          <p:cNvSpPr/>
          <p:nvPr/>
        </p:nvSpPr>
        <p:spPr>
          <a:xfrm>
            <a:off x="5780160" y="561672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95"/>
          <p:cNvSpPr/>
          <p:nvPr/>
        </p:nvSpPr>
        <p:spPr>
          <a:xfrm>
            <a:off x="6659640" y="100188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986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C5CE0-BD6F-4C92-8A0A-FCA72EEC413E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option, we are currently working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achieves the agreed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issues or questions to be add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works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it requires additional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possible to implement it as a pi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assessment in terms of pros and c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7C65E-13E6-4132-9CE8-C91F8146A233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anal Ismail</cp:lastModifiedBy>
  <dcterms:modified xsi:type="dcterms:W3CDTF">2014-03-18T17:54:34Z</dcterms:modified>
  <cp:revision>736</cp:revision>
  <dc:subject/>
  <dc:title>PowerPoint Presentation</dc:title>
</cp:coreProperties>
</file>