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8A6-8B7F-41A4-90D6-07984B5F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8E7-F4BC-4300-85FB-E3EE3D37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307-ADAA-4C49-B34B-5E898618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459-3854-481E-B1B2-879F25BC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DD2-9305-4EA1-8D2C-3F291A64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8F9-0710-4EA0-A16D-AAF6E85C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65D-5B86-48CD-91DC-48B91388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49D-8720-4F23-BBCF-064C1507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505-392B-4E12-B66B-E5FE2C49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3E0-2BFF-4D59-A552-D593CC84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C89-2EDC-4894-ACEC-BD38BA5D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B21-BA1D-47EA-872E-75884C59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E8127-6D49-4DFC-BB21-3BDF4CCC1D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F52D4-7A9F-4301-81AA-932813C96625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phPRAg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PyLRAg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GNSO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296040" y="4562640"/>
            <a:ext cx="3014640" cy="2234880"/>
          </a:xfrm>
          <a:prstGeom prst="rect">
            <a:avLst/>
          </a:prstGeom>
          <a:ln w="0">
            <a:noFill/>
          </a:ln>
        </p:spPr>
      </p:pic>
      <p:sp>
        <p:nvSpPr>
          <p:cNvPr id="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C33D8-945D-4C20-B97B-203EAD17516E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4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ki: </a:t>
            </a:r>
            <a:r>
              <a:rPr b="0" lang="en-US" sz="36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https://community.icann.org/x/phPRAg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A703B-A1C8-4E92-AD32-D44DE4CCBCF7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4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8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U-Turn Arrow 26"/>
          <p:cNvSpPr/>
          <p:nvPr/>
        </p:nvSpPr>
        <p:spPr>
          <a:xfrm flipH="1" flipV="1" rot="16200000">
            <a:off x="4921920" y="2320560"/>
            <a:ext cx="394488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Diagram 22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28"/>
          <p:cNvSpPr/>
          <p:nvPr/>
        </p:nvSpPr>
        <p:spPr>
          <a:xfrm>
            <a:off x="6809400" y="45846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Diagram 24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"/>
          <p:cNvPicPr/>
          <p:nvPr/>
        </p:nvPicPr>
        <p:blipFill>
          <a:blip r:embed="rId3"/>
          <a:stretch/>
        </p:blipFill>
        <p:spPr>
          <a:xfrm>
            <a:off x="3390840" y="3860640"/>
            <a:ext cx="3960720" cy="29368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E1953-1434-49CF-814F-BB13165FC1F9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0960" y="883800"/>
            <a:ext cx="86997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ge 1: Identify and la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Stage 2: Develop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7bc477"/>
                </a:solidFill>
                <a:latin typeface="Calibri"/>
              </a:rPr>
              <a:t>Stage 3: Refine and end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AA1B0-520B-46DA-91B0-3759E7DFF8A3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0CC65-DEE4-4026-91B3-1F1C56231573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multi-stakeholder nature of the organization as early as possible and directly between GNSO and GAC rather than through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DD5D4-939F-4D3F-94D3-995F55DA4E71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4F785-E67F-4232-B7F2-101AF51D0E5F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https://community.icann.org/x/PyLR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: date for GAC/GNSO approval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ap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0C9B4-C483-4122-A42B-BA16AB7A9EC3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sp>
        <p:nvSpPr>
          <p:cNvPr id="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C7A2E-93CD-489F-9EA1-F185860A0094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iagram 43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70" name="Rectangle 56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57"/>
            <p:cNvSpPr/>
            <p:nvPr/>
          </p:nvSpPr>
          <p:spPr>
            <a:xfrm rot="20796600">
              <a:off x="6386040" y="4428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74" name="Rectangle 60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61"/>
            <p:cNvSpPr/>
            <p:nvPr/>
          </p:nvSpPr>
          <p:spPr>
            <a:xfrm rot="20796600">
              <a:off x="8038800" y="25873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32"/>
          <p:cNvGrpSpPr/>
          <p:nvPr/>
        </p:nvGrpSpPr>
        <p:grpSpPr>
          <a:xfrm>
            <a:off x="3463560" y="6259320"/>
            <a:ext cx="627840" cy="614160"/>
            <a:chOff x="3463560" y="6259320"/>
            <a:chExt cx="627840" cy="614160"/>
          </a:xfrm>
        </p:grpSpPr>
        <p:sp>
          <p:nvSpPr>
            <p:cNvPr id="78" name="Rectangle 64"/>
            <p:cNvSpPr/>
            <p:nvPr/>
          </p:nvSpPr>
          <p:spPr>
            <a:xfrm rot="20796600">
              <a:off x="3605760" y="6329160"/>
              <a:ext cx="433440" cy="5007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65"/>
            <p:cNvSpPr/>
            <p:nvPr/>
          </p:nvSpPr>
          <p:spPr>
            <a:xfrm rot="20796600">
              <a:off x="3579480" y="6365520"/>
              <a:ext cx="30096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35"/>
            <p:cNvSpPr/>
            <p:nvPr/>
          </p:nvSpPr>
          <p:spPr>
            <a:xfrm rot="20796600">
              <a:off x="3479760" y="6314760"/>
              <a:ext cx="503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82" name="Rectangle 68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69"/>
            <p:cNvSpPr/>
            <p:nvPr/>
          </p:nvSpPr>
          <p:spPr>
            <a:xfrm rot="20796600">
              <a:off x="917280" y="511308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2057040" y="317160"/>
            <a:ext cx="629280" cy="614520"/>
            <a:chOff x="2057040" y="317160"/>
            <a:chExt cx="629280" cy="614520"/>
          </a:xfrm>
        </p:grpSpPr>
        <p:sp>
          <p:nvSpPr>
            <p:cNvPr id="86" name="Rectangle 72"/>
            <p:cNvSpPr/>
            <p:nvPr/>
          </p:nvSpPr>
          <p:spPr>
            <a:xfrm rot="20796600">
              <a:off x="2199240" y="387360"/>
              <a:ext cx="434880" cy="5007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73"/>
            <p:cNvSpPr/>
            <p:nvPr/>
          </p:nvSpPr>
          <p:spPr>
            <a:xfrm rot="20796600">
              <a:off x="2161800" y="406800"/>
              <a:ext cx="3024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43"/>
            <p:cNvSpPr/>
            <p:nvPr/>
          </p:nvSpPr>
          <p:spPr>
            <a:xfrm rot="20796600">
              <a:off x="2073240" y="372960"/>
              <a:ext cx="504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90" name="Rectangle 76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77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94" name="Rectangle 80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81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98" name="Rectangle 84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85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25722-DA21-4C38-A79E-82CCFDB0F41E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Diagram 52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10" name="Rectangle 61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62"/>
            <p:cNvSpPr/>
            <p:nvPr/>
          </p:nvSpPr>
          <p:spPr>
            <a:xfrm rot="20796600">
              <a:off x="6386040" y="4428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114" name="Rectangle 65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66"/>
            <p:cNvSpPr/>
            <p:nvPr/>
          </p:nvSpPr>
          <p:spPr>
            <a:xfrm rot="20796600">
              <a:off x="8038800" y="25873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32"/>
          <p:cNvGrpSpPr/>
          <p:nvPr/>
        </p:nvGrpSpPr>
        <p:grpSpPr>
          <a:xfrm>
            <a:off x="3463560" y="6259320"/>
            <a:ext cx="627840" cy="614160"/>
            <a:chOff x="3463560" y="6259320"/>
            <a:chExt cx="627840" cy="614160"/>
          </a:xfrm>
        </p:grpSpPr>
        <p:sp>
          <p:nvSpPr>
            <p:cNvPr id="118" name="Rectangle 69"/>
            <p:cNvSpPr/>
            <p:nvPr/>
          </p:nvSpPr>
          <p:spPr>
            <a:xfrm rot="20796600">
              <a:off x="3605760" y="6329160"/>
              <a:ext cx="433440" cy="5007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70"/>
            <p:cNvSpPr/>
            <p:nvPr/>
          </p:nvSpPr>
          <p:spPr>
            <a:xfrm rot="20796600">
              <a:off x="3579480" y="6365520"/>
              <a:ext cx="30096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 rot="20796600">
              <a:off x="3479760" y="6314760"/>
              <a:ext cx="503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122" name="Rectangle 73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74"/>
            <p:cNvSpPr/>
            <p:nvPr/>
          </p:nvSpPr>
          <p:spPr>
            <a:xfrm rot="20796600">
              <a:off x="917280" y="511308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2057040" y="317160"/>
            <a:ext cx="629280" cy="614520"/>
            <a:chOff x="2057040" y="317160"/>
            <a:chExt cx="629280" cy="614520"/>
          </a:xfrm>
        </p:grpSpPr>
        <p:sp>
          <p:nvSpPr>
            <p:cNvPr id="126" name="Rectangle 77"/>
            <p:cNvSpPr/>
            <p:nvPr/>
          </p:nvSpPr>
          <p:spPr>
            <a:xfrm rot="20796600">
              <a:off x="2199240" y="387360"/>
              <a:ext cx="434880" cy="5007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78"/>
            <p:cNvSpPr/>
            <p:nvPr/>
          </p:nvSpPr>
          <p:spPr>
            <a:xfrm rot="20796600">
              <a:off x="2161800" y="406800"/>
              <a:ext cx="3024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43"/>
            <p:cNvSpPr/>
            <p:nvPr/>
          </p:nvSpPr>
          <p:spPr>
            <a:xfrm rot="20796600">
              <a:off x="2073240" y="372960"/>
              <a:ext cx="504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130" name="Rectangle 81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82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134" name="Rectangle 85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86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138" name="Rectangle 89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90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Oval 92"/>
          <p:cNvSpPr/>
          <p:nvPr/>
        </p:nvSpPr>
        <p:spPr>
          <a:xfrm>
            <a:off x="87480" y="229392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3"/>
          <p:cNvSpPr/>
          <p:nvPr/>
        </p:nvSpPr>
        <p:spPr>
          <a:xfrm>
            <a:off x="1017720" y="571500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94"/>
          <p:cNvSpPr/>
          <p:nvPr/>
        </p:nvSpPr>
        <p:spPr>
          <a:xfrm>
            <a:off x="5780160" y="561672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95"/>
          <p:cNvSpPr/>
          <p:nvPr/>
        </p:nvSpPr>
        <p:spPr>
          <a:xfrm>
            <a:off x="6659640" y="100188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986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B2DFE-FB95-4D80-8F02-8212B07C5E8C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8BDE2-7F55-4AB6-A819-BED5CCFF0784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arika Konings</cp:lastModifiedBy>
  <dcterms:modified xsi:type="dcterms:W3CDTF">2014-03-22T02:12:22Z</dcterms:modified>
  <cp:revision>737</cp:revision>
  <dc:subject/>
  <dc:title>PowerPoint Presentation</dc:title>
</cp:coreProperties>
</file>