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E67-0F74-4B6E-9AD8-73957DC4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10C-E9F3-4DC5-8413-74BC9E3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512-FAEE-4158-B367-AD411F48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4C1-E8B1-46BB-AA40-3199BB21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BC2-703B-4FCC-B676-6DE4FBE2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5B8-F78B-4FC5-B24D-6597694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3CB-81B9-4E5B-A93F-31E1456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CAB-9DC7-47BC-A082-B16684FA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6D-7EB6-44FF-A87D-D9D97C0D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1DE-5CEA-435D-944F-0ADD35F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0F9-4AFE-4EE9-AC7E-9E27F52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A81-174A-4EB6-9223-87177CB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CAB47-CC53-47C7-A94B-4E804D829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4741F-40D4-4995-B354-FFBB51A449D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hPRAg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PyLRAg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GNSO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296040" y="4562640"/>
            <a:ext cx="3014640" cy="2234880"/>
          </a:xfrm>
          <a:prstGeom prst="rect">
            <a:avLst/>
          </a:prstGeom>
          <a:ln w="0">
            <a:noFill/>
          </a:ln>
        </p:spPr>
      </p:pic>
      <p:sp>
        <p:nvSpPr>
          <p:cNvPr id="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06EC2-25D7-4A69-8191-34DDC71D397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4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ki: </a:t>
            </a:r>
            <a:r>
              <a:rPr b="0" lang="en-US" sz="36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hPRAg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83D7A-3DCB-4DAD-844D-D0ADBBFC30C0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U-Turn Arrow 26"/>
          <p:cNvSpPr/>
          <p:nvPr/>
        </p:nvSpPr>
        <p:spPr>
          <a:xfrm flipH="1" flipV="1" rot="16200000">
            <a:off x="4921920" y="2320560"/>
            <a:ext cx="394488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Diagram 22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28"/>
          <p:cNvSpPr/>
          <p:nvPr/>
        </p:nvSpPr>
        <p:spPr>
          <a:xfrm>
            <a:off x="6809400" y="45846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Diagram 24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3390840" y="3860640"/>
            <a:ext cx="3960720" cy="29368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C0B03-6C09-4260-9A1B-80F5588C216E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10960" y="883800"/>
            <a:ext cx="8699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3A763-2E01-471C-9343-BDA56BCF3F1B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154D5-4804-45CC-8C0C-A4D1CC126681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multi-stakeholder nature of the organization as early as possible and directly between GNSO and GAC rather than through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1A3AC-8738-4BE4-B1C6-ECA346972F8D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6051B-6B6B-44D3-8171-38EDA325E26A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https://community.icann.org/x/PyLR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: date for GAC/GNSO approval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0A5E4-9982-426E-8A2B-7C84236F1D45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58C40-92FF-4446-A82A-8F2FFCC45B9F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agram 43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70" name="Rectangle 56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57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74" name="Rectangle 60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61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78" name="Rectangle 64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65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82" name="Rectangle 68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69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86" name="Rectangle 72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73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90" name="Rectangle 76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77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94" name="Rectangle 80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98" name="Rectangle 84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5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D2AB4-CD82-4D6E-959E-858ADB8C7761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iagram 52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1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24308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6480000" y="5807160"/>
            <a:ext cx="65592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1924200" y="5821200"/>
            <a:ext cx="655560" cy="70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20680" y="2506680"/>
            <a:ext cx="654120" cy="700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10" name="Rectangle 61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62"/>
            <p:cNvSpPr/>
            <p:nvPr/>
          </p:nvSpPr>
          <p:spPr>
            <a:xfrm rot="20796600">
              <a:off x="6386040" y="44280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7938720" y="2497320"/>
            <a:ext cx="627840" cy="606240"/>
            <a:chOff x="7938720" y="2497320"/>
            <a:chExt cx="627840" cy="606240"/>
          </a:xfrm>
        </p:grpSpPr>
        <p:sp>
          <p:nvSpPr>
            <p:cNvPr id="114" name="Rectangle 65"/>
            <p:cNvSpPr/>
            <p:nvPr/>
          </p:nvSpPr>
          <p:spPr>
            <a:xfrm rot="20796600">
              <a:off x="8094960" y="2573280"/>
              <a:ext cx="42084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66"/>
            <p:cNvSpPr/>
            <p:nvPr/>
          </p:nvSpPr>
          <p:spPr>
            <a:xfrm rot="20796600">
              <a:off x="8038800" y="258732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 rot="20796600">
              <a:off x="7955280" y="255096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32"/>
          <p:cNvGrpSpPr/>
          <p:nvPr/>
        </p:nvGrpSpPr>
        <p:grpSpPr>
          <a:xfrm>
            <a:off x="3463560" y="6259320"/>
            <a:ext cx="627840" cy="614160"/>
            <a:chOff x="3463560" y="6259320"/>
            <a:chExt cx="627840" cy="614160"/>
          </a:xfrm>
        </p:grpSpPr>
        <p:sp>
          <p:nvSpPr>
            <p:cNvPr id="118" name="Rectangle 69"/>
            <p:cNvSpPr/>
            <p:nvPr/>
          </p:nvSpPr>
          <p:spPr>
            <a:xfrm rot="20796600">
              <a:off x="3605760" y="6329160"/>
              <a:ext cx="433440" cy="500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70"/>
            <p:cNvSpPr/>
            <p:nvPr/>
          </p:nvSpPr>
          <p:spPr>
            <a:xfrm rot="20796600">
              <a:off x="3579480" y="6365520"/>
              <a:ext cx="30096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 rot="20796600">
              <a:off x="3479760" y="6314760"/>
              <a:ext cx="503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6"/>
          <p:cNvGrpSpPr/>
          <p:nvPr/>
        </p:nvGrpSpPr>
        <p:grpSpPr>
          <a:xfrm>
            <a:off x="817200" y="5023080"/>
            <a:ext cx="627840" cy="606240"/>
            <a:chOff x="817200" y="5023080"/>
            <a:chExt cx="627840" cy="606240"/>
          </a:xfrm>
        </p:grpSpPr>
        <p:sp>
          <p:nvSpPr>
            <p:cNvPr id="122" name="Rectangle 73"/>
            <p:cNvSpPr/>
            <p:nvPr/>
          </p:nvSpPr>
          <p:spPr>
            <a:xfrm rot="20796600">
              <a:off x="973440" y="509904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 rot="20796600">
              <a:off x="917280" y="511308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9"/>
            <p:cNvSpPr/>
            <p:nvPr/>
          </p:nvSpPr>
          <p:spPr>
            <a:xfrm rot="20796600">
              <a:off x="833760" y="507672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2057040" y="317160"/>
            <a:ext cx="629280" cy="614520"/>
            <a:chOff x="2057040" y="317160"/>
            <a:chExt cx="629280" cy="614520"/>
          </a:xfrm>
        </p:grpSpPr>
        <p:sp>
          <p:nvSpPr>
            <p:cNvPr id="126" name="Rectangle 77"/>
            <p:cNvSpPr/>
            <p:nvPr/>
          </p:nvSpPr>
          <p:spPr>
            <a:xfrm rot="20796600">
              <a:off x="2199240" y="387360"/>
              <a:ext cx="434880" cy="500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78"/>
            <p:cNvSpPr/>
            <p:nvPr/>
          </p:nvSpPr>
          <p:spPr>
            <a:xfrm rot="20796600">
              <a:off x="2161800" y="406800"/>
              <a:ext cx="3024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3"/>
            <p:cNvSpPr/>
            <p:nvPr/>
          </p:nvSpPr>
          <p:spPr>
            <a:xfrm rot="20796600">
              <a:off x="2073240" y="372960"/>
              <a:ext cx="504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44"/>
          <p:cNvGrpSpPr/>
          <p:nvPr/>
        </p:nvGrpSpPr>
        <p:grpSpPr>
          <a:xfrm>
            <a:off x="292320" y="3729960"/>
            <a:ext cx="634680" cy="618480"/>
            <a:chOff x="292320" y="3729960"/>
            <a:chExt cx="634680" cy="618480"/>
          </a:xfrm>
        </p:grpSpPr>
        <p:sp>
          <p:nvSpPr>
            <p:cNvPr id="130" name="Rectangle 81"/>
            <p:cNvSpPr/>
            <p:nvPr/>
          </p:nvSpPr>
          <p:spPr>
            <a:xfrm rot="20799000">
              <a:off x="448920" y="3809520"/>
              <a:ext cx="42660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2"/>
            <p:cNvSpPr/>
            <p:nvPr/>
          </p:nvSpPr>
          <p:spPr>
            <a:xfrm rot="20799000">
              <a:off x="414720" y="383040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7"/>
            <p:cNvSpPr/>
            <p:nvPr/>
          </p:nvSpPr>
          <p:spPr>
            <a:xfrm rot="20799000">
              <a:off x="320760" y="378288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8"/>
          <p:cNvGrpSpPr/>
          <p:nvPr/>
        </p:nvGrpSpPr>
        <p:grpSpPr>
          <a:xfrm>
            <a:off x="738000" y="1514160"/>
            <a:ext cx="895320" cy="582840"/>
            <a:chOff x="738000" y="1514160"/>
            <a:chExt cx="895320" cy="582840"/>
          </a:xfrm>
        </p:grpSpPr>
        <p:sp>
          <p:nvSpPr>
            <p:cNvPr id="134" name="Rectangle 85"/>
            <p:cNvSpPr/>
            <p:nvPr/>
          </p:nvSpPr>
          <p:spPr>
            <a:xfrm rot="20799000">
              <a:off x="873000" y="166356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6"/>
            <p:cNvSpPr/>
            <p:nvPr/>
          </p:nvSpPr>
          <p:spPr>
            <a:xfrm rot="20799000">
              <a:off x="858960" y="166788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1"/>
            <p:cNvSpPr/>
            <p:nvPr/>
          </p:nvSpPr>
          <p:spPr>
            <a:xfrm rot="20799000">
              <a:off x="761760" y="160776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2"/>
          <p:cNvGrpSpPr/>
          <p:nvPr/>
        </p:nvGrpSpPr>
        <p:grpSpPr>
          <a:xfrm>
            <a:off x="7594200" y="4370040"/>
            <a:ext cx="628560" cy="597960"/>
            <a:chOff x="7594200" y="4370040"/>
            <a:chExt cx="628560" cy="597960"/>
          </a:xfrm>
        </p:grpSpPr>
        <p:sp>
          <p:nvSpPr>
            <p:cNvPr id="138" name="Rectangle 89"/>
            <p:cNvSpPr/>
            <p:nvPr/>
          </p:nvSpPr>
          <p:spPr>
            <a:xfrm rot="20796600">
              <a:off x="7751160" y="4441320"/>
              <a:ext cx="420840" cy="4845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90"/>
            <p:cNvSpPr/>
            <p:nvPr/>
          </p:nvSpPr>
          <p:spPr>
            <a:xfrm rot="20796600">
              <a:off x="7725960" y="446184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55"/>
            <p:cNvSpPr/>
            <p:nvPr/>
          </p:nvSpPr>
          <p:spPr>
            <a:xfrm rot="20796600">
              <a:off x="7623000" y="442224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Oval 92"/>
          <p:cNvSpPr/>
          <p:nvPr/>
        </p:nvSpPr>
        <p:spPr>
          <a:xfrm>
            <a:off x="87480" y="229392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93"/>
          <p:cNvSpPr/>
          <p:nvPr/>
        </p:nvSpPr>
        <p:spPr>
          <a:xfrm>
            <a:off x="1017720" y="571500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94"/>
          <p:cNvSpPr/>
          <p:nvPr/>
        </p:nvSpPr>
        <p:spPr>
          <a:xfrm>
            <a:off x="5780160" y="561672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95"/>
          <p:cNvSpPr/>
          <p:nvPr/>
        </p:nvSpPr>
        <p:spPr>
          <a:xfrm>
            <a:off x="6659640" y="100188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986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AE5FC-4269-4A98-9C9C-CED59E42B816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ther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5B49D-5945-4446-9FD8-4AD31FC63F0D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arika Konings</cp:lastModifiedBy>
  <dcterms:modified xsi:type="dcterms:W3CDTF">2014-03-22T02:12:22Z</dcterms:modified>
  <cp:revision>737</cp:revision>
  <dc:subject/>
  <dc:title>PowerPoint Presentation</dc:title>
</cp:coreProperties>
</file>