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D135-11F4-4960-9804-502BBDB0E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02CA-9CE6-4FCA-B5FA-725457F2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9FAD-C003-4251-AB0F-E20608C1B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66B7-05D4-4A66-A719-676628642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0C0F-1AEE-44C0-BEFD-69980D92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FA86-41F0-45DD-86D4-4FF89B76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0928-8103-4AF3-92A5-7A0405E9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C1C0-9B38-4FED-BA18-5C98982B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87ED-FC69-4F5F-9366-228B5798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F1F1-E20F-4AE3-A1FB-81720010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7C77-C6F5-47F6-AA4A-BD5E2B65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0BDE-CD4E-4545-94A3-4EA5B3F8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5FB278-B780-4731-9EFB-E8FF5FA98A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13320" y="0"/>
            <a:ext cx="27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a6a6a6"/>
                </a:solidFill>
                <a:latin typeface="Calibri"/>
              </a:rPr>
              <a:t>Draft – for discussion purposes on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arly PDP Eng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RAFT – V.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or Discussion Purpos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Diagram 1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89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5" descr="PDP4.jpg"/>
          <p:cNvPicPr/>
          <p:nvPr/>
        </p:nvPicPr>
        <p:blipFill>
          <a:blip r:embed="rId3"/>
          <a:srcRect l="5895" t="39210" r="82316" b="35989"/>
          <a:stretch/>
        </p:blipFill>
        <p:spPr>
          <a:xfrm>
            <a:off x="7640640" y="144612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PDP4.jpg"/>
          <p:cNvPicPr/>
          <p:nvPr/>
        </p:nvPicPr>
        <p:blipFill>
          <a:blip r:embed="rId4"/>
          <a:srcRect l="5895" t="39210" r="82316" b="35989"/>
          <a:stretch/>
        </p:blipFill>
        <p:spPr>
          <a:xfrm>
            <a:off x="7189920" y="5318280"/>
            <a:ext cx="655560" cy="698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PDP4.jpg"/>
          <p:cNvPicPr/>
          <p:nvPr/>
        </p:nvPicPr>
        <p:blipFill>
          <a:blip r:embed="rId5"/>
          <a:srcRect l="5895" t="39210" r="82316" b="35989"/>
          <a:stretch/>
        </p:blipFill>
        <p:spPr>
          <a:xfrm>
            <a:off x="2471760" y="6016680"/>
            <a:ext cx="655560" cy="700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PDP4.jpg"/>
          <p:cNvPicPr/>
          <p:nvPr/>
        </p:nvPicPr>
        <p:blipFill>
          <a:blip r:embed="rId6"/>
          <a:srcRect l="5895" t="39210" r="82316" b="35989"/>
          <a:stretch/>
        </p:blipFill>
        <p:spPr>
          <a:xfrm>
            <a:off x="281160" y="2760840"/>
            <a:ext cx="653760" cy="69984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51" name="Rectangle 22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4"/>
            <p:cNvSpPr/>
            <p:nvPr/>
          </p:nvSpPr>
          <p:spPr>
            <a:xfrm rot="20796600">
              <a:off x="6392520" y="44748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" name="Group 26"/>
          <p:cNvGrpSpPr/>
          <p:nvPr/>
        </p:nvGrpSpPr>
        <p:grpSpPr>
          <a:xfrm>
            <a:off x="7832520" y="2524320"/>
            <a:ext cx="627480" cy="605880"/>
            <a:chOff x="7832520" y="2524320"/>
            <a:chExt cx="627480" cy="605880"/>
          </a:xfrm>
        </p:grpSpPr>
        <p:sp>
          <p:nvSpPr>
            <p:cNvPr id="55" name="Rectangle 29"/>
            <p:cNvSpPr/>
            <p:nvPr/>
          </p:nvSpPr>
          <p:spPr>
            <a:xfrm rot="20796600">
              <a:off x="7988760" y="2599920"/>
              <a:ext cx="420480" cy="4881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30"/>
            <p:cNvSpPr/>
            <p:nvPr/>
          </p:nvSpPr>
          <p:spPr>
            <a:xfrm rot="20796600">
              <a:off x="7937280" y="262044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TextBox 31"/>
            <p:cNvSpPr/>
            <p:nvPr/>
          </p:nvSpPr>
          <p:spPr>
            <a:xfrm rot="20796600">
              <a:off x="7849080" y="2577960"/>
              <a:ext cx="488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Group 32"/>
          <p:cNvGrpSpPr/>
          <p:nvPr/>
        </p:nvGrpSpPr>
        <p:grpSpPr>
          <a:xfrm>
            <a:off x="5724000" y="6226200"/>
            <a:ext cx="628200" cy="610920"/>
            <a:chOff x="5724000" y="6226200"/>
            <a:chExt cx="628200" cy="610920"/>
          </a:xfrm>
        </p:grpSpPr>
        <p:sp>
          <p:nvSpPr>
            <p:cNvPr id="59" name="Rectangle 33"/>
            <p:cNvSpPr/>
            <p:nvPr/>
          </p:nvSpPr>
          <p:spPr>
            <a:xfrm rot="20796600">
              <a:off x="5873040" y="6298200"/>
              <a:ext cx="427320" cy="4957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Rectangle 34"/>
            <p:cNvSpPr/>
            <p:nvPr/>
          </p:nvSpPr>
          <p:spPr>
            <a:xfrm rot="20796600">
              <a:off x="5838840" y="6330960"/>
              <a:ext cx="296640" cy="11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TextBox 35"/>
            <p:cNvSpPr/>
            <p:nvPr/>
          </p:nvSpPr>
          <p:spPr>
            <a:xfrm rot="20796600">
              <a:off x="5740200" y="6280560"/>
              <a:ext cx="496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36"/>
          <p:cNvGrpSpPr/>
          <p:nvPr/>
        </p:nvGrpSpPr>
        <p:grpSpPr>
          <a:xfrm>
            <a:off x="1485360" y="5599440"/>
            <a:ext cx="627840" cy="606240"/>
            <a:chOff x="1485360" y="5599440"/>
            <a:chExt cx="627840" cy="606240"/>
          </a:xfrm>
        </p:grpSpPr>
        <p:sp>
          <p:nvSpPr>
            <p:cNvPr id="63" name="Rectangle 37"/>
            <p:cNvSpPr/>
            <p:nvPr/>
          </p:nvSpPr>
          <p:spPr>
            <a:xfrm rot="20796600">
              <a:off x="1641600" y="5675400"/>
              <a:ext cx="420840" cy="4881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Rectangle 38"/>
            <p:cNvSpPr/>
            <p:nvPr/>
          </p:nvSpPr>
          <p:spPr>
            <a:xfrm rot="20796600">
              <a:off x="1590480" y="56955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TextBox 39"/>
            <p:cNvSpPr/>
            <p:nvPr/>
          </p:nvSpPr>
          <p:spPr>
            <a:xfrm rot="20796600">
              <a:off x="1501920" y="565308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40"/>
          <p:cNvGrpSpPr/>
          <p:nvPr/>
        </p:nvGrpSpPr>
        <p:grpSpPr>
          <a:xfrm>
            <a:off x="2057040" y="318960"/>
            <a:ext cx="629640" cy="611640"/>
            <a:chOff x="2057040" y="318960"/>
            <a:chExt cx="629640" cy="611640"/>
          </a:xfrm>
        </p:grpSpPr>
        <p:sp>
          <p:nvSpPr>
            <p:cNvPr id="67" name="Rectangle 41"/>
            <p:cNvSpPr/>
            <p:nvPr/>
          </p:nvSpPr>
          <p:spPr>
            <a:xfrm rot="20796600">
              <a:off x="2206080" y="391680"/>
              <a:ext cx="428760" cy="4957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Rectangle 42"/>
            <p:cNvSpPr/>
            <p:nvPr/>
          </p:nvSpPr>
          <p:spPr>
            <a:xfrm rot="20796600">
              <a:off x="2165400" y="412200"/>
              <a:ext cx="298080" cy="11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Box 43"/>
            <p:cNvSpPr/>
            <p:nvPr/>
          </p:nvSpPr>
          <p:spPr>
            <a:xfrm rot="20796600">
              <a:off x="2073240" y="373680"/>
              <a:ext cx="497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Group 44"/>
          <p:cNvGrpSpPr/>
          <p:nvPr/>
        </p:nvGrpSpPr>
        <p:grpSpPr>
          <a:xfrm>
            <a:off x="609840" y="4262040"/>
            <a:ext cx="634680" cy="618480"/>
            <a:chOff x="609840" y="4262040"/>
            <a:chExt cx="634680" cy="618480"/>
          </a:xfrm>
        </p:grpSpPr>
        <p:sp>
          <p:nvSpPr>
            <p:cNvPr id="71" name="Rectangle 45"/>
            <p:cNvSpPr/>
            <p:nvPr/>
          </p:nvSpPr>
          <p:spPr>
            <a:xfrm rot="20799000">
              <a:off x="767880" y="4341960"/>
              <a:ext cx="425160" cy="4960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46"/>
            <p:cNvSpPr/>
            <p:nvPr/>
          </p:nvSpPr>
          <p:spPr>
            <a:xfrm rot="20799000">
              <a:off x="735120" y="4364280"/>
              <a:ext cx="295200" cy="19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TextBox 47"/>
            <p:cNvSpPr/>
            <p:nvPr/>
          </p:nvSpPr>
          <p:spPr>
            <a:xfrm rot="20799000">
              <a:off x="638280" y="4314600"/>
              <a:ext cx="49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48"/>
          <p:cNvGrpSpPr/>
          <p:nvPr/>
        </p:nvGrpSpPr>
        <p:grpSpPr>
          <a:xfrm>
            <a:off x="590400" y="1615680"/>
            <a:ext cx="895320" cy="582840"/>
            <a:chOff x="590400" y="1615680"/>
            <a:chExt cx="895320" cy="582840"/>
          </a:xfrm>
        </p:grpSpPr>
        <p:sp>
          <p:nvSpPr>
            <p:cNvPr id="75" name="Rectangle 49"/>
            <p:cNvSpPr/>
            <p:nvPr/>
          </p:nvSpPr>
          <p:spPr>
            <a:xfrm rot="20799000">
              <a:off x="725400" y="1765080"/>
              <a:ext cx="687240" cy="3589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50"/>
            <p:cNvSpPr/>
            <p:nvPr/>
          </p:nvSpPr>
          <p:spPr>
            <a:xfrm rot="20799000">
              <a:off x="711360" y="176940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Box 51"/>
            <p:cNvSpPr/>
            <p:nvPr/>
          </p:nvSpPr>
          <p:spPr>
            <a:xfrm rot="20799000">
              <a:off x="614160" y="170928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52"/>
          <p:cNvGrpSpPr/>
          <p:nvPr/>
        </p:nvGrpSpPr>
        <p:grpSpPr>
          <a:xfrm>
            <a:off x="7910280" y="4176720"/>
            <a:ext cx="628560" cy="597600"/>
            <a:chOff x="7910280" y="4176720"/>
            <a:chExt cx="628560" cy="597600"/>
          </a:xfrm>
        </p:grpSpPr>
        <p:sp>
          <p:nvSpPr>
            <p:cNvPr id="79" name="Rectangle 53"/>
            <p:cNvSpPr/>
            <p:nvPr/>
          </p:nvSpPr>
          <p:spPr>
            <a:xfrm rot="20796600">
              <a:off x="8067240" y="4248000"/>
              <a:ext cx="420840" cy="4842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Rectangle 54"/>
            <p:cNvSpPr/>
            <p:nvPr/>
          </p:nvSpPr>
          <p:spPr>
            <a:xfrm rot="20796600">
              <a:off x="8042040" y="426852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Box 55"/>
            <p:cNvSpPr/>
            <p:nvPr/>
          </p:nvSpPr>
          <p:spPr>
            <a:xfrm rot="20796600">
              <a:off x="7939080" y="422892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263160"/>
            <a:ext cx="23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P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Diagram 1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84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8944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86" name="Rectangle 22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24"/>
            <p:cNvSpPr/>
            <p:nvPr/>
          </p:nvSpPr>
          <p:spPr>
            <a:xfrm rot="20796600">
              <a:off x="6392520" y="44748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26"/>
          <p:cNvGrpSpPr/>
          <p:nvPr/>
        </p:nvGrpSpPr>
        <p:grpSpPr>
          <a:xfrm>
            <a:off x="7832520" y="2524320"/>
            <a:ext cx="627480" cy="605880"/>
            <a:chOff x="7832520" y="2524320"/>
            <a:chExt cx="627480" cy="605880"/>
          </a:xfrm>
        </p:grpSpPr>
        <p:sp>
          <p:nvSpPr>
            <p:cNvPr id="90" name="Rectangle 29"/>
            <p:cNvSpPr/>
            <p:nvPr/>
          </p:nvSpPr>
          <p:spPr>
            <a:xfrm rot="20796600">
              <a:off x="7988760" y="2599920"/>
              <a:ext cx="420480" cy="488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30"/>
            <p:cNvSpPr/>
            <p:nvPr/>
          </p:nvSpPr>
          <p:spPr>
            <a:xfrm rot="20796600">
              <a:off x="7937280" y="262044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extBox 31"/>
            <p:cNvSpPr/>
            <p:nvPr/>
          </p:nvSpPr>
          <p:spPr>
            <a:xfrm rot="20796600">
              <a:off x="7849080" y="2577960"/>
              <a:ext cx="488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Group 32"/>
          <p:cNvGrpSpPr/>
          <p:nvPr/>
        </p:nvGrpSpPr>
        <p:grpSpPr>
          <a:xfrm>
            <a:off x="5724000" y="6226200"/>
            <a:ext cx="628200" cy="610920"/>
            <a:chOff x="5724000" y="6226200"/>
            <a:chExt cx="628200" cy="610920"/>
          </a:xfrm>
        </p:grpSpPr>
        <p:sp>
          <p:nvSpPr>
            <p:cNvPr id="94" name="Rectangle 33"/>
            <p:cNvSpPr/>
            <p:nvPr/>
          </p:nvSpPr>
          <p:spPr>
            <a:xfrm rot="20796600">
              <a:off x="5873040" y="6298200"/>
              <a:ext cx="427320" cy="495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Rectangle 34"/>
            <p:cNvSpPr/>
            <p:nvPr/>
          </p:nvSpPr>
          <p:spPr>
            <a:xfrm rot="20796600">
              <a:off x="5838840" y="6330960"/>
              <a:ext cx="296640" cy="11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TextBox 35"/>
            <p:cNvSpPr/>
            <p:nvPr/>
          </p:nvSpPr>
          <p:spPr>
            <a:xfrm rot="20796600">
              <a:off x="5740200" y="6280560"/>
              <a:ext cx="496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36"/>
          <p:cNvGrpSpPr/>
          <p:nvPr/>
        </p:nvGrpSpPr>
        <p:grpSpPr>
          <a:xfrm>
            <a:off x="1485360" y="5599440"/>
            <a:ext cx="627840" cy="606240"/>
            <a:chOff x="1485360" y="5599440"/>
            <a:chExt cx="627840" cy="606240"/>
          </a:xfrm>
        </p:grpSpPr>
        <p:sp>
          <p:nvSpPr>
            <p:cNvPr id="98" name="Rectangle 37"/>
            <p:cNvSpPr/>
            <p:nvPr/>
          </p:nvSpPr>
          <p:spPr>
            <a:xfrm rot="20796600">
              <a:off x="1641600" y="5675400"/>
              <a:ext cx="420840" cy="488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tangle 38"/>
            <p:cNvSpPr/>
            <p:nvPr/>
          </p:nvSpPr>
          <p:spPr>
            <a:xfrm rot="20796600">
              <a:off x="1590480" y="56955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TextBox 39"/>
            <p:cNvSpPr/>
            <p:nvPr/>
          </p:nvSpPr>
          <p:spPr>
            <a:xfrm rot="20796600">
              <a:off x="1501920" y="565308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40"/>
          <p:cNvGrpSpPr/>
          <p:nvPr/>
        </p:nvGrpSpPr>
        <p:grpSpPr>
          <a:xfrm>
            <a:off x="2057040" y="318960"/>
            <a:ext cx="629640" cy="611640"/>
            <a:chOff x="2057040" y="318960"/>
            <a:chExt cx="629640" cy="611640"/>
          </a:xfrm>
        </p:grpSpPr>
        <p:sp>
          <p:nvSpPr>
            <p:cNvPr id="102" name="Rectangle 41"/>
            <p:cNvSpPr/>
            <p:nvPr/>
          </p:nvSpPr>
          <p:spPr>
            <a:xfrm rot="20796600">
              <a:off x="2206080" y="391680"/>
              <a:ext cx="428760" cy="4957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42"/>
            <p:cNvSpPr/>
            <p:nvPr/>
          </p:nvSpPr>
          <p:spPr>
            <a:xfrm rot="20796600">
              <a:off x="2165400" y="412200"/>
              <a:ext cx="298080" cy="11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TextBox 43"/>
            <p:cNvSpPr/>
            <p:nvPr/>
          </p:nvSpPr>
          <p:spPr>
            <a:xfrm rot="20796600">
              <a:off x="2073240" y="373680"/>
              <a:ext cx="497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 44"/>
          <p:cNvGrpSpPr/>
          <p:nvPr/>
        </p:nvGrpSpPr>
        <p:grpSpPr>
          <a:xfrm>
            <a:off x="609840" y="4262040"/>
            <a:ext cx="634680" cy="618480"/>
            <a:chOff x="609840" y="4262040"/>
            <a:chExt cx="634680" cy="618480"/>
          </a:xfrm>
        </p:grpSpPr>
        <p:sp>
          <p:nvSpPr>
            <p:cNvPr id="106" name="Rectangle 45"/>
            <p:cNvSpPr/>
            <p:nvPr/>
          </p:nvSpPr>
          <p:spPr>
            <a:xfrm rot="20799000">
              <a:off x="767880" y="4341960"/>
              <a:ext cx="425160" cy="4960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Rectangle 46"/>
            <p:cNvSpPr/>
            <p:nvPr/>
          </p:nvSpPr>
          <p:spPr>
            <a:xfrm rot="20799000">
              <a:off x="735120" y="4364280"/>
              <a:ext cx="295200" cy="19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Box 47"/>
            <p:cNvSpPr/>
            <p:nvPr/>
          </p:nvSpPr>
          <p:spPr>
            <a:xfrm rot="20799000">
              <a:off x="638280" y="4314600"/>
              <a:ext cx="49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48"/>
          <p:cNvGrpSpPr/>
          <p:nvPr/>
        </p:nvGrpSpPr>
        <p:grpSpPr>
          <a:xfrm>
            <a:off x="590400" y="1615680"/>
            <a:ext cx="895320" cy="582840"/>
            <a:chOff x="590400" y="1615680"/>
            <a:chExt cx="895320" cy="582840"/>
          </a:xfrm>
        </p:grpSpPr>
        <p:sp>
          <p:nvSpPr>
            <p:cNvPr id="110" name="Rectangle 49"/>
            <p:cNvSpPr/>
            <p:nvPr/>
          </p:nvSpPr>
          <p:spPr>
            <a:xfrm rot="20799000">
              <a:off x="725400" y="1765080"/>
              <a:ext cx="687240" cy="3589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Rectangle 50"/>
            <p:cNvSpPr/>
            <p:nvPr/>
          </p:nvSpPr>
          <p:spPr>
            <a:xfrm rot="20799000">
              <a:off x="711360" y="176940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51"/>
            <p:cNvSpPr/>
            <p:nvPr/>
          </p:nvSpPr>
          <p:spPr>
            <a:xfrm rot="20799000">
              <a:off x="614160" y="170928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52"/>
          <p:cNvGrpSpPr/>
          <p:nvPr/>
        </p:nvGrpSpPr>
        <p:grpSpPr>
          <a:xfrm>
            <a:off x="7910280" y="4176720"/>
            <a:ext cx="628560" cy="597600"/>
            <a:chOff x="7910280" y="4176720"/>
            <a:chExt cx="628560" cy="597600"/>
          </a:xfrm>
        </p:grpSpPr>
        <p:sp>
          <p:nvSpPr>
            <p:cNvPr id="114" name="Rectangle 53"/>
            <p:cNvSpPr/>
            <p:nvPr/>
          </p:nvSpPr>
          <p:spPr>
            <a:xfrm rot="20796600">
              <a:off x="8067240" y="4248000"/>
              <a:ext cx="420840" cy="4842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Rectangle 54"/>
            <p:cNvSpPr/>
            <p:nvPr/>
          </p:nvSpPr>
          <p:spPr>
            <a:xfrm rot="20796600">
              <a:off x="8042040" y="426852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Box 55"/>
            <p:cNvSpPr/>
            <p:nvPr/>
          </p:nvSpPr>
          <p:spPr>
            <a:xfrm rot="20796600">
              <a:off x="7939080" y="422892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Oval 2"/>
          <p:cNvSpPr/>
          <p:nvPr/>
        </p:nvSpPr>
        <p:spPr>
          <a:xfrm>
            <a:off x="41400" y="2597040"/>
            <a:ext cx="2268360" cy="1022400"/>
          </a:xfrm>
          <a:prstGeom prst="ellipse">
            <a:avLst/>
          </a:prstGeom>
          <a:gradFill rotWithShape="0">
            <a:gsLst>
              <a:gs pos="0">
                <a:srgbClr val="ff9f87">
                  <a:alpha val="33333"/>
                </a:srgbClr>
              </a:gs>
              <a:gs pos="100000">
                <a:srgbClr val="e74f06">
                  <a:alpha val="49019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Oval 43"/>
          <p:cNvSpPr/>
          <p:nvPr/>
        </p:nvSpPr>
        <p:spPr>
          <a:xfrm>
            <a:off x="2244600" y="5794200"/>
            <a:ext cx="2268720" cy="1022400"/>
          </a:xfrm>
          <a:prstGeom prst="ellipse">
            <a:avLst/>
          </a:prstGeom>
          <a:gradFill rotWithShape="0">
            <a:gsLst>
              <a:gs pos="0">
                <a:srgbClr val="99b0fc">
                  <a:alpha val="47058"/>
                </a:srgbClr>
              </a:gs>
              <a:gs pos="100000">
                <a:srgbClr val="0751bc">
                  <a:alpha val="56078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t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val 44"/>
          <p:cNvSpPr/>
          <p:nvPr/>
        </p:nvSpPr>
        <p:spPr>
          <a:xfrm>
            <a:off x="5802480" y="5137200"/>
            <a:ext cx="226692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val 47"/>
          <p:cNvSpPr/>
          <p:nvPr/>
        </p:nvSpPr>
        <p:spPr>
          <a:xfrm>
            <a:off x="6278400" y="1282680"/>
            <a:ext cx="226728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15" descr="PDP4.jpg"/>
          <p:cNvPicPr/>
          <p:nvPr/>
        </p:nvPicPr>
        <p:blipFill>
          <a:blip r:embed="rId11"/>
          <a:srcRect l="5895" t="39210" r="82316" b="35989"/>
          <a:stretch/>
        </p:blipFill>
        <p:spPr>
          <a:xfrm>
            <a:off x="7640640" y="144612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PDP4.jpg"/>
          <p:cNvPicPr/>
          <p:nvPr/>
        </p:nvPicPr>
        <p:blipFill>
          <a:blip r:embed="rId12"/>
          <a:srcRect l="5895" t="39210" r="82316" b="35989"/>
          <a:stretch/>
        </p:blipFill>
        <p:spPr>
          <a:xfrm>
            <a:off x="7189920" y="5318280"/>
            <a:ext cx="655560" cy="698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PDP4.jpg"/>
          <p:cNvPicPr/>
          <p:nvPr/>
        </p:nvPicPr>
        <p:blipFill>
          <a:blip r:embed="rId13"/>
          <a:srcRect l="5895" t="39210" r="82316" b="35989"/>
          <a:stretch/>
        </p:blipFill>
        <p:spPr>
          <a:xfrm>
            <a:off x="2471760" y="6016680"/>
            <a:ext cx="655560" cy="700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9" descr="PDP4.jpg"/>
          <p:cNvPicPr/>
          <p:nvPr/>
        </p:nvPicPr>
        <p:blipFill>
          <a:blip r:embed="rId14"/>
          <a:srcRect l="5895" t="39210" r="82316" b="35989"/>
          <a:stretch/>
        </p:blipFill>
        <p:spPr>
          <a:xfrm>
            <a:off x="281160" y="2760840"/>
            <a:ext cx="653760" cy="6998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040" y="258480"/>
            <a:ext cx="233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arlier is be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09"/>
          <p:cNvSpPr/>
          <p:nvPr/>
        </p:nvSpPr>
        <p:spPr>
          <a:xfrm>
            <a:off x="2536920" y="1317600"/>
            <a:ext cx="6514920" cy="24782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107"/>
          <p:cNvSpPr/>
          <p:nvPr/>
        </p:nvSpPr>
        <p:spPr>
          <a:xfrm>
            <a:off x="57240" y="4064040"/>
            <a:ext cx="6573600" cy="273348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licy Develop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66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aging PDP eng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" name="Group 2"/>
          <p:cNvGrpSpPr/>
          <p:nvPr/>
        </p:nvGrpSpPr>
        <p:grpSpPr>
          <a:xfrm>
            <a:off x="3033720" y="2066760"/>
            <a:ext cx="1441440" cy="1587600"/>
            <a:chOff x="3033720" y="2066760"/>
            <a:chExt cx="1441440" cy="1587600"/>
          </a:xfrm>
        </p:grpSpPr>
        <p:sp>
          <p:nvSpPr>
            <p:cNvPr id="130" name="Freeform 3"/>
            <p:cNvSpPr/>
            <p:nvPr/>
          </p:nvSpPr>
          <p:spPr>
            <a:xfrm>
              <a:off x="3033720" y="2066760"/>
              <a:ext cx="1441440" cy="1587600"/>
            </a:xfrm>
            <a:prstGeom prst="pie">
              <a:avLst/>
            </a:prstGeom>
            <a:gradFill rotWithShape="0">
              <a:gsLst>
                <a:gs pos="0">
                  <a:srgbClr val="fbe7e7"/>
                </a:gs>
                <a:gs pos="100000">
                  <a:srgbClr val="f0a8a8"/>
                </a:gs>
              </a:gsLst>
              <a:lin ang="5400000"/>
            </a:gradFill>
            <a:ln w="0">
              <a:noFill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11960" rIns="111960" tIns="937440" bIns="85320" anchor="t">
              <a:noAutofit/>
            </a:bodyPr>
            <a:p>
              <a:pPr lvl="1">
                <a:lnSpc>
                  <a:spcPct val="90000"/>
                </a:lnSpc>
                <a:spcAft>
                  <a:spcPts val="224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equests for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lvl="1">
                <a:lnSpc>
                  <a:spcPct val="90000"/>
                </a:lnSpc>
                <a:spcAft>
                  <a:spcPts val="224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Participa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lvl="1">
                <a:lnSpc>
                  <a:spcPct val="90000"/>
                </a:lnSpc>
                <a:spcAft>
                  <a:spcPts val="224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omm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4"/>
            <p:cNvSpPr/>
            <p:nvPr/>
          </p:nvSpPr>
          <p:spPr>
            <a:xfrm>
              <a:off x="3105720" y="2347200"/>
              <a:ext cx="1009080" cy="498240"/>
            </a:xfrm>
            <a:prstGeom prst="pie">
              <a:avLst/>
            </a:prstGeom>
            <a:gradFill rotWithShape="0">
              <a:gsLst>
                <a:gs pos="0">
                  <a:srgbClr val="99b0fc"/>
                </a:gs>
                <a:gs pos="100000">
                  <a:srgbClr val="0751bc"/>
                </a:gs>
              </a:gsLst>
              <a:lin ang="5400000"/>
            </a:gra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9760" rIns="59760" tIns="21600" bIns="21600" anchor="ctr">
              <a:noAutofit/>
            </a:bodyPr>
            <a:p>
              <a:pPr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Queue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2" name="Picture 108" descr=""/>
          <p:cNvPicPr/>
          <p:nvPr/>
        </p:nvPicPr>
        <p:blipFill>
          <a:blip r:embed="rId1"/>
          <a:stretch/>
        </p:blipFill>
        <p:spPr>
          <a:xfrm>
            <a:off x="4203720" y="4427640"/>
            <a:ext cx="2347920" cy="1788840"/>
          </a:xfrm>
          <a:prstGeom prst="rect">
            <a:avLst/>
          </a:prstGeom>
          <a:ln w="0">
            <a:noFill/>
          </a:ln>
        </p:spPr>
      </p:pic>
      <p:sp>
        <p:nvSpPr>
          <p:cNvPr id="133" name="U-Turn Arrow 118"/>
          <p:cNvSpPr/>
          <p:nvPr/>
        </p:nvSpPr>
        <p:spPr>
          <a:xfrm flipH="1" flipV="1" rot="5400000">
            <a:off x="359280" y="1918440"/>
            <a:ext cx="3830760" cy="3846600"/>
          </a:xfrm>
          <a:custGeom>
            <a:avLst/>
            <a:gdLst/>
            <a:ahLst/>
            <a:rect l="l" t="t" r="r" b="b"/>
            <a:pathLst>
              <a:path w="3830249" h="3846244">
                <a:moveTo>
                  <a:pt x="0" y="3846244"/>
                </a:moveTo>
                <a:lnTo>
                  <a:pt x="0" y="1408281"/>
                </a:lnTo>
                <a:cubicBezTo>
                  <a:pt x="0" y="630509"/>
                  <a:pt x="630509" y="0"/>
                  <a:pt x="1408281" y="0"/>
                </a:cubicBezTo>
                <a:lnTo>
                  <a:pt x="2005716" y="0"/>
                </a:lnTo>
                <a:cubicBezTo>
                  <a:pt x="2783488" y="0"/>
                  <a:pt x="3413997" y="630509"/>
                  <a:pt x="3413997" y="1408281"/>
                </a:cubicBezTo>
                <a:lnTo>
                  <a:pt x="3413997" y="1408281"/>
                </a:lnTo>
                <a:lnTo>
                  <a:pt x="3830249" y="1408281"/>
                </a:lnTo>
                <a:lnTo>
                  <a:pt x="2879811" y="2342593"/>
                </a:lnTo>
                <a:lnTo>
                  <a:pt x="1929373" y="1408281"/>
                </a:lnTo>
                <a:lnTo>
                  <a:pt x="2345625" y="1408281"/>
                </a:lnTo>
                <a:lnTo>
                  <a:pt x="2345625" y="1408281"/>
                </a:lnTo>
                <a:cubicBezTo>
                  <a:pt x="2345625" y="1220554"/>
                  <a:pt x="2193443" y="1068372"/>
                  <a:pt x="2005716" y="1068372"/>
                </a:cubicBezTo>
                <a:lnTo>
                  <a:pt x="1408281" y="1068371"/>
                </a:lnTo>
                <a:cubicBezTo>
                  <a:pt x="1220554" y="1068371"/>
                  <a:pt x="1068372" y="1220553"/>
                  <a:pt x="1068372" y="1408280"/>
                </a:cubicBezTo>
                <a:cubicBezTo>
                  <a:pt x="1068372" y="2220935"/>
                  <a:pt x="1068371" y="3033589"/>
                  <a:pt x="1068371" y="3846244"/>
                </a:cubicBezTo>
                <a:lnTo>
                  <a:pt x="0" y="3846244"/>
                </a:lnTo>
                <a:close/>
              </a:path>
            </a:pathLst>
          </a:custGeom>
          <a:gradFill rotWithShape="0">
            <a:gsLst>
              <a:gs pos="0">
                <a:srgbClr val="aedfad"/>
              </a:gs>
              <a:gs pos="100000">
                <a:srgbClr val="328d2d"/>
              </a:gs>
            </a:gsLst>
            <a:lin ang="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127"/>
          <p:cNvSpPr/>
          <p:nvPr/>
        </p:nvSpPr>
        <p:spPr>
          <a:xfrm>
            <a:off x="1517040" y="272088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U-Turn Arrow 26"/>
          <p:cNvSpPr/>
          <p:nvPr/>
        </p:nvSpPr>
        <p:spPr>
          <a:xfrm flipH="1" flipV="1" rot="16200000">
            <a:off x="4979880" y="2261880"/>
            <a:ext cx="3829320" cy="3846600"/>
          </a:xfrm>
          <a:custGeom>
            <a:avLst/>
            <a:gdLst/>
            <a:ahLst/>
            <a:rect l="l" t="t" r="r" b="b"/>
            <a:pathLst>
              <a:path w="3830251" h="3846244">
                <a:moveTo>
                  <a:pt x="0" y="3846244"/>
                </a:moveTo>
                <a:lnTo>
                  <a:pt x="0" y="1408280"/>
                </a:lnTo>
                <a:cubicBezTo>
                  <a:pt x="0" y="630508"/>
                  <a:pt x="630508" y="0"/>
                  <a:pt x="1408280" y="0"/>
                </a:cubicBezTo>
                <a:lnTo>
                  <a:pt x="2005718" y="0"/>
                </a:lnTo>
                <a:cubicBezTo>
                  <a:pt x="2783490" y="0"/>
                  <a:pt x="3413998" y="630508"/>
                  <a:pt x="3413998" y="1408280"/>
                </a:cubicBezTo>
                <a:lnTo>
                  <a:pt x="3413998" y="1408280"/>
                </a:lnTo>
                <a:lnTo>
                  <a:pt x="3830251" y="1408280"/>
                </a:lnTo>
                <a:lnTo>
                  <a:pt x="2879813" y="2342593"/>
                </a:lnTo>
                <a:lnTo>
                  <a:pt x="1929374" y="1408280"/>
                </a:lnTo>
                <a:lnTo>
                  <a:pt x="2345627" y="1408280"/>
                </a:lnTo>
                <a:lnTo>
                  <a:pt x="2345627" y="1408280"/>
                </a:lnTo>
                <a:cubicBezTo>
                  <a:pt x="2345627" y="1220554"/>
                  <a:pt x="2193445" y="1068372"/>
                  <a:pt x="2005719" y="1068372"/>
                </a:cubicBezTo>
                <a:lnTo>
                  <a:pt x="1408280" y="1068372"/>
                </a:lnTo>
                <a:cubicBezTo>
                  <a:pt x="1220554" y="1068372"/>
                  <a:pt x="1068372" y="1220554"/>
                  <a:pt x="1068372" y="1408280"/>
                </a:cubicBezTo>
                <a:lnTo>
                  <a:pt x="1068372" y="3846244"/>
                </a:lnTo>
                <a:lnTo>
                  <a:pt x="0" y="3846244"/>
                </a:lnTo>
                <a:close/>
              </a:path>
            </a:pathLst>
          </a:custGeom>
          <a:gradFill rotWithShape="0">
            <a:gsLst>
              <a:gs pos="0">
                <a:srgbClr val="aedfad"/>
              </a:gs>
              <a:gs pos="100000">
                <a:srgbClr val="328d2d"/>
              </a:gs>
            </a:gsLst>
            <a:lin ang="108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Diagram 111" descr=""/>
          <p:cNvPicPr/>
          <p:nvPr/>
        </p:nvPicPr>
        <p:blipFill>
          <a:blip r:embed="rId2"/>
          <a:stretch/>
        </p:blipFill>
        <p:spPr>
          <a:xfrm>
            <a:off x="6473880" y="1438200"/>
            <a:ext cx="2359080" cy="2359080"/>
          </a:xfrm>
          <a:prstGeom prst="rect">
            <a:avLst/>
          </a:prstGeom>
          <a:ln w="0">
            <a:noFill/>
          </a:ln>
        </p:spPr>
      </p:pic>
      <p:sp>
        <p:nvSpPr>
          <p:cNvPr id="137" name="TextBox 128"/>
          <p:cNvSpPr/>
          <p:nvPr/>
        </p:nvSpPr>
        <p:spPr>
          <a:xfrm>
            <a:off x="6895080" y="4805280"/>
            <a:ext cx="13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mment &amp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articip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Diagram 27" descr=""/>
          <p:cNvPicPr/>
          <p:nvPr/>
        </p:nvPicPr>
        <p:blipFill>
          <a:blip r:embed="rId3"/>
          <a:stretch/>
        </p:blipFill>
        <p:spPr>
          <a:xfrm>
            <a:off x="0" y="3859200"/>
            <a:ext cx="246852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al: GAC and GNSO fully aligned in the PD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57200" y="1600200"/>
          <a:ext cx="8229600" cy="4211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Ste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G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GN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  <a:tr h="23162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firm whether these are the objectives &amp; expectations and/or whether any additions / revisions are nee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Potential objectives &amp; expectation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Obtain updates &amp; aler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Better understanding of GNSO working metho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Create greater sensitivity within the GNSO regarding what may constitute public policy concerns and would/could require GAC in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echanisms to raise issues that would require GNSO policy consid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Obtain responses to questions and be able to convey questions / requires for further infor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echanism for finding common grounds in case of conflicting view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Potential objectives &amp; expectation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Encourage timely GAC input into GNSO Policy Development Activi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Provide a mechanism to flag upcoming GNSO policy issues / answer / relay GAC ques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Better understanding of GAC working metho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echanism for ongoing dialog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echanism for finding common grounds in case of conflicting view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</a:tr>
              <a:tr h="15238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are the options to be considered to achieve these objectives? Any additional ones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Aim for comments in the first two comment periods, rather than the l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Develop “issue triggers” for staff and participants to watch for and take proactive a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Explore options for informal, issue-focused GAC (joint GAC/GNSO?) drafting teams to frame issues, draft comments and funnel the conversation between WGs, the GAC and the GNSO Council for analysis and appro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Provide sufficient lead time (and align comment deadlines with GAC meeting schedule) to allow time for deliberation and appro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mprove coordination between GAC and GNSO secretari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mprove notification of pending issues and work deadlines, both direc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itial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57200" y="1279440"/>
          <a:ext cx="8229600" cy="551664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Aim for GAC comments in first 2 comment perio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Develop “issue indicators” to trigger proactive ac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Explore informal joint working tea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Provide sufficient lead time for action/respon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coordination between GAC/GNSO Secretaria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process awareness and notifications, both dir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Describe option in det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Strive for GAC comments in “ID &amp; Launch” or “Develop Consensus” phases of the P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Develop of list of key topics or events that are likely to be of interest to the GAC and watch PDPs for tho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Small groups, like this one, which can develop concepts and drafts for formal review &amp; appro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Keep a close eye on the calendar, also schedule comment periods to align with the GAC work cycl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Charter a joint steering group to help align the efforts of the three teams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mprove documentation, training, work processes and particip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</a:tr>
              <a:tr h="76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How does this mechanism achieve the objectiv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MS Mincho"/>
                        </a:rPr>
                        <a:t>Common ground, timely input, ongoing dialo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Updates and alerts, sensitivity within GNSO, raise issues, common ground, timely in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Better understanding, common ground, ongoing dialo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Greater sensitivity, raise issues, timely input, working metho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Updates and alerts, greater sensitivity, responses to questions, better understanding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Updates and alerts, better understanding, common ground, timely in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What are potential issues /complication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</a:tr>
              <a:tr h="54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How would this work in practic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s additional funding required to implement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ayb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Would it be possible to implement this option as a pilot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</a:tr>
            </a:tbl>
          </a:graphicData>
        </a:graphic>
      </p:graphicFrame>
      <p:sp>
        <p:nvSpPr>
          <p:cNvPr id="143" name="Rectangle 1"/>
          <p:cNvSpPr/>
          <p:nvPr/>
        </p:nvSpPr>
        <p:spPr>
          <a:xfrm>
            <a:off x="1587600" y="1036800"/>
            <a:ext cx="4744800" cy="242640"/>
          </a:xfrm>
          <a:prstGeom prst="rect">
            <a:avLst/>
          </a:prstGeom>
          <a:gradFill rotWithShape="0">
            <a:gsLst>
              <a:gs pos="0">
                <a:srgbClr val="eaf6ea"/>
              </a:gs>
              <a:gs pos="100000">
                <a:srgbClr val="b2dcb0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rly Eng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6332400" y="395280"/>
            <a:ext cx="2354400" cy="884160"/>
          </a:xfrm>
          <a:prstGeom prst="rect">
            <a:avLst/>
          </a:prstGeom>
          <a:gradFill rotWithShape="0">
            <a:gsLst>
              <a:gs pos="0">
                <a:srgbClr val="efebf5"/>
              </a:gs>
              <a:gs pos="100000">
                <a:srgbClr val="c4b7db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rly Engagement AND Day to Day Ope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1T21:28:52Z</dcterms:created>
  <dc:creator>Tom Hodgson</dc:creator>
  <dc:description/>
  <dc:language>en-US</dc:language>
  <cp:lastModifiedBy>Mike O'Connor</cp:lastModifiedBy>
  <dcterms:modified xsi:type="dcterms:W3CDTF">2014-02-28T20:21:42Z</dcterms:modified>
  <cp:revision>607</cp:revision>
  <dc:subject/>
  <dc:title>PowerPoint Presentation</dc:title>
</cp:coreProperties>
</file>