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F4F-F122-4897-BF80-96A8C06A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A7F-76AF-4320-BD4E-D0A1A8E2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929-7603-448E-A8DB-8FED7897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159-8895-41EC-A19F-07A57248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105-BB04-4863-9297-B254B438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DF6-21D4-40E4-A106-04C0A94D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282-6AFD-42DB-A794-EF80B71D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B3B-D345-49B7-A2D9-8F77C5E7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473-B236-44FF-81C7-D32F8369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5A7-9E88-464C-82E1-CF72222E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FB1-BE4C-486B-AE27-272134F0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3F0-A595-4BD2-86DA-A56FCA1D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C2D41-5FBA-4F35-A15E-63C9D493E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3320" y="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Draft – for discussion purposes 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AFT – V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Discussion Purpos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DP4.jpg"/>
          <p:cNvPicPr/>
          <p:nvPr/>
        </p:nvPicPr>
        <p:blipFill>
          <a:blip r:embed="rId3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DP4.jpg"/>
          <p:cNvPicPr/>
          <p:nvPr/>
        </p:nvPicPr>
        <p:blipFill>
          <a:blip r:embed="rId4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PDP4.jpg"/>
          <p:cNvPicPr/>
          <p:nvPr/>
        </p:nvPicPr>
        <p:blipFill>
          <a:blip r:embed="rId5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DP4.jpg"/>
          <p:cNvPicPr/>
          <p:nvPr/>
        </p:nvPicPr>
        <p:blipFill>
          <a:blip r:embed="rId6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51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55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59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63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67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71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75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79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63160"/>
            <a:ext cx="23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 1" descr=""/>
          <p:cNvPicPr/>
          <p:nvPr/>
        </p:nvPicPr>
        <p:blipFill>
          <a:blip r:embed="rId1"/>
          <a:stretch/>
        </p:blipFill>
        <p:spPr>
          <a:xfrm>
            <a:off x="762120" y="682560"/>
            <a:ext cx="7619760" cy="549288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3" descr=""/>
          <p:cNvPicPr/>
          <p:nvPr/>
        </p:nvPicPr>
        <p:blipFill>
          <a:blip r:embed="rId2"/>
          <a:stretch/>
        </p:blipFill>
        <p:spPr>
          <a:xfrm>
            <a:off x="133200" y="219240"/>
            <a:ext cx="8798040" cy="65894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20"/>
          <p:cNvGrpSpPr/>
          <p:nvPr/>
        </p:nvGrpSpPr>
        <p:grpSpPr>
          <a:xfrm>
            <a:off x="6284520" y="355680"/>
            <a:ext cx="629280" cy="606600"/>
            <a:chOff x="6284520" y="355680"/>
            <a:chExt cx="629280" cy="606600"/>
          </a:xfrm>
        </p:grpSpPr>
        <p:sp>
          <p:nvSpPr>
            <p:cNvPr id="86" name="Rectangle 22"/>
            <p:cNvSpPr/>
            <p:nvPr/>
          </p:nvSpPr>
          <p:spPr>
            <a:xfrm rot="20796600">
              <a:off x="6440760" y="431640"/>
              <a:ext cx="422280" cy="48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4"/>
            <p:cNvSpPr/>
            <p:nvPr/>
          </p:nvSpPr>
          <p:spPr>
            <a:xfrm rot="20796600">
              <a:off x="6392520" y="447480"/>
              <a:ext cx="29340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5"/>
            <p:cNvSpPr/>
            <p:nvPr/>
          </p:nvSpPr>
          <p:spPr>
            <a:xfrm rot="20796600">
              <a:off x="6300720" y="409320"/>
              <a:ext cx="4899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26"/>
          <p:cNvGrpSpPr/>
          <p:nvPr/>
        </p:nvGrpSpPr>
        <p:grpSpPr>
          <a:xfrm>
            <a:off x="7832520" y="2524320"/>
            <a:ext cx="627480" cy="605880"/>
            <a:chOff x="7832520" y="2524320"/>
            <a:chExt cx="627480" cy="605880"/>
          </a:xfrm>
        </p:grpSpPr>
        <p:sp>
          <p:nvSpPr>
            <p:cNvPr id="90" name="Rectangle 29"/>
            <p:cNvSpPr/>
            <p:nvPr/>
          </p:nvSpPr>
          <p:spPr>
            <a:xfrm rot="20796600">
              <a:off x="7988760" y="2599920"/>
              <a:ext cx="420480" cy="488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0"/>
            <p:cNvSpPr/>
            <p:nvPr/>
          </p:nvSpPr>
          <p:spPr>
            <a:xfrm rot="20796600">
              <a:off x="7937280" y="262044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31"/>
            <p:cNvSpPr/>
            <p:nvPr/>
          </p:nvSpPr>
          <p:spPr>
            <a:xfrm rot="20796600">
              <a:off x="7849080" y="2577960"/>
              <a:ext cx="48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harter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5724000" y="6226200"/>
            <a:ext cx="628200" cy="610920"/>
            <a:chOff x="5724000" y="6226200"/>
            <a:chExt cx="628200" cy="610920"/>
          </a:xfrm>
        </p:grpSpPr>
        <p:sp>
          <p:nvSpPr>
            <p:cNvPr id="94" name="Rectangle 33"/>
            <p:cNvSpPr/>
            <p:nvPr/>
          </p:nvSpPr>
          <p:spPr>
            <a:xfrm rot="20796600">
              <a:off x="5873040" y="6298200"/>
              <a:ext cx="427320" cy="495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34"/>
            <p:cNvSpPr/>
            <p:nvPr/>
          </p:nvSpPr>
          <p:spPr>
            <a:xfrm rot="20796600">
              <a:off x="5838840" y="6330960"/>
              <a:ext cx="29664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 rot="20796600">
              <a:off x="5740200" y="6280560"/>
              <a:ext cx="49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6"/>
          <p:cNvGrpSpPr/>
          <p:nvPr/>
        </p:nvGrpSpPr>
        <p:grpSpPr>
          <a:xfrm>
            <a:off x="1485360" y="5599440"/>
            <a:ext cx="627840" cy="606240"/>
            <a:chOff x="1485360" y="5599440"/>
            <a:chExt cx="627840" cy="606240"/>
          </a:xfrm>
        </p:grpSpPr>
        <p:sp>
          <p:nvSpPr>
            <p:cNvPr id="98" name="Rectangle 37"/>
            <p:cNvSpPr/>
            <p:nvPr/>
          </p:nvSpPr>
          <p:spPr>
            <a:xfrm rot="20796600">
              <a:off x="1641600" y="5675400"/>
              <a:ext cx="420840" cy="488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38"/>
            <p:cNvSpPr/>
            <p:nvPr/>
          </p:nvSpPr>
          <p:spPr>
            <a:xfrm rot="20796600">
              <a:off x="1590480" y="5695560"/>
              <a:ext cx="291960" cy="1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9"/>
            <p:cNvSpPr/>
            <p:nvPr/>
          </p:nvSpPr>
          <p:spPr>
            <a:xfrm rot="20796600">
              <a:off x="1501920" y="5653080"/>
              <a:ext cx="488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2057040" y="318960"/>
            <a:ext cx="629640" cy="611640"/>
            <a:chOff x="2057040" y="318960"/>
            <a:chExt cx="629640" cy="611640"/>
          </a:xfrm>
        </p:grpSpPr>
        <p:sp>
          <p:nvSpPr>
            <p:cNvPr id="102" name="Rectangle 41"/>
            <p:cNvSpPr/>
            <p:nvPr/>
          </p:nvSpPr>
          <p:spPr>
            <a:xfrm rot="20796600">
              <a:off x="2206080" y="391680"/>
              <a:ext cx="428760" cy="495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 rot="20796600">
              <a:off x="2165400" y="412200"/>
              <a:ext cx="298080" cy="1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3"/>
            <p:cNvSpPr/>
            <p:nvPr/>
          </p:nvSpPr>
          <p:spPr>
            <a:xfrm rot="20796600">
              <a:off x="2073240" y="373680"/>
              <a:ext cx="497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Polic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609840" y="4262040"/>
            <a:ext cx="634680" cy="618480"/>
            <a:chOff x="609840" y="4262040"/>
            <a:chExt cx="634680" cy="618480"/>
          </a:xfrm>
        </p:grpSpPr>
        <p:sp>
          <p:nvSpPr>
            <p:cNvPr id="106" name="Rectangle 45"/>
            <p:cNvSpPr/>
            <p:nvPr/>
          </p:nvSpPr>
          <p:spPr>
            <a:xfrm rot="20799000">
              <a:off x="767880" y="4341960"/>
              <a:ext cx="425160" cy="496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46"/>
            <p:cNvSpPr/>
            <p:nvPr/>
          </p:nvSpPr>
          <p:spPr>
            <a:xfrm rot="20799000">
              <a:off x="735120" y="4364280"/>
              <a:ext cx="295200" cy="1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 rot="20799000">
              <a:off x="638280" y="43146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Council Repor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48"/>
          <p:cNvGrpSpPr/>
          <p:nvPr/>
        </p:nvGrpSpPr>
        <p:grpSpPr>
          <a:xfrm>
            <a:off x="590400" y="1615680"/>
            <a:ext cx="895320" cy="582840"/>
            <a:chOff x="590400" y="1615680"/>
            <a:chExt cx="895320" cy="582840"/>
          </a:xfrm>
        </p:grpSpPr>
        <p:sp>
          <p:nvSpPr>
            <p:cNvPr id="110" name="Rectangle 49"/>
            <p:cNvSpPr/>
            <p:nvPr/>
          </p:nvSpPr>
          <p:spPr>
            <a:xfrm rot="20799000">
              <a:off x="725400" y="1765080"/>
              <a:ext cx="687240" cy="358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0"/>
            <p:cNvSpPr/>
            <p:nvPr/>
          </p:nvSpPr>
          <p:spPr>
            <a:xfrm rot="20799000">
              <a:off x="711360" y="1769400"/>
              <a:ext cx="68076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51"/>
            <p:cNvSpPr/>
            <p:nvPr/>
          </p:nvSpPr>
          <p:spPr>
            <a:xfrm rot="20799000">
              <a:off x="614160" y="1709280"/>
              <a:ext cx="8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Supplemental</a:t>
              </a:r>
              <a:br>
                <a:rPr sz="700"/>
              </a:b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Recommendatio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52"/>
          <p:cNvGrpSpPr/>
          <p:nvPr/>
        </p:nvGrpSpPr>
        <p:grpSpPr>
          <a:xfrm>
            <a:off x="7910280" y="4176720"/>
            <a:ext cx="628560" cy="597600"/>
            <a:chOff x="7910280" y="4176720"/>
            <a:chExt cx="628560" cy="597600"/>
          </a:xfrm>
        </p:grpSpPr>
        <p:sp>
          <p:nvSpPr>
            <p:cNvPr id="114" name="Rectangle 53"/>
            <p:cNvSpPr/>
            <p:nvPr/>
          </p:nvSpPr>
          <p:spPr>
            <a:xfrm rot="20796600">
              <a:off x="8067240" y="4248000"/>
              <a:ext cx="420840" cy="4842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54"/>
            <p:cNvSpPr/>
            <p:nvPr/>
          </p:nvSpPr>
          <p:spPr>
            <a:xfrm rot="20796600">
              <a:off x="8042040" y="4268520"/>
              <a:ext cx="2923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1852a7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55"/>
            <p:cNvSpPr/>
            <p:nvPr/>
          </p:nvSpPr>
          <p:spPr>
            <a:xfrm rot="20796600">
              <a:off x="7939080" y="4228920"/>
              <a:ext cx="48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</a:rPr>
                <a:t>Work Pla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Oval 2"/>
          <p:cNvSpPr/>
          <p:nvPr/>
        </p:nvSpPr>
        <p:spPr>
          <a:xfrm>
            <a:off x="41400" y="2597040"/>
            <a:ext cx="2268360" cy="1022400"/>
          </a:xfrm>
          <a:prstGeom prst="ellipse">
            <a:avLst/>
          </a:prstGeom>
          <a:gradFill rotWithShape="0">
            <a:gsLst>
              <a:gs pos="0">
                <a:srgbClr val="ff9f87">
                  <a:alpha val="33333"/>
                </a:srgbClr>
              </a:gs>
              <a:gs pos="100000">
                <a:srgbClr val="e74f06">
                  <a:alpha val="49019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2244600" y="5794200"/>
            <a:ext cx="2268720" cy="1022400"/>
          </a:xfrm>
          <a:prstGeom prst="ellipse">
            <a:avLst/>
          </a:prstGeom>
          <a:gradFill rotWithShape="0">
            <a:gsLst>
              <a:gs pos="0">
                <a:srgbClr val="99b0fc">
                  <a:alpha val="47058"/>
                </a:srgbClr>
              </a:gs>
              <a:gs pos="100000">
                <a:srgbClr val="0751bc">
                  <a:alpha val="56078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5802480" y="5137200"/>
            <a:ext cx="226692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47"/>
          <p:cNvSpPr/>
          <p:nvPr/>
        </p:nvSpPr>
        <p:spPr>
          <a:xfrm>
            <a:off x="6278400" y="1282680"/>
            <a:ext cx="2267280" cy="1023840"/>
          </a:xfrm>
          <a:prstGeom prst="ellipse">
            <a:avLst/>
          </a:prstGeom>
          <a:gradFill rotWithShape="0">
            <a:gsLst>
              <a:gs pos="0">
                <a:srgbClr val="aedfad">
                  <a:alpha val="52156"/>
                </a:srgbClr>
              </a:gs>
              <a:gs pos="100000">
                <a:srgbClr val="328d2d">
                  <a:alpha val="53333"/>
                </a:srgbClr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5" descr="PDP4.jpg"/>
          <p:cNvPicPr/>
          <p:nvPr/>
        </p:nvPicPr>
        <p:blipFill>
          <a:blip r:embed="rId11"/>
          <a:srcRect l="5895" t="39210" r="82316" b="35989"/>
          <a:stretch/>
        </p:blipFill>
        <p:spPr>
          <a:xfrm>
            <a:off x="7640640" y="1446120"/>
            <a:ext cx="654120" cy="7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PDP4.jpg"/>
          <p:cNvPicPr/>
          <p:nvPr/>
        </p:nvPicPr>
        <p:blipFill>
          <a:blip r:embed="rId12"/>
          <a:srcRect l="5895" t="39210" r="82316" b="35989"/>
          <a:stretch/>
        </p:blipFill>
        <p:spPr>
          <a:xfrm>
            <a:off x="7189920" y="5318280"/>
            <a:ext cx="655560" cy="69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DP4.jpg"/>
          <p:cNvPicPr/>
          <p:nvPr/>
        </p:nvPicPr>
        <p:blipFill>
          <a:blip r:embed="rId13"/>
          <a:srcRect l="5895" t="39210" r="82316" b="35989"/>
          <a:stretch/>
        </p:blipFill>
        <p:spPr>
          <a:xfrm>
            <a:off x="2471760" y="6016680"/>
            <a:ext cx="655560" cy="70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PDP4.jpg"/>
          <p:cNvPicPr/>
          <p:nvPr/>
        </p:nvPicPr>
        <p:blipFill>
          <a:blip r:embed="rId14"/>
          <a:srcRect l="5895" t="39210" r="82316" b="35989"/>
          <a:stretch/>
        </p:blipFill>
        <p:spPr>
          <a:xfrm>
            <a:off x="281160" y="2760840"/>
            <a:ext cx="653760" cy="699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040" y="258480"/>
            <a:ext cx="233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i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9"/>
          <p:cNvSpPr/>
          <p:nvPr/>
        </p:nvSpPr>
        <p:spPr>
          <a:xfrm>
            <a:off x="2536920" y="1317600"/>
            <a:ext cx="6514920" cy="24782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7"/>
          <p:cNvSpPr/>
          <p:nvPr/>
        </p:nvSpPr>
        <p:spPr>
          <a:xfrm>
            <a:off x="57240" y="4064040"/>
            <a:ext cx="6573600" cy="273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66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ing PDP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3033720" y="2066760"/>
            <a:ext cx="1441440" cy="1587600"/>
            <a:chOff x="3033720" y="2066760"/>
            <a:chExt cx="1441440" cy="1587600"/>
          </a:xfrm>
        </p:grpSpPr>
        <p:sp>
          <p:nvSpPr>
            <p:cNvPr id="130" name="Freeform 3"/>
            <p:cNvSpPr/>
            <p:nvPr/>
          </p:nvSpPr>
          <p:spPr>
            <a:xfrm>
              <a:off x="3033720" y="2066760"/>
              <a:ext cx="1441440" cy="1587600"/>
            </a:xfrm>
            <a:prstGeom prst="pie">
              <a:avLst/>
            </a:prstGeom>
            <a:gradFill rotWithShape="0">
              <a:gsLst>
                <a:gs pos="0">
                  <a:srgbClr val="fbe7e7"/>
                </a:gs>
                <a:gs pos="100000">
                  <a:srgbClr val="f0a8a8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1960" rIns="111960" tIns="937440" bIns="85320" anchor="t">
              <a:noAutofit/>
            </a:bodyPr>
            <a:p>
              <a:pPr lvl="1">
                <a:lnSpc>
                  <a:spcPct val="90000"/>
                </a:lnSpc>
                <a:spcAft>
                  <a:spcPts val="2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quests for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rticipa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lvl="1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3105720" y="2347200"/>
              <a:ext cx="1009080" cy="498240"/>
            </a:xfrm>
            <a:prstGeom prst="pie">
              <a:avLst/>
            </a:prstGeom>
            <a:gradFill rotWithShape="0">
              <a:gsLst>
                <a:gs pos="0">
                  <a:srgbClr val="99b0fc"/>
                </a:gs>
                <a:gs pos="100000">
                  <a:srgbClr val="0751bc"/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760" rIns="59760" tIns="21600" bIns="21600" anchor="ctr">
              <a:no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Queu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108" descr=""/>
          <p:cNvPicPr/>
          <p:nvPr/>
        </p:nvPicPr>
        <p:blipFill>
          <a:blip r:embed="rId1"/>
          <a:stretch/>
        </p:blipFill>
        <p:spPr>
          <a:xfrm>
            <a:off x="4203720" y="4427640"/>
            <a:ext cx="2347920" cy="1788840"/>
          </a:xfrm>
          <a:prstGeom prst="rect">
            <a:avLst/>
          </a:prstGeom>
          <a:ln w="0">
            <a:noFill/>
          </a:ln>
        </p:spPr>
      </p:pic>
      <p:sp>
        <p:nvSpPr>
          <p:cNvPr id="133" name="U-Turn Arrow 118"/>
          <p:cNvSpPr/>
          <p:nvPr/>
        </p:nvSpPr>
        <p:spPr>
          <a:xfrm flipH="1" flipV="1" rot="5400000">
            <a:off x="359280" y="1918440"/>
            <a:ext cx="3830760" cy="3846600"/>
          </a:xfrm>
          <a:custGeom>
            <a:avLst/>
            <a:gdLst/>
            <a:ahLst/>
            <a:rect l="l" t="t" r="r" b="b"/>
            <a:pathLst>
              <a:path w="3830249" h="3846244">
                <a:moveTo>
                  <a:pt x="0" y="3846244"/>
                </a:moveTo>
                <a:lnTo>
                  <a:pt x="0" y="1408281"/>
                </a:lnTo>
                <a:cubicBezTo>
                  <a:pt x="0" y="630509"/>
                  <a:pt x="630509" y="0"/>
                  <a:pt x="1408281" y="0"/>
                </a:cubicBezTo>
                <a:lnTo>
                  <a:pt x="2005716" y="0"/>
                </a:lnTo>
                <a:cubicBezTo>
                  <a:pt x="2783488" y="0"/>
                  <a:pt x="3413997" y="630509"/>
                  <a:pt x="3413997" y="1408281"/>
                </a:cubicBezTo>
                <a:lnTo>
                  <a:pt x="3413997" y="1408281"/>
                </a:lnTo>
                <a:lnTo>
                  <a:pt x="3830249" y="1408281"/>
                </a:lnTo>
                <a:lnTo>
                  <a:pt x="2879811" y="2342593"/>
                </a:lnTo>
                <a:lnTo>
                  <a:pt x="1929373" y="1408281"/>
                </a:lnTo>
                <a:lnTo>
                  <a:pt x="2345625" y="1408281"/>
                </a:lnTo>
                <a:lnTo>
                  <a:pt x="2345625" y="1408281"/>
                </a:lnTo>
                <a:cubicBezTo>
                  <a:pt x="2345625" y="1220554"/>
                  <a:pt x="2193443" y="1068372"/>
                  <a:pt x="2005716" y="1068372"/>
                </a:cubicBezTo>
                <a:lnTo>
                  <a:pt x="1408281" y="1068371"/>
                </a:lnTo>
                <a:cubicBezTo>
                  <a:pt x="1220554" y="1068371"/>
                  <a:pt x="1068372" y="1220553"/>
                  <a:pt x="1068372" y="1408280"/>
                </a:cubicBezTo>
                <a:cubicBezTo>
                  <a:pt x="1068372" y="2220935"/>
                  <a:pt x="1068371" y="3033589"/>
                  <a:pt x="1068371" y="3846244"/>
                </a:cubicBez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27"/>
          <p:cNvSpPr/>
          <p:nvPr/>
        </p:nvSpPr>
        <p:spPr>
          <a:xfrm>
            <a:off x="1517040" y="27208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U-Turn Arrow 26"/>
          <p:cNvSpPr/>
          <p:nvPr/>
        </p:nvSpPr>
        <p:spPr>
          <a:xfrm flipH="1" flipV="1" rot="16200000">
            <a:off x="4979880" y="2261880"/>
            <a:ext cx="3829320" cy="3846600"/>
          </a:xfrm>
          <a:custGeom>
            <a:avLst/>
            <a:gdLst/>
            <a:ahLst/>
            <a:rect l="l" t="t" r="r" b="b"/>
            <a:pathLst>
              <a:path w="3830251" h="3846244">
                <a:moveTo>
                  <a:pt x="0" y="3846244"/>
                </a:moveTo>
                <a:lnTo>
                  <a:pt x="0" y="1408280"/>
                </a:lnTo>
                <a:cubicBezTo>
                  <a:pt x="0" y="630508"/>
                  <a:pt x="630508" y="0"/>
                  <a:pt x="1408280" y="0"/>
                </a:cubicBezTo>
                <a:lnTo>
                  <a:pt x="2005718" y="0"/>
                </a:lnTo>
                <a:cubicBezTo>
                  <a:pt x="2783490" y="0"/>
                  <a:pt x="3413998" y="630508"/>
                  <a:pt x="3413998" y="1408280"/>
                </a:cubicBezTo>
                <a:lnTo>
                  <a:pt x="3413998" y="1408280"/>
                </a:lnTo>
                <a:lnTo>
                  <a:pt x="3830251" y="1408280"/>
                </a:lnTo>
                <a:lnTo>
                  <a:pt x="2879813" y="2342593"/>
                </a:lnTo>
                <a:lnTo>
                  <a:pt x="1929374" y="1408280"/>
                </a:lnTo>
                <a:lnTo>
                  <a:pt x="2345627" y="1408280"/>
                </a:lnTo>
                <a:lnTo>
                  <a:pt x="2345627" y="1408280"/>
                </a:lnTo>
                <a:cubicBezTo>
                  <a:pt x="2345627" y="1220554"/>
                  <a:pt x="2193445" y="1068372"/>
                  <a:pt x="2005719" y="1068372"/>
                </a:cubicBezTo>
                <a:lnTo>
                  <a:pt x="1408280" y="1068372"/>
                </a:lnTo>
                <a:cubicBezTo>
                  <a:pt x="1220554" y="1068372"/>
                  <a:pt x="1068372" y="1220554"/>
                  <a:pt x="1068372" y="1408280"/>
                </a:cubicBezTo>
                <a:lnTo>
                  <a:pt x="1068372" y="3846244"/>
                </a:lnTo>
                <a:lnTo>
                  <a:pt x="0" y="3846244"/>
                </a:lnTo>
                <a:close/>
              </a:path>
            </a:pathLst>
          </a:custGeom>
          <a:gradFill rotWithShape="0">
            <a:gsLst>
              <a:gs pos="0">
                <a:srgbClr val="aedfad"/>
              </a:gs>
              <a:gs pos="100000">
                <a:srgbClr val="328d2d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Diagram 111" descr=""/>
          <p:cNvPicPr/>
          <p:nvPr/>
        </p:nvPicPr>
        <p:blipFill>
          <a:blip r:embed="rId2"/>
          <a:stretch/>
        </p:blipFill>
        <p:spPr>
          <a:xfrm>
            <a:off x="6473880" y="143820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28"/>
          <p:cNvSpPr/>
          <p:nvPr/>
        </p:nvSpPr>
        <p:spPr>
          <a:xfrm>
            <a:off x="6895080" y="480528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ent &amp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ticip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Diagram 27" descr=""/>
          <p:cNvPicPr/>
          <p:nvPr/>
        </p:nvPicPr>
        <p:blipFill>
          <a:blip r:embed="rId3"/>
          <a:stretch/>
        </p:blipFill>
        <p:spPr>
          <a:xfrm>
            <a:off x="0" y="3859200"/>
            <a:ext cx="2468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: GAC and GNSO fully aligned in the P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211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St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G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231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rm whether these are the objectives &amp; expectations and/or whether any additions / revisions are nee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updates &amp; aler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NSO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reate greater sensitivity within the GNSO regarding what may constitute public policy concerns and would/could require GAC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s to raise issues that would require GNSO policy consi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tain responses to questions and be able to convey questions / requires for further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otential objectives &amp; expecta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ncourage timely GAC input into GNSO Policy Development 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a mechanism to flag upcoming GNSO policy issues / answer / relay GAC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 of GAC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ongoing dialo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echanism for finding common grounds in case of conflicting vie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1523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are the options to be considered to achieve these objectives? Any additional on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Aim for comments in the first two comment periods, rather than the l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“issue triggers” for staff and participants to watch for and take proactive 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Explore options for informal, issue-focused GAC (joint GAC/GNSO?) drafting teams to frame issues, draft comments and funnel the conversation between WGs, the GAC and the GNSO Council for analysis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Provide sufficient lead time (and align comment deadlines with GAC meeting schedule) to allow time for deliberation an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coordination between GAC and GNSO secretari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notification of pending issues and work deadlines, both dir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279440"/>
          <a:ext cx="8229600" cy="5516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Aim for GAC comments in first 2 comment peri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Develop “issue indicators” to trigger proactive a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Explore informal joint working te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Provide sufficient lead time for action/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coordination between GAC/GNSO Secretari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Improve process awareness and notifications, both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55a7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scribe option in d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ive for GAC comments in “ID &amp; Launch” or “Develop Consensus” phases of the P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Develop of list of key topics or events that are likely to be of interest to the GAC and watch PDPs for th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mall groups, like this one, which can develop concepts and drafts for formal review &amp;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Keep a close eye on the calendar, also schedule comment periods to align with the GAC work cycl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harter a joint steering group to help align the efforts of the three team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mprove documentation, training, work processes an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does this mechanism achieve the objectiv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Common ground, timely input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sensitivity within GNSO, raise issues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etter understanding, common ground, ongoing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Greater sensitivity, raise issues, timely input, working metho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greater sensitivity, responses to questions, better understanding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pdates and alerts, better understanding, common ground, timely inp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hat are potential issues /complica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How would this work in practi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s additional funding required to impl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y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e1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Would it be possible to implement this option as a pilo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1"/>
                    </a:solidFill>
                  </a:tcPr>
                </a:tc>
              </a:tr>
            </a:tbl>
          </a:graphicData>
        </a:graphic>
      </p:graphicFrame>
      <p:sp>
        <p:nvSpPr>
          <p:cNvPr id="143" name="Rectangle 1"/>
          <p:cNvSpPr/>
          <p:nvPr/>
        </p:nvSpPr>
        <p:spPr>
          <a:xfrm>
            <a:off x="1587600" y="1036800"/>
            <a:ext cx="4744800" cy="242640"/>
          </a:xfrm>
          <a:prstGeom prst="rect">
            <a:avLst/>
          </a:prstGeom>
          <a:gradFill rotWithShape="0">
            <a:gsLst>
              <a:gs pos="0">
                <a:srgbClr val="eaf6ea"/>
              </a:gs>
              <a:gs pos="100000">
                <a:srgbClr val="b2dcb0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332400" y="395280"/>
            <a:ext cx="2354400" cy="884160"/>
          </a:xfrm>
          <a:prstGeom prst="rect">
            <a:avLst/>
          </a:prstGeom>
          <a:gradFill rotWithShape="0">
            <a:gsLst>
              <a:gs pos="0">
                <a:srgbClr val="efebf5"/>
              </a:gs>
              <a:gs pos="100000">
                <a:srgbClr val="c4b7db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ly Engagement AND Day to Day Op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21:28:52Z</dcterms:created>
  <dc:creator>Tom Hodgson</dc:creator>
  <dc:description/>
  <dc:language>en-US</dc:language>
  <cp:lastModifiedBy>Mike O'Connor</cp:lastModifiedBy>
  <dcterms:modified xsi:type="dcterms:W3CDTF">2014-02-28T20:21:42Z</dcterms:modified>
  <cp:revision>607</cp:revision>
  <dc:subject/>
  <dc:title>PowerPoint Presentation</dc:title>
</cp:coreProperties>
</file>