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868-9309-49A0-844A-A920825D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B80-9BA0-4E6D-93D9-5EAC0242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33A-067E-4F2A-97A5-0193B965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712-D5CB-498F-A1A9-BD91D750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48A-EE23-403D-A51E-25E930B8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E50-88FE-4C36-9EF5-DE9D87D4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10E-D5BF-4B22-BC56-5C6FB7B9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07F-0A10-43E2-9939-4B1E6553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E31-B16D-4EAC-B56C-583F3885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0C1-5ED2-41ED-8509-B28E64A6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974-1AE1-424E-81B9-DFF73963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FD1-8911-4489-A725-DC3F8494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7CAFE-AF31-49AE-980A-04093B78E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2520" y="44748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372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6200"/>
            <a:ext cx="628200" cy="610920"/>
            <a:chOff x="5724000" y="6226200"/>
            <a:chExt cx="628200" cy="61092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3040" y="6298200"/>
              <a:ext cx="427320" cy="495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8840" y="6330960"/>
              <a:ext cx="29664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560"/>
              <a:ext cx="49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048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8960"/>
            <a:ext cx="629640" cy="611640"/>
            <a:chOff x="2057040" y="318960"/>
            <a:chExt cx="629640" cy="61164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6080" y="391680"/>
              <a:ext cx="428760" cy="495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5400" y="412200"/>
              <a:ext cx="29808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040"/>
            <a:ext cx="634680" cy="618480"/>
            <a:chOff x="609840" y="4262040"/>
            <a:chExt cx="634680" cy="61848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7880" y="4341960"/>
              <a:ext cx="42516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5120" y="4364280"/>
              <a:ext cx="29520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6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2520" y="44748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372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6200"/>
            <a:ext cx="628200" cy="610920"/>
            <a:chOff x="5724000" y="6226200"/>
            <a:chExt cx="628200" cy="61092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3040" y="6298200"/>
              <a:ext cx="427320" cy="495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8840" y="6330960"/>
              <a:ext cx="29664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560"/>
              <a:ext cx="49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048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8960"/>
            <a:ext cx="629640" cy="611640"/>
            <a:chOff x="2057040" y="318960"/>
            <a:chExt cx="629640" cy="61164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6080" y="391680"/>
              <a:ext cx="428760" cy="495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5400" y="412200"/>
              <a:ext cx="29808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040"/>
            <a:ext cx="634680" cy="618480"/>
            <a:chOff x="609840" y="4262040"/>
            <a:chExt cx="634680" cy="61848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7880" y="4341960"/>
              <a:ext cx="425160" cy="496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5120" y="4364280"/>
              <a:ext cx="29520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6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0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9"/>
          <p:cNvSpPr/>
          <p:nvPr/>
        </p:nvSpPr>
        <p:spPr>
          <a:xfrm>
            <a:off x="2536920" y="1317600"/>
            <a:ext cx="6514920" cy="24782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7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3033720" y="2066760"/>
            <a:ext cx="1441440" cy="1587600"/>
            <a:chOff x="3033720" y="2066760"/>
            <a:chExt cx="1441440" cy="1587600"/>
          </a:xfrm>
        </p:grpSpPr>
        <p:sp>
          <p:nvSpPr>
            <p:cNvPr id="130" name="Freeform 3"/>
            <p:cNvSpPr/>
            <p:nvPr/>
          </p:nvSpPr>
          <p:spPr>
            <a:xfrm>
              <a:off x="3033720" y="2066760"/>
              <a:ext cx="1441440" cy="1587600"/>
            </a:xfrm>
            <a:prstGeom prst="pie">
              <a:avLst/>
            </a:prstGeom>
            <a:gradFill rotWithShape="0">
              <a:gsLst>
                <a:gs pos="0">
                  <a:srgbClr val="fbe7e7"/>
                </a:gs>
                <a:gs pos="100000">
                  <a:srgbClr val="f0a8a8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1960" rIns="111960" tIns="937440" bIns="85320" anchor="t">
              <a:noAutofit/>
            </a:bodyPr>
            <a:p>
              <a:pPr lvl="1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quests for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lvl="1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articipa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lvl="1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mm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3105720" y="2347200"/>
              <a:ext cx="1009080" cy="498240"/>
            </a:xfrm>
            <a:prstGeom prst="pie">
              <a:avLst/>
            </a:prstGeom>
            <a:gradFill rotWithShape="0">
              <a:gsLst>
                <a:gs pos="0">
                  <a:srgbClr val="99b0fc"/>
                </a:gs>
                <a:gs pos="100000">
                  <a:srgbClr val="0751bc"/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760" rIns="59760" tIns="21600" bIns="21600" anchor="ctr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Queue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108" descr=""/>
          <p:cNvPicPr/>
          <p:nvPr/>
        </p:nvPicPr>
        <p:blipFill>
          <a:blip r:embed="rId1"/>
          <a:stretch/>
        </p:blipFill>
        <p:spPr>
          <a:xfrm>
            <a:off x="4203720" y="4427640"/>
            <a:ext cx="2347920" cy="1788840"/>
          </a:xfrm>
          <a:prstGeom prst="rect">
            <a:avLst/>
          </a:prstGeom>
          <a:ln w="0">
            <a:noFill/>
          </a:ln>
        </p:spPr>
      </p:pic>
      <p:sp>
        <p:nvSpPr>
          <p:cNvPr id="133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249" h="3846244">
                <a:moveTo>
                  <a:pt x="0" y="3846244"/>
                </a:moveTo>
                <a:lnTo>
                  <a:pt x="0" y="1408281"/>
                </a:lnTo>
                <a:cubicBezTo>
                  <a:pt x="0" y="630509"/>
                  <a:pt x="630509" y="0"/>
                  <a:pt x="1408281" y="0"/>
                </a:cubicBezTo>
                <a:lnTo>
                  <a:pt x="2005716" y="0"/>
                </a:lnTo>
                <a:cubicBezTo>
                  <a:pt x="2783488" y="0"/>
                  <a:pt x="3413997" y="630509"/>
                  <a:pt x="3413997" y="1408281"/>
                </a:cubicBezTo>
                <a:lnTo>
                  <a:pt x="3413997" y="1408281"/>
                </a:lnTo>
                <a:lnTo>
                  <a:pt x="3830249" y="1408281"/>
                </a:lnTo>
                <a:lnTo>
                  <a:pt x="2879811" y="2342593"/>
                </a:lnTo>
                <a:lnTo>
                  <a:pt x="1929373" y="1408281"/>
                </a:lnTo>
                <a:lnTo>
                  <a:pt x="2345625" y="1408281"/>
                </a:lnTo>
                <a:lnTo>
                  <a:pt x="2345625" y="1408281"/>
                </a:lnTo>
                <a:cubicBezTo>
                  <a:pt x="2345625" y="1220554"/>
                  <a:pt x="2193443" y="1068372"/>
                  <a:pt x="2005716" y="1068372"/>
                </a:cubicBezTo>
                <a:lnTo>
                  <a:pt x="1408281" y="1068371"/>
                </a:lnTo>
                <a:cubicBezTo>
                  <a:pt x="1220554" y="1068371"/>
                  <a:pt x="1068372" y="1220553"/>
                  <a:pt x="1068372" y="1408280"/>
                </a:cubicBezTo>
                <a:cubicBezTo>
                  <a:pt x="1068372" y="2220935"/>
                  <a:pt x="1068371" y="3033589"/>
                  <a:pt x="1068371" y="3846244"/>
                </a:cubicBezTo>
                <a:lnTo>
                  <a:pt x="0" y="3846244"/>
                </a:lnTo>
                <a:close/>
              </a:path>
            </a:pathLst>
          </a:custGeom>
          <a:gradFill rotWithShape="0">
            <a:gsLst>
              <a:gs pos="0">
                <a:srgbClr val="aedfad"/>
              </a:gs>
              <a:gs pos="100000">
                <a:srgbClr val="328d2d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27"/>
          <p:cNvSpPr/>
          <p:nvPr/>
        </p:nvSpPr>
        <p:spPr>
          <a:xfrm>
            <a:off x="1517040" y="27208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U-Turn Arrow 26"/>
          <p:cNvSpPr/>
          <p:nvPr/>
        </p:nvSpPr>
        <p:spPr>
          <a:xfrm flipH="1" flipV="1" rot="16200000">
            <a:off x="4979880" y="2261880"/>
            <a:ext cx="3829320" cy="3846600"/>
          </a:xfrm>
          <a:custGeom>
            <a:avLst/>
            <a:gdLst/>
            <a:ahLst/>
            <a:rect l="l" t="t" r="r" b="b"/>
            <a:pathLst>
              <a:path w="3830251" h="3846244">
                <a:moveTo>
                  <a:pt x="0" y="3846244"/>
                </a:moveTo>
                <a:lnTo>
                  <a:pt x="0" y="1408280"/>
                </a:lnTo>
                <a:cubicBezTo>
                  <a:pt x="0" y="630508"/>
                  <a:pt x="630508" y="0"/>
                  <a:pt x="1408280" y="0"/>
                </a:cubicBezTo>
                <a:lnTo>
                  <a:pt x="2005718" y="0"/>
                </a:lnTo>
                <a:cubicBezTo>
                  <a:pt x="2783490" y="0"/>
                  <a:pt x="3413998" y="630508"/>
                  <a:pt x="3413998" y="1408280"/>
                </a:cubicBezTo>
                <a:lnTo>
                  <a:pt x="3413998" y="1408280"/>
                </a:lnTo>
                <a:lnTo>
                  <a:pt x="3830251" y="1408280"/>
                </a:lnTo>
                <a:lnTo>
                  <a:pt x="2879813" y="2342593"/>
                </a:lnTo>
                <a:lnTo>
                  <a:pt x="1929374" y="1408280"/>
                </a:lnTo>
                <a:lnTo>
                  <a:pt x="2345627" y="1408280"/>
                </a:lnTo>
                <a:lnTo>
                  <a:pt x="2345627" y="1408280"/>
                </a:lnTo>
                <a:cubicBezTo>
                  <a:pt x="2345627" y="1220554"/>
                  <a:pt x="2193445" y="1068372"/>
                  <a:pt x="2005719" y="1068372"/>
                </a:cubicBezTo>
                <a:lnTo>
                  <a:pt x="1408280" y="1068372"/>
                </a:lnTo>
                <a:cubicBezTo>
                  <a:pt x="1220554" y="1068372"/>
                  <a:pt x="1068372" y="1220554"/>
                  <a:pt x="1068372" y="1408280"/>
                </a:cubicBezTo>
                <a:lnTo>
                  <a:pt x="1068372" y="3846244"/>
                </a:lnTo>
                <a:lnTo>
                  <a:pt x="0" y="3846244"/>
                </a:lnTo>
                <a:close/>
              </a:path>
            </a:pathLst>
          </a:custGeom>
          <a:gradFill rotWithShape="0">
            <a:gsLst>
              <a:gs pos="0">
                <a:srgbClr val="aedfad"/>
              </a:gs>
              <a:gs pos="100000">
                <a:srgbClr val="328d2d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Diagram 111" descr=""/>
          <p:cNvPicPr/>
          <p:nvPr/>
        </p:nvPicPr>
        <p:blipFill>
          <a:blip r:embed="rId2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28"/>
          <p:cNvSpPr/>
          <p:nvPr/>
        </p:nvSpPr>
        <p:spPr>
          <a:xfrm>
            <a:off x="6895080" y="480528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Diagram 27" descr=""/>
          <p:cNvPicPr/>
          <p:nvPr/>
        </p:nvPicPr>
        <p:blipFill>
          <a:blip r:embed="rId3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: GAC and GNSO fully aligned in the P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231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rm whether these are the objectives &amp; expectations and/or whether any additions / revisions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updates &amp; ale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NSO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reate greater sensitivity within the GNSO regarding what may constitute public policy concerns and would/could require GAC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s to raise issues that would require GNSO policy consi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responses to questions and be able to convey questions / requires for further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ncourage timely GAC input into GNSO Policy Develop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a mechanism to flag upcoming GNSO policy issues / answer / relay GAC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AC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ongoing dialo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options to be considered to achieve these objectives? Any additional on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im for comments in the first two comment periods, rather than the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“issue triggers” for staff and participants to watch for and take proactive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xplore options for informal, issue-focused GAC (joint GAC/GNSO?) drafting teams to frame issues, draft comments and funnel the conversation between WGs, the GAC and the GNSO Council for analysis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sufficient lead time (and align comment deadlines with GAC meeting schedule) to allow time for deliberation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coordination between GAC and GNSO secretari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notification of pending issues and work deadlines, both dir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279440"/>
          <a:ext cx="8229600" cy="5516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scribe option in 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ive for GAC comments in “ID &amp; Launch” or “Develop Consensus” phases of the P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of list of key topics or events that are likely to be of interest to the GAC and watch PDPs for th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mall groups, like this one, which can develop concepts and drafts for formal review &amp;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Keep a close eye on the calendar, also schedule comment periods to align with the GAC work cycl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harter a joint steering group to help align the efforts of the three team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documentation, training, work processes an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does this mechanism achieve the object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Common ground, timely input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sensitivity within GNSO, raise issues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, common ground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Greater sensitivity, raise issues, timely input,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greater sensitivity, responses to questions, better understanding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better understanding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hat are potential issues /complic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would this work in practi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s additional funding required to impl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y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ould it be possible to implement this option as a pilo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</a:tbl>
          </a:graphicData>
        </a:graphic>
      </p:graphicFrame>
      <p:sp>
        <p:nvSpPr>
          <p:cNvPr id="143" name="Rectangle 1"/>
          <p:cNvSpPr/>
          <p:nvPr/>
        </p:nvSpPr>
        <p:spPr>
          <a:xfrm>
            <a:off x="1587600" y="1036800"/>
            <a:ext cx="4744800" cy="242640"/>
          </a:xfrm>
          <a:prstGeom prst="rect">
            <a:avLst/>
          </a:prstGeom>
          <a:gradFill rotWithShape="0">
            <a:gsLst>
              <a:gs pos="0">
                <a:srgbClr val="eaf6ea"/>
              </a:gs>
              <a:gs pos="100000">
                <a:srgbClr val="b2dcb0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ly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332400" y="395280"/>
            <a:ext cx="2354400" cy="884160"/>
          </a:xfrm>
          <a:prstGeom prst="rect">
            <a:avLst/>
          </a:prstGeom>
          <a:gradFill rotWithShape="0">
            <a:gsLst>
              <a:gs pos="0">
                <a:srgbClr val="efebf5"/>
              </a:gs>
              <a:gs pos="100000">
                <a:srgbClr val="c4b7db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ly Engagement AND Day to Day Op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28T20:21:42Z</dcterms:modified>
  <cp:revision>607</cp:revision>
  <dc:subject/>
  <dc:title>PowerPoint Presentation</dc:title>
</cp:coreProperties>
</file>