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F7A-140A-4925-A6BE-989BF3B1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BE5-3C9B-4778-B6D9-B61DAEC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B9D-D8B0-48CF-83A7-169490C5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037-9AF6-4BE7-BD80-F071D18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EB0A-02F9-4E09-9AA4-C03EE0F3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0D4E-4BA2-4EC3-A534-111B934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05AF-6D4E-4E37-A32F-BD3E933E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0B51-2CAB-43D1-B9F8-EC7F32AD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D307-5C50-4C81-9E48-099A101A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6455-5128-4B29-801B-2F19094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B29D-A009-48D6-8E3A-0F429B1E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42A-1C78-422E-87ED-2706BF6C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83CB-4F93-4CB8-8F51-4BCB7A9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661A-5736-4488-99C6-B477CF50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3BE-DF13-4EBE-B983-B52282B0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9DA6-11F3-4E21-BA9E-733408F6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348-E689-4409-9AB2-725E558F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C0F4-2079-4217-BB05-505CFA3F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1093-13AD-49FE-BD86-BB4AC935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27DA-2A42-4E16-8791-1184FB0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8215-4842-4E64-9DF3-B7E0F67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0CF3-4EB9-4864-8386-EE3CBF0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A0F-89A7-42D7-B33F-D898996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0215-53FB-4D78-B4C3-7893DE8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1CC2-18B5-48ED-84A0-446273B0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3A8D-9B95-407D-9CA7-F34D990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349D-D0AA-4D59-ABA5-35B6FC0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29B8-1D2A-449B-90D3-7EF9D236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31AA-A7C2-4555-B19C-5AC5B36C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5770-BF71-475C-813C-7C85830B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9CCA-757D-4F93-BA3C-CE05ACAD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846F-ED6F-4ABE-8395-6465247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2AAF-CD67-4FD8-AB17-30A7EA8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6BB-A26A-47A2-BE13-B8FE547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B09A-0273-4750-86C2-BCDBD36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075F-89C1-4921-B006-3E79C2B5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4776-EE05-426C-B237-2B5981A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87F8-7492-440C-BD5C-EDA957A5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8A74-ED53-489C-BDFC-3C13ED70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A751-62E3-4909-840E-06CB76E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7FB5-06AB-408E-99E8-9EF65F1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3688-3E9B-439E-93DA-05C9F7D2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6972-5707-4CBC-B5FE-CF00FCAA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1E913-673B-4FBB-BAAF-3CEE4F8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186-C5CC-45CC-B131-ECDE1BF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BD40-BBDB-4038-9468-37F2F94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B75F-28D5-440F-A19A-F4B53BB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6260-0A17-4D03-A4F8-B8E7C41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B137-1C0B-42F8-8D55-ED7B643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AA34-AD12-4BE1-8C7B-A086C33C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0885-FA16-4E5F-B93D-B940129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861A-DA86-4A9C-B52D-A142EEE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6019-6A99-4AF1-A09A-1F2C61C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81AB9-1C87-4DE8-831F-BE119374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41AE-7DFE-4BEA-8841-304DD294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9B7-D7AE-423E-9271-108FCE5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9F26-10C3-45CB-8718-DDA13F36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8EC3-E695-4E15-BEE4-C3C1F8B0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973F-4D5C-482F-8672-CAA2F306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3DB1-4CD5-4CBA-90EB-6AD12EC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E507-281F-4CE3-AB9A-1D355DA8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5968F-5573-48DE-92BF-FA9A876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3D8FB-BB36-47FC-AAAC-87AE943F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5FD2-DCFB-44F2-BB26-D9C438C7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E80A-A8D1-4D84-B055-B9564896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BE5BD-AE84-412E-820E-B5FD3EF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1FB-1D4A-4EFD-A248-B88874F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702D-513B-4D74-B1BB-8B119E21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8ABA-06AE-4B09-A02A-ECAAF19E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9149-B4A6-443E-9A8A-32BFA8B5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8DC-9E7E-4814-B18E-AF74753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68-F782-41E2-B7F1-D60DDF0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7F8-B091-4BB7-A7E8-AB4A5E4727BE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088-03FD-4000-8A11-8CABF2DFFF07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BB80-4EE0-4E8F-985C-F91DB11FBD1F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4D9F-41F8-428D-809A-BCD17CEE75C6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0B5-C14A-40EC-9175-8815396D16FD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4A30-A0CD-42D0-8EBD-A1C5204075BC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8ZLLYF5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cqfhAg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-GNSO Consultation Group</a:t>
            </a:r>
            <a:br>
              <a:rPr sz="36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ndon 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support to move ahead with this option as it provides support for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currently sent by GNSO Secretariat to GAC Secretariat and/or GAC Ch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ocuments are then posted on the GAC website and GAC members noti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often lost in the multitude of emails GAC members rece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ternative mechanisms could be explored to go beyond a simple “heads u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n-line surv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GAC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 of the survey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form GAC members of existing opportunities to engage in GNS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GAC views regarding the timeliness and overall utility of existing mechanisms whilst aiming to develop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ption will be further reviewed following the results of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participation in the survey from GAC members in order to best inform the work of the Consult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chanism for GAC early engagement in GNSO PD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ying the 6 phases of the current GNSO PD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cil Delib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ard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proposal focuses on early phases 1 &amp;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e GAC aware of all existing mechanisms available to provide input into the GNSO PD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 GAC to provide input in a timely / meaningful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/when GAC decides to provide input, have a common understanding of what the potential  impact of such input is (e.g. on the PDP timeline as well as WG/Council respon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 mechanism which is manageable and sustainable taking into account number of PDPs ongoing as well as desire for effective and timely policy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78" name="TextBox 5"/>
          <p:cNvSpPr/>
          <p:nvPr/>
        </p:nvSpPr>
        <p:spPr>
          <a:xfrm>
            <a:off x="228600" y="5486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further details, please see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81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304920" y="43434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ocus of delib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request and publication of preliminary Issue Report for public comment, as well as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1: Issue Sco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Advisory Committee can request an Issu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 of Preliminary Issue Report (drafted by Staff) for public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2: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DP is not initiated on issue requested by AC, option to request reconsideration (not used to d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DT is formed to develop charter, call for volunteers (open to anyone interes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GAC-GNSO Consultation Group is established to address the issue of GAC early engagement in GNSO P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issue was identified by both ICANN Accountability and Transparency Review Te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1 Rec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2 Rec. 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utcome of survey to establish whether early PDP engagement communications are known /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 to establish whether issue has potential public policy implications and flag as such at early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Triag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 /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ctive Wiki providing full record of all the work of the Consultation Group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GNSO Consultation Group Ch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overall Work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efing note for Lond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NSO Liaison to the GAC - Draft Requirements &amp; Proposed Selec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 for day-to-day ongoing cooper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ied 6 potential opportunit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 / expand early awareness &amp; notification no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of existing GNSO Council PDP liaisons interacting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 proposal focuses on options A,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ointed by the GNS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likely, an outgoing or recently departed GNSO Counc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as a pi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d after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ed funding for FY15 (i.e. starting 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bil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actical Work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all GAC open meeting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losed meetings discussing GNSO related topic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onference call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 GAC WG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ll not be on the GAC mailing list but may send to it through the mailing list admin and receives replies by being cc’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to proceed with this option starting L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of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tailed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of Existing GNSO PDP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participate in GNSO WG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ts in the different GNSO ongoing polic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seat on the GNSO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Primarily support the GNSO Liaison to the G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interact directly with the GAC if necessary / desi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is works in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iling list of GNSO Council PDP WG liaisons could be created to flag certain items that should be brought to the attention of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calls could be scheduled between the GNSO Council PDP WG liaisons and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10:04:44Z</dcterms:created>
  <dc:creator>Manal Ismail</dc:creator>
  <dc:description/>
  <dc:language>en-US</dc:language>
  <cp:lastModifiedBy>Manal Ismail</cp:lastModifiedBy>
  <dcterms:modified xsi:type="dcterms:W3CDTF">2014-06-13T19:36:36Z</dcterms:modified>
  <cp:revision>33</cp:revision>
  <dc:subject/>
  <dc:title>GAC-GNSO Consultation Group On  GAC Early Engagement in GNSO PDP</dc:title>
</cp:coreProperties>
</file>