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607-6B64-45A4-AF67-F2DBC4A8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DA2-AED5-49AF-97A2-89631921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4A7-6DF2-4A94-A2DC-49750B60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D64-C13F-45D3-B61E-1E59EE74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5B1E-47CC-41B0-BD41-8B1B7BB5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1FB1-8784-45C2-8D50-0251B0D7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8962-3147-4094-99FF-DB4DE250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DFC4-49A6-45FD-9279-B38BC3A6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FF23-A7B8-4DB9-BD28-934A3758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F48C-DB54-46C0-9372-BD524E15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2546-9D3D-47A2-B7E2-B5034F66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A87-3447-41ED-A83E-78BF226D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E4F2-53C7-40A3-9E5D-D1E70614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1C8F-A4B5-4FE2-B042-503EE2E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7A28-514E-4723-B1DD-99F7F6E2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0E26-FFBA-4D66-85B4-8B294A9B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6DD5-7F64-4A39-835B-4D88F364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25A9-4601-481A-B7FB-6AEB89C3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D959-92C4-4127-9B30-29736ED8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A280-4321-46EE-A5BB-700D9257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E271-425E-4137-ADA8-ADED31C3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96DCA-5415-4B81-8E0F-16263DCA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037-5F70-414E-9479-129DA044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3C37A-18B5-48A6-9A29-9578B101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DF714-DA45-4F27-A5A9-E024C580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0875-569F-49EF-B6A7-13F3C4D1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DCF9-762A-4DF6-A2FD-D701037A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0ACE-A2CE-4458-9412-BB05E93B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C301-34AC-466A-B076-5C0ED82C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375B-AC24-4525-AFBA-EA9BB399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9909D-FAEF-4703-992C-B0C485EF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C5813-064C-45B8-8903-2F68051E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B4C8-0E27-4DBD-AB6F-50851ADC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BAB-DA18-43D5-9DE4-734ADCFF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537D8-F0E2-40CA-ABA3-A7C48877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97D2A-74F4-4DC9-94B3-C1AC087B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5EFC7-1E01-483E-9556-C93D06BB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F107-7F4B-46D0-8207-06A2DDE1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DEA98-4613-4875-B4FC-E6DBE160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01B1-B1AB-421E-897B-0296E62F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01D1-D3DF-4EB2-A121-169A982C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6C6B9-32EF-4374-9C2A-E7070ACF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CAB1D-F872-4F16-91E5-0675FDA5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2F408-A8DD-4F8F-A37C-BF28706C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2F5-D2FE-44EF-B5B8-4930CE9B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00AA9-FA8D-49BF-AE29-4E1A20B7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DB644-E77B-43E1-8E94-EF72F50F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3FE15-C694-4F9A-8912-F971EDEF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39FA4-917C-4F58-9FEE-A41CAD28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C2C84-ECDD-444A-B47A-F4C4A2DE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29F3B-BF66-43F5-9B06-EE9F2854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717C0-7F29-4FC3-AE89-877E8624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C0899-15CF-4ACF-AEB7-495878C5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C4CF-D874-4223-8E55-FBB5DB4B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96EC3-20A5-4F19-8284-96EB4838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D1A-8B1A-4D28-A416-293E3C16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D87D9-EDE4-41C1-8539-1C2000B9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F99AD-23F1-4C7F-BBD5-4CA9B30F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4BD6C-7E6F-4001-976E-11B47B93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06BFF-5D3E-4BE1-B3F9-10E5DB0F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06AB5-B864-4C40-B017-CEEF5632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19BC5-383C-4625-A3C4-D21594EB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07509-5C44-431B-B225-D50CB3C8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523F4-539D-4874-8DCD-EA25BC65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47185-47FE-4821-BBC6-27DC9DB5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3ECD4-96BE-4068-A7E2-4BBA81B5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90F-6971-463B-ADB9-BF338346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C1502-16D7-4878-BB25-7C01E3C5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B7674-BB1E-465B-8EE8-6E73E430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770D0-DA41-4804-9F34-A2DA2C66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CDD-A0A9-4D7F-A9EA-CE089161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97D-69CB-4647-99AE-C25AB32B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6FAE-1A7D-4227-B908-F21BA3CD7EE7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04D8-35E5-471A-BF05-35410AB54EF3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D975-7871-488D-9406-3042EFFA5FFB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7ED9-1E7E-4565-B275-7EBD68AA522F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3D54-5FE1-4E21-9219-EA42D2580CB3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D223-9867-40FC-853C-EF4302BAB384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urveymonkey.com/s/8ZLLYF5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cqfhAg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b6fhAg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b6fhAg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C-GNSO Consultation Group</a:t>
            </a:r>
            <a:br>
              <a:rPr sz="36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C Early Engagement in GNSO PD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ndon Progres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22/06/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GNSO Council PDP Lia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 support to move ahead with this option as it provides support for the GNSO Liaison to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. Early Awareness/Not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Notifications are currently sent by GNSO Secretariat to GAC Secretariat and/or GAC Ch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ocuments are then posted on the GAC website and GAC members notif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Notifications are often lost in the multitude of emails GAC members rece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lternative mechanisms could be explored to go beyond a simple “heads up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urther feedback / input from the GAC is desirable in order to expand on this o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Early Awareness/Not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n-line surve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GAC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s of the survey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form GAC members of existing opportunities to engage in GNSO P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GAC views regarding the timeliness and overall utility of existing mechanisms whilst aiming to develop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option will be further reviewed following the results of th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 Early Awareness/Not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participation in the survey from GAC members in order to best inform the work of the Consultatio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rk Track II (Team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chanism for GAC early engagement in GNSO PD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udying the 6 phases of the current GNSO PD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sue Sco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ing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cil Delib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ard V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l proposal focuses on early phases 1 &amp;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e GAC aware of all existing mechanisms available to provide input into the GNSO PD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able GAC to provide input in a timely / meaningful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/when GAC decides to provide input, have a common understanding of what the potential  impact of such input is (e.g. on the PDP timeline as well as WG/Council respon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a mechanism which is manageable and sustainable taking into account number of PDPs ongoing as well as desire for effective and timely policy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SO PDP Phases Dia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278" name="TextBox 5"/>
          <p:cNvSpPr/>
          <p:nvPr/>
        </p:nvSpPr>
        <p:spPr>
          <a:xfrm>
            <a:off x="228600" y="5486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further details, please see http://gnso.icann.org/en/basics/consensus-policy/pd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P Phases Dia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281" name="Frame 4"/>
          <p:cNvSpPr/>
          <p:nvPr/>
        </p:nvSpPr>
        <p:spPr>
          <a:xfrm>
            <a:off x="1366920" y="1668600"/>
            <a:ext cx="2595600" cy="1760400"/>
          </a:xfrm>
          <a:custGeom>
            <a:avLst/>
            <a:gdLst/>
            <a:ahLst/>
            <a:rect l="l" t="t" r="r" b="b"/>
            <a:pathLst>
              <a:path w="2595880" h="1760855">
                <a:moveTo>
                  <a:pt x="0" y="0"/>
                </a:moveTo>
                <a:lnTo>
                  <a:pt x="2595880" y="0"/>
                </a:lnTo>
                <a:lnTo>
                  <a:pt x="2595880" y="1760855"/>
                </a:lnTo>
                <a:lnTo>
                  <a:pt x="0" y="1760855"/>
                </a:lnTo>
                <a:lnTo>
                  <a:pt x="0" y="0"/>
                </a:lnTo>
                <a:close/>
                <a:moveTo>
                  <a:pt x="220107" y="220107"/>
                </a:moveTo>
                <a:lnTo>
                  <a:pt x="220107" y="1540748"/>
                </a:lnTo>
                <a:lnTo>
                  <a:pt x="2375773" y="1540748"/>
                </a:lnTo>
                <a:lnTo>
                  <a:pt x="2375773" y="220107"/>
                </a:lnTo>
                <a:lnTo>
                  <a:pt x="220107" y="220107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304920" y="43434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focus of delib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request and publication of preliminary Issue Report for public comment, as well as GNSO Council consideration of whether to initiate a PDP and development of PDP Cha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1: Issue Sco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120" y="12949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Engagement Opportun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Advisory Committee can request an Issu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ation of Preliminary Issue Report (drafted by Staff) for public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se 2: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Engagement Opportun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PDP is not initiated on issue requested by AC, option to request reconsideration (not used to d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DT is formed to develop charter, call for volunteers (open to anyone interes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GAC-GNSO Consultation Group is established to address the issue of GAC early engagement in GNSO P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issue was identified by both ICANN Accountability and Transparency Review Te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RT1 Rec.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RT2 Rec. 1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as being explo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outcome of survey to establish whether early PDP engagement communications are known /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‘Quick look’ mechanism to establish whether issue has potential public policy implications and flag as such at early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support to allow GAC to provide timely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any GAC positions / advice are included in the Preliminary Issu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C Triag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erial /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ctive Wiki providing full record of all the work of the Consultation Group,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AC GNSO Consultation Group Cha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overall Work P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iefing note for Lond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 Track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rk Track 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NSO Liaison to the GAC - Draft Requirements &amp; Proposed Selection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ork Track I (Team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chanism for day-to-day ongoing cooper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ied 6 potential opportunit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NSO Liaison(s)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 Chairs / GNSO Chairs regular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ic Leads / Budd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hinking recurring joint meetings / conferenc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 / expand early awareness &amp; notification not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of existing GNSO Council PDP liaisons interacting with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itial proposal focuses on options A, F &amp; 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NSO Liaison to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ointed by the GNSO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likely, an outgoing or recently departed GNSO Counc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ed as a pi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d after on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ed funding for FY15 (i.e. starting 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ponsibilit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tend and participate in GAC mee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and communicate GNSO policy 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Work closely with GNSO Chair and Vice Chai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ise with ICANN policy staff in the preparation of briefing materials and/or responses to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aise with relevant working groups, utilizing GNSO Council liaisons where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regular updates to the GNSO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uide the GAC in opportunities for early eng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ep the GAC updated on how its early input was considered by the GN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 in facilitating GAC-GNSO discussions in cases where GAC early input is in conflict with GNSO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actical Work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tend all GAC open meetings and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tend GAC closed meetings discussing GNSO related topics and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tend GAC conference calls by invitation and accordingly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in GAC WGs by invitation and accordingly be allowed to request the fl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ll not be on the GAC mailing list but may send to it through the mailing list admin and receives replies by being cc’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NSO Liaison to the G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to obtain GAC and GN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to proceed with this option starting LA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val of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etailed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GNSO Council PDP Lia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of Existing GNSO PDP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participate in GNSO WG delib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ts in the different GNSO ongoing polic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 seat on the GNSO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ill Primarily support the GNSO Liaison to the G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interact directly with the GAC if necessary / desir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. GNSO Council PDP Liai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is works in pract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iling list of GNSO Council PDP WG liaisons could be created to flag certain items that should be brought to the attention of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calls could be scheduled between the GNSO Council PDP WG liaisons and the GNSO liaison to the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8T10:04:44Z</dcterms:created>
  <dc:creator>Manal Ismail</dc:creator>
  <dc:description/>
  <dc:language>en-US</dc:language>
  <cp:lastModifiedBy>Manal Ismail</cp:lastModifiedBy>
  <dcterms:modified xsi:type="dcterms:W3CDTF">2014-06-13T19:36:36Z</dcterms:modified>
  <cp:revision>33</cp:revision>
  <dc:subject/>
  <dc:title>GAC-GNSO Consultation Group On  GAC Early Engagement in GNSO PDP</dc:title>
</cp:coreProperties>
</file>