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5F1-202E-41F4-B53F-97CF6073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A4A-590B-462B-885D-C51705C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AE5-26F1-431A-97C9-6D0247AC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7A8-58EF-4626-9CF9-75A33EF9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446E-A5C5-419A-8762-0108BDAD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4917-B115-4624-B018-1E33FA9A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6FA-4114-410C-A56D-B019009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6C0F-18C8-457F-841A-67E78707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D924-A807-4E67-9324-7723A5A7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536D-0502-4B78-A118-441348D4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2DF-0831-45D4-BF77-A391A22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380-0C09-430F-8769-9B081F1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333-7C6D-4EF6-951E-9BEBF1D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EE9-5E32-4CD9-B481-C0AC115D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5F0C-0702-49E8-85FC-6BA8DD8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2847-893D-43F3-BF39-71D100A5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F776-BBB2-4355-96B6-18AA5DA3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206F-C0C0-4F92-B21F-8612350E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83A9-3AA9-4EA9-9892-E9947B87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165A-9408-42DB-9789-DDEDBBB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9589-A4F3-4A86-BACB-B5FD1AC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0EEC-C263-48AC-BA38-BED4D7F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033-F084-4737-9007-9B3102D8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BFE7-961A-4827-839C-2D9915E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5248-6A2F-46C6-890E-D3A8278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208E-2EB2-450D-9A17-F48B701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0E5D-8C8D-4023-817C-F63D72C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E125-C14A-4574-A546-C98B0E82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AA2A-E93A-41D0-9EC0-47D0AC4A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E1B4-71D8-4A3F-84F1-8FCD2F52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4309-AE2A-4153-BE3D-FA4FBBB0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7C53-81FF-40C5-9EBC-9D946C0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EA42-75F1-4D1D-9995-5BBA571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01F-E655-448F-9E98-4B72C905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C977-CBB5-4EFB-B155-24ED202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BED9-8426-474D-9CA2-13B2F51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34F2-089F-460B-8817-5937F6C1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E69C-3E6A-4BBA-86BA-E852F02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BA6F-F1EA-4C7E-B8F7-97072F0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0A99-523E-4E90-9E24-184C845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0ED1-78C7-45CC-A12A-6EA9B6B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C277-7C33-47AA-815B-7AFB5EE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0257-6C2F-4034-8C50-3A98F913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53430-5855-42EB-9505-FBE5CC08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D24-2DA6-4A7C-BAA1-2A4DE65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2965-7E00-4B0A-87AF-0D98283A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C2F0-4DB9-40D8-B7C9-A729360B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49AF-0D66-4978-9B47-B49079F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BF56-2DF3-4B04-8A3E-BDAF3305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F3C9-BF75-41B1-925F-87CF775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943B-0F44-4375-A6C3-BDE63D11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628C-AB36-4607-9B17-798F28E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993C-3C9E-43BA-8815-D34EBAF2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C22C-378F-48BB-BAA5-FEEE627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BEBB-AA2B-44C1-BFB9-C3B4EA1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12C-48EE-4EC4-A7C7-3026F4B0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5485-C842-4DFD-A0A5-54036E94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3E7A-E926-4907-A735-EDB005F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1BB4-12E6-4199-B3DD-05C92510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18A2-C7E8-4172-BCFA-610BBE85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57F0-7265-47D8-9E68-26DD39BC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90ED-DBC8-4222-AFA9-6536C0CC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748F-33C2-48D3-B683-040CB8A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D0BD-9EB4-4771-9E57-5C1A4F3F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CFDD-1CB2-45B4-A728-00FE17B7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89682-3FC2-427B-A5D7-25058F1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AE3-3AC6-4C86-A124-9AF9670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BEBF-23B3-4E87-80B1-D252156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A6F26-8FAE-41B8-935A-4802499E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F0145-A04A-4662-AF57-F5AE65EB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D7A-E15D-4C49-9838-21A84A0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AF6-2570-4556-BDC2-4AC7FD8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2A6-5939-42E0-8277-3BD61FFC97FA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15D-FA97-4EB8-BD8E-72BE1BBFEEF6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3818-E12B-42A4-8420-15237801E6EC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F44-24AE-4F92-90F8-5B352A2799D6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E17-552D-4ECD-AC6E-8D6B866D9DC1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F943-2193-4BEC-913A-6FB49CE81F4F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8ZLLYF5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cqfhAg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-GNSO Consultation Group</a:t>
            </a:r>
            <a:br>
              <a:rPr sz="36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ndon 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support to move ahead with this option as it provides support for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currently sent by GNSO Secretariat to GAC Secretariat and/or GAC Ch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ocuments are then posted on the GAC website and GAC members noti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often lost in the multitude of emails GAC members rece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ternative mechanisms could be explored to go beyond a simple “heads u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n-line surv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GAC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 of the survey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form GAC members of existing opportunities to engage in GNS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GAC views regarding the timeliness and overall utility of existing mechanisms whilst aiming to develop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ption will be further reviewed following the results of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participation in the survey from GAC members in order to best inform the work of the Consult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chanism for GAC early engagement in GNSO PD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ying the 6 phases of the current GNSO PD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cil Delib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ard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proposal focuses on early phases 1 &amp;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e GAC aware of all existing mechanisms available to provide input into the GNSO PD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 GAC to provide input in a timely / meaningful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/when GAC decides to provide input, have a common understanding of what the potential  impact of such input is (e.g. on the PDP timeline as well as WG/Council respon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 mechanism which is manageable and sustainable taking into account number of PDPs ongoing as well as desire for effective and timely policy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78" name="TextBox 5"/>
          <p:cNvSpPr/>
          <p:nvPr/>
        </p:nvSpPr>
        <p:spPr>
          <a:xfrm>
            <a:off x="228600" y="5486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further details, please see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81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304920" y="43434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ocus of delib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request and publication of preliminary Issue Report for public comment, as well as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1: Issue Sco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Advisory Committee can request an Issu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 of Preliminary Issue Report (drafted by Staff) for public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2: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DP is not initiated on issue requested by AC, option to request reconsideration (not used to d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DT is formed to develop charter, call for volunteers (open to anyone interes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GAC-GNSO Consultation Group is established to address the issue of GAC early engagement in GNSO P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issue was identified by both ICANN Accountability and Transparency Review Te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1 Rec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2 Rec. 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utcome of survey to establish whether early PDP engagement communications are known /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 to establish whether issue has potential public policy implications and flag as such at early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Triag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 /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ctive Wiki providing full record of all the work of the Consultation Group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GNSO Consultation Group Ch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overall Work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efing note for Lond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NSO Liaison to the GAC - Draft Requirements &amp; Proposed Selec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 for day-to-day ongoing cooper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ied 6 potential opportunit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 / expand early awareness &amp; notification no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of existing GNSO Council PDP liaisons interacting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 proposal focuses on options A,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ointed by the GNS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likely, an outgoing or recently departed GNSO Counc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as a pi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d after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ed funding for FY15 (i.e. starting 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bil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actical Work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all GAC open meeting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losed meetings discussing GNSO related topic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onference call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 GAC WG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ll not be on the GAC mailing list but may send to it through the mailing list admin and receives replies by being cc’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to proceed with this option starting L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of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tailed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of Existing GNSO PDP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participate in GNSO WG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ts in the different GNSO ongoing polic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seat on the GNSO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Primarily support the GNSO Liaison to the G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interact directly with the GAC if necessary / desi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is works in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iling list of GNSO Council PDP WG liaisons could be created to flag certain items that should be brought to the attention of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calls could be scheduled between the GNSO Council PDP WG liaisons and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10:04:44Z</dcterms:created>
  <dc:creator>Manal Ismail</dc:creator>
  <dc:description/>
  <dc:language>en-US</dc:language>
  <cp:lastModifiedBy>Manal Ismail</cp:lastModifiedBy>
  <dcterms:modified xsi:type="dcterms:W3CDTF">2014-06-13T19:36:36Z</dcterms:modified>
  <cp:revision>33</cp:revision>
  <dc:subject/>
  <dc:title>GAC-GNSO Consultation Group On  GAC Early Engagement in GNSO PDP</dc:title>
</cp:coreProperties>
</file>