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292-D384-4A0F-9964-CDDFC0E4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BBB-C48E-477A-8DD9-44DEA513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F23-0031-401D-AE46-52D6031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7E4-1B3B-4E7F-A6A1-6CB5B269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F79-4CE0-420E-A11F-5179F45F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EA6-3C25-4FAD-A5A6-C09EAD96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848-1CC1-4000-A222-0FCF6A8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583-40D9-45E1-82D3-B9A7A5F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F33-3304-43C3-88FA-30DE94C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1AC-284B-48D8-A540-F9A03039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036-7795-40E5-82A9-0669312E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F8D-450C-4051-8A31-742BD6C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EA9A-78BB-49E5-8322-0014751E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5092-ABA9-42E0-9452-F9B68E7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4DB1-1733-44E1-85AA-FF7D935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110-7897-40BA-8E4D-F36FC34B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A111-8122-4A78-B1F4-AA16E47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ED5-A540-41F5-8B47-8A0DC1E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3B78-D7D3-45A4-A182-FCE6DB5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C80-6DCB-417B-B32F-E9DCE68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680-04C4-4200-852A-CFE0823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D9FB-F5E1-49C1-A65B-853BC6A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DAB7-CCD2-49A2-B0BB-464FA3D4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7DD1-0490-4CD4-A911-1C18DA52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00120" y="1768320"/>
            <a:ext cx="1874880" cy="669960"/>
          </a:xfrm>
          <a:prstGeom prst="rect">
            <a:avLst/>
          </a:prstGeom>
          <a:solidFill>
            <a:srgbClr val="46464a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629080" y="17683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00120" y="26686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629080" y="26686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00120" y="3570120"/>
            <a:ext cx="1874880" cy="66996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2629080" y="35701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600120" y="44704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2629080" y="44704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00120" y="5372280"/>
            <a:ext cx="1874880" cy="6696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2629080" y="5372280"/>
            <a:ext cx="4628880" cy="669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9" name="Picture 1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1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-7920" y="17906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-6480" y="3619440"/>
            <a:ext cx="171468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429680" y="1790640"/>
            <a:ext cx="171432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7431120" y="36194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1677960" y="1790640"/>
            <a:ext cx="5772240" cy="3657600"/>
          </a:xfrm>
          <a:prstGeom prst="rect">
            <a:avLst/>
          </a:prstGeom>
          <a:solidFill>
            <a:srgbClr val="464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9"/>
          <p:cNvSpPr/>
          <p:nvPr/>
        </p:nvSpPr>
        <p:spPr>
          <a:xfrm>
            <a:off x="461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61AD-0078-46E4-94F9-CEC392240022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07C-079B-4540-936B-AF3E6BD7B784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" name="Picture 2" descr="50_London_MtgLogo_Apr2014_tsk-FS2-01.png"/>
          <p:cNvPicPr/>
          <p:nvPr/>
        </p:nvPicPr>
        <p:blipFill>
          <a:blip r:embed="rId2"/>
          <a:stretch/>
        </p:blipFill>
        <p:spPr>
          <a:xfrm>
            <a:off x="1828800" y="1473120"/>
            <a:ext cx="5473800" cy="3909960"/>
          </a:xfrm>
          <a:prstGeom prst="rect">
            <a:avLst/>
          </a:prstGeom>
          <a:ln w="0">
            <a:noFill/>
          </a:ln>
        </p:spPr>
      </p:pic>
      <p:sp>
        <p:nvSpPr>
          <p:cNvPr id="39" name="TextBox 3"/>
          <p:cNvSpPr/>
          <p:nvPr/>
        </p:nvSpPr>
        <p:spPr>
          <a:xfrm>
            <a:off x="384840" y="624852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Screen Shot 2014-05-12 at 10.25.23 AM.png"/>
          <p:cNvPicPr/>
          <p:nvPr/>
        </p:nvPicPr>
        <p:blipFill>
          <a:blip r:embed="rId3"/>
          <a:stretch/>
        </p:blipFill>
        <p:spPr>
          <a:xfrm>
            <a:off x="8001000" y="5851440"/>
            <a:ext cx="7747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2" descr="5615104_m.jpg"/>
          <p:cNvPicPr/>
          <p:nvPr/>
        </p:nvPicPr>
        <p:blipFill>
          <a:blip r:embed="rId2"/>
          <a:stretch/>
        </p:blipFill>
        <p:spPr>
          <a:xfrm>
            <a:off x="-123840" y="0"/>
            <a:ext cx="95076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52280"/>
            <a:ext cx="9144000" cy="182880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1160" y="5183280"/>
            <a:ext cx="4114800" cy="167472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, Tit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Presen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5" descr="ICANN_Logo_W.png"/>
          <p:cNvPicPr/>
          <p:nvPr/>
        </p:nvPicPr>
        <p:blipFill>
          <a:blip r:embed="rId3"/>
          <a:stretch/>
        </p:blipFill>
        <p:spPr>
          <a:xfrm>
            <a:off x="7924680" y="5867280"/>
            <a:ext cx="10861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9" name="Picture 2" descr="15898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3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" name="Picture 7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34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1924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0" y="-6480"/>
            <a:ext cx="6934320" cy="68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traight Connector 4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9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dcc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Picture 2" descr="16050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4" name="Picture 4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3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457200" y="8380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5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Picture 6" descr="50_London_MtgLogo_Apr2014_tsk-FS2-01.png"/>
          <p:cNvPicPr/>
          <p:nvPr/>
        </p:nvPicPr>
        <p:blipFill>
          <a:blip r:embed="rId4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45720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7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38" name="Straight Connector 5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 fontScale="97000"/>
          </a:bodyPr>
          <a:p>
            <a:pPr marL="128880" indent="0" algn="ctr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-GNSO Consultation Group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 Early Engagement in GNSO P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London Progress Re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2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(on Action 1) support to move ahead with this as it provides support for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currently sent by GNSO Secretariat to GAC Secretariat and/or GAC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n posted on the GAC website and GAC members no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may be (often?) lost in the multitude of emails GAC members rece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explored to go beyond a simple “heads 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 / 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survey for GAC members – input deadline 12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of surv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GAC members of existing opportunities to engage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GAC member views on timeliness and overall utility of existing mechanisms whilst aiming to develop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wareness / notifications to be further reviewed following results of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3 for ICANN5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the survey from GAC members in order to best inform the work of the Consultation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2 July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I (Team 2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early engagement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6 phases of the current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Sc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ocus on early phases 1 &amp;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AC is aware of all existing mechanisms available to provide input into the GNSO P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GAC to provide input in a timely / meaningful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/ when GAC decides to provide input, have a common understanding of what the potential impact of such input is (e.g. on the PDP timeline as well as WG/Council 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manageable and sustainable mechanism taking into account number of ongoing PDPs as well as desire for effective and timely poli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GNSO 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39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0" name="TextBox 5"/>
          <p:cNvSpPr/>
          <p:nvPr/>
        </p:nvSpPr>
        <p:spPr>
          <a:xfrm>
            <a:off x="22860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For further details, please se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1" name="Picture 4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3" name="Picture 6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45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6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TextBox 2"/>
          <p:cNvSpPr/>
          <p:nvPr/>
        </p:nvSpPr>
        <p:spPr>
          <a:xfrm>
            <a:off x="304920" y="41148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urrent foc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cludes request for / publication of preliminary Issue Report for public commen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8" name="Picture 5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0" name="Picture 7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1: Issue Scoping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y Committee can request an Issue Report (in addition to Board or GNSO Coun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Issue Report (drafted by Staff) published for public comment for at least 30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Report produced following public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ssue Report submitted to the GNSO Council (usually within 30 days after close of public comment f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2: Initiation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DP not initiated on issue requested by A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is to request reconsideration (not used to d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by GNSO Council; consideration usually at first meeting after submission of Final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afting Team is formed to develop charter for the PDP WG, call for volunteers (open to any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-GNSO Consultation Group (C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ress GAC early engagement in GNSO Policy Development Process (P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ngagement identified by both Accountability and Transparency Review Te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RT1 Rec. 12, ATRT2 Rec. 10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mmenced work Q1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ork tr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y-to-day co-ord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ith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7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8" name="Picture 9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Ideas being explore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utcome of survey to establish whether early PDP engagement communications are known /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‘Quick look’ mechanism; establish whether issue has potential public policy implications, flag as such at early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upport to allow GAC to provide timel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ny GAC positions / advice are included in the Preliminary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could consider creation of Triag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Looking ahea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Group to review input received in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pilot project for the Lia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approved by GNSO and 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u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velop recommendations for review, discussion and possible conclusion at the ICANN51 in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Material / Resource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Wiki providing full record of all the work of the Consultation Group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GNSO Consultation Group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all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ing note for Lond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 - Draft Requirements &amp; Proposed S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CG Membership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57200" y="1798560"/>
          <a:ext cx="8229600" cy="3932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N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nal Ismail, Eg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Jonathan Robinson,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Suzanne Radell,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Volker Greimann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na Neves, Portu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avid Cake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rk Carvell,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mr Elsadr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Gema Maria Campillos &amp; R. Perezga, Spain (2 reps alternat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Brian Winterfeldt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vri Doria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71520" y="2457360"/>
            <a:ext cx="7143840" cy="1943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/>
          </a:bodyPr>
          <a:p>
            <a:pPr marL="1332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estions &amp; 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 (Team 1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potential opportunities ident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rther develop early awareness &amp;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tilize existing GNSO Council PDP liaisons in interactions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ined initial focus on options A +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ointed by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- Outgoing Councilor or recently stepped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funding agreed for FY15 (i.e. starting ICANN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Working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ll GAC open meetings, be allowed to reque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losed meetings when discussing GNSO related topics and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onference call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GAC WG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 GAC mailing list but may send to it through the mailing list admin and receive replies by being c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1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to proceed with this option starting ICANN51 / L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of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Arial"/>
                <a:hlinkClick r:id="rId1"/>
              </a:rPr>
              <a:t>detailed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appointment and remov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Picture 5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f existing GNSO PDP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participate in GNSO WG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s in the different GNSO ongoing polic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eat on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upport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specialist knowledge is required, may interact directly with the GAC when necessary / desi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ling list of GNSO Council PDP WG liaisons could be created to flag certain items that should be brought to the attention of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calls could be scheduled between the GNSO Council PDP WG liaisons and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MR</dc:creator>
  <dc:description/>
  <dc:language>en-US</dc:language>
  <cp:lastModifiedBy>Jonathan Robinson</cp:lastModifiedBy>
  <dcterms:modified xsi:type="dcterms:W3CDTF">2014-06-19T21:42:41Z</dcterms:modified>
  <cp:revision>146</cp:revision>
  <dc:subject/>
  <dc:title>PowerPoint Presentation</dc:title>
</cp:coreProperties>
</file>