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13B5-A4AE-4917-A971-9E4882F1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047-22B9-4DC3-99B2-B7D7D04B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8FC9-1DEE-473B-95BE-FB4E77D5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D99-05A8-478A-8C6F-1C5DE662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9CBD-E95A-4810-968D-2922EE9B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F76-15EA-44E7-A862-87EC0670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5121-3D0C-4506-8651-32C08630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411E-BF9E-4838-BACA-F412701C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C6AE-47E9-40DD-B6D4-28D34B5D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C64A-2884-4504-A6E4-B6A7882C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93D0-BD0B-4C79-8AAF-93B5594F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FE8-CBD4-48D1-99AF-9B016F2B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51DA-4BE4-4FA6-973D-84AD5473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E2B2-18EE-4395-BEDC-0B602B7A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CE93-A62C-46D6-A5FB-4F308F3D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61C8-EE0B-4C3F-B494-E15E1A6B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9E48-E145-4EB4-869A-53675881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0977-2C43-4ACD-B8BA-0D4FE576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F5F4-C70F-45DC-A3F3-050AAE83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21B5-7C0E-498B-8800-BEE7FECE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9ECF-BD19-4796-AB26-16C8AB26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5FBA-5892-4887-9F43-F09020A7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56EE-925B-45D3-B6D8-647ED3BA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07E8-86A8-4719-80D8-28EB6DDC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0" y="3371760"/>
            <a:ext cx="9144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600120" y="1768320"/>
            <a:ext cx="1874880" cy="669960"/>
          </a:xfrm>
          <a:prstGeom prst="rect">
            <a:avLst/>
          </a:prstGeom>
          <a:solidFill>
            <a:srgbClr val="46464a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2629080" y="1768320"/>
            <a:ext cx="4628880" cy="66996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00120" y="2668680"/>
            <a:ext cx="1874880" cy="671400"/>
          </a:xfrm>
          <a:prstGeom prst="rect">
            <a:avLst/>
          </a:prstGeom>
          <a:solidFill>
            <a:srgbClr val="00334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2629080" y="2668680"/>
            <a:ext cx="4628880" cy="6714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600120" y="3570120"/>
            <a:ext cx="1874880" cy="669960"/>
          </a:xfrm>
          <a:prstGeom prst="rect">
            <a:avLst/>
          </a:prstGeom>
          <a:solidFill>
            <a:srgbClr val="00334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2629080" y="3570120"/>
            <a:ext cx="4628880" cy="66996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600120" y="4470480"/>
            <a:ext cx="1874880" cy="671400"/>
          </a:xfrm>
          <a:prstGeom prst="rect">
            <a:avLst/>
          </a:prstGeom>
          <a:solidFill>
            <a:srgbClr val="00334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2629080" y="4470480"/>
            <a:ext cx="4628880" cy="6714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00120" y="5372280"/>
            <a:ext cx="1874880" cy="669600"/>
          </a:xfrm>
          <a:prstGeom prst="rect">
            <a:avLst/>
          </a:prstGeom>
          <a:solidFill>
            <a:srgbClr val="00334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2629080" y="5372280"/>
            <a:ext cx="4628880" cy="6696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89" name="Picture 13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0" y="3371760"/>
            <a:ext cx="9144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9" name="Picture 3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430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8" name="Picture 2" descr="blue-gradient-abstract-hd-wallpaper-1920x1080-777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ICANN_Logo_W.png"/>
          <p:cNvPicPr/>
          <p:nvPr/>
        </p:nvPicPr>
        <p:blipFill>
          <a:blip r:embed="rId3"/>
          <a:stretch/>
        </p:blipFill>
        <p:spPr>
          <a:xfrm>
            <a:off x="8083440" y="6019920"/>
            <a:ext cx="831960" cy="645840"/>
          </a:xfrm>
          <a:prstGeom prst="rect">
            <a:avLst/>
          </a:prstGeom>
          <a:ln w="0">
            <a:noFill/>
          </a:ln>
        </p:spPr>
      </p:pic>
      <p:sp>
        <p:nvSpPr>
          <p:cNvPr id="470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3371760"/>
            <a:ext cx="9144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9" name="Picture 3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510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0" y="3371760"/>
            <a:ext cx="9144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-7920" y="1790640"/>
            <a:ext cx="1714320" cy="1828800"/>
          </a:xfrm>
          <a:prstGeom prst="rect">
            <a:avLst/>
          </a:prstGeom>
          <a:solidFill>
            <a:srgbClr val="46464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-6480" y="3619440"/>
            <a:ext cx="1714680" cy="1828800"/>
          </a:xfrm>
          <a:prstGeom prst="rect">
            <a:avLst/>
          </a:prstGeom>
          <a:solidFill>
            <a:srgbClr val="46464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7429680" y="1790640"/>
            <a:ext cx="1714320" cy="1828800"/>
          </a:xfrm>
          <a:prstGeom prst="rect">
            <a:avLst/>
          </a:prstGeom>
          <a:solidFill>
            <a:srgbClr val="46464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7431120" y="3619440"/>
            <a:ext cx="1714320" cy="1828800"/>
          </a:xfrm>
          <a:prstGeom prst="rect">
            <a:avLst/>
          </a:prstGeom>
          <a:solidFill>
            <a:srgbClr val="46464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1677960" y="1790640"/>
            <a:ext cx="5772240" cy="3657600"/>
          </a:xfrm>
          <a:prstGeom prst="rect">
            <a:avLst/>
          </a:prstGeom>
          <a:solidFill>
            <a:srgbClr val="464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4" name="Picture 8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555" name="TextBox 9"/>
          <p:cNvSpPr/>
          <p:nvPr/>
        </p:nvSpPr>
        <p:spPr>
          <a:xfrm>
            <a:off x="461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A51B-E1D3-486D-9345-54A8A02D2B4A}" type="slidenum">
              <a:rPr b="0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3242-8015-4A0A-AF85-F2A24F1CA846}" type="slidenum">
              <a:rPr b="0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8" name="Picture 2" descr="50_London_MtgLogo_Apr2014_tsk-FS2-01.png"/>
          <p:cNvPicPr/>
          <p:nvPr/>
        </p:nvPicPr>
        <p:blipFill>
          <a:blip r:embed="rId2"/>
          <a:stretch/>
        </p:blipFill>
        <p:spPr>
          <a:xfrm>
            <a:off x="1828800" y="1473120"/>
            <a:ext cx="5473800" cy="3909960"/>
          </a:xfrm>
          <a:prstGeom prst="rect">
            <a:avLst/>
          </a:prstGeom>
          <a:ln w="0">
            <a:noFill/>
          </a:ln>
        </p:spPr>
      </p:pic>
      <p:sp>
        <p:nvSpPr>
          <p:cNvPr id="39" name="TextBox 3"/>
          <p:cNvSpPr/>
          <p:nvPr/>
        </p:nvSpPr>
        <p:spPr>
          <a:xfrm>
            <a:off x="384840" y="624852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4" descr="Screen Shot 2014-05-12 at 10.25.23 AM.png"/>
          <p:cNvPicPr/>
          <p:nvPr/>
        </p:nvPicPr>
        <p:blipFill>
          <a:blip r:embed="rId3"/>
          <a:stretch/>
        </p:blipFill>
        <p:spPr>
          <a:xfrm>
            <a:off x="8001000" y="5851440"/>
            <a:ext cx="77472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2" descr="5615104_m.jpg"/>
          <p:cNvPicPr/>
          <p:nvPr/>
        </p:nvPicPr>
        <p:blipFill>
          <a:blip r:embed="rId2"/>
          <a:stretch/>
        </p:blipFill>
        <p:spPr>
          <a:xfrm>
            <a:off x="-123840" y="0"/>
            <a:ext cx="9507600" cy="70102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0" y="152280"/>
            <a:ext cx="9144000" cy="1828800"/>
          </a:xfrm>
          <a:prstGeom prst="rect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1160" y="5183280"/>
            <a:ext cx="4114800" cy="1674720"/>
          </a:xfrm>
          <a:prstGeom prst="rect">
            <a:avLst/>
          </a:prstGeom>
          <a:solidFill>
            <a:srgbClr val="0000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, Tit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e of Presen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1" name="Picture 5" descr="ICANN_Logo_W.png"/>
          <p:cNvPicPr/>
          <p:nvPr/>
        </p:nvPicPr>
        <p:blipFill>
          <a:blip r:embed="rId3"/>
          <a:stretch/>
        </p:blipFill>
        <p:spPr>
          <a:xfrm>
            <a:off x="7924680" y="5867280"/>
            <a:ext cx="108612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9" name="Picture 2" descr="158985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ICANN_Logo_W.png"/>
          <p:cNvPicPr/>
          <p:nvPr/>
        </p:nvPicPr>
        <p:blipFill>
          <a:blip r:embed="rId3"/>
          <a:stretch/>
        </p:blipFill>
        <p:spPr>
          <a:xfrm>
            <a:off x="8083440" y="6019920"/>
            <a:ext cx="831960" cy="6458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9360" y="2590920"/>
            <a:ext cx="9133200" cy="1676160"/>
          </a:xfrm>
          <a:prstGeom prst="rect">
            <a:avLst/>
          </a:prstGeom>
          <a:solidFill>
            <a:srgbClr val="0000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0" name="Picture 2" descr="blue-gradient-abstract-hd-wallpaper-1920x1080-777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Oval 3"/>
          <p:cNvSpPr/>
          <p:nvPr/>
        </p:nvSpPr>
        <p:spPr>
          <a:xfrm>
            <a:off x="8486640" y="3173400"/>
            <a:ext cx="784440" cy="779400"/>
          </a:xfrm>
          <a:prstGeom prst="ellipse">
            <a:avLst/>
          </a:prstGeom>
          <a:solidFill>
            <a:srgbClr val="e3dcc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8661240" y="3811680"/>
            <a:ext cx="965520" cy="934920"/>
          </a:xfrm>
          <a:prstGeom prst="ellipse">
            <a:avLst/>
          </a:prstGeom>
          <a:solidFill>
            <a:srgbClr val="a7b789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8429760" y="2181240"/>
            <a:ext cx="1250640" cy="1251000"/>
          </a:xfrm>
          <a:prstGeom prst="ellipse">
            <a:avLst/>
          </a:prstGeom>
          <a:solidFill>
            <a:srgbClr val="beae98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7893000" y="1571760"/>
            <a:ext cx="1251000" cy="1250640"/>
          </a:xfrm>
          <a:prstGeom prst="ellipse">
            <a:avLst/>
          </a:prstGeom>
          <a:solidFill>
            <a:srgbClr val="93da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5" name="Picture 7" descr="ICANN_Logo_W.png"/>
          <p:cNvPicPr/>
          <p:nvPr/>
        </p:nvPicPr>
        <p:blipFill>
          <a:blip r:embed="rId3"/>
          <a:stretch/>
        </p:blipFill>
        <p:spPr>
          <a:xfrm>
            <a:off x="8083440" y="6019920"/>
            <a:ext cx="831960" cy="645840"/>
          </a:xfrm>
          <a:prstGeom prst="rect">
            <a:avLst/>
          </a:prstGeom>
          <a:ln w="0">
            <a:noFill/>
          </a:ln>
        </p:spPr>
      </p:pic>
      <p:sp>
        <p:nvSpPr>
          <p:cNvPr id="166" name="TextBox 8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-23976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6280" indent="-23976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33480" indent="-23976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19240" indent="-23976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19240" indent="-239760">
              <a:spcBef>
                <a:spcPts val="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19240" indent="-239760">
              <a:spcBef>
                <a:spcPts val="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6" name="Picture 2" descr="blue-gradient-abstract-hd-wallpaper-1920x1080-777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0" y="-6480"/>
            <a:ext cx="6934320" cy="686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Straight Connector 4"/>
          <p:cNvSpPr/>
          <p:nvPr/>
        </p:nvSpPr>
        <p:spPr>
          <a:xfrm>
            <a:off x="542880" y="1143000"/>
            <a:ext cx="2114640" cy="0"/>
          </a:xfrm>
          <a:prstGeom prst="line">
            <a:avLst/>
          </a:prstGeom>
          <a:ln w="25560">
            <a:solidFill>
              <a:srgbClr val="6f6f74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8486640" y="3173400"/>
            <a:ext cx="784440" cy="779400"/>
          </a:xfrm>
          <a:prstGeom prst="ellipse">
            <a:avLst/>
          </a:prstGeom>
          <a:solidFill>
            <a:srgbClr val="e3dcc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6"/>
          <p:cNvSpPr/>
          <p:nvPr/>
        </p:nvSpPr>
        <p:spPr>
          <a:xfrm>
            <a:off x="8661240" y="3811680"/>
            <a:ext cx="965520" cy="934920"/>
          </a:xfrm>
          <a:prstGeom prst="ellipse">
            <a:avLst/>
          </a:prstGeom>
          <a:solidFill>
            <a:srgbClr val="a7b789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7"/>
          <p:cNvSpPr/>
          <p:nvPr/>
        </p:nvSpPr>
        <p:spPr>
          <a:xfrm>
            <a:off x="8429760" y="2181240"/>
            <a:ext cx="1250640" cy="1251000"/>
          </a:xfrm>
          <a:prstGeom prst="ellipse">
            <a:avLst/>
          </a:prstGeom>
          <a:solidFill>
            <a:srgbClr val="beae98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Oval 8"/>
          <p:cNvSpPr/>
          <p:nvPr/>
        </p:nvSpPr>
        <p:spPr>
          <a:xfrm>
            <a:off x="7893000" y="1571760"/>
            <a:ext cx="1251000" cy="1250640"/>
          </a:xfrm>
          <a:prstGeom prst="ellipse">
            <a:avLst/>
          </a:prstGeom>
          <a:solidFill>
            <a:srgbClr val="93da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3" name="Picture 9" descr="ICANN_Logo_W.png"/>
          <p:cNvPicPr/>
          <p:nvPr/>
        </p:nvPicPr>
        <p:blipFill>
          <a:blip r:embed="rId3"/>
          <a:stretch/>
        </p:blipFill>
        <p:spPr>
          <a:xfrm>
            <a:off x="8083440" y="6019920"/>
            <a:ext cx="831960" cy="64584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0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dccf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2" name="Picture 2" descr="160502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9360" y="2590920"/>
            <a:ext cx="9133200" cy="1676160"/>
          </a:xfrm>
          <a:prstGeom prst="rect">
            <a:avLst/>
          </a:prstGeom>
          <a:solidFill>
            <a:srgbClr val="0000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4" name="Picture 4" descr="ICANN_Logo_W.png"/>
          <p:cNvPicPr/>
          <p:nvPr/>
        </p:nvPicPr>
        <p:blipFill>
          <a:blip r:embed="rId3"/>
          <a:stretch/>
        </p:blipFill>
        <p:spPr>
          <a:xfrm>
            <a:off x="8083440" y="6019920"/>
            <a:ext cx="831960" cy="6458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5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3" name="Picture 2" descr="ICANN_Watermark_G_CMYK.png"/>
          <p:cNvPicPr/>
          <p:nvPr/>
        </p:nvPicPr>
        <p:blipFill>
          <a:blip r:embed="rId2"/>
          <a:stretch/>
        </p:blipFill>
        <p:spPr>
          <a:xfrm>
            <a:off x="1676520" y="1219320"/>
            <a:ext cx="5670360" cy="438156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3"/>
          <p:cNvSpPr/>
          <p:nvPr/>
        </p:nvSpPr>
        <p:spPr>
          <a:xfrm>
            <a:off x="457200" y="838080"/>
            <a:ext cx="7924680" cy="510552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5" name="Picture 4" descr="ICANN_Logo_B_RGB.png"/>
          <p:cNvPicPr/>
          <p:nvPr/>
        </p:nvPicPr>
        <p:blipFill>
          <a:blip r:embed="rId3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7" name="Picture 6" descr="50_London_MtgLogo_Apr2014_tsk-FS2-01.png"/>
          <p:cNvPicPr/>
          <p:nvPr/>
        </p:nvPicPr>
        <p:blipFill>
          <a:blip r:embed="rId4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35" name="Picture 2" descr="ICANN_Watermark_G_CMYK.png"/>
          <p:cNvPicPr/>
          <p:nvPr/>
        </p:nvPicPr>
        <p:blipFill>
          <a:blip r:embed="rId2"/>
          <a:stretch/>
        </p:blipFill>
        <p:spPr>
          <a:xfrm>
            <a:off x="1676520" y="1219320"/>
            <a:ext cx="5670360" cy="4381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3"/>
          <p:cNvSpPr/>
          <p:nvPr/>
        </p:nvSpPr>
        <p:spPr>
          <a:xfrm>
            <a:off x="457200" y="1066680"/>
            <a:ext cx="7924680" cy="510552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37" name="Picture 4" descr="ICANN_Logo_B_RGB.png"/>
          <p:cNvPicPr/>
          <p:nvPr/>
        </p:nvPicPr>
        <p:blipFill>
          <a:blip r:embed="rId3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338" name="Straight Connector 5"/>
          <p:cNvSpPr/>
          <p:nvPr/>
        </p:nvSpPr>
        <p:spPr>
          <a:xfrm>
            <a:off x="542880" y="1143000"/>
            <a:ext cx="2114640" cy="0"/>
          </a:xfrm>
          <a:prstGeom prst="line">
            <a:avLst/>
          </a:prstGeom>
          <a:ln w="25560">
            <a:solidFill>
              <a:srgbClr val="6f6f74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04920" y="1066680"/>
            <a:ext cx="7924680" cy="510552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community.icann.org/x/b6fhA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16383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rmAutofit fontScale="97000"/>
          </a:bodyPr>
          <a:p>
            <a:pPr marL="128880" indent="0" algn="ctr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Arial"/>
              </a:rPr>
              <a:t>GAC-GNSO Consultation Group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Arial"/>
              </a:rPr>
              <a:t>GAC Early Engagement in GNSO P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3200" algn="ctr">
              <a:lnSpc>
                <a:spcPct val="10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London Progress Rep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33200" algn="ctr">
              <a:lnSpc>
                <a:spcPct val="10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22/06/2014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F. GNSO Council PDP Liaisons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2 for ICANN50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to obtain GAC and GN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(on Action 1) support to move ahead with this as it provides support for the GNSO Liaison to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20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1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1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E. Early Awareness/Notifications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s currently sent by GNSO Secretariat to GAC Secretariat and/or GAC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then posted on the GAC website and GAC members no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s may be (often?) lost in the multitude of emails GAC members rece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s explored to go beyond a simple “heads u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feedback / input from the GAC is desirable in order to expand on this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0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E. Early Awareness / Notifications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line survey for GAC members – input deadline 12 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 of surv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 GAC members of existing opportunities to engage in GNSO 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GAC member views on timeliness and overall utility of existing mechanisms whilst aiming to develop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Awareness / notifications to be further reviewed following results of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2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E. Early Awareness/Notifications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3 for ICANN5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 in the survey from GAC members in order to best inform the work of the Consultation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12 July p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29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30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Work Track II (Team 2)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C early engagement in GNSO 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6 phases of the current GNSO 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Sco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cil Delib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focus on early phases 1 &amp;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3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3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Objective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-360" y="1294920"/>
            <a:ext cx="8991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GAC is aware of all existing mechanisms available to provide input into the GNSO PD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GAC to provide input in a timely / meaningful 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/ when GAC decides to provide input, have a common understanding of what the potential impact of such input is (e.g. on the PDP timeline as well as WG/Council respon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manageable and sustainable mechanism taking into account number of ongoing PDPs as well as desire for effective and timely policy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GNSO PDP Phases Diagram 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pic>
        <p:nvPicPr>
          <p:cNvPr id="739" name="Picture 3" descr="1v2.jpg"/>
          <p:cNvPicPr/>
          <p:nvPr/>
        </p:nvPicPr>
        <p:blipFill>
          <a:blip r:embed="rId1"/>
          <a:stretch/>
        </p:blipFill>
        <p:spPr>
          <a:xfrm>
            <a:off x="0" y="1611360"/>
            <a:ext cx="9144000" cy="5551560"/>
          </a:xfrm>
          <a:prstGeom prst="rect">
            <a:avLst/>
          </a:prstGeom>
          <a:ln w="9360">
            <a:solidFill>
              <a:srgbClr val="a7b789"/>
            </a:solidFill>
            <a:miter/>
          </a:ln>
        </p:spPr>
      </p:pic>
      <p:sp>
        <p:nvSpPr>
          <p:cNvPr id="740" name="TextBox 5"/>
          <p:cNvSpPr/>
          <p:nvPr/>
        </p:nvSpPr>
        <p:spPr>
          <a:xfrm>
            <a:off x="228600" y="5029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For further details, please se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 http://gnso.icann.org/en/basics/consensus-policy/pd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1" name="Picture 4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5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3" name="Picture 6" descr="50_London_MtgLogo_Apr2014_tsk-FS2-01.png"/>
          <p:cNvPicPr/>
          <p:nvPr/>
        </p:nvPicPr>
        <p:blipFill>
          <a:blip r:embed="rId3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PDP Phases Diagram 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pic>
        <p:nvPicPr>
          <p:cNvPr id="745" name="Picture 3" descr="1v2.jpg"/>
          <p:cNvPicPr/>
          <p:nvPr/>
        </p:nvPicPr>
        <p:blipFill>
          <a:blip r:embed="rId1"/>
          <a:stretch/>
        </p:blipFill>
        <p:spPr>
          <a:xfrm>
            <a:off x="0" y="1611360"/>
            <a:ext cx="9144000" cy="5551560"/>
          </a:xfrm>
          <a:prstGeom prst="rect">
            <a:avLst/>
          </a:prstGeom>
          <a:ln w="9360">
            <a:solidFill>
              <a:srgbClr val="a7b789"/>
            </a:solidFill>
            <a:miter/>
          </a:ln>
        </p:spPr>
      </p:pic>
      <p:sp>
        <p:nvSpPr>
          <p:cNvPr id="746" name="Frame 4"/>
          <p:cNvSpPr/>
          <p:nvPr/>
        </p:nvSpPr>
        <p:spPr>
          <a:xfrm>
            <a:off x="1366920" y="1668600"/>
            <a:ext cx="2595600" cy="1760400"/>
          </a:xfrm>
          <a:custGeom>
            <a:avLst/>
            <a:gdLst/>
            <a:ahLst/>
            <a:rect l="l" t="t" r="r" b="b"/>
            <a:pathLst>
              <a:path w="2595880" h="1760855">
                <a:moveTo>
                  <a:pt x="0" y="0"/>
                </a:moveTo>
                <a:lnTo>
                  <a:pt x="2595880" y="0"/>
                </a:lnTo>
                <a:lnTo>
                  <a:pt x="2595880" y="1760855"/>
                </a:lnTo>
                <a:lnTo>
                  <a:pt x="0" y="1760855"/>
                </a:lnTo>
                <a:lnTo>
                  <a:pt x="0" y="0"/>
                </a:lnTo>
                <a:close/>
                <a:moveTo>
                  <a:pt x="220107" y="220107"/>
                </a:moveTo>
                <a:lnTo>
                  <a:pt x="220107" y="1540748"/>
                </a:lnTo>
                <a:lnTo>
                  <a:pt x="2375773" y="1540748"/>
                </a:lnTo>
                <a:lnTo>
                  <a:pt x="2375773" y="220107"/>
                </a:lnTo>
                <a:lnTo>
                  <a:pt x="220107" y="22010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TextBox 2"/>
          <p:cNvSpPr/>
          <p:nvPr/>
        </p:nvSpPr>
        <p:spPr>
          <a:xfrm>
            <a:off x="304920" y="411480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urrent focu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cludes request for / publication of preliminary Issue Report for public comment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- GNSO Council consideration of whether to initiate a PDP and development of PDP Char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8" name="Picture 5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49" name="TextBox 6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0" name="Picture 7" descr="50_London_MtgLogo_Apr2014_tsk-FS2-01.png"/>
          <p:cNvPicPr/>
          <p:nvPr/>
        </p:nvPicPr>
        <p:blipFill>
          <a:blip r:embed="rId3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Phase 1: Issue Scoping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609120" y="12949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Engagemen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isory Committee can request an Issue Report (in addition to Board or GNSO Counc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Issue Report (drafted by Staff) published for public comment for at least 30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Report produced following public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Issue Report submitted to the GNSO Council (usually within 30 days after close of public comment for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20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5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Phase 2: Initiation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Engagement Opportun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DP not initiated on issue requested by AC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is to request reconsideration (not used to da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on by GNSO Council; consideration usually at first meeting after submission of Final Issu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er 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afting Team is formed to develop charter for the PDP WG, call for volunteers (open to any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59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60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Background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C-GNSO Consultation Group (C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ddress GAC early engagement in GNSO Policy Development Process (P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engagement identified by both Accountability and Transparency Review Tea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TRT1 Rec. 12, ATRT2 Rec. 10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commenced work Q1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ork tr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ay-to-day co-ordin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ith 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7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677" name="TextBox 8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8" name="Picture 9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Ideas being explored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0" y="1294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utcome of survey to establish whether early PDP engagement communications are known /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C ‘Quick look’ mechanism; establish whether issue has potential public policy implications, flag as such at early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support to allow GAC to provide timely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ny GAC positions / advice are included in the Preliminary Issu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C could consider creation of Triage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6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6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Looking ahead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ation Group to review input received in Lo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pilot project for the Liai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approved by GNSO and G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surve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develop recommendations for review, discussion and possible conclusion at the ICANN51 in Los Ang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69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70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Material / Resources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144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Wiki providing full record of all the work of the Consultation Group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C GNSO Consultation Group Ch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verall Work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efing note for Lond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rack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rack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SO Liaison to the GAC - Draft Requirements &amp; Proposed Selec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44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7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CG Membership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57200" y="1798560"/>
          <a:ext cx="8229600" cy="3932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GA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GN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Manal Ismail, Egy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Jonathan Robinson, Cha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Suzanne Radell, 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Volker Greimann, Vice Cha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Ana Neves, Portug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David Cake, Vice Cha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Mark Carvell, U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Amr Elsadr, Council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Gema Maria Campillos &amp; R. Perezga, Spain (2 reps alternat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Brian Winterfeldt, Council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Avri Doria, Council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371520" y="2457360"/>
            <a:ext cx="7143840" cy="19432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rmAutofit/>
          </a:bodyPr>
          <a:p>
            <a:pPr marL="133200"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Questions &amp; Discu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Work Track I (Team 1)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9120" indent="-2181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chanisms for day-to-day ongoing cooper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120" indent="-2181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 potential opportunities identif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68000">
              <a:lnSpc>
                <a:spcPct val="90000"/>
              </a:lnSpc>
              <a:spcBef>
                <a:spcPts val="1426"/>
              </a:spcBef>
              <a:buClr>
                <a:srgbClr val="ff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NSO Liaison(s) to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6800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 Chairs / GNSO Chairs regular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6800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ic Leads / Budd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6800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hinking recurring joint meetings / conference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68000">
              <a:lnSpc>
                <a:spcPct val="90000"/>
              </a:lnSpc>
              <a:spcBef>
                <a:spcPts val="1426"/>
              </a:spcBef>
              <a:buClr>
                <a:srgbClr val="ff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urther develop early awareness &amp; not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68000">
              <a:lnSpc>
                <a:spcPct val="90000"/>
              </a:lnSpc>
              <a:spcBef>
                <a:spcPts val="1426"/>
              </a:spcBef>
              <a:buClr>
                <a:srgbClr val="ff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Utilize existing GNSO Council PDP liaisons in interactions with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120" indent="-2181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fined initial focus on options A + F &amp; E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A. GNSO Liaison to the GAC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(T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SO Liaison to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ointed by the GNSO 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- Outgoing Councilor or recently stepped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as a pil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d after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 funding agreed for FY15 (i.e. starting ICANN 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68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8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A. GNSO Liaison to the GAC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684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ilities (T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end and participate in GAC mee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resent and communicate GNSO policy 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closely with GNSO Chair and Vice Chai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aise with ICANN policy staff in the preparation of briefing materials and/or responses to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aise with relevant working groups, utilizing GNSO Council liaisons where requ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regular updates to the GNSO Coun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ide the GAC in opportunities for early engag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ep the GAC updated on how its early input was considered by the GN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st in facilitating GAC-GNSO discussions in cases where GAC early input is in conflict with GNSO 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689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90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A. GNSO Liaison to the GAC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Working (T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 all GAC open meetings, be allowed to request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 GAC closed meetings when discussing GNSO related topics and be allowed to request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 GAC conference calls by invitation and accordingly be allowed to request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 GAC WGs by invitation and accordingly be allowed to request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on GAC mailing list but may send to it through the mailing list admin and receive replies by being cc’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69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9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A. GNSO Liaison to the GAC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1 for ICANN50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to obtain GAC and GN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al to proceed with this option starting ICANN51 / L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al of </a:t>
            </a:r>
            <a:r>
              <a:rPr b="0" lang="en-US" sz="2400" spc="-1" strike="noStrike" u="sng">
                <a:solidFill>
                  <a:srgbClr val="67aabf"/>
                </a:solidFill>
                <a:uFillTx/>
                <a:latin typeface="Arial"/>
                <a:hlinkClick r:id="rId1"/>
              </a:rPr>
              <a:t>detailed spec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ing appointment and removal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3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699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00" name="Picture 5" descr="50_London_MtgLogo_Apr2014_tsk-FS2-01.png"/>
          <p:cNvPicPr/>
          <p:nvPr/>
        </p:nvPicPr>
        <p:blipFill>
          <a:blip r:embed="rId3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F. GNSO Council PDP Liaisons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of existing GNSO PDP Lia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participate in GNSO WG delib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s in the different GNSO ongoing policy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seat on the GNSO 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upport the GNSO Liaison to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se specialist knowledge is required, may interact directly with the GAC when necessary / desi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0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0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F. GNSO Council PDP Liaisons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act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iling list of GNSO Council PDP WG liaisons could be created to flag certain items that should be brought to the attention of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calls could be scheduled between the GNSO Council PDP WG liaisons and the GNSO liaison to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09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10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MR</dc:creator>
  <dc:description/>
  <dc:language>en-US</dc:language>
  <cp:lastModifiedBy>Jonathan Robinson</cp:lastModifiedBy>
  <dcterms:modified xsi:type="dcterms:W3CDTF">2014-06-19T21:42:41Z</dcterms:modified>
  <cp:revision>146</cp:revision>
  <dc:subject/>
  <dc:title>PowerPoint Presentation</dc:title>
</cp:coreProperties>
</file>