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6E0-74EC-409A-BDD5-5E061A65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FB8-C123-49E6-AD6C-C1360C7B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B1F-B864-4B5D-A097-290E255D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FC6-2F4E-44F9-9497-FA3B8B70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95A-7860-4137-861A-19FF082E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489-6EB0-4372-9D41-BBDABCD0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72A-2009-4882-B7D7-226DED4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AC6-331C-4760-A6E0-977A4B51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603-1341-4064-912F-FC39FF1A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728-1ABA-4C1D-BE7D-1CE47AB1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E4F-34AA-43BE-B260-B1BD0D47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DFC-CE9A-48C8-B9E7-C58199E5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16A-3677-4AA9-8249-36FD1D49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0E5E-3EA0-4280-916F-5FC5C799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F935-968F-41E8-8236-33997249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8EB4-C27B-4E92-AB06-841FB507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68EF-97A7-40D3-BA2C-BA27ADCB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E094-9B9B-4720-9282-2DF24E1B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08E8-8FA3-4F1F-BC23-CEDF3BF8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8400-98DE-4692-A834-324FC449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16F3-7811-433D-BA28-1563214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F76F-8CCE-4FAB-B049-0C9B90BB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B11D-2391-44AA-856F-7C81E15E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07EE-C980-4F49-9B2A-773B7E0C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320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600120" y="1768320"/>
            <a:ext cx="1874880" cy="669960"/>
          </a:xfrm>
          <a:prstGeom prst="rect">
            <a:avLst/>
          </a:prstGeom>
          <a:solidFill>
            <a:srgbClr val="46464a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629080" y="1768320"/>
            <a:ext cx="4628880" cy="6699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00120" y="2668680"/>
            <a:ext cx="1874880" cy="67140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629080" y="2668680"/>
            <a:ext cx="4628880" cy="6714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600120" y="3570120"/>
            <a:ext cx="1874880" cy="66996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2629080" y="3570120"/>
            <a:ext cx="4628880" cy="6699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600120" y="4470480"/>
            <a:ext cx="1874880" cy="67140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2629080" y="4470480"/>
            <a:ext cx="4628880" cy="6714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00120" y="5372280"/>
            <a:ext cx="1874880" cy="669600"/>
          </a:xfrm>
          <a:prstGeom prst="rect">
            <a:avLst/>
          </a:prstGeom>
          <a:solidFill>
            <a:srgbClr val="00334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2629080" y="5372280"/>
            <a:ext cx="4628880" cy="6696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9" name="Picture 1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9" name="Picture 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430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8" name="Picture 2" descr="blue-gradient-abstract-hd-wallpaper-1920x1080-777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470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9" name="Picture 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510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0" y="3371760"/>
            <a:ext cx="9144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-7920" y="1790640"/>
            <a:ext cx="1714320" cy="1828800"/>
          </a:xfrm>
          <a:prstGeom prst="rect">
            <a:avLst/>
          </a:prstGeom>
          <a:solidFill>
            <a:srgbClr val="46464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-6480" y="3619440"/>
            <a:ext cx="1714680" cy="1828800"/>
          </a:xfrm>
          <a:prstGeom prst="rect">
            <a:avLst/>
          </a:prstGeom>
          <a:solidFill>
            <a:srgbClr val="46464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7429680" y="1790640"/>
            <a:ext cx="1714320" cy="1828800"/>
          </a:xfrm>
          <a:prstGeom prst="rect">
            <a:avLst/>
          </a:prstGeom>
          <a:solidFill>
            <a:srgbClr val="46464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7431120" y="3619440"/>
            <a:ext cx="1714320" cy="1828800"/>
          </a:xfrm>
          <a:prstGeom prst="rect">
            <a:avLst/>
          </a:prstGeom>
          <a:solidFill>
            <a:srgbClr val="46464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1677960" y="1790640"/>
            <a:ext cx="5772240" cy="3657600"/>
          </a:xfrm>
          <a:prstGeom prst="rect">
            <a:avLst/>
          </a:prstGeom>
          <a:solidFill>
            <a:srgbClr val="464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8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555" name="TextBox 9"/>
          <p:cNvSpPr/>
          <p:nvPr/>
        </p:nvSpPr>
        <p:spPr>
          <a:xfrm>
            <a:off x="461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B57F-1B15-4BE1-969A-D0BEE4CB6497}" type="slidenum"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08D9-02D3-4F5A-AC67-92F06EC5D640}" type="slidenum">
              <a:rPr b="0" lang="ar-EG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" name="Picture 2" descr="50_London_MtgLogo_Apr2014_tsk-FS2-01.png"/>
          <p:cNvPicPr/>
          <p:nvPr/>
        </p:nvPicPr>
        <p:blipFill>
          <a:blip r:embed="rId2"/>
          <a:stretch/>
        </p:blipFill>
        <p:spPr>
          <a:xfrm>
            <a:off x="1828800" y="1473120"/>
            <a:ext cx="5473800" cy="3909960"/>
          </a:xfrm>
          <a:prstGeom prst="rect">
            <a:avLst/>
          </a:prstGeom>
          <a:ln w="0">
            <a:noFill/>
          </a:ln>
        </p:spPr>
      </p:pic>
      <p:sp>
        <p:nvSpPr>
          <p:cNvPr id="39" name="TextBox 3"/>
          <p:cNvSpPr/>
          <p:nvPr/>
        </p:nvSpPr>
        <p:spPr>
          <a:xfrm>
            <a:off x="384840" y="624852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4" descr="Screen Shot 2014-05-12 at 10.25.23 AM.png"/>
          <p:cNvPicPr/>
          <p:nvPr/>
        </p:nvPicPr>
        <p:blipFill>
          <a:blip r:embed="rId3"/>
          <a:stretch/>
        </p:blipFill>
        <p:spPr>
          <a:xfrm>
            <a:off x="8001000" y="5851440"/>
            <a:ext cx="7747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2" descr="5615104_m.jpg"/>
          <p:cNvPicPr/>
          <p:nvPr/>
        </p:nvPicPr>
        <p:blipFill>
          <a:blip r:embed="rId2"/>
          <a:stretch/>
        </p:blipFill>
        <p:spPr>
          <a:xfrm>
            <a:off x="-123840" y="0"/>
            <a:ext cx="9507600" cy="7010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152280"/>
            <a:ext cx="9144000" cy="182880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1160" y="5183280"/>
            <a:ext cx="4114800" cy="167472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, Tit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 of Presen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" name="Picture 5" descr="ICANN_Logo_W.png"/>
          <p:cNvPicPr/>
          <p:nvPr/>
        </p:nvPicPr>
        <p:blipFill>
          <a:blip r:embed="rId3"/>
          <a:stretch/>
        </p:blipFill>
        <p:spPr>
          <a:xfrm>
            <a:off x="7924680" y="5867280"/>
            <a:ext cx="10861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9" name="Picture 2" descr="15898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0" name="Picture 2" descr="blue-gradient-abstract-hd-wallpaper-1920x1080-777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Oval 3"/>
          <p:cNvSpPr/>
          <p:nvPr/>
        </p:nvSpPr>
        <p:spPr>
          <a:xfrm>
            <a:off x="8486640" y="3173400"/>
            <a:ext cx="784440" cy="779400"/>
          </a:xfrm>
          <a:prstGeom prst="ellipse">
            <a:avLst/>
          </a:prstGeom>
          <a:solidFill>
            <a:srgbClr val="e3dcc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8661240" y="3811680"/>
            <a:ext cx="965520" cy="934920"/>
          </a:xfrm>
          <a:prstGeom prst="ellipse">
            <a:avLst/>
          </a:prstGeom>
          <a:solidFill>
            <a:srgbClr val="a7b78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8429760" y="2181240"/>
            <a:ext cx="1250640" cy="1251000"/>
          </a:xfrm>
          <a:prstGeom prst="ellipse">
            <a:avLst/>
          </a:prstGeom>
          <a:solidFill>
            <a:srgbClr val="beae98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7893000" y="1571760"/>
            <a:ext cx="1251000" cy="1250640"/>
          </a:xfrm>
          <a:prstGeom prst="ellipse">
            <a:avLst/>
          </a:prstGeom>
          <a:solidFill>
            <a:srgbClr val="93da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5" name="Picture 7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628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3348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1924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19240" indent="-239760"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19240" indent="-239760">
              <a:spcBef>
                <a:spcPts val="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6" name="Picture 2" descr="blue-gradient-abstract-hd-wallpaper-1920x1080-777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0" y="-6480"/>
            <a:ext cx="6934320" cy="68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Straight Connector 4"/>
          <p:cNvSpPr/>
          <p:nvPr/>
        </p:nvSpPr>
        <p:spPr>
          <a:xfrm>
            <a:off x="542880" y="1143000"/>
            <a:ext cx="2114640" cy="0"/>
          </a:xfrm>
          <a:prstGeom prst="line">
            <a:avLst/>
          </a:prstGeom>
          <a:ln w="25560">
            <a:solidFill>
              <a:srgbClr val="6f6f74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8486640" y="3173400"/>
            <a:ext cx="784440" cy="779400"/>
          </a:xfrm>
          <a:prstGeom prst="ellipse">
            <a:avLst/>
          </a:prstGeom>
          <a:solidFill>
            <a:srgbClr val="e3dcc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8661240" y="3811680"/>
            <a:ext cx="965520" cy="934920"/>
          </a:xfrm>
          <a:prstGeom prst="ellipse">
            <a:avLst/>
          </a:prstGeom>
          <a:solidFill>
            <a:srgbClr val="a7b78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8429760" y="2181240"/>
            <a:ext cx="1250640" cy="1251000"/>
          </a:xfrm>
          <a:prstGeom prst="ellipse">
            <a:avLst/>
          </a:prstGeom>
          <a:solidFill>
            <a:srgbClr val="beae98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Oval 8"/>
          <p:cNvSpPr/>
          <p:nvPr/>
        </p:nvSpPr>
        <p:spPr>
          <a:xfrm>
            <a:off x="7893000" y="1571760"/>
            <a:ext cx="1251000" cy="1250640"/>
          </a:xfrm>
          <a:prstGeom prst="ellipse">
            <a:avLst/>
          </a:prstGeom>
          <a:solidFill>
            <a:srgbClr val="93da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3" name="Picture 9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0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dcc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2" name="Picture 2" descr="16050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9360" y="2590920"/>
            <a:ext cx="9133200" cy="167616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4" name="Picture 4" descr="ICANN_Logo_W.png"/>
          <p:cNvPicPr/>
          <p:nvPr/>
        </p:nvPicPr>
        <p:blipFill>
          <a:blip r:embed="rId3"/>
          <a:stretch/>
        </p:blipFill>
        <p:spPr>
          <a:xfrm>
            <a:off x="8083440" y="6019920"/>
            <a:ext cx="831960" cy="6458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3" name="Picture 2" descr="ICANN_Watermark_G_CMYK.png"/>
          <p:cNvPicPr/>
          <p:nvPr/>
        </p:nvPicPr>
        <p:blipFill>
          <a:blip r:embed="rId2"/>
          <a:stretch/>
        </p:blipFill>
        <p:spPr>
          <a:xfrm>
            <a:off x="1676520" y="1219320"/>
            <a:ext cx="5670360" cy="43815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457200" y="838080"/>
            <a:ext cx="7924680" cy="51055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5" name="Picture 4" descr="ICANN_Logo_B_RGB.png"/>
          <p:cNvPicPr/>
          <p:nvPr/>
        </p:nvPicPr>
        <p:blipFill>
          <a:blip r:embed="rId3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97" name="Picture 6" descr="50_London_MtgLogo_Apr2014_tsk-FS2-01.png"/>
          <p:cNvPicPr/>
          <p:nvPr/>
        </p:nvPicPr>
        <p:blipFill>
          <a:blip r:embed="rId4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323640" y="635040"/>
            <a:ext cx="606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5" name="Picture 2" descr="ICANN_Watermark_G_CMYK.png"/>
          <p:cNvPicPr/>
          <p:nvPr/>
        </p:nvPicPr>
        <p:blipFill>
          <a:blip r:embed="rId2"/>
          <a:stretch/>
        </p:blipFill>
        <p:spPr>
          <a:xfrm>
            <a:off x="1676520" y="1219320"/>
            <a:ext cx="5670360" cy="4381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457200" y="1066680"/>
            <a:ext cx="7924680" cy="51055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7" name="Picture 4" descr="ICANN_Logo_B_RGB.png"/>
          <p:cNvPicPr/>
          <p:nvPr/>
        </p:nvPicPr>
        <p:blipFill>
          <a:blip r:embed="rId3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338" name="Straight Connector 5"/>
          <p:cNvSpPr/>
          <p:nvPr/>
        </p:nvSpPr>
        <p:spPr>
          <a:xfrm>
            <a:off x="542880" y="1143000"/>
            <a:ext cx="2114640" cy="0"/>
          </a:xfrm>
          <a:prstGeom prst="line">
            <a:avLst/>
          </a:prstGeom>
          <a:ln w="25560">
            <a:solidFill>
              <a:srgbClr val="6f6f74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04920" y="1066680"/>
            <a:ext cx="7924680" cy="510552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ommunity.icann.org/x/b6fhA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rmAutofit fontScale="97000"/>
          </a:bodyPr>
          <a:p>
            <a:pPr marL="128880" indent="0" algn="ctr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"/>
              </a:rPr>
              <a:t>GAC-GNSO Consultation Group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"/>
              </a:rPr>
              <a:t>GAC Early Engagement in GNSO P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ubtit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3200" algn="ctr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London Progress Rep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33200" algn="ctr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S PGothic"/>
              </a:rPr>
              <a:t>22/06/20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F. GNSO Council PDP Liais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2 for ICANN5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o obtain GAC and G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(on Action 1) support to move ahead with this as it provides support for the 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1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E. Early Awareness/Notificati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currently sent by GNSO Secretariat to GAC Secretariat and/or GAC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n posted on the GAC website and GAC members no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may be (often?) lost in the multitude of emails GAC members rece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 explored to go beyond a simple “heads u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feedback / input from the GAC is desirable in order to expand on thi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E. Early Awareness / Notificati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line survey for GAC members – input deadline 12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 of surv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GAC members of existing opportunities to engage in GNS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GAC member views on timeliness and overall utility of existing mechanisms whilst aiming to develop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Awareness / notifications to be further reviewed following results of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2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E. Early Awareness/Notificati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3 for ICANN5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the survey from GAC members in order to best inform the work of the Consultation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12 July p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2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Work Track II (Team 2)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early engagement in GNS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6 phases of the current GNSO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Sco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cil Delib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8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focus on early phases 1 &amp;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3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Objective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-360" y="12949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GAC is aware of all existing mechanisms available to provide input into the GNSO PD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GAC to provide input in a timely / meaningful 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/ when GAC decides to provide input, have a common understanding of what the potential impact of such input is (e.g. on the PDP timeline as well as WG/Council respo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manageable and sustainable mechanism taking into account number of ongoing PDPs as well as desire for effective and timely polic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GNSO PDP Phases Diagram 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pic>
        <p:nvPicPr>
          <p:cNvPr id="739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a7b789"/>
            </a:solidFill>
            <a:miter/>
          </a:ln>
        </p:spPr>
      </p:pic>
      <p:sp>
        <p:nvSpPr>
          <p:cNvPr id="740" name="TextBox 5"/>
          <p:cNvSpPr/>
          <p:nvPr/>
        </p:nvSpPr>
        <p:spPr>
          <a:xfrm>
            <a:off x="228600" y="5029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For further details, please se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http://gnso.icann.org/en/basics/consensus-policy/pd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1" name="Picture 4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5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3" name="Picture 6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PDP Phases Diagram 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pic>
        <p:nvPicPr>
          <p:cNvPr id="745" name="Picture 3" descr="1v2.jpg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5551560"/>
          </a:xfrm>
          <a:prstGeom prst="rect">
            <a:avLst/>
          </a:prstGeom>
          <a:ln w="9360">
            <a:solidFill>
              <a:srgbClr val="a7b789"/>
            </a:solidFill>
            <a:miter/>
          </a:ln>
        </p:spPr>
      </p:pic>
      <p:sp>
        <p:nvSpPr>
          <p:cNvPr id="746" name="Frame 4"/>
          <p:cNvSpPr/>
          <p:nvPr/>
        </p:nvSpPr>
        <p:spPr>
          <a:xfrm>
            <a:off x="1366920" y="1668600"/>
            <a:ext cx="2595600" cy="1760400"/>
          </a:xfrm>
          <a:custGeom>
            <a:avLst/>
            <a:gdLst/>
            <a:ahLst/>
            <a:rect l="l" t="t" r="r" b="b"/>
            <a:pathLst>
              <a:path w="2595880" h="1760855">
                <a:moveTo>
                  <a:pt x="0" y="0"/>
                </a:moveTo>
                <a:lnTo>
                  <a:pt x="2595880" y="0"/>
                </a:lnTo>
                <a:lnTo>
                  <a:pt x="2595880" y="1760855"/>
                </a:lnTo>
                <a:lnTo>
                  <a:pt x="0" y="1760855"/>
                </a:lnTo>
                <a:lnTo>
                  <a:pt x="0" y="0"/>
                </a:lnTo>
                <a:close/>
                <a:moveTo>
                  <a:pt x="220107" y="220107"/>
                </a:moveTo>
                <a:lnTo>
                  <a:pt x="220107" y="1540748"/>
                </a:lnTo>
                <a:lnTo>
                  <a:pt x="2375773" y="1540748"/>
                </a:lnTo>
                <a:lnTo>
                  <a:pt x="2375773" y="220107"/>
                </a:lnTo>
                <a:lnTo>
                  <a:pt x="220107" y="22010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TextBox 2"/>
          <p:cNvSpPr/>
          <p:nvPr/>
        </p:nvSpPr>
        <p:spPr>
          <a:xfrm>
            <a:off x="304920" y="41148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urrent foc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cludes request for / publication of preliminary Issue Report for public comment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- GNSO Council consideration of whether to initiate a PDP and development of PDP Char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8" name="Picture 5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49" name="TextBox 6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0" name="Picture 7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Phase 1: Issue Scoping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609120" y="12949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Engageme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y Committee can request an Issue Report (in addition to Board or GNSO Coun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Issue Report (drafted by Staff) published for public comment for at least 30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Report produced following public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ssue Report submitted to the GNSO Council (usually within 30 days after close of public comment fo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5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Phase 2: Initiation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Engagement 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DP not initiated on issue requested by A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is to request reconsideration (not used to d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on by GNSO Council; consideration usually at first meeting after submission of Final Issu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afting Team is formed to develop charter for the PDP WG, call for volunteers (open to any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5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-GNSO Consultation Group (C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ress GAC early engagement in GNSO Policy Development Process (P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engagement identified by both Accountability and Transparency Review Te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RT1 Rec. 12, ATRT2 Rec. 10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commenced work Q1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ork tr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ay-to-day co-ord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ith P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7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8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8" name="Picture 9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Ideas being explored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utcome of survey to establish whether early PDP engagement communications are known /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‘Quick look’ mechanism; establish whether issue has potential public policy implications, flag as such at early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support to allow GAC to provide timely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ny GAC positions / advice are included in the Preliminary Issu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could consider creation of Triag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6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Looking ahead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tion Group to review input received in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pilot project for the Liai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approved by GNSO and G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urve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239760"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evelop recommendations for review, discussion and possible conclusion at the ICANN51 in 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6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Material / Resource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144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Wiki providing full record of all the work of the Consultation Group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C GNSO Consultation Group 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all Work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efing note for Lond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rack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rack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Liaison to the GAC - Draft Requirements &amp; Proposed S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440" indent="-2325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CG Membership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57200" y="1798560"/>
          <a:ext cx="8229600" cy="3932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GA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N W3"/>
                        </a:rPr>
                        <a:t>GN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f6f7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anal Ismail, Egy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80880"/>
                          <a:tab algn="l" pos="571680"/>
                          <a:tab algn="l" pos="762120"/>
                          <a:tab algn="l" pos="952560"/>
                          <a:tab algn="l" pos="1143000"/>
                          <a:tab algn="l" pos="1333440"/>
                          <a:tab algn="l" pos="1523880"/>
                          <a:tab algn="l" pos="1714680"/>
                          <a:tab algn="l" pos="1905120"/>
                          <a:tab algn="l" pos="2095560"/>
                          <a:tab algn="l" pos="2286000"/>
                          <a:tab algn="l" pos="2476440"/>
                          <a:tab algn="l" pos="2666880"/>
                          <a:tab algn="l" pos="2857680"/>
                          <a:tab algn="l" pos="3048120"/>
                          <a:tab algn="l" pos="3238560"/>
                          <a:tab algn="l" pos="3429000"/>
                          <a:tab algn="l" pos="3619440"/>
                          <a:tab algn="l" pos="380988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Jonathan Robinson, 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Suzanne Radell,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Volker Greimann, Vice 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na Neves, Portu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David Cake, Vice Cha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Mark Carvell, 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mr Elsadr, Council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Gema Maria Campillos &amp; R. Perezga, Spain (2 reps alternat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Brian Winterfeldt, Council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d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N W3"/>
                        </a:rPr>
                        <a:t>Avri Doria, Council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371520" y="2457360"/>
            <a:ext cx="7143840" cy="1943280"/>
          </a:xfrm>
          <a:prstGeom prst="rect">
            <a:avLst/>
          </a:prstGeom>
          <a:noFill/>
          <a:ln w="0">
            <a:noFill/>
          </a:ln>
        </p:spPr>
        <p:txBody>
          <a:bodyPr lIns="38520" rIns="38520" tIns="19080" bIns="19080" anchor="ctr">
            <a:normAutofit/>
          </a:bodyPr>
          <a:p>
            <a:pPr marL="1332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Questions &amp; Discu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Work Track I (Team 1)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9120" indent="-2181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chanisms for day-to-day ongoing coope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120" indent="-2181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 potential opportunities ident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ff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NSO Liaison(s)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C Chairs / GNSO Chairs regular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ic Leads / Budd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hinking recurring joint meetings / conferenc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ff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urther develop early awareness &amp;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68000">
              <a:lnSpc>
                <a:spcPct val="90000"/>
              </a:lnSpc>
              <a:spcBef>
                <a:spcPts val="1426"/>
              </a:spcBef>
              <a:buClr>
                <a:srgbClr val="ff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tilize existing GNSO Council PDP liaisons in interactions with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120" indent="-2181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fined initial focus on options A + F &amp; 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(T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ointed by the GNSO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- Outgoing Councilor or recently stepped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pi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d afte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funding agreed for FY15 (i.e. starting ICANN 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8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ilities (T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 and participate in GAC mee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resent and communicate GNSO policy wor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closely with GNSO Chair and Vice Cha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aise with ICANN policy staff in the preparation of briefing materials and/or responses to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aise with relevant working groups, utilizing GNSO Council liaisons where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regular updates to the GNSO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 the GAC in opportunities for early eng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the GAC updated on how its early input was considered by the GN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 in facilitating GAC-GNSO discussions in cases where GAC early input is in conflict with GNSO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8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Working (T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all GAC open meetings, be allowed to request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GAC closed meetings when discussing GNSO related topics and be allowed to request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GAC conference calls by invitation and accordingly be allowed to request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GAC WGs by invitation and accordingly be allowed to request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26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 GAC mailing list but may send to it through the mailing list admin and receive replies by being cc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9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A. GNSO Liaison to the GAC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200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1 for ICANN5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o obtain GAC and G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to proceed with this option starting ICANN51 / L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9760">
              <a:spcBef>
                <a:spcPts val="1426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of </a:t>
            </a:r>
            <a:r>
              <a:rPr b="0" lang="en-US" sz="2400" spc="-1" strike="noStrike" u="sng">
                <a:solidFill>
                  <a:srgbClr val="67aabf"/>
                </a:solidFill>
                <a:uFillTx/>
                <a:latin typeface="Arial"/>
                <a:hlinkClick r:id="rId1"/>
              </a:rPr>
              <a:t>detailed spec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 appointment and remova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3" descr="ICANN_Logo_B_RGB.png"/>
          <p:cNvPicPr/>
          <p:nvPr/>
        </p:nvPicPr>
        <p:blipFill>
          <a:blip r:embed="rId2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69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0" name="Picture 5" descr="50_London_MtgLogo_Apr2014_tsk-FS2-01.png"/>
          <p:cNvPicPr/>
          <p:nvPr/>
        </p:nvPicPr>
        <p:blipFill>
          <a:blip r:embed="rId3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F. GNSO Council PDP Liais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of existing GNSO PDP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participate in GNSO WG delib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s in the different GNSO ongoing polic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seat on the GNSO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upport the 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se specialist knowledge is required, may interact directly with the GAC when necessary / desi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04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5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8ac7"/>
                </a:solidFill>
                <a:latin typeface="Calibri"/>
              </a:rPr>
              <a:t>F. GNSO Council PDP Liaisons</a:t>
            </a:r>
            <a:endParaRPr b="0" lang="en-US" sz="2800" spc="-1" strike="noStrike">
              <a:solidFill>
                <a:srgbClr val="1a8ac7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ling list of GNSO Council PDP WG liaisons could be created to flag certain items that should be brought to the attention of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calls could be scheduled between the GNSO Council PDP WG liaisons and the GNSO liaison to the G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" descr="ICANN_Logo_B_RGB.png"/>
          <p:cNvPicPr/>
          <p:nvPr/>
        </p:nvPicPr>
        <p:blipFill>
          <a:blip r:embed="rId1"/>
          <a:stretch/>
        </p:blipFill>
        <p:spPr>
          <a:xfrm>
            <a:off x="8082000" y="6019920"/>
            <a:ext cx="828720" cy="649080"/>
          </a:xfrm>
          <a:prstGeom prst="rect">
            <a:avLst/>
          </a:prstGeom>
          <a:ln w="0">
            <a:noFill/>
          </a:ln>
        </p:spPr>
      </p:pic>
      <p:sp>
        <p:nvSpPr>
          <p:cNvPr id="709" name="TextBox 4"/>
          <p:cNvSpPr/>
          <p:nvPr/>
        </p:nvSpPr>
        <p:spPr>
          <a:xfrm>
            <a:off x="569160" y="6324480"/>
            <a:ext cx="129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520" rIns="38520" tIns="19080" bIns="19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bc0"/>
                </a:solidFill>
                <a:latin typeface="Arial"/>
                <a:ea typeface="Arial"/>
              </a:rPr>
              <a:t>#ICANN5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0" name="Picture 5" descr="50_London_MtgLogo_Apr2014_tsk-FS2-01.png"/>
          <p:cNvPicPr/>
          <p:nvPr/>
        </p:nvPicPr>
        <p:blipFill>
          <a:blip r:embed="rId2"/>
          <a:stretch/>
        </p:blipFill>
        <p:spPr>
          <a:xfrm>
            <a:off x="6400800" y="5765760"/>
            <a:ext cx="1511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MR</dc:creator>
  <dc:description/>
  <dc:language>en-US</dc:language>
  <cp:lastModifiedBy>Jonathan Robinson</cp:lastModifiedBy>
  <dcterms:modified xsi:type="dcterms:W3CDTF">2014-06-19T21:42:41Z</dcterms:modified>
  <cp:revision>146</cp:revision>
  <dc:subject/>
  <dc:title>PowerPoint Presentation</dc:title>
</cp:coreProperties>
</file>