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432A-BB07-4904-AEEA-BEE23263EB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7709-0962-4E26-A721-6534FDA3B26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3CF-913D-40DF-954C-6153276F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2EB-58D4-4DBF-9692-8CD0856D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BF9-1AB2-4361-868F-88C424BA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DA0-F68B-4CE6-AE1E-95C4E114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373-F068-48C8-ACC2-C25B12AC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F53-7E34-49CA-BE77-9F83B22D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F3C-92A9-42A5-AB71-21D61986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077-7E17-4C29-A1E6-E9FBBE14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BDE-1CF4-4466-89DF-B47BAC85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026-602A-47C1-9400-A6776404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B6A-9A21-4F97-B8AE-F8B31421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D120-89F9-4866-A447-A8CA4EE2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547C-3541-4B1A-AB6A-6A2703798B6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AC-GNSO Consultation Group</a:t>
            </a:r>
            <a:br>
              <a:rPr sz="32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AC Early Engagement in GNSO P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 Angeles Progress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 October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. Rethinking Recurring Joint Meet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y ahead of time topics of mutual intere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updates on status of PDP WGs ahead of time (e.g. webinar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cus meetings on identified questions / concer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are identified questions / concerns with GNSO liaison in advance to facilitate f2f meeting discus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vite GNSO topic leads as necess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new members with short overviews (for example one-pag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. Rethinking Recurring Joint Meet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ction 3 for ICANN5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 feedback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ggested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Early Awareness/Not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of on-line survey for GAC members =&gt; 29 respo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sms evaluated, in terms of awareness, usefulness and suggestions for improve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y Update 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th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 Early Engagement Policy Documents 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nth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y Update Webinar (takes place prior to every ICANN meeting) 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 times/ye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s for input from GNSO PDP Working Groups – ongoing b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ion in GNSO Working Groups – ongoing b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nouncements from GNSO Secretariat – ongoing b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NSO Background Briefings (e.g.) 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sued just prior to each ICANN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Early Awareness/Not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mentioned in the survey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ume of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simultaneous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both understanding and/or ability to participate in GNSO work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of GNSO working group meetings (some twice a week for months, others every two weeks) makes it difficult for bureaucrats to 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Early Awareness/Not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ggestions mentioned in the survey includ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ligh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ublic Poli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pect of a given 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e relationship between a policy initiative and existing GAC ad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frequent policy upd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engagement with and follow-up with the GAC, GAC Executive and Secretari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clear what stage the GNSO work is in, which relates to the issue of knowing when/how to contribu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r feedback on outcome of PDP process, including a summary of previous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inter-committee 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Early Awareness/Not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ggestions mentioned in the survey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home page quick link directly to "Main Policy Activities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lighting policy activities which require liaison with and significant inputs from the GAC and expected potential degree of interest - e.g. GAC should be aware / discussion with GAC expected / requires GAC public policy inp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AC website mirror this description of cross-community policy interest and provide links to the GNSO summa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. Early Awareness/Not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ction 4 for ICANN5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 feedback on / approval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Track II (Team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6 phases of the current GNSO P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 Sco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a6a6a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alibri"/>
              </a:rPr>
              <a:t>Working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a6a6a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alibri"/>
              </a:rPr>
              <a:t>Council Delib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a6a6a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alibri"/>
              </a:rPr>
              <a:t>Board V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700"/>
              </a:spcBef>
              <a:buClr>
                <a:srgbClr val="a6a6a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alibri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 focu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ar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hases i.e. 1 &amp; 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 Scoping – Existing &amp; Possible new Engagement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80880" y="1154160"/>
            <a:ext cx="82296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as being explo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amlining and prioritizing early awareness &amp; no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 ‘Quick look’ mechanism; establish whether issue has potential public policy implications, flag as such at early s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support to allow GAC to provide timely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any GAC positions / advice are included in the Preliminary Issu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 could consider creation of Triage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ork Track 1 – Regular Interac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ludes GNSO Liaison to the G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ork Track 2 – Engagement with GNSO P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Awareness &amp; Notification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ludes output from Survey of G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A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Questions &amp;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ah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ation Group to review input received in Los Angel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pen F2F meeting from 18h30 – 19h30 in Constellatio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implementation of pilot project for the GNSO Liaison to the G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 recommendations for other items aiming to present for GAC / GNSO review / approval at ICANN 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&amp;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AC-GNSO Consultation Group (C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address GAC early engagement in GNSO Policy Development Process (PD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ly engagement identified by both Accountability and Transparency Review Team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TRT1 Rec. 12, ATRT2 Rec. 10.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commenced work Q1 20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work track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Day-to-day co-ordinati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PDP engag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 Track I (Team 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sms for day-to-day ongoing coop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recommendation implemented as pilot project for FY2015: GNSO Liaison to the G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is now 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/ GNSO Chairs regular inte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hinking recurring joint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awareness &amp; no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Liaison to the G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on Cole appointed as GNSO liaison to the G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lot implemented for one year starting ICANN 51 LA mee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on mechanism evaluated after one ye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lace Holder f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 couple of slides by M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Liaison to the G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ction 1 for ICANN5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mutual understanding of role of GNSO liaison to the G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 feedback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portunities provided by having a GNSO liaison to the G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. GAC/GNSO Chairs Regular Intera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approach: Regular calls between GAC and GNSO Chairs, as well as GNSO liaison as appropri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deemed necessary, regular calls may includ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vice chai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topic l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NSO issue/PDP l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. GAC/GNSO Chairs Regular Intera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ction 2 for ICANN5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 feedback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ggested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ggested frequency of cal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59:38Z</dcterms:created>
  <dc:creator>MANAL</dc:creator>
  <dc:description/>
  <dc:language>en-US</dc:language>
  <cp:lastModifiedBy>Jonathan Robinson</cp:lastModifiedBy>
  <dcterms:modified xsi:type="dcterms:W3CDTF">2014-10-07T11:10:49Z</dcterms:modified>
  <cp:revision>35</cp:revision>
  <dc:subject/>
  <dc:title>GAC-GNSO Consultation Group On  GAC Early Engagement in GNSO PDP</dc:title>
</cp:coreProperties>
</file>