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7B8CB-AAF1-4476-8E49-98D180869BE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17DB8-48B2-49F8-AF65-81E8D119653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EB04-A0BD-4F7D-851C-27DE0A83A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1841-77C6-422D-90A1-876AEB2C8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29FF-122A-444C-8DDB-ABB109D3A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BBC5-3A0F-4BBA-B224-B7D367160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7172-D58F-41BB-825F-E47F327E4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F4E4-56E2-447F-9598-9624D9E4D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5D9F-3003-4843-A330-818BDEC66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FC16-CCE2-4353-9B4B-DAE5BC836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F341-D30D-48DA-99EA-2BE89A31D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C5C2-4DA5-44BC-910D-2E831C67D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1F83-9717-4751-81F5-65F04812B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7DAB-B4F5-4BEF-A6A4-FCE5E4A6A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1AC9A-ECDD-4E94-B214-6BCE7F4A5F0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GAC-GNSO Consultation Group</a:t>
            </a:r>
            <a:br>
              <a:rPr sz="3200"/>
            </a:b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Arial"/>
              </a:rPr>
              <a:t>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GAC Early Engagement in GNSO PD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s Angeles Progress Re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2 October 201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. Rethinking Recurring Joint Meeting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dentify ahead of time topics of mutual interes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rovide updates on status of PDP WGs ahead of time (e.g. webinar?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cus meetings on identified questions / concern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hare identified questions / concerns with GNSO liaison in advance to facilitate f2f meeting discuss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vite GNSO topic leads as necessar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rovide new members with short overviews (for example one-pager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. Rethinking Recurring Joint Meeting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Action 3 for ICANN51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ek to obtain GAC and GNSO feedback 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uggested approa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. Early Awareness/Notific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ults of on-line survey for GAC members =&gt; 29 respon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chanisms evaluated, in terms of awareness, usefulness and suggestions for improvement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licy Update –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onthl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AC Early Engagement Policy Documents –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onthl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licy Update Webinar (takes place prior to every ICANN meeting) –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 times/yea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quests for input from GNSO PDP Working Groups – ongoing ba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ticipation in GNSO Working Groups – ongoing ba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nouncements from GNSO Secretariat – ongoing ba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NSO Background Briefings (e.g.) –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ssued just prior to each ICANN mee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. Early Awareness/Notific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llenges mentioned in the survey includ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olume of activ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umber of simultaneous PD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imel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ck of both understanding and/or ability to participate in GNSO working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equency of GNSO working group meetings (some twice a week for months, others every two weeks) makes it difficult for bureaucrats to particip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. Early Awareness/Notific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uggestions mentioned in the survey include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ighligh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ublic Polic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spect of a given iss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icate relationship between a policy initiative and existing GAC adv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re frequent policy upda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rect engagement with and follow-up with the GAC, GAC Executive and Secretari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ke clear what stage the GNSO work is in, which relates to the issue of knowing when/how to contribut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gular feedback on outcome of PDP process, including a summary of previous proce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re inter-committee relationshi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. Early Awareness/Notific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uggestions mentioned in the survey includ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 home page quick link directly to "Main Policy Activities</a:t>
            </a:r>
            <a:r>
              <a:rPr b="0" lang="ja-JP" sz="2600" spc="-1" strike="noStrike">
                <a:solidFill>
                  <a:srgbClr val="000000"/>
                </a:solidFill>
                <a:latin typeface="Calibri"/>
              </a:rPr>
              <a:t>“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ighlighting policy activities which require liaison with and significant inputs from the GAC and expected potential degree of interest - e.g. GAC should be aware / discussion with GAC expected / requires GAC public policy inp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AC website mirror this description of cross-community policy interest and provide links to the GNSO summar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. Early Awareness/Notific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Action 4 for ICANN51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ek to obtain GAC and GNSO feedback on / approval f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rk Track II (Team 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C early engagement in GNSO PD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ok at 6 phases of the current GNSO PD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sue Sco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it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80000"/>
              </a:lnSpc>
              <a:spcBef>
                <a:spcPts val="700"/>
              </a:spcBef>
              <a:buClr>
                <a:srgbClr val="a6a6a6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a6a6"/>
                </a:solidFill>
                <a:latin typeface="Calibri"/>
              </a:rPr>
              <a:t>Working Gro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80000"/>
              </a:lnSpc>
              <a:spcBef>
                <a:spcPts val="700"/>
              </a:spcBef>
              <a:buClr>
                <a:srgbClr val="a6a6a6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a6a6"/>
                </a:solidFill>
                <a:latin typeface="Calibri"/>
              </a:rPr>
              <a:t>Council Delib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80000"/>
              </a:lnSpc>
              <a:spcBef>
                <a:spcPts val="700"/>
              </a:spcBef>
              <a:buClr>
                <a:srgbClr val="a6a6a6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a6a6"/>
                </a:solidFill>
                <a:latin typeface="Calibri"/>
              </a:rPr>
              <a:t>Board Vo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80000"/>
              </a:lnSpc>
              <a:spcBef>
                <a:spcPts val="700"/>
              </a:spcBef>
              <a:buClr>
                <a:srgbClr val="a6a6a6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a6a6"/>
                </a:solidFill>
                <a:latin typeface="Calibri"/>
              </a:rPr>
              <a:t>Imple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itial focus o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earl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hases i.e. 1 &amp; 2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sue Scoping – Existing &amp; Possible new Engagement Opportun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380880" y="1154160"/>
            <a:ext cx="82296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as being explor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6840" y="121932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eamlining and prioritizing early awareness &amp; notif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C ‘Quick look’ mechanism; establish whether issue has potential public policy implications, flag as such at early st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itional support to allow GAC to provide timely inp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sure that any GAC positions / advice are included in the Preliminary Issue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C could consider creation of Triage committe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ork Track 1 – Regular Interaction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cludes GNSO Liaison to the GA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ork Track 2 – Engagement with GNSO PD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arly Awareness &amp; Notifications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cludes output from Survey of GA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ook Ah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Questions &amp; Discus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oking ahe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ultation Group to review input received in Los Angel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Open F2F meeting from 18h30 – 19h30 in Constellation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e implementation of pilot project for the GNSO Liaison to the GA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ther develop recommendations for other items aiming to present for GAC / GNSO review / approval at ICANN 5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estions &amp; Discu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2960" indent="-239760">
              <a:lnSpc>
                <a:spcPct val="80000"/>
              </a:lnSpc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AC-GNSO Consultation Group (CG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72960" indent="-239760">
              <a:lnSpc>
                <a:spcPct val="80000"/>
              </a:lnSpc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o address GAC early engagement in GNSO Policy Development Process (PDP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72960" indent="-239760">
              <a:lnSpc>
                <a:spcPct val="80000"/>
              </a:lnSpc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arly engagement identified by both Accountability and Transparency Review Teams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ATRT1 Rec. 12, ATRT2 Rec. 10.2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72960" indent="-239760">
              <a:lnSpc>
                <a:spcPct val="80000"/>
              </a:lnSpc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roup commenced work Q1 2014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72960" indent="-239760">
              <a:lnSpc>
                <a:spcPct val="80000"/>
              </a:lnSpc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wo work tracks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Day-to-day co-ordination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PDP engage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rk Track I (Team 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chanisms for day-to-day ongoing coope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rst recommendation implemented as pilot project for FY2015: GNSO Liaison to the GA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cus is now 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C / GNSO Chairs regular intera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thinking recurring joint meet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rly awareness &amp; notif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NSO Liaison to the GA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on Cole appointed as GNSO liaison to the GA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lot implemented for one year starting ICANN 51 LA meet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ordination mechanism evaluated after one yea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Place Holder f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A couple of slides by Ma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NSO Liaison to the GA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Action 1 for ICANN5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sure mutual understanding of role of GNSO liaison to the GA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ek to obtain GAC and GNSO feedback 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portunities provided by having a GNSO liaison to the GA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. GAC/GNSO Chairs Regular Interac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posed approach: Regular calls between GAC and GNSO Chairs, as well as GNSO liaison as appropria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 deemed necessary, regular calls may includ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C vice chair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C topic le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NSO issue/PDP le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. GAC/GNSO Chairs Regular Interac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Action 2 for ICANN51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ek to obtain GAC and GNSO feedback 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uggested approa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ggested frequency of call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01T16:59:38Z</dcterms:created>
  <dc:creator>MANAL</dc:creator>
  <dc:description/>
  <dc:language>en-US</dc:language>
  <cp:lastModifiedBy>Jonathan Robinson</cp:lastModifiedBy>
  <dcterms:modified xsi:type="dcterms:W3CDTF">2014-10-07T11:10:49Z</dcterms:modified>
  <cp:revision>35</cp:revision>
  <dc:subject/>
  <dc:title>GAC-GNSO Consultation Group On  GAC Early Engagement in GNSO PDP</dc:title>
</cp:coreProperties>
</file>