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E7EB-253D-4262-8729-2FAC52F143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1520-DECA-4CC6-AAC7-DCEA7A8FBD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02A-BCCF-4FDF-8DA7-2B21AE85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8AC-2C56-4F03-A756-8B64EF06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F68-72E2-4F09-9001-7B2B6259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9C8-4E54-4D0F-8E7D-64CCA8D2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653-5A0E-40CD-9942-2FE0445A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C53-B350-4AC4-851B-699E9CE0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54E-5F69-479D-89F6-1A3568E4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621-583C-4DDB-87C0-7A5398F4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0E4-2AE2-4735-88BD-0EC631F3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2A0-45D3-48CE-81F1-F75793C5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4D5-1459-498E-89C5-D462C349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2EB-A461-4D5D-840F-1B50258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E803-D646-42FE-834B-85667AFA2B4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AC-GNSO Consultation Group</a:t>
            </a:r>
            <a:br>
              <a:rPr sz="32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AC Early Engagement in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 Angeles Progres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 October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Rethinking Recurring Joint 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head of time topics of mutual inter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updates on status of PDP WGs ahead of time (e.g. webinar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cus meetings on identified questions / concer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re identified questions / concerns with GNSO liaison in advance to facilitate f2f meeting discus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vite GNSO topic leads as necess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new members with short overviews (for example one-pag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Rethinking Recurring Joint 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3 for ICANN5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ggest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of on-line survey for GAC members =&gt; 29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sms evaluated, in terms of awareness, usefulness and suggestions for improve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Update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th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 Early Engagement Policy Documents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th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Update Webinar (takes place prior to every ICANN meeting)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 times/ye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s for input from GNSO PDP Working Groups – ongoing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ion in GNSO Working Groups – ongoing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ouncements from GNSO Secretariat – ongoing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NSO Background Briefings (e.g.)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sued just prior to each ICANN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mentioned in the survey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 of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simultaneous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both understanding and/or ability to participate in GNSO work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of GNSO working group meetings (some twice a week for months, others every two weeks) makes it difficult for bureaucrats to 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ggestions mentioned in the survey includ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l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ublic Poli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pect of a given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 relationship between a policy initiative and existing GAC ad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frequent policy upd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engagement with and follow-up with the GAC, GAC Executive and Secretar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clear what stage the GNSO work is in, which relates to the issue of knowing when/how to contribu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feedback on outcome of PDP process, including a summary of previous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ter-committee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ggestions mentioned in the survey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home page quick link directly to "Main Policy Activities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lighting policy activities which require liaison with and significant inputs from the GAC and expected potential degree of interest - e.g. GAC should be aware / discussion with GAC expected / requires GAC public policy inp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C website mirror this description of cross-community policy interest and provide links to the GNSO summa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4 for ICANN5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 / approval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Track II (Team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6 phases of the current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 Sco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Working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Council Delib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Board V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hases i.e. 1 &amp;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Scoping – Existing &amp; Possible new Engagement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80880" y="1154160"/>
            <a:ext cx="8229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as being explo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lining and prioritizing early awareness &amp; no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‘Quick look’ mechanism; establish whether issue has potential public policy implications, flag as such at early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support to allow GAC to provide timely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any GAC positions / advice are included in the Preliminary Issu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could consider creation of Triage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 Track 1 – Regular Interac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ludes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 Track 2 – Engagement with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Awareness &amp; Notificati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ludes output from Survey of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estions &amp;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tion Group to review input received in Los Ange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pen F2F meeting from 18h30 – 19h30 in Constell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implementation of pilot project for the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 recommendations for other items aiming to present for GAC / GNSO review / approval at ICANN 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&amp;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C-GNSO Consultation Group (C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address GAC early engagement in GNSO Policy Development Process (PD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ly engagement identified by both Accountability and Transparency Review Team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TRT1 Rec. 12, ATRT2 Rec. 10.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commenced work Q1 20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work trac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Day-to-day co-ordina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PDP eng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Track I (Team 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sms for day-to-day ongoing 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commendation implemented as pilot project for FY2015: GNSO Liaison to the G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is now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/ GNSO Chairs regular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hinking recurring joint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awareness &amp; no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Liaison to the G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on Cole appointed as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mplemented for one year starting ICANN 51 LA mee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mechanism evaluated after one ye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lace Holder 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couple of slides by M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Liaison to the G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1 for ICANN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mutual understanding of role of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provided by having a GNSO liaison to the G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GAC/GNSO Chairs Regular Inter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approach: Regular calls between GAC and GNSO Chairs, as well as GNSO liaison as appropri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deemed necessary, regular calls may includ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vice chai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topic l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NSO issue/PDP l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GAC/GNSO Chairs Regular Inter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2 for ICANN5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ggest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gested frequency of cal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59:38Z</dcterms:created>
  <dc:creator>MANAL</dc:creator>
  <dc:description/>
  <dc:language>en-US</dc:language>
  <cp:lastModifiedBy>Jonathan Robinson</cp:lastModifiedBy>
  <dcterms:modified xsi:type="dcterms:W3CDTF">2014-10-07T11:10:49Z</dcterms:modified>
  <cp:revision>35</cp:revision>
  <dc:subject/>
  <dc:title>GAC-GNSO Consultation Group On  GAC Early Engagement in GNSO PDP</dc:title>
</cp:coreProperties>
</file>