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6.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19925" cy="9305925"/>
</p:presentation>
</file>

<file path=ppt/commentAuthors.xml><?xml version="1.0" encoding="utf-8"?>
<p:cmAuthorLst xmlns:p="http://schemas.openxmlformats.org/presentationml/2006/main">
  <p:cmAuthor id="0" name="NTIA/OIA" initials="N"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16.xml><?xml version="1.0" encoding="utf-8"?>
<p:cmLst xmlns:p="http://schemas.openxmlformats.org/presentationml/2006/main">
  <p:cm authorId="0" dt="2014-10-09T13:33:37.643000000" idx="1">
    <p:pos x="10" y="10"/>
    <p:text>COMMENT:  WOULD WE NOT WANT TO ASK THE GAC FOR FEEDBACK ON THE POINTS RAISED IN THE PREVIOUS THREE SLIDES RE THE SURVEY RESULTS?  i.e. CONFIRM THAT THE ASSESSMENT IS CORRECT AND SEEK FEEDBACK REGARDING MORE SPECIFIC STEPS THE GAC MEMBERS WOULD FIND HELPFUL IN IDENTIFYING RELEVANT PUBLIC POLICY ISSUES AND, MORE IMPORTANTLY, UNDERSTANDING THE TIMELINES FOR CONTRIBUTIONS</p:text>
  </p:cm>
  <p:cm authorId="0" dt="2014-10-09T14:06:17.836000000" idx="2">
    <p:pos x="106" y="106"/>
    <p:text>WOULD WE NOT WANT TO ASK THE GAC FOR FEEDBACK ON THE POINTS RAISED IN THE PREVIOUS SLIDES RE THE SURVEY RESULTS?  I THINK WE'D WANT TO CONFIRM THAT THE ASSESSMENT IS CORRECT AND SEEK FEEDBACK REGARDING MORE SPECIFIC STEPS THE GAC MEMBERS WOULD FIND HELPFUL IN IDENTIFYING RELEVANT PUBLIC POLICY ISSUES, AND MORE IMPORTANTLY, UNDERSTANDING THE TIMELINES FOR GAC CONTRIBUTIONS
</p:text>
  </p:cm>
</p:cmLst>
</file>

<file path=ppt/comments/comment19.xml><?xml version="1.0" encoding="utf-8"?>
<p:cmLst xmlns:p="http://schemas.openxmlformats.org/presentationml/2006/main">
  <p:cm authorId="0" dt="2014-10-09T13:35:19.411000000" idx="3">
    <p:pos x="4638" y="2022"/>
    <p:text>ONE POSSIBLE MECHANISM IS TO CREATE (OR RE-CREATE) A GAC-GNSO WORKING GROUP WITHIN THE GAC TO ASSUME RESPONSIBILITY FOR MONITORING GNSO DEVELOPMENTS</p:text>
  </p:cm>
  <p:cm authorId="0" dt="2014-10-09T13:36:23.274000000" idx="4">
    <p:pos x="1746" y="3864"/>
    <p:text>WE MIGHT WANT TO CONSIDER A GAC-GNSO WORKING GROUP AS A FIRST STEP, WHICH COULD BE FOLLOWED BY A TRIAGE COMMITTEE.  MY POINT IS TO BROADEN THE RANGE OF "RESPONSIBLE" PARTIES TO SHARE THE RESPONSIBILITY OF MONITORING AND IDENTIFYING ISSUES WARRANTING GAC CONTRIBUTIONS</p:text>
  </p:cm>
</p:cmLst>
</file>

<file path=ppt/comments/comment20.xml><?xml version="1.0" encoding="utf-8"?>
<p:cmLst xmlns:p="http://schemas.openxmlformats.org/presentationml/2006/main">
  <p:cm authorId="0" dt="2014-10-09T13:36:29.062000000" idx="5">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D6A0-3D37-49BA-A3C0-48D459D74A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4400" y="698400"/>
            <a:ext cx="4651200" cy="3489480"/>
          </a:xfrm>
          <a:prstGeom prst="rect">
            <a:avLst/>
          </a:prstGeom>
          <a:ln w="0">
            <a:noFill/>
          </a:ln>
        </p:spPr>
      </p:sp>
      <p:sp>
        <p:nvSpPr>
          <p:cNvPr id="9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FC47-9B90-4379-84F7-35FC837BCE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AA49A-C52E-4CF1-8D8F-DCD98030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8CBC-5CC0-40D6-B879-902FBBA3D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85E80-E1FD-4B07-B9A5-59C831D0E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5BB36-C165-428E-8EE0-CADCF02D1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81FF-129B-4192-BE86-FCA59AC13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1F604-6C63-4E4C-8571-A20E1FB77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4705-3EE3-41D6-B7EF-3581C352B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1619-C501-473A-9E76-5A8047F6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80683-FB60-43F8-A4FA-8A18DE1C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723E8-EFD1-45B6-BDF6-F541A45E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0302-4B4C-4227-A54A-8164B678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22CDE-8BAE-4ED2-ADAB-59CD4B1F5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4EFE-176C-49AD-A136-20449E6BE64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AC-GNSO Consultation Group</a:t>
            </a:r>
            <a:br>
              <a:rPr sz="3200"/>
            </a:br>
            <a:r>
              <a:rPr b="0" lang="en-US" sz="2300" spc="-1" strike="noStrike">
                <a:solidFill>
                  <a:srgbClr val="000000"/>
                </a:solidFill>
                <a:latin typeface="Calibri"/>
                <a:ea typeface="Arial"/>
              </a:rPr>
              <a:t>On </a:t>
            </a:r>
            <a:br>
              <a:rPr sz="3200"/>
            </a:br>
            <a:r>
              <a:rPr b="0" lang="en-US" sz="3200" spc="-1" strike="noStrike">
                <a:solidFill>
                  <a:srgbClr val="000000"/>
                </a:solidFill>
                <a:latin typeface="Calibri"/>
                <a:ea typeface="Arial"/>
              </a:rPr>
              <a:t>GAC Early Engagement in GNSO PDP</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Angeles Progress Report</a:t>
            </a:r>
            <a:endParaRPr b="0" lang="en-US" sz="2800" spc="-1" strike="noStrike">
              <a:solidFill>
                <a:srgbClr val="000000"/>
              </a:solidFill>
              <a:latin typeface="Calibri"/>
            </a:endParaRPr>
          </a:p>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 October 20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Rethinking Recurring Joint Meetings</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dentify ahead of time topics of mutual inter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updates on status of PDP WGs ahead of time (e.g. webin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cus meetings on identified questions / concer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 identified questions / concerns with GNSO liaison in advance to facilitate f2f meeting discus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vite GNSO topic leads as necessar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new members with short overviews (for example one-pag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Rethinking Recurring Joint Meetings</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3 for ICANN51</a:t>
            </a:r>
            <a:br>
              <a:rPr sz="3200"/>
            </a:br>
            <a:br>
              <a:rPr sz="3200"/>
            </a:b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ggested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s of on-line survey for GAC members =&gt; 29 respons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sms evaluated, in terms of awareness, usefulness and suggestions for improvement:</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Update – </a:t>
            </a:r>
            <a:r>
              <a:rPr b="1" lang="en-US" sz="2400" spc="-1" strike="noStrike">
                <a:solidFill>
                  <a:srgbClr val="000000"/>
                </a:solidFill>
                <a:latin typeface="Calibri"/>
              </a:rPr>
              <a:t>monthly</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C Early Engagement Policy Documents – </a:t>
            </a:r>
            <a:r>
              <a:rPr b="1" lang="en-US" sz="2400" spc="-1" strike="noStrike">
                <a:solidFill>
                  <a:srgbClr val="000000"/>
                </a:solidFill>
                <a:latin typeface="Calibri"/>
              </a:rPr>
              <a:t>monthly</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Update Webinar (takes place prior to every ICANN meeting) – </a:t>
            </a:r>
            <a:r>
              <a:rPr b="1" lang="en-US" sz="2400" spc="-1" strike="noStrike">
                <a:solidFill>
                  <a:srgbClr val="000000"/>
                </a:solidFill>
                <a:latin typeface="Calibri"/>
              </a:rPr>
              <a:t>3 times/year</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s for input from GNSO PDP Working Groups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ion in GNSO Working Groups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ouncements from GNSO Secretariat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NSO Background Briefings (e.g.) – </a:t>
            </a:r>
            <a:r>
              <a:rPr b="1" lang="en-US" sz="2400" spc="-1" strike="noStrike">
                <a:solidFill>
                  <a:srgbClr val="000000"/>
                </a:solidFill>
                <a:latin typeface="Calibri"/>
              </a:rPr>
              <a:t>issued just prior to each ICANN mee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mentioned in the survey inclu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of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imultaneous PD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l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both understanding and/or ability to participate in GNSO working grou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cy of GNSO working group meetings (some twice a week for months, others every two weeks) makes it difficult for bureaucrats to particip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ggestions mentioned in the survey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t>
            </a:r>
            <a:r>
              <a:rPr b="0" lang="en-US" sz="2400" spc="-1" strike="noStrike" u="sng">
                <a:solidFill>
                  <a:srgbClr val="000000"/>
                </a:solidFill>
                <a:uFillTx/>
                <a:latin typeface="Calibri"/>
              </a:rPr>
              <a:t>Public Policy</a:t>
            </a:r>
            <a:r>
              <a:rPr b="0" lang="en-US" sz="2400" spc="-1" strike="noStrike">
                <a:solidFill>
                  <a:srgbClr val="000000"/>
                </a:solidFill>
                <a:latin typeface="Calibri"/>
              </a:rPr>
              <a:t> aspect of a given iss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 relationship between a policy initiative and existing GAC advi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requent policy upda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engagement with and follow-up with the GAC, GAC Executive and Secretari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clear what stage the GNSO work is in, which relates to the issue of knowing when/how to contribut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 feedback on outcome of PDP process, including a summary of previous proce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inter-committee relation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ggestions mentioned in the survey inclu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home page quick link directly to "Main Policy Activities</a:t>
            </a:r>
            <a:r>
              <a:rPr b="0" lang="ja-JP"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ighting policy activities which require liaison with and significant inputs from the GAC and expected potential degree of interest - e.g. GAC should be aware / discussion with GAC expected / requires GAC public policy in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C website mirror this description of cross-community policy interest and provide links to the GNSO summar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4 for ICANN51</a:t>
            </a:r>
            <a:br>
              <a:rPr sz="3200"/>
            </a:br>
            <a:br>
              <a:rPr sz="3200"/>
            </a:br>
            <a:r>
              <a:rPr b="0" lang="en-US" sz="3200" spc="-1" strike="noStrike">
                <a:solidFill>
                  <a:srgbClr val="000000"/>
                </a:solidFill>
                <a:latin typeface="Calibri"/>
              </a:rPr>
              <a:t>Seek to obtain GAC and GNSO feedback on / approva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rack II (Team 2)</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C early engagement in GNSO PDP</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at 6 phases of the current GNSO PDP</a:t>
            </a:r>
            <a:endParaRPr b="0" lang="en-US" sz="3200" spc="-1" strike="noStrike">
              <a:solidFill>
                <a:srgbClr val="000000"/>
              </a:solidFill>
              <a:latin typeface="Calibri"/>
            </a:endParaRPr>
          </a:p>
          <a:p>
            <a:pPr lvl="1" marL="971640" indent="-514440">
              <a:lnSpc>
                <a:spcPct val="8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sue Scoping</a:t>
            </a:r>
            <a:endParaRPr b="0" lang="en-US" sz="2800" spc="-1" strike="noStrike">
              <a:solidFill>
                <a:srgbClr val="000000"/>
              </a:solidFill>
              <a:latin typeface="Calibri"/>
            </a:endParaRPr>
          </a:p>
          <a:p>
            <a:pPr lvl="1" marL="971640" indent="-514440">
              <a:lnSpc>
                <a:spcPct val="8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tion</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Working Group</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ouncil Deliberations</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Board Vote</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Implementation</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focus on </a:t>
            </a:r>
            <a:r>
              <a:rPr b="0" lang="en-US" sz="3200" spc="-1" strike="noStrike" u="sng">
                <a:solidFill>
                  <a:srgbClr val="000000"/>
                </a:solidFill>
                <a:uFillTx/>
                <a:latin typeface="Calibri"/>
              </a:rPr>
              <a:t>early</a:t>
            </a:r>
            <a:r>
              <a:rPr b="0" lang="en-US" sz="3200" spc="-1" strike="noStrike">
                <a:solidFill>
                  <a:srgbClr val="000000"/>
                </a:solidFill>
                <a:latin typeface="Calibri"/>
              </a:rPr>
              <a:t> phases i.e. 1 &amp; 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sue Scoping – Existing &amp; Possible new Engagement Opportunities</a:t>
            </a:r>
            <a:endParaRPr b="0" lang="en-US" sz="3200" spc="-1" strike="noStrike">
              <a:solidFill>
                <a:srgbClr val="000000"/>
              </a:solidFill>
              <a:latin typeface="Calibri"/>
            </a:endParaRPr>
          </a:p>
        </p:txBody>
      </p:sp>
      <p:pic>
        <p:nvPicPr>
          <p:cNvPr id="83" name="Picture 2" descr=""/>
          <p:cNvPicPr/>
          <p:nvPr/>
        </p:nvPicPr>
        <p:blipFill>
          <a:blip r:embed="rId1"/>
          <a:stretch/>
        </p:blipFill>
        <p:spPr>
          <a:xfrm>
            <a:off x="380880" y="1154160"/>
            <a:ext cx="8229600" cy="56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ing explored</a:t>
            </a:r>
            <a:endParaRPr b="0" lang="en-US" sz="4400" spc="-1" strike="noStrike">
              <a:solidFill>
                <a:srgbClr val="000000"/>
              </a:solidFill>
              <a:latin typeface="Calibri"/>
            </a:endParaRPr>
          </a:p>
        </p:txBody>
      </p:sp>
      <p:sp>
        <p:nvSpPr>
          <p:cNvPr id="85" name=""/>
          <p:cNvSpPr txBox="1"/>
          <p:nvPr/>
        </p:nvSpPr>
        <p:spPr>
          <a:xfrm>
            <a:off x="456840" y="1219320"/>
            <a:ext cx="838188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lining and prioritizing early awareness &amp; notification</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AC ‘Quick look’ mechanism; establish whether issue has potential public policy implications, flag as such at early stage</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support to allow GAC to provide timely input</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any GAC positions / advice are included in the Preliminary Issue Report</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C could consider creation of Triage committe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Track 1 – Regular Interaction</a:t>
            </a:r>
            <a:br>
              <a:rPr sz="3200"/>
            </a:br>
            <a:r>
              <a:rPr b="0" lang="en-GB" sz="3200" spc="-1" strike="noStrike">
                <a:solidFill>
                  <a:srgbClr val="000000"/>
                </a:solidFill>
                <a:latin typeface="Calibri"/>
              </a:rPr>
              <a:t>Includes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Track 2 – Engagement with GNSO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arly Awareness &amp; Notifications</a:t>
            </a:r>
            <a:br>
              <a:rPr sz="3200"/>
            </a:br>
            <a:r>
              <a:rPr b="0" lang="en-GB" sz="3200" spc="-1" strike="noStrike">
                <a:solidFill>
                  <a:srgbClr val="000000"/>
                </a:solidFill>
                <a:latin typeface="Calibri"/>
              </a:rPr>
              <a:t>Includes output from Survey of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h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estions &amp; Discu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ahead</a:t>
            </a:r>
            <a:endParaRPr b="0" lang="en-US" sz="4400" spc="-1" strike="noStrike">
              <a:solidFill>
                <a:srgbClr val="000000"/>
              </a:solidFill>
              <a:latin typeface="Calibri"/>
            </a:endParaRPr>
          </a:p>
        </p:txBody>
      </p:sp>
      <p:sp>
        <p:nvSpPr>
          <p:cNvPr id="87" name=""/>
          <p:cNvSpPr txBox="1"/>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Group to review input received in Los Angeles </a:t>
            </a:r>
            <a:br>
              <a:rPr sz="3200"/>
            </a:br>
            <a:r>
              <a:rPr b="0" lang="en-US" sz="3200" spc="-1" strike="noStrike">
                <a:solidFill>
                  <a:srgbClr val="000000"/>
                </a:solidFill>
                <a:latin typeface="Arial"/>
              </a:rPr>
              <a:t>(Open F2F meeting from 18h30 – 19h30 in Constellation) </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mplementation of pilot project for the GNSO Liaison to the GAC</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velop recommendations for other items aiming to present for GAC / GNSO review / approval at ICANN 5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mp; Discussion</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C-GNSO Consultation Group (CG)</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address GAC early engagement in GNSO Policy Development Process (PDP)</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identified by both Accountability and Transparency Review Teams </a:t>
            </a:r>
            <a:br>
              <a:rPr sz="3000"/>
            </a:br>
            <a:r>
              <a:rPr b="0" lang="en-US" sz="3000" spc="-1" strike="noStrike">
                <a:solidFill>
                  <a:srgbClr val="000000"/>
                </a:solidFill>
                <a:latin typeface="Calibri"/>
              </a:rPr>
              <a:t>(ATRT1 Rec. 12, ATRT2 Rec. 10.2)</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up commenced work Q1 2014</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 work tracks</a:t>
            </a:r>
            <a:br>
              <a:rPr sz="3000"/>
            </a:br>
            <a:r>
              <a:rPr b="0" lang="en-US" sz="3000" spc="-1" strike="noStrike">
                <a:solidFill>
                  <a:srgbClr val="000000"/>
                </a:solidFill>
                <a:latin typeface="Calibri"/>
              </a:rPr>
              <a:t>- Day-to-day co-ordination</a:t>
            </a:r>
            <a:br>
              <a:rPr sz="3000"/>
            </a:br>
            <a:r>
              <a:rPr b="0" lang="en-US" sz="3000" spc="-1" strike="noStrike">
                <a:solidFill>
                  <a:srgbClr val="000000"/>
                </a:solidFill>
                <a:latin typeface="Calibri"/>
              </a:rPr>
              <a:t>- PDP engag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rack I (Team 1)</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s for day-to-day ongoing coope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ecommendation implemented as pilot project for FY2015: GNSO Liaison to the GA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is now 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 GNSO Chairs regular interacti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hinking recurring joint meetings</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awareness &amp; notif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O Liaison to the GAC</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on Cole appointed as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implemented for one year starting ICANN 51 LA meet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ion mechanism evaluated after one ye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lace Holder for</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 couple of slides by Ma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O Liaison to the GAC</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1 for ICANN5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mutual understanding of role of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provided by having a GNSO liaison to the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AC/GNSO Chairs Regular Interaction</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ed approach: Regular calls between GAC and GNSO Chairs, as well as GNSO liaison a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eemed necessary, regular calls may inclu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vice chai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topic le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NSO issue/PDP lea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AC/GNSO Chairs Regular Interaction</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2 for ICANN51</a:t>
            </a:r>
            <a:br>
              <a:rPr sz="3200"/>
            </a:br>
            <a:br>
              <a:rPr sz="3200"/>
            </a:b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ggested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ed frequency of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59:38Z</dcterms:created>
  <dc:creator>MANAL</dc:creator>
  <dc:description/>
  <dc:language>en-US</dc:language>
  <cp:lastModifiedBy>NTIA/OIA</cp:lastModifiedBy>
  <cp:lastPrinted>2014-10-09T17:37:57Z</cp:lastPrinted>
  <dcterms:modified xsi:type="dcterms:W3CDTF">2014-10-09T18:07:30Z</dcterms:modified>
  <cp:revision>37</cp:revision>
  <dc:subject/>
  <dc:title>GAC-GNSO Consultation Group On  GAC Early Engagement in GNSO PDP</dc:title>
</cp:coreProperties>
</file>