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6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4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69.xml" ContentType="application/vnd.openxmlformats-officedocument.theme+xml"/>
  <Override PartName="/ppt/theme/theme32.xml" ContentType="application/vnd.openxmlformats-officedocument.theme+xml"/>
  <Override PartName="/ppt/theme/theme68.xml" ContentType="application/vnd.openxmlformats-officedocument.theme+xml"/>
  <Override PartName="/ppt/theme/theme31.xml" ContentType="application/vnd.openxmlformats-officedocument.theme+xml"/>
  <Override PartName="/ppt/theme/theme67.xml" ContentType="application/vnd.openxmlformats-officedocument.theme+xml"/>
  <Override PartName="/ppt/theme/theme30.xml" ContentType="application/vnd.openxmlformats-officedocument.theme+xml"/>
  <Override PartName="/ppt/theme/theme64.xml" ContentType="application/vnd.openxmlformats-officedocument.theme+xml"/>
  <Override PartName="/ppt/theme/theme66.xml" ContentType="application/vnd.openxmlformats-officedocument.theme+xml"/>
  <Override PartName="/ppt/theme/theme29.xml" ContentType="application/vnd.openxmlformats-officedocument.theme+xml"/>
  <Override PartName="/ppt/theme/theme63.xml" ContentType="application/vnd.openxmlformats-officedocument.theme+xml"/>
  <Override PartName="/ppt/theme/theme65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</p:sldMasterIdLst>
  <p:sldIdLst>
    <p:sldId id="256" r:id="rId71"/>
    <p:sldId id="257" r:id="rId72"/>
    <p:sldId id="258" r:id="rId73"/>
    <p:sldId id="259" r:id="rId74"/>
    <p:sldId id="260" r:id="rId75"/>
    <p:sldId id="261" r:id="rId76"/>
    <p:sldId id="262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" Target="slides/slide1.xml"/><Relationship Id="rId72" Type="http://schemas.openxmlformats.org/officeDocument/2006/relationships/slide" Target="slides/slide2.xml"/><Relationship Id="rId73" Type="http://schemas.openxmlformats.org/officeDocument/2006/relationships/slide" Target="slides/slide3.xml"/><Relationship Id="rId74" Type="http://schemas.openxmlformats.org/officeDocument/2006/relationships/slide" Target="slides/slide4.xml"/><Relationship Id="rId75" Type="http://schemas.openxmlformats.org/officeDocument/2006/relationships/slide" Target="slides/slide5.xml"/><Relationship Id="rId76" Type="http://schemas.openxmlformats.org/officeDocument/2006/relationships/slide" Target="slides/slide6.xml"/><Relationship Id="rId77" Type="http://schemas.openxmlformats.org/officeDocument/2006/relationships/slide" Target="slides/slide7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E21A7-0BF9-4988-92DC-8CCA6760270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A9783-4B07-48B5-9F26-26F4953296D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41DD0-48B4-4F57-A69A-C3CE6244589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EA32F-4957-426C-90B4-913082F43B1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55E17-F034-4888-B384-909CA0A04A4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7F3AE-EB79-4D1C-86E7-57C2484C544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0BE4D-B283-4855-8E88-87A5B19FFF4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13B9F-B294-41F4-BC98-8AEE6C51BF2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86E93-A895-4A92-B87E-66538D76689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08AF-A381-4C6C-A09E-AD27B3F7E6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5EAF-B0FB-44BF-90D1-712497DA0FB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1BDF-5868-40DB-9C19-36530A54DB1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7876-F561-4574-9629-F1AD7FBB053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17B0-9CEE-4481-9486-B85AB065E13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0439-2BD9-49C9-BC01-9ECBB28D1F0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84D6-A7FC-44ED-B8F5-2166FD42633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212E-A03D-4A43-9424-C2C364D3426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4B26-1F4E-4F77-99EC-7FB17CBA3D6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90E8-EF67-42CB-8887-9866022A2F2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1E3E-FFF2-4BEF-8F1C-3C8B1430B6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D792-604E-4BEF-BA48-8F56EA9210C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81BF19-20D5-4FCB-8D09-263CCF6200F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93B43D-F586-4115-BF1F-26F918181F7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04FCB7-294C-40DC-BBED-41C756FD5E4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CC1408-9B0B-4AFC-8A03-390FC2DA6E0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16966D-585D-46EA-914D-5B29DB22402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DC7A9B-CCE9-4652-A99E-B173A8EE46F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A163F0-DA39-4DF7-80F0-083489B3C67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8D341C-DA92-4C97-A491-F497DCD95B4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96104E-E995-4EB1-89C3-3DC2FC7D26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65ED12-A269-4C5D-951F-9837F295224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435909-A8CA-44D5-BC78-A0181434BB2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4A01E7-891B-401B-B506-5BDBBE065C3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F11356-12E6-40B2-8543-EB0C0F48BA9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484155-2E79-4E09-87AD-F6F6079863A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0254F6-DF12-4693-B803-29F3DE58AFD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83777A-414B-4AFD-B847-AB922F1065D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13697C-EDD6-493D-B280-8A1470606B8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A87F19-6313-4555-B07D-6B23149D989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925E9D-139C-4589-BE10-91BBD35C99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D72F4B-6A8F-4ED9-87EA-8432B6DFB51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66F448-7E1C-4135-856E-3EC7470B37B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0044E6-3B1F-4768-9B07-0D97E3134FA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13B28F-CC0F-4661-BD45-D99DCDA3FF3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E182DA-B766-4CD7-AC88-6417F9F7189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E167A-4C3C-4205-BBC2-D8D452EAF70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65187-B45D-448A-900C-90D17A7CF8B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B545A-B016-4F31-945F-FA2C570BF5A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85896-998A-4ECD-AD10-DAC01EBB43F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C69AC-508C-4613-847D-04CD08A46E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C8062-70D3-4D30-A599-1837E9E9574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885D8-2886-446D-9F8C-5010C46FAE4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FBEE0-0CC1-4679-BACB-12CD734CF4C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EFAB8-A7FF-445F-864A-2BDA24E707A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1F78D-21EF-408E-A48B-8FA6EF5B520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853B4-99B7-4B09-A566-6FD9F97C366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3358F-7E26-4425-81BD-22703713453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E4A76-8247-4780-B3B7-D1B6994A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66E00-B29C-4C57-A4A3-75926470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109DB-747E-4893-BB73-4932F02E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A5827-8D03-432E-8056-B88E4E6D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1BB42-ABB9-495C-BC27-51B8EA63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97134-DF16-47D2-AFC6-7C1222F5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B4157-49F9-456B-8300-96CFA286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05B79-D51A-4EE7-A619-2C0971E4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C7F01-3377-480A-885F-5FEA6F8B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8318A-F87E-43E2-89FD-0DD1CC48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0F6E5-9178-4E2D-8F9B-FF9014BE7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10DF2-9038-4105-BD8B-0BDE6E29F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515AD8-859D-4066-A02E-C7095719D8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ABF1BC-89E9-4A06-9C4A-30CDB5143D5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CFE5A6-D67D-4407-BA57-76B56531A97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CF30A2-57C6-4366-AD51-99A257CF733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9F348B-8EC0-4F3E-B04D-5E8AEB016C4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DE0A05-5C68-4629-9F00-2C9F8A84BCF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0F6598-3F52-4442-84D1-487F9297B60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FDA76B-ECB3-4A18-ACD9-F786F082F49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380610-BA4F-45C0-9C06-BED47664124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76ACAC-8060-4988-87E8-EEF53DBCBFE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AB3E3A-E45D-40F4-AA1C-CCC6A06291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30AE09-CEDD-4702-8FC0-B1586F2B72D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732533-9789-4090-9A6F-43F0DE790153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A9DB67-2B6A-4209-82FB-5B65FC3FD47C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E6658D-B31D-467A-AD72-8DEDAB44E63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D0DF11-3D2A-415C-9352-687613653A18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2EB0BB-D19B-46C0-B389-6A1C9A1C56C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2750F8-897C-4644-A240-BFE4E9CF9EB5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EE3B17-9588-43C4-B4A5-17BCA44A356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6B9223-2D60-48BD-B6A1-B41FE38EA4A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873FCA-A34D-4CC2-A3F3-43724BC577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9C8222-EFBB-41DE-8669-81AF97047705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E435D0-C4EC-44BA-BB13-43DAEC3417B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3EC2E8-4C8D-4065-8ACC-54937171C0C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C2D60-D44E-4949-AA7F-D735EE6EFB30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6B7EB-CF36-4F65-AA50-5AF728400FE8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382BB-06EC-421A-BF80-14EAA3635A09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B9666-FBA6-4F6E-9520-41FFCCF96F79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13077-75EE-408F-84A1-4563AFB4E8A5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7D220-7120-4ABF-9C4E-108D66CD27C6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39946-D4D0-4CFA-BE41-1A946C1629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44A73-0B91-4860-BCB0-6DA3C69CB09F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1147B-ED17-4A72-823B-E2DEC9FD6ABD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F9FD8-CE22-41FA-992E-F3F66A8643B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80F61-B3C7-4CDF-A1C1-BC2E5A5A60B6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4D9E9-8F02-4BB1-87C9-CC4B1F4A5CA6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A1F68A-C41A-4C92-B6BE-5BE3433048FE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0BC3FF-6B48-45D1-8DF6-1717253A33D3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A19382-9927-467B-9FEC-42B00046B7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4967A9-4396-410E-BA9C-B505B16EEEB1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CF740C-9A84-458F-A2C1-759B3F76C89B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BC9E18-D939-4C56-9A12-DF3D51DF9EE6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7BA5A9-455B-474A-A3AE-7EB9FE082B12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A90FDC-BC37-4818-8470-3C4DF023F143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015063-AE4B-4851-8A7D-B75610666F34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7EFC24-8D38-48ED-B16C-ECE61FE2CA54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24425F-AD9A-4D41-8FB3-8D8F8F68963C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779EBC-DD5F-4AA7-A756-043DAC1688A0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298A02-0D4F-4957-864B-A4D33C3276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DD0949-0594-4464-A787-C922070979E1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AD339D-8C37-47B2-954F-E2425730E479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6812EC-78D4-404F-9644-31EE6767AEC6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7B50FA-EB95-4032-A895-A004BCA61A1F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C25BB4-7363-4B57-8EDE-6FA6FEEF6B5B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7BB6CA-D696-449A-B0AD-3ED1B31DD711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A91168-AF1E-4EE4-A482-DC596D1DC43B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AD5E85-F152-46FC-B367-F7864CBA9819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DEE6AA-92E1-446D-9608-58F818990272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FD6C46-7CB5-4EE7-A10E-78DF54BA0A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6440A4-C74A-4B22-93D7-1745F9C6484F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312AC3-3AD7-428F-8282-474F1BAFB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A9770A-3E46-4A81-868A-3DEEA841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89B9E9-8883-4991-A8AC-70BE3DF1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51B142-B310-4BD8-9B8F-1655B840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554420-79F5-4AE3-8F54-3621DF27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6CCA58-64DD-4F15-AFFF-77A89E12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63DD75-CE9E-424C-97C6-38BCD296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F69CB0-9EED-44E9-8626-A9D824A7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E6AA63-7083-4B1B-B882-79BEC3F6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6FD826-1CC5-465B-A115-B037FECC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5D5566-0DD3-4E71-8EE9-EFC0A073A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A24041-34F7-4759-ACFB-60048BC74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E4D87-EDA4-4C52-B4B6-B671BE8A8E2B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99D33-8C90-4F8B-8751-E73DB7E6DB4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2603E-7856-48E5-807B-8C9B944F2C32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91AA9-33C1-486C-BBAA-055BA4902EC9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A3A3D-598A-412A-8302-F52E23C73CD5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4D69C-D82F-4E17-8822-BCEC049B1C6C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86FEA-69CD-4D65-909C-241A6C837D2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75463-2933-488C-B6EF-5797B9D3F366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E3C02-844F-4267-8876-6D8BB0E2013D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99B0D-7054-45F9-9DBA-13477087C9BF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BC9AC-07AC-4BFB-B98B-B5E440858573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61333-521A-4D1B-99C6-4C18CBFAB1E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F21B2D-5D65-49E3-BB4C-CD5204A93176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9587BD-1488-449F-A2B7-444041E3605A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E3A887-D5DD-4973-BB88-F2AC1ACA9F3A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F4F3AA-E2AE-4532-BD71-9FD060067159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4C9AB0-7B78-4F5B-BEF3-71C7CF60A51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F616A1-6869-4332-9DE8-2F7EC5C74ABA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4ABA64-3899-4CED-BD7A-5A40D03BEA4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29FC61-2E8A-4049-9EF4-4FAC7F39D24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FA090F-860A-4EE0-B0D9-CA23F3A7605E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65D8CE-2E31-4731-A0B1-411A6E6D3AF7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1749BF-CDEB-4F9E-B42C-F13EC02295F2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3B233F-BE5B-4D7E-A09A-70F8A5ADAB4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BF6765-6726-419D-A3FB-988CDEDA1D6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B2CF2D-88A5-4688-8315-C076CBE5F1D3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834B84-E726-4024-864C-E0A656B5B09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9B0A5A-6B2E-4DA1-BC99-39512EB9057C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892F2F-5537-4D8A-AB4A-F643B3B7956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BA7569-53F3-458F-B26C-3580C164940A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467D32-1500-49D1-AD6D-3E5E0DD2B195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ED099E-BD12-4B53-93B6-8B74183B33D7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5C6B1D-0A50-4F45-9968-8D1CFF47384F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216A9E-5046-4EAD-B396-EEAC94F44AC3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05B7FA-5BD5-4B11-A98C-722FED54E10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3FD09B-2FCE-4628-B6AD-C043B87DC760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8A0A8-7801-4C70-A159-4575A3FD59F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7B38E-55E0-41ED-8BD2-6A41197EA9D5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77818-D894-4C16-9B30-B271B9F2E408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4FA60-B588-4FFD-8D3A-B1162CC44A60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5F87D-EE6E-4AB0-90FC-13D20CCCC421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5B49F-B6CE-4210-BB04-13F391505551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25CE0-4BD9-48EB-B949-F5F4FE4230DE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270C8-8FB1-4C7C-B5B6-9F85BA02CD53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B1A4E-D8E5-46EE-919E-C2DDC6503440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D2EFB-A138-4C38-A6B7-7492C93E9CE4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B8B43-A63D-43D6-ADAD-9B53E9B55C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D9DEF-7CEC-4828-8430-39182056F839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F85089-1D2C-435D-929F-877AE90B6E44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779969-16C5-40BA-A5B6-B058C6286823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14D21A-2FE5-4D64-B923-8C7E906D5443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6D1771-9057-489D-AAD7-A33422C874E9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C0445D-CA09-43F8-9FFC-64A3CCD62253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71DF88-AA5C-4525-8D41-AA96FE01B266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12E9D1-F961-41CE-B3AB-C432137F1057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BB4CEB-C09B-4B93-B77D-0D1934C036A5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D02FB0-639D-4383-8619-4A323EC6DF2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22A17B-0B12-4DA5-8DDF-80863844C52B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92878E-60B2-4C35-BD09-AD6E3CC84FE3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7CCA17-2DC3-4732-827D-51B63313C542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AD3B1E-4CAD-45FE-9340-F7CE6AFE6B14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E92CCD-4AD6-43E2-AB61-9F79C2B6286D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507537-40DC-429B-85D4-767A24850430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F3FE0F-7E78-4AD2-B890-DA9EA6104E2D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544A47-54F4-4AB2-AC11-DF4BD4EA249F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4BC1B3-A78B-4C17-AE0F-4C47B56620BA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A77180-8150-425C-8707-39AAAF00761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7F24D0-F09E-4F64-96F0-74D8345A1CFA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BB1A4F-6DFB-4C62-A7C2-90333540E8AC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4E3071-B739-4EC8-945C-EFCD6B976E2F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FEE26B-E76D-46FA-B7EA-2049AC5FC905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253BD2-2F14-48C3-B363-750E4E9162DD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81112-5F95-4891-942F-432504C9B666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E64D4-6E9A-4C9F-B034-BD003A28DBC9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AFAFC5-DCFA-42D9-B4DF-C1373E82FAEC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EC6CA-1092-4156-AC5A-B662A4A959E8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3321EE-D0DC-4D2F-A440-CB7347B39F6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0934A-DB26-4FCC-9C5E-BB27E5FD93F9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3CF59-5200-4E93-AB65-07007E54FC44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3D2F2-5950-4DBC-96EF-BA504D0C50E4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89D69E-368F-43E9-B588-07AFCDAB8192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93EC0-42F8-4707-B9C9-1E0A259A7BD5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1AA3F-10A2-47AB-9096-05712CB70C25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062243-3054-45F4-AC60-CA84181F67D6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16E895-1076-4222-8D7A-5DFFBC8D4A0D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F15AD0-A87E-4D9D-9F15-C2F1E8C1963B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5F5CDC-8B5B-4796-8673-B4023DE64DE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EA1D78-0553-4C8C-A9F5-27D4F6106B54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FF4CA2-5946-4C25-8248-9C3CE606ED5E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090F82-DCF1-4C4F-A95D-B32DCE8B543A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38D85D-B156-4331-82C4-A6B25346D738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B67E88-00DE-43E2-8671-9D007E32824E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63ABFC-1224-4402-801C-8FD4216F0128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BA1CDA-019E-450C-9878-8449EFF1CC74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32EB39-B850-4C0D-816A-B1AC158834AD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378AB6-691E-4363-B095-9C346FC42186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2AB280-AD21-4836-8EFC-BE5C68C906A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D95067-9A7A-44D7-AE74-82CF3579E370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60AF51-86F7-4BDE-9C4B-DCF9510E490D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D76650-7AC5-4B22-B840-172BB7C5948A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934476-28B5-4AC7-A35C-501A2B0C628F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374E94-052A-4EFD-AF51-F994A24DEA24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5AB543-FEB4-4325-9C28-8CB30A0381AF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D8B37E-4F71-41F2-A94B-ACD1061289B9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96EB54-9386-4BBA-AFB7-673AF831B8E5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0CEE29-D63F-46C1-9967-6B55657B64F3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290C71-8D63-46E8-B2B1-C69AC5F4C88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C96549-81F0-4238-9D10-D8AB761870DD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C5AEF4-CB9B-4845-A744-17A37E6E1A47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394B2-2173-4E64-B037-FACAC46BED80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CCDC13-DAB9-48AD-81DA-6D48DDE30275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1D0A7-6DB6-4FDC-A84D-232637EB75F6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27093E-2872-4830-ACA8-D4996512D772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758552-CCAE-4E6C-9035-8ED3E6A221AB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D1B2AA-C9DD-48A4-BD1E-9108B8762EB8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B62127-8103-4139-84C2-FB8FE0B347B9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37B36-406B-4EEB-9446-13A2A7BBB53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4EE39-5F53-4C93-B6AB-D3ECAF09ACC4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6A79BD-8C14-4AD7-AB79-D51E9AD9F167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C2A94A-6331-4525-95DE-A265F7934D52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3596DF7-9C2F-4FC7-B474-26D1002F4485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D89AC22-A857-43A7-9B47-298E6F9E0BCF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32B3B3A-8D85-4D43-BB67-F86E3C5599D3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10DCE65-32F8-4812-8CA4-5279D30003E1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53CC1E1-74BA-433E-8176-FA7E8133EEAE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131632C-EFFD-4F2E-A8C4-5BD6B436B602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B513434-1755-4450-B86A-1443CF23E74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A1B4BE1-E44B-4642-8345-11A246BED65D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306DBC2-14AF-40D4-904A-52B799620658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A94CAA0-3FA9-4ED2-97E4-BA6C2F1F9CF8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1F9571B-75AA-4567-AD6F-3878227B48CE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9D75B86-8BD1-48A6-909E-A6AEB5AE9441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522BC24-5C7B-4AFD-AC76-F45F657F6F2D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0AFCE28-961D-4D43-AC4B-11E9302103E2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FBF4F1-E53E-487E-A7F8-FA76729F7638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AE9F05-957B-4988-B3F3-944C6F7ABF32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CB533C-01CC-4788-8F36-95D47DE7F84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AD9BB5-2413-446E-818F-D6311F014867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3919E4-BCED-44E6-8015-52F37AE8023E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00B9C55-F029-4924-B87B-12F153F2502C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E84C66-F1D0-4103-BC06-26D915E0E7F6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0843FB7-0FB7-4802-BCE1-89619CDE5C12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862823-4A62-48A7-B2F6-2776A0E78C79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249C5E-688D-4228-88FD-AD0E26A6C30D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F93A3-7C06-4A8E-A023-77AF41060305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AA641-6E1E-453E-8244-109FB69DBF00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D4AD8-9B23-44BF-B5F3-33B8E588F2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35B2D-66B9-4465-A675-86C8E1154722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D3F5A-7A20-4170-9125-EFE603A52F93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96A45-14E4-45F4-9E56-D40FB7C2399F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9C278-17D2-431F-B069-A78FFF038080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583D5-6A70-4461-BE63-98542AE9DEDB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15CAD-6EE8-4BA0-9D5C-7B922F427108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79C12-44D5-416D-A48E-5D944B325E57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6BD9B-D875-455D-B35D-9C75C5EABDDA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B5A3F-313F-47E8-87CB-9BC41BE72D45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9E2008-0ED8-44D7-9802-20D2EF6E145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F5D95A-20AB-40BE-9580-FB6DD4D3D99B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F5009D-201A-4BF6-9E2F-A1DAE1D4CF10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DBF4AD-5D52-4431-8EE7-C6691ED37F3B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DB7066-CAA5-4DAC-B4D6-314359D88DDE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BEAA1E-D49F-4E6E-8E4F-24B18292909E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7EAA80-A2F4-44C6-93CF-753AA52836FA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A8E89A-2C6C-4EA5-9301-8732362E74E3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A4B91E-1934-4687-B024-648D06024727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C23674-9F8C-47E9-88F7-ED7CF2F5D95B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380641-D2E2-48FD-A0AE-E0664F5F3B0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619A7E-72DE-4DC4-A66F-FC483F74D4A8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2881FB2-0D97-4580-B394-D4E190D022FF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7091359-28F5-41DE-A137-B8BF44DDC3E3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D0CBA26-A4BA-4702-A099-2B3CE297BBBE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E8A7BDB-B8DC-4748-A0C7-931D085B848F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72ECEF-CEE7-4EA3-BAA2-FDE670436505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A42B7E3-BDD2-4954-9CFC-0ED514D08BEF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F03CE77-00DB-4791-B5FA-53932529CAC1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A8CC3EA-0D8D-4FA4-AADA-4D890657CE6C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A954C82-38BD-4AEA-9C91-A6472FC54DA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96312E7-F711-4199-9470-96592E0B716B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7AC126-6067-48D8-BEB4-2B673A4778DC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6FD82F9-825E-4872-8705-360AD3B118BC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CC8C4-4700-4F91-B739-6482229ABB34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E9A8C5-6C66-4F71-9A80-093E20713DBA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C8A534-06F6-4B85-AB27-6E350AC7E52F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4C1C7-EC4F-4C5E-A65B-3F4F77A3E51B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DB159F-F392-4A60-9AE0-2A01B7DC4CB7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FD88AB-A36A-4397-839C-7E4515847C9C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95441D-180F-44FE-8993-42C715B3C4C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E54985-8070-4F07-A29D-24884CF5E9AA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13A451-6745-49CB-AEAE-3AA2DB2CF558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35310B-5D2E-4605-8D01-3DBDD0E5C50E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6EA1E1-BC4F-4192-8C23-73F757D4116A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ED9ED3-0DC0-4047-97A1-9F9612D8DA12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867B00F-B67D-4EE6-A5A4-DB2BFA9EDCDB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D825D8B-9EE7-4C0A-8D4A-5EBA1ECFD19B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71658C2-2D9E-41F8-AE8E-747DFD3DAED6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03BEC58-C494-40C5-AE38-784F4DD5C06F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F364B0B-2362-473A-86A0-60E6B6325C8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F5F83A9-C3EE-461B-B6F0-8506E5C4800E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B3D154C-C7E8-4487-8CEA-62AB3F574001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6FF3235-B89A-4010-B409-BC1DD7D96033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1B4F2AF-2FC6-4F46-931C-67AA30E0E8ED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CE6CEFF-E7C5-4A53-A51D-178B4876C871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F12B330-A31A-486B-8F27-BBBE2AC168ED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B93D7AD-D8C5-47B9-BB91-8BC3A6543D4E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2F4706-8CA8-40F4-A825-3F75E76E37AE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B3A651-17F0-4654-A767-64BC79399E4A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1D9E31-8A96-4B12-872C-C430B142E6A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2E42CA-523F-4D81-A205-0CF5C926BAC8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0B666B-2FA2-4A8B-AD87-F5CE4D2789F1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A7432E-12A8-4C48-95C1-3B5A5352A533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AD9518-079A-4299-8FB7-945EF0D0A838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8D05010-E9D9-4CCB-97AC-419929106B0D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ACBFAA-8920-43CA-B9C4-B9A6391064B1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F0508A-D62E-43D2-BBAF-6D7C4AD5D4C1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CCC170-8455-426F-8BDA-1E8AF1C7B57E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EA9881-62BA-41F1-B404-503B9515639A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27A89D-84A7-458E-A3A6-433980850F2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48E777-C037-4C3E-8262-C93DB4053E86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B3981E-BD71-4022-B0D6-7BBE86E18C9B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31AF34-117C-493E-A67C-12EDAEA75939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C91A98-9F49-4151-BC57-C0E508A04C2E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1E1975-20AA-4B4E-ABD5-8B93EE92E978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7A337B-F209-4A11-8D7D-7EE70E6F3541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D4AC69-F022-4360-B192-D996CAD43470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38F09F-25E8-4A2E-8F07-40ACD60F445E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0795EB-A4D1-4269-AD02-5714B316ED90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B0AEF7-1410-4E79-8547-0BECB0EC493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24B0B3-3896-489B-9583-1F218EB94D32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07A71EC-0140-4DE0-9DB2-E704495FD396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380D5B7-16D2-4854-9F07-F4813348CCAE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040374F-9E19-4139-BE7D-CA0523839B99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287841D-4B5A-47FB-8F45-2F9C3C617BB9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66D859B-7B20-4F9C-9C10-31D7698E334A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D59E4B7-E62F-440B-B049-424A12B86E31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81AEDF8-361F-4220-B8C3-9AC7F2EED95B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E96F3D4-049E-4E8A-A405-68BC5CCBC83E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25198F7-4EA3-420B-A16A-1F2D0477B0E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8D7D098-DC43-46E2-AAF3-5DBDE78DFE85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C8127CA-09EF-41E0-85AC-E78DB60A4D0F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B38FB76-AA1F-435B-B387-B6D8B4587D87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6B57184-CD19-49D2-AFD8-C48A5701D7E5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D024ECD-7EAA-4098-BCD6-EFCD5DD8972F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8FADA62-F3FC-4D21-8F08-390E007D18CC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3ACFAB1-D9DD-43BE-B5C4-1FAD58DCA825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A38197D-5A1F-4504-9478-FB42DB730A6F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1FABD35-9B92-4443-9CDE-CF6DC5A4B8EF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C61C3A1-8F19-4910-B7DB-EFD2478411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F0B146E-D27E-456E-83C1-87B0F2A89493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D59E447-483D-4490-8524-472B481BB919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FF939EC-3D85-4EFA-9D03-814C2C3131A7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51E0813-9E72-4C4F-ACE3-D6CCBA55C046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220A9DA-1648-44CF-9B5A-C0A30DB85901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2EDEE7-CBF6-4179-A2BE-63974CAFD717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7B92C7-3420-4CA9-AC29-8D3199E597A3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BE78FA-F9E5-4E8A-9A69-4E42C7C5EAE7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01BB1B-DB24-472F-A7CC-598A479C2DAE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E55A3D-D404-43CD-8A2C-3C487DB9B57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D7BCE9-CA91-47A3-87B2-551D83BA11BD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EAE489-BB89-404E-8F1C-4D6A9D82D46F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CF94A3-10C5-448D-B101-D64B7B0EE7AB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FA0AB3-1F46-4366-B18A-0BEEC078B4E4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D4D19F-9621-4A63-A4E8-32861A59DB7C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026F4F-59B2-438F-85F3-18E7500A0739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D69102-FD28-4602-A5BF-F313D6A58F8E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C02AF93-6FDD-4702-9681-2EE2C532DA5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A55B88B-5437-4876-A7D4-D207036784F4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369C255-2A93-4612-B4DF-D1FCC262CA78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5852E14-A274-4C0B-AF5A-D876738F3900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A08A140-6980-40D0-9F7B-5581423144CA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4AD3948-78A8-4072-B241-BC81DA5F3456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0A5C0E0-FCDB-491A-85F5-BFAD22486B1A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840776E-C020-407E-A00B-581C5D3B27D2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3AF686D-399F-465C-8819-6F353C7D026A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635F354-806B-4A84-899A-55DCA5441DED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9D086E5-5F29-4B47-94DD-17DCEBACCC1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5A98C8A-A257-4F7B-B9AC-9178752ADCB0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443FF61-5653-4A14-BB8B-7F87CA8A1A3D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F7124F0-60D1-445C-B9F8-2ACA6B28405B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16A7352-EA7E-4703-A2ED-4B6C7F7B34B7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EA87508-2B9B-4768-A227-5A5792C62C24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F043757-21BF-4A31-8AB0-E7D4C386B24F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70B84DE-F5B2-4005-818F-DD3053BEBCBC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F569AA9-42D4-42E9-85E6-A54835DCD4BA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B2F9CAF-6301-49D1-A4F2-2972FDB5646B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2222D00-1B81-4E85-BDE8-5F32FD02E03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1A4CF23-F9B8-498F-808C-2127BB8A8B89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8480172-3ADC-46FC-B9AD-774F1777BF62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2D55E3C-22D1-4ECD-A944-D7BCB16E0258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C6997D-0F58-4309-8C55-28200121EB63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121B12-CCCB-44AA-B624-C539A8633B31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D70BB3-1902-42B4-BA35-D201A3BE7DB0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CAFBB8-2F58-4650-BD4D-FEB3A4A2EF6F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D60242-DF51-4468-80BB-6952F7BD0223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EEB092-F7FE-44BE-AF4F-016D33A6E819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5591D5-8927-4C52-B4E0-183891E4B89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300D0D-5BBB-49C4-86AF-5A76D86B3B18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6EAAA5-F2A6-47EB-B856-43F8F1B24E9E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50B889-6F0E-4116-806A-ED15A3928CD9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959C6D-227B-40FC-94C8-4AAE3040F6DA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09D319-D9FC-45BB-832A-3E065C332A4E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679BA8B-85A6-4297-AA01-7EB2661E11A5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48E15B5-ACB9-469D-8E34-6A49F9F19100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614479F-8848-4D06-844F-C24EA5947D4E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A9E56A8-4EFA-424D-B70A-A1989B42B551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D4F2DDE-2983-4AFA-821F-AA430368EDF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D298AAD-4F01-4C3E-94A5-22E4625374B0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8E0CACE-210C-49A5-9444-736BD37040E0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D648EB8-4931-467B-8752-833D9585E780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CF2C2E9-F1FC-4BA6-B664-25501EC1D229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17B3048-22B7-4552-B48F-870166FD4246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7F7C37A-CB50-4D17-9C43-6C4C25593DD5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3DC19D3-054C-4887-9F84-1E806A3E5C61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941C157-05CB-4EA0-8936-10B4DA7909EB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93AD0BE-3A38-4A79-8FC8-299CF5691BC6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5900F42-2A83-48BD-83D8-EA8054B94FF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76B874E-A188-4951-A854-3EA97E780802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8AAC27D-0A96-429C-84B1-D977F93CDFC6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0B1B1B6-8F93-49EC-95A6-DA0DF303C16B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353D25C-9D7D-456B-8708-6C32310CD9B6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8B8A041-B898-4D4C-8DA6-1D0D497E5904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01C9060-A9E0-405C-A1E6-B0239B996173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7CD1CCE-2D10-4F0B-8052-910D10FDF691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EAD9D54-A43F-43E9-9AC0-E6723D3F1E05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403B291-D3BB-45D1-80F7-6B36EDD7EE71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C1E561-5A85-4BB0-AEA6-0B835F0821C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2977B9-AECE-400A-848D-ED4641A2E371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7EAE03-E9E2-4D10-8653-E0C174EF7057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AC0C48-5717-4873-8EF7-0C770966828E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7EC9E6-9687-4497-A59B-794B8A86EB48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0A9207-2031-43AC-8B27-8FC309F415E2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FA1E1E-68A6-456A-A0AD-C1DDBE058954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71C034-E868-4C96-8BF2-32EC4619AB55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3ADAA3-6A9E-48E1-B8A5-82AE2B22C8AC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5EAE2A-CC83-4942-B419-4C60AE806452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302C67-5275-48C4-8D1F-3433550483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9EE949-AB3B-4FD8-BEA7-87E8DA955EE1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8FE2874-5860-4D51-A12D-F1B3CC8B4BBC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BA0E31B-7908-406B-A551-3D47AD471270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7705050-9379-4625-95ED-30CF8024E0CE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AA6514B-3675-4969-BD1D-1D458023B566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BD53AF8-3A8C-4B03-A8E9-FA1AB2A8EAA8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B902648-4AAF-4989-94CE-8E052F8DD661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1B55053-ECF2-4603-AF74-F5DADF9522D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E0B6DBA-5001-4C29-9652-D01F1DB27125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817BC19-DF87-4A03-AEBC-5E3BAFF1783B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A9FE51D-CA0C-4170-874A-D670FA9FDCF7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46BDEFD-E24B-4828-AF3B-9BDACA4343EB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526AA08-96B8-43A6-8B7C-F5D3EBF74A8B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B89003D-43F1-469F-9486-D9BA90A94E78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3C01142-3688-4C8C-93B1-5F3DAB7AD005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780A4EC-1740-4B6F-92A5-081582EC831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3EAA0C9-8853-4CC7-9608-2E5ED9CD520C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A212656-B75F-443C-9A93-66B8A9A420CD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CB081CA-24FD-437C-9EA6-6D6C7C096217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588FDEF-59FD-48EB-837C-D061416E49A4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F6E53E4-8985-4933-9D52-7CA09E04D8C6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90C9CA1-61EE-4BE9-811A-66BE132B4AC1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77967FA-93B6-413B-8DF1-9E9E6F0F9931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B2EF922-9DDC-4BC0-8931-317F95F1C310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029F03C-F4D4-4556-B90E-35C545165477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D5A3AD-95C2-40A3-A4F8-0FE8B80C5BC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37F30B-B109-4404-BAE1-3F01A503DB51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673F9B-B198-43E8-A894-4679D5854631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848E8B-F516-47A1-94D3-FFDC48A949C0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CF370D-D05C-4512-A561-7A5D4172E001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D2AFD2-9809-496A-9639-91FEAFA95DB9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9C6952-15B1-4BFC-9DBC-B635E07B2373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E54804-7CE8-4BFA-900F-36B45FAB087B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F130D7-81CE-47D1-9064-D5D738BF07DD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CC9221-3C71-40E1-ADB1-7C0A293E33EB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D96A2C-9521-4376-9619-0F96CD6CC76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FD93B1-FABD-4FC1-8744-90D2AF2A5353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1A2990F-E689-4FA3-AAA9-D2C096F176CA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8D81875-3847-45AF-92EF-2DAD93C84CC3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7CE6DEE-03A6-4A64-8B64-F3D7A3AB8BA6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88D68D8-BC40-4862-B3BF-A96A43CD68C7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B1331EC-483B-4086-9CDA-E524B2D81B2B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942C936-589F-48AE-9830-42A12AA0A73D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E6D14A3-8148-4549-B539-84D9877D256D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C7E22E8-C247-4DCE-A64D-425E45D70EC7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592C33B-3804-41B5-A089-7E8F77A3AC9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1EE0C1C-DC60-4498-9073-A0E78E89C71F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8BED5A2-72EC-4455-AACB-6D56FB4288FC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C3F98C3-2FEC-43A8-BA14-D79ADD4361AF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1D05CC2-1207-4516-A3EA-5A6E6A0ABAB9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7A24717-65B0-449A-ABA0-437ABE557554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63E2D29-AFE0-4621-B2A7-86B811266A38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ED5AAB4-DDB8-43CB-B5F4-AA4750B91B7F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CA36843-FC9A-4521-925F-F9BC6B084807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474C7BD-87D2-4AD1-B829-E0395B10B47E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82043EC-84BE-418C-A681-8550A255248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29522C1-CCD1-4901-B2D7-33389E8E24D9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3E80BB3-44CD-45A3-9C8F-850E73636805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B3C14C5-211D-4CBB-BD04-F38146144DB0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823710B-975E-435C-80A1-D9F3D246BF7E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0B39523-218B-43B7-BAD8-57FD33B48843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CB607E-8B9A-4EEA-9836-27B9CF3A76F9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E4ACFC-E497-4065-A8FA-4C7386BA3E10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2F953F-A2D5-4004-8E42-08F8654EFCF1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6F7867-BF24-4E82-8577-AA42D9713540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1C4343-10B4-4BB2-AFCD-7D986D1DE31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6C76D4-86AC-497D-82EF-06E1B87906AB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9CB749-E9ED-482B-B174-59602F85F28D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63FFAB-DB75-466C-A0BF-78EB7EAC33E3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78DF08-F54F-4BB4-A7B7-CA359CEA893C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648516-9AE3-49E1-85DD-A66889531260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83F706-6105-40B2-8E66-B5C58775154B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BDE91B-FC33-451F-AA53-21EEC2B327FA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2426DC2-F2CF-430B-A51E-6C68104BBAE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3B737E3-7875-499C-B35D-88D2A66A9F59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2B2F373-8732-4933-8C67-3AD8C1B18AC1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1EF9C70-3903-409E-BBE6-3A3D970C61D0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2B40AF0-2B0D-4167-939F-02260B94508F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6E3DBDA-4F83-4A83-B745-F29ECF7A938D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93063C6-050E-4B8F-837B-B488B3F36669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31B0347-EBE3-4BF6-97DF-D104E80BB312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D648929-862E-4128-B3E9-2E3C52F49268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78E2A96-57E5-4183-87F1-B33727CCACB5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7DABDAC-7845-41C8-8159-8AB35D22F93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4F5CED9-485C-4EFA-B05B-4601C1931D7B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4426443-24F6-4257-9076-E444F9A5D742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612223B-3A24-44A5-B2C9-D5308311B167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7144FDA-205B-4B89-A5A2-DD1B93A27904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F205B72-3B17-4623-942F-7E84BEB4A29B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3BBFC8B-E933-4C22-9C3F-BB41FA36C2D4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0C6D94D-1E35-460F-A7E1-14650B22574C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F2C010C-B2F0-4F93-A803-01CB9294930D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C4C22E1-98C6-4B06-B297-55FD2FEFD03B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7714B8F-C9B1-4759-BD21-0C893393499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0B6A-4E53-46E2-AA64-D6DBF0925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127283B-AD8C-47D8-86BB-E208841C40BA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F89D2E7-C231-43D1-8590-302A2FA33752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98219C3-7F4B-453D-BC96-83BB2E0BBC39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CDCBD1-4343-4B9B-8F6A-4C4D542714AA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1DFC85-FD26-43DF-AEAE-E93F1FEECF45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053118-DF90-4534-AB3D-D27AA442B2B7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3E5E37-9C4B-46A5-B370-DBCD53AFB136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977C26-74D4-4E8D-83F0-8FBA329F9DCF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6CB25D-9221-479E-B45B-EDA1C674BDC5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CDAC59-2C41-431F-9D28-35624784C0E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3998-5C15-4E79-93C8-84414A15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4517EC-5881-4564-9B2F-67F7F75C20B4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F87B73-30EB-4FB9-94D0-0E42E45CDE38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5EAAE7-86A4-4664-B358-09DDEEDB4520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460980-73D1-4205-A098-61CCB1A1C90B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44025F-88F0-4E06-A1F7-6933A1B83DDE}" type="slidenum">
              <a:t>&lt;#&gt;</a:t>
            </a:fld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10CF154-C26F-4CD7-B7CC-397565B7EB4B}" type="slidenum">
              <a:t>&lt;#&gt;</a:t>
            </a:fld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48BFB6C-A565-48F6-A6D0-ABEC528E0739}" type="slidenum">
              <a:t>&lt;#&gt;</a:t>
            </a:fld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B23DDB3-47FD-4BFA-9829-8489AB3F3B8C}" type="slidenum">
              <a:t>&lt;#&gt;</a:t>
            </a:fld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804559E-AC0E-4EFD-94A1-A9D33C5565C6}" type="slidenum">
              <a:t>&lt;#&gt;</a:t>
            </a:fld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02683EE-A238-40EB-82E0-D5823F427A7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7B99-4CA2-4E86-BBCD-3C965CA9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3E8F7BA-4783-4496-A18A-976A0ABBB573}" type="slidenum">
              <a:t>&lt;#&gt;</a:t>
            </a:fld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A42AE8C-63CE-4E21-80EF-8A8F34AC308C}" type="slidenum">
              <a:t>&lt;#&gt;</a:t>
            </a:fld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B2BBAAD-8905-4E1E-9413-462F08016423}" type="slidenum">
              <a:t>&lt;#&gt;</a:t>
            </a:fld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7D05AB3-F2FB-436A-9B86-F751D83C2B2E}" type="slidenum">
              <a:t>&lt;#&gt;</a:t>
            </a:fld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004150C-5937-46FE-8FF5-9542FD0D7174}" type="slidenum">
              <a:t>&lt;#&gt;</a:t>
            </a:fld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84B6ED8-2933-4EE5-8151-BACBCAF3E25A}" type="slidenum">
              <a:t>&lt;#&gt;</a:t>
            </a:fld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FBFF69F-9559-4347-92A5-53DD22B514D5}" type="slidenum">
              <a:t>&lt;#&gt;</a:t>
            </a:fld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15F8358-33A5-480C-8E1F-2807AF7DE02E}" type="slidenum">
              <a:t>&lt;#&gt;</a:t>
            </a:fld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D49FB17-3A1B-4149-A7CF-F3D59C95DCFB}" type="slidenum">
              <a:t>&lt;#&gt;</a:t>
            </a:fld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DA2D79C-AC87-4DF6-8090-AC39D150BFC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C11F-1439-434D-A0E6-DB2F8F3B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A330070-956A-42ED-843B-6CD9AC49BAF9}" type="slidenum">
              <a:t>&lt;#&gt;</a:t>
            </a:fld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DB54233-08D8-4ACF-A693-C6DC864539A5}" type="slidenum">
              <a:t>&lt;#&gt;</a:t>
            </a:fld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DF9D26D-89DD-49DC-9FEA-B8FE0AA2C151}" type="slidenum">
              <a:t>&lt;#&gt;</a:t>
            </a:fld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1FE684E-1BC2-4D63-81A3-128D3F15AC31}" type="slidenum">
              <a:t>&lt;#&gt;</a:t>
            </a:fld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E08B9F0-F0FB-4631-94BA-30D025423F73}" type="slidenum">
              <a:t>&lt;#&gt;</a:t>
            </a:fld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CE50627-8FC4-4455-ABEB-4FEFB4C0D525}" type="slidenum">
              <a:t>&lt;#&gt;</a:t>
            </a:fld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103F79A-FBBF-43BA-94A8-FCB32E63BC21}" type="slidenum">
              <a:t>&lt;#&gt;</a:t>
            </a:fld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BFE20A2-7B30-4725-88F0-E728BE66496F}" type="slidenum">
              <a:t>&lt;#&gt;</a:t>
            </a:fld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06812D3-7222-42DB-9A89-6B90316FA453}" type="slidenum">
              <a:t>&lt;#&gt;</a:t>
            </a:fld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B155A4-0997-47E7-8A5F-820B970808E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C9E8-B595-40D8-BF0D-03CA9D91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613193-73BD-4D53-BDB8-4D0A3BBA2E84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043806-39A4-4F2D-BB47-9482379D1D8A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ADF095-B6C5-4713-92DD-B22577AB3C10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DF07A3-4738-4962-A2C8-15B9383BD387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D7BB2A-A7EB-4DD5-9BC6-41FEBA912738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3F9FE2-0570-4479-8AD5-3CBFAF7C5E36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CCFCC4-A43E-4799-B044-E10C7E26A1AD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85E7AE-9F8A-430A-B7C8-B4DC03A1017C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5CF137-01B9-48ED-95ED-D12E18A1ED4F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B975EE-F55D-4F63-A163-0F311AB0C8B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9754-5042-4746-B1A3-25B774F1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D46332-22ED-4E3E-BB62-30AA7AF0A80B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0CB8289-2DBC-4F66-9352-B4798F5D0C1C}" type="slidenum">
              <a:t>&lt;#&gt;</a:t>
            </a:fld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BA6B6B4-F157-4E7D-A460-0865CAC2B927}" type="slidenum">
              <a:t>&lt;#&gt;</a:t>
            </a:fld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CAA05C3-887F-4BCC-A038-F2CD01B6176B}" type="slidenum">
              <a:t>&lt;#&gt;</a:t>
            </a:fld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E3DEDDE-0402-403E-B56B-B5AF8A1D6E72}" type="slidenum">
              <a:t>&lt;#&gt;</a:t>
            </a:fld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258230D-8408-4C75-BEF7-9F66116FAB79}" type="slidenum">
              <a:t>&lt;#&gt;</a:t>
            </a:fld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473489B-DE35-46B4-98E8-515E98567002}" type="slidenum">
              <a:t>&lt;#&gt;</a:t>
            </a:fld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CBBF2A3-91EF-420F-AE23-D15E7DDB0D46}" type="slidenum">
              <a:t>&lt;#&gt;</a:t>
            </a:fld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1FF1E29-4E7F-4A6A-B081-A2295758E153}" type="slidenum">
              <a:t>&lt;#&gt;</a:t>
            </a:fld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15D3742-1E52-45EF-AE59-0235C02B4A0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E0BD-E1B4-422E-91B6-7A434323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ED7EBC9-4EC6-4608-8717-0C206C7D848C}" type="slidenum">
              <a:t>&lt;#&gt;</a:t>
            </a:fld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426601B-59E1-4BFD-87D7-1D36517253F2}" type="slidenum">
              <a:t>&lt;#&gt;</a:t>
            </a:fld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3BD7D11-BE3E-4894-8682-314EED58AC3C}" type="slidenum">
              <a:t>&lt;#&gt;</a:t>
            </a:fld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0476874-1806-411F-BCF8-B838770CCA33}" type="slidenum">
              <a:t>&lt;#&gt;</a:t>
            </a:fld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F6B9B67-3B3D-43E7-8E7E-AF940A9DE7B7}" type="slidenum">
              <a:t>&lt;#&gt;</a:t>
            </a:fld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35FB18B-B442-44F4-A931-1F67245F60E9}" type="slidenum">
              <a:t>&lt;#&gt;</a:t>
            </a:fld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EE24674-0D0C-4DA1-AE1E-C84CADF56FED}" type="slidenum">
              <a:t>&lt;#&gt;</a:t>
            </a:fld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0A86E2A-B7A6-4EA6-9238-8E21F25A83CB}" type="slidenum">
              <a:t>&lt;#&gt;</a:t>
            </a:fld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B2F78A1-C9B7-4D5E-9E90-186853AF5499}" type="slidenum">
              <a:t>&lt;#&gt;</a:t>
            </a:fld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64A241C-CE85-4927-8A10-D6B044E8EE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CF55-94DB-4C3D-A545-B56E5FD2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6FE46BD-C05C-45E2-B912-3866EB21E2F6}" type="slidenum">
              <a:t>&lt;#&gt;</a:t>
            </a:fld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2548D59-ED55-4B00-A251-0BB97EB16AEC}" type="slidenum">
              <a:t>&lt;#&gt;</a:t>
            </a:fld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ED6089F-4EC3-482F-B2CE-87BD4F39E544}" type="slidenum">
              <a:t>&lt;#&gt;</a:t>
            </a:fld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B50DE52-459E-4637-BFDE-3664CDDA172E}" type="slidenum">
              <a:t>&lt;#&gt;</a:t>
            </a:fld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C975166-F4F0-48A6-9C0F-458B16A59F6C}" type="slidenum">
              <a:t>&lt;#&gt;</a:t>
            </a:fld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11B63A-4355-4363-90BE-4ADB913D5CAC}" type="slidenum">
              <a:t>&lt;#&gt;</a:t>
            </a:fld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4B873D-5DC3-409B-AC54-8E45E58D650C}" type="slidenum">
              <a:t>&lt;#&gt;</a:t>
            </a:fld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D5E928-E8A7-4C41-9EE5-0C4BD2687D79}" type="slidenum">
              <a:t>&lt;#&gt;</a:t>
            </a:fld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0A6F2E-D2EA-4FF3-A8F7-7BE048E7947D}" type="slidenum">
              <a:t>&lt;#&gt;</a:t>
            </a:fld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347D2A-6714-4D54-B408-3A0D3C6C986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7066-A2DF-4469-99FE-48037440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1A0A67-4CB1-4A30-BD3F-ED0117C6A3A6}" type="slidenum">
              <a:t>&lt;#&gt;</a:t>
            </a:fld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AF3BBE-AE71-4F99-9F7E-EA260B7923F1}" type="slidenum">
              <a:t>&lt;#&gt;</a:t>
            </a:fld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54202F-A19B-425E-B14E-34DCA5F2610D}" type="slidenum">
              <a:t>&lt;#&gt;</a:t>
            </a:fld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6C838F-1CBD-49C6-BD04-D1C79BAD1B98}" type="slidenum">
              <a:t>&lt;#&gt;</a:t>
            </a:fld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23EEC9-7490-4F2E-90FC-B1093860392B}" type="slidenum">
              <a:t>&lt;#&gt;</a:t>
            </a:fld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1709AF-C464-40BF-8157-54C02CF85C7D}" type="slidenum">
              <a:t>&lt;#&gt;</a:t>
            </a:fld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59A621-A50A-400A-92E8-147D933C2A20}" type="slidenum">
              <a:t>&lt;#&gt;</a:t>
            </a:fld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7D5C22-5BB5-4BB3-8E46-E48D9426F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46B8AA-F21A-4B28-BA31-E4D96504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F60ADE-44DC-4E09-A0BD-55035665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B654-DC50-4EDF-A9CB-78101045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619BAF-DF05-47D1-BC72-81D1123C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DD0974-2011-4AD3-BFAC-A0EEE50C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FDBB39-3223-495A-8E21-6197C409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D61B53-60DA-4C49-BF9C-2F7D36D3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2FB705-BEDB-4041-BB06-5A982323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3E73DF-1821-4CD6-8A8F-0036745E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776625-585A-4F7A-BF3B-7AFADE58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ACCE14-AF3E-4BD8-A48A-2419E1D70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DE212A-5071-459B-8BAD-3920D1E15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C296-B3EF-49B3-8BE0-534DC2D4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FBEB-5C5A-45D1-A1F1-B33DB71B7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93BB7-536F-47CE-A4E6-A7D07D76569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D3687-B4F2-45FC-AC4D-503EB5B7149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6AE1D-6E67-4FED-A4D3-2414B4CCCFC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6FB72-C88B-4199-92DE-E5008095BBC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36687-D646-44A8-AA41-E63A0C4781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E660E-283D-42C7-9FFB-AE651F9D903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7F263-2111-430A-91F2-F9C31080A35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5E8BC-B693-4632-A614-AD9A2923170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12D89-DEF3-45F6-B31B-122FE77BA93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D130F-A3E2-4285-830A-5FE9049A788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409CCE-DD7D-45AB-AE6B-01D342B5DBE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6E5FB-EEC0-4002-A15B-6D85480253C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3E397-27E5-4E9F-B786-FB1F7171BDB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48C60-B460-4AF2-AD32-F003EF32D28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F1330-4395-4F16-9A5F-E669B8B9E6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Num" idx="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Num" idx="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Num" idx="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Num" idx="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178033-58AD-4BF1-AD0D-2CF856DF417D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011A38-7CFA-404B-AA03-130FC9FD5C2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5468BD-C198-4FAE-BA20-69DFEEC7863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70CB9D-D9D6-4813-9768-072D6433C809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437C3A-84FB-4B3B-8281-25D08A785C38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24EADA-EBBA-42A3-B737-3E852AC506F6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083E2D-AEA2-4CE8-84FE-CEA3A227E5D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45B95C-04E4-4318-BC05-54EED455B5B3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640E94-D594-47AE-BA54-48962A82864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Num" idx="2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D9A0BF-AC05-480A-B2F6-745222AB804F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Num" idx="2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4D92B8-0F42-4F37-AE0A-D146C8BA181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Num" idx="2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F54559-5E4D-4A61-AFAE-FEA3AF9AD05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Num" idx="2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29787B-C6CE-4654-90EB-0F3287961432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Num" idx="2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714E43-4C5F-4DCB-983F-44F0D7B2C33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Num" idx="2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54112E-440D-41E7-98C5-87DB6C83C53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Num" idx="2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B8C054-29A0-4EE7-B390-E73581F897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Num" idx="2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659CEB-C378-4A7B-8B6B-94BA0624DE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DAD530-DFA1-40CC-8FF2-7A5578CC49D3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Num" idx="2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D0EF3D-E3B7-4E0D-9BAC-3141D96A04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ldNum" idx="3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EDA5FA-F40C-406C-AA55-9A8CBDD46C72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ldNum" idx="3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B8B11C-5FEB-469E-82FB-292FED62CCD8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Num" idx="3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C04D30-A2E6-4DBC-B9A8-CB0122DC9A6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sldNum" idx="3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026EEC-E051-433C-BB91-6AEDF0F58E8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ldNum" idx="3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AF9FD6-7705-4C84-A624-6A4BC2EFC868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ldNum" idx="3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32D248-7234-467C-9339-3270B0CFAA45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TextBox 1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1"/>
          <p:cNvSpPr>
            <a:spLocks noGrp="1"/>
          </p:cNvSpPr>
          <p:nvPr>
            <p:ph type="sldNum" idx="3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2990B2-D8A4-47A2-B3A8-61A36BACE5F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sldNum" idx="3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FBD7C4-5D77-4A7B-8DC5-BEB3DD08DB7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sldNum" idx="3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C3F07C-F9C1-4467-9BDF-FA21381B9575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Num" idx="3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ldNum" idx="4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A5A531-B7D2-4667-8D3C-C9A7EC2C2FCE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sldNum" idx="41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sldNum" idx="4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32B9A2-B6AB-469E-AA6C-7B32838BAF3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sldNum" idx="4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04A5AE-7C75-4D46-8D42-41AEF206C1F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sldNum" idx="44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sldNum" idx="4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sldNum" idx="4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sldNum" idx="4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AFEB41-6C92-4E4F-9C11-99D396FD14B7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sldNum" idx="4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21814D-4780-42E2-832E-F9DF518B575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sldNum" idx="4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73E750-EA3D-42FC-B068-C08DD29F57E6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sldNum" idx="5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8A7E3A-EBA9-4C7F-BB34-9092EA39BEC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sldNum" idx="5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96E57F-3453-4A23-88C7-E26C22FEF667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Num" idx="5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C63B02-B7D6-42DE-B0A3-C30218C5C43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sldNum" idx="5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7F9277-59A5-4B90-BAA7-B46D21E14A9C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sldNum" idx="5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9C995D-9968-438D-817E-31AD29D1E22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2F3DA0-10A7-416C-AB30-56492FC84288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sldNum" idx="5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38DB3B-0457-43C0-A732-31109DF77E3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sldNum" idx="5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CEC884-940A-4808-88EB-9495A948C43C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sldNum" idx="5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D89E1D-8EA2-42A6-A207-A377C6716FF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sldNum" idx="5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8CA021-EBB7-4351-8788-5C59F25F181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sldNum" idx="5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5279DB-BA78-4665-A1A9-3263BF2C405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PlaceHolder 1"/>
          <p:cNvSpPr>
            <a:spLocks noGrp="1"/>
          </p:cNvSpPr>
          <p:nvPr>
            <p:ph type="sldNum" idx="6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7F871B-555C-4A56-9DBC-90C60BC74A4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sldNum" idx="6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B4526C-C7EB-488A-AC4F-C6ED09F074C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sldNum" idx="6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C5C8A2-B2E6-4323-900F-8167081A0D4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sldNum" idx="6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C8B1D2-BA15-44A5-A2E5-C0B8E9D0686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PlaceHolder 1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PlaceHolder 2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6" name="PlaceHolder 3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64EBE1-A598-4604-AE0B-FA393F558951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7748C7-4768-4B14-8AD7-80819237A820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Num" idx="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A4857F-DFF3-406F-9FF3-3C2920CCB79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Num" idx="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community.icann.org/x/FTR-A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792000" y="2103120"/>
            <a:ext cx="7560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Policy Development Proces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Translation and Transliteration of Contact Information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Chris Dill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4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7AF32E-86A2-4D10-A5B2-66C66D6D1EC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510400" cy="6573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Backgrou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6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891CE2-7506-4DFF-BCFE-AB25F8AF2AB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7" name="Picture 2"/>
          <p:cNvSpPr/>
          <p:nvPr/>
        </p:nvSpPr>
        <p:spPr>
          <a:xfrm>
            <a:off x="304920" y="2666880"/>
            <a:ext cx="335268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8" name="Rectangle 1"/>
          <p:cNvSpPr/>
          <p:nvPr/>
        </p:nvSpPr>
        <p:spPr>
          <a:xfrm>
            <a:off x="426960" y="1028880"/>
            <a:ext cx="5659560" cy="55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21 March 2013: Issue Report publish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13 June 2013: PDP initiated by GNS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20 November 2013: Charter approved by GN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19 December 2013: PDP WG begins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31 January 2014: Request for Input on issue questions sent to Supporting Organizations and Advisory Committ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24 March 2014: Public meeting in Singap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9" name="Picture 3" descr=""/>
          <p:cNvPicPr/>
          <p:nvPr/>
        </p:nvPicPr>
        <p:blipFill>
          <a:blip r:embed="rId1"/>
          <a:stretch/>
        </p:blipFill>
        <p:spPr>
          <a:xfrm>
            <a:off x="5753160" y="824040"/>
            <a:ext cx="308592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0" name="Picture 1" descr=""/>
          <p:cNvPicPr/>
          <p:nvPr/>
        </p:nvPicPr>
        <p:blipFill>
          <a:blip r:embed="rId1"/>
          <a:stretch/>
        </p:blipFill>
        <p:spPr>
          <a:xfrm>
            <a:off x="6111720" y="773280"/>
            <a:ext cx="3225960" cy="2336760"/>
          </a:xfrm>
          <a:prstGeom prst="rect">
            <a:avLst/>
          </a:prstGeom>
          <a:ln w="0">
            <a:noFill/>
          </a:ln>
        </p:spPr>
      </p:pic>
      <p:sp>
        <p:nvSpPr>
          <p:cNvPr id="2571" name="Rectangle 1"/>
          <p:cNvSpPr/>
          <p:nvPr/>
        </p:nvSpPr>
        <p:spPr>
          <a:xfrm>
            <a:off x="561960" y="1528920"/>
            <a:ext cx="638496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The Working Group Charter poses two substantive questions to the Working Group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hould local contact information be translated into one language (such as English) or should it be transliterated into one script (such as Latin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Who should decide who should bear the burden to either translate or transliterate contact informa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328320" y="322200"/>
            <a:ext cx="8358120" cy="12067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The two issues of the Transliteration and Translation PD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3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D3145D-5509-499B-A081-0A899BE6A915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Rectangle 1"/>
          <p:cNvSpPr/>
          <p:nvPr/>
        </p:nvSpPr>
        <p:spPr>
          <a:xfrm>
            <a:off x="3919680" y="1447920"/>
            <a:ext cx="4800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taff has commissioned a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mercial feasibility study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on translation and transliteration of contact information to help inform the Working Group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5976720" cy="12067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Related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6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686A50-40D4-441A-8A48-51F5EBEF4F5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7" name="Picture 1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311280" cy="2362320"/>
          </a:xfrm>
          <a:prstGeom prst="rect">
            <a:avLst/>
          </a:prstGeom>
          <a:ln w="0">
            <a:noFill/>
          </a:ln>
        </p:spPr>
      </p:pic>
      <p:sp>
        <p:nvSpPr>
          <p:cNvPr id="2578" name="TextBox 2"/>
          <p:cNvSpPr/>
          <p:nvPr/>
        </p:nvSpPr>
        <p:spPr>
          <a:xfrm>
            <a:off x="3919680" y="3657600"/>
            <a:ext cx="500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n Expert Working Group is determining the appropriate internationalized domain name registration data requirements, including relevant outcomes of this PD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9" name="TextBox 3"/>
          <p:cNvSpPr/>
          <p:nvPr/>
        </p:nvSpPr>
        <p:spPr>
          <a:xfrm>
            <a:off x="690480" y="6215040"/>
            <a:ext cx="150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mage credit: www.dkit.i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Rectangle 1"/>
          <p:cNvSpPr/>
          <p:nvPr/>
        </p:nvSpPr>
        <p:spPr>
          <a:xfrm>
            <a:off x="431640" y="1117440"/>
            <a:ext cx="828864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Whether it is desirable to translate contact information to a single common language or transliterate contact information to a single common scrip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What exactly the benefits to the community are of translating and/or transliterating contact information, especially in light of the costs that may be connected to translation and/or transliteration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hould translation and/or transliteration of contact information be mandatory for all gTLD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hould translation and/or transliteration of contact information be mandatory for all registrants or only those based in certain countries and/or using specific non-ASCII script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328320" y="322200"/>
            <a:ext cx="8256600" cy="12067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Request for Input on Issue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2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33F73A-290C-416D-BEF1-5FCA662A2B44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Rectangle 1"/>
          <p:cNvSpPr/>
          <p:nvPr/>
        </p:nvSpPr>
        <p:spPr>
          <a:xfrm>
            <a:off x="431640" y="1219320"/>
            <a:ext cx="8288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What impact will translation/transliteration of contact information have on the WHOIS validation as  set out under the 2013 Registrar Accreditation Agreement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When should any new policy relating to translation and transliteration of contact information come into effect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Who should decide who should bear the burden translating contact information to a single common language or transliterating contact information to a single common script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Who does your SG/C believe should bear the cost, bearing in mind, however, the limits in scope set in the Initial Report on this issu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328320" y="321840"/>
            <a:ext cx="8256600" cy="7952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Request for Input on Issue Questions,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5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12DF2C-8F50-4BF0-9A3F-850AF151AE4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Rectangle 1"/>
          <p:cNvSpPr/>
          <p:nvPr/>
        </p:nvSpPr>
        <p:spPr>
          <a:xfrm>
            <a:off x="3429000" y="1133640"/>
            <a:ext cx="5562720" cy="41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view input from the Supporting Organizations and Advisory Committees on the issue ques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view results of the commercial feasibility stu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Working Group drafts an Initial Re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ee the wiki at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ea typeface="Trebuchet MS"/>
                <a:hlinkClick r:id="rId1"/>
              </a:rPr>
              <a:t>https://community.icann.org/x/FTR-A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for upd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5976720" cy="12067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8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49C24B-1AE9-4B59-BA96-D8CCC8D5174E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9" name="Picture 3" descr=""/>
          <p:cNvPicPr/>
          <p:nvPr/>
        </p:nvPicPr>
        <p:blipFill>
          <a:blip r:embed="rId2"/>
          <a:stretch/>
        </p:blipFill>
        <p:spPr>
          <a:xfrm>
            <a:off x="152280" y="1371600"/>
            <a:ext cx="2962440" cy="3933720"/>
          </a:xfrm>
          <a:prstGeom prst="rect">
            <a:avLst/>
          </a:prstGeom>
          <a:ln w="0">
            <a:noFill/>
          </a:ln>
        </p:spPr>
      </p:pic>
      <p:sp>
        <p:nvSpPr>
          <p:cNvPr id="2590" name="TextBox 4"/>
          <p:cNvSpPr/>
          <p:nvPr/>
        </p:nvSpPr>
        <p:spPr>
          <a:xfrm>
            <a:off x="212760" y="6211800"/>
            <a:ext cx="224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mage credit: http://3.bp.blogspot.com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09:45:36Z</dcterms:created>
  <dc:creator>Marika Konings</dc:creator>
  <dc:description/>
  <dc:language>en-US</dc:language>
  <cp:lastModifiedBy>Julie Hedlund</cp:lastModifiedBy>
  <dcterms:modified xsi:type="dcterms:W3CDTF">2014-02-26T16:19:07Z</dcterms:modified>
  <cp:revision>200</cp:revision>
  <dc:subject/>
  <dc:title>GNSO Policy Issues</dc:title>
</cp:coreProperties>
</file>