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</p:sldMasterIdLst>
  <p:sldIdLst>
    <p:sldId id="256" r:id="rId71"/>
    <p:sldId id="257" r:id="rId72"/>
    <p:sldId id="258" r:id="rId73"/>
    <p:sldId id="259" r:id="rId74"/>
    <p:sldId id="260" r:id="rId75"/>
    <p:sldId id="261" r:id="rId76"/>
    <p:sldId id="262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" Target="slides/slide1.xml"/><Relationship Id="rId72" Type="http://schemas.openxmlformats.org/officeDocument/2006/relationships/slide" Target="slides/slide2.xml"/><Relationship Id="rId73" Type="http://schemas.openxmlformats.org/officeDocument/2006/relationships/slide" Target="slides/slide3.xml"/><Relationship Id="rId74" Type="http://schemas.openxmlformats.org/officeDocument/2006/relationships/slide" Target="slides/slide4.xml"/><Relationship Id="rId75" Type="http://schemas.openxmlformats.org/officeDocument/2006/relationships/slide" Target="slides/slide5.xml"/><Relationship Id="rId76" Type="http://schemas.openxmlformats.org/officeDocument/2006/relationships/slide" Target="slides/slide6.xml"/><Relationship Id="rId77" Type="http://schemas.openxmlformats.org/officeDocument/2006/relationships/slide" Target="slides/slide7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B996A-C826-4E58-9776-552162FDE49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DF22C-4CD0-4C24-96C7-32EA71A393B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A304E-D905-4846-A7F6-E4563688ED4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D8728-7746-4D79-AD71-D5A7C2997C0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44146-51F8-4D03-BCFA-D3ECC508FE9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6D0F2-AD85-4BA5-A61E-836C30F840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93BD4-8B96-4D9E-B4CB-EE4982AF788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4B024-BF0E-46C4-949E-90F6E46259A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F2FD7-6B07-41D2-BA1F-E64B1A6462D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CC77-AE2C-4BE7-A77A-820EE6936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B8CE-1347-4F13-85BC-CFE5DB6F875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7A49-1B49-4611-A497-7CD365072B8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A744-DD0F-4359-8315-7D73A9CDDCF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CC2C-2E8D-4482-8BB2-DC5F8AED110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4C61-DE8C-4275-BCEB-0C104E09E2F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BDB5-01A9-4313-982F-C536CBBB080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7858-2B9D-4CA0-9D86-EB85A4F550E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4D13-8C5A-4A13-BFF0-9B62F49A03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D80F-2D8F-495C-9DE5-7C6F18A2EF5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6079-705C-42BB-A4C3-5C3A53FE9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D6EA-7A3A-4DF2-8A13-2234F6F3029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1DDADF-60B8-4F69-94A8-4D3D1CF03E6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F29CE0-4D17-4A2F-A89D-F90B918CEEB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32B34-8ED9-41D5-BA86-306E9AE527B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995CA9-D026-4279-8219-4DC98B1460E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0DFBC-CC32-4852-B0A9-C9E8FD9EC58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39F2B0-914B-4FB9-A304-6B79E3C7C37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32E6B-91E4-499D-9115-AE1DE284FCD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4E5E80-94F0-4FAC-8E73-9D77EFAE0E0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44BE1-BA2C-4BEF-A4C9-B10354D5C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96B6CC-4479-4393-A43C-0AE3665FC03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DF7BAB-6C68-48B9-BDF6-DFE034DF587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7597B-66BE-4A19-A358-6D33CEEA192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CA6DF-1FC4-4B84-A121-E8EC9FE53B6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92D53-487F-4CA2-B2D4-0644431F3D3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D3DDB-F86C-419B-A4A1-307A1AB593F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59EC4-AB7A-41F2-8642-0F437BBE90D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80F76-BE72-4AA6-90AB-54B0A5AA681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F0A2F-50BD-4013-B5DC-F79BF33E295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9B63E-3D56-4CDE-A972-907886501B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798B9-2BF8-43C7-9EFC-0FFB21DEA6A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46D37-3145-4506-8056-8D29DF6882C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679DA-AE35-45A5-AE05-20B91582B44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8E5E2-4E64-46FE-95C3-41457C6F3E2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04D4B-9A13-443F-9369-D9AC12756A2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0D8B-49A7-456B-9970-A878B847407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3FD7-886D-43EF-9D15-4C8BF239F17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2706-B26E-4F5C-823E-7F7D39BBDF9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46F5-4F72-40AC-83EE-A57E4014150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9D045-63D8-4910-B7F4-C991DB3102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D7468-CEFE-4B87-AAB4-52DF954BD0F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9ECF-68BE-4D8A-9955-E51B5F4B829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A0295-111B-414A-8A6F-3E778754330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C9DB-1708-48DF-8288-30E82618843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A630-4DF2-484C-861B-A4F2238CE20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A9D2-F8F8-411A-87B5-DE72109F96E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8B243-C390-45A1-AFDE-F32E077CBEF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B14E9-A173-4C18-B740-EB7F1EB3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63E1A-3537-4F8B-88BE-992AD273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224E5-17C8-4B7E-9BA6-B36EFAC2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0FC0-3450-4DEC-9681-984E21B6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56B0D-803A-4C86-9F0B-357AF7D7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44CF2-9831-4CDE-ABBA-C31D828E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470CB-9D53-4D9C-9610-D91AA9D8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BF25D-3B7A-46AE-A09D-FDBCB7D3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D776F-559F-466D-8FF0-C9EDC5D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19EEA-8DED-4887-8845-BDD09DA5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6EBC1-9D25-4D8F-8743-665D5281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5B7D8-AA0D-42DE-BDE8-3AD2B148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46475E-D646-4DE8-A5E7-1526F4F69B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546487-4379-4A44-B952-03E300506E5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C54963-9337-4A93-B0B3-1716C73EFE2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5D75DA-3754-43FF-BDB1-AAA0570D312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2876CF-C302-48FA-A308-8E244D2FB64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FDAC3B-D727-49EE-B175-83356D92A55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67EFFF-276F-423B-A874-EC0CCC5E8BE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049E62-25F5-446F-BE4E-57A8DCF48CB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A81FB3-4CEB-4379-B9EB-042074BFABB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908A29-171B-4DDF-9F15-04B7EF16787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1BFEAF-B187-4215-83E3-1857DAB427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F5F5C-E076-41A8-B449-79488AC4B1C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70600-82ED-48D1-B86E-FFD64A2D53D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DB598-A0CC-42E2-BF6A-58D25ED70C9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AA511-309D-4DAD-AA1F-7A1ABF862F3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F22C5-C307-4ED2-8C5E-FE2A13E00BD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D031C-E4F6-4152-924D-B9B342209C9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C615B-B497-489C-911F-0F6FB1F3BF4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DEBC2-2CC1-42EB-A214-643F5682DE1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FDAD4-4915-4E8E-88FE-56E2A212596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09ACB-AA22-46C2-AEA2-B4D796A7EC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342D9-CC3A-435E-B891-43DC0E8271B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416F1-B840-4B76-AD68-FD7C5BA17D0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54FF4-FB8A-463F-8B1C-62C80FA611E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AC002-CCA3-4759-BEF5-BCB75A78F1F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76B79-8F81-4A75-AF21-505980B3B66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FE9E0-9113-4808-8918-2A0350C2161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D176C-0873-410C-8BC2-FC2F9A7DEA4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28F01-439C-4C2A-A539-458C9335E17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1E1CE-2FC7-4B4F-A6F6-3DDAC2B2DA2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7E6A9-F45D-4135-95C4-BF7FEB235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5A960-8F82-48FD-B9FA-4BCAB3DD334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B2066-32DE-4864-911D-F14CA2F85BA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52809-7A27-4991-9426-D13B5AC6187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3246D-7AEB-49EF-93B2-D601435CCE2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573C0-DC4B-48AF-B8D8-CF0B344640A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52AC88-CE65-4FE8-864E-6C2D0B315E0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CEA621-9465-4E26-AFE0-C38A1401E61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F190B3-8EA0-4E0C-AF51-81266EBA57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0FC510-476A-4B49-A9DC-ED216BD8AB6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47CA6C-1B9B-4E7B-8AD3-25AFF63F169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44188A-9682-4646-8EFA-842947CA26E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5E630D-25CD-40B3-9BDF-3E542EBCC55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A675D2-87B2-4CB5-8496-B3E6003B070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0B50AF-8AC9-4B8F-9F8A-477304E2EB1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2884A7-7F7B-4990-A602-3F21A6AA99A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C4558B-F784-4E91-AAB4-EDC80BA4C9C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114C5E-06B2-4196-AF9A-A7E5F5C0C3C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657672-70C9-448E-90F3-22CD355394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FF24D-DFA4-47D9-83F5-B280A79B1AE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32052-610A-4FBB-93B6-DE3103DAC18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A8DBF-2B31-447E-95E4-F8A0CBA4DBE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2EDC9-71C0-41D0-84F9-C471FC03DAC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E430B4-7FD6-4958-8A27-33D31CFA829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DADEF-A3D1-4DB2-B04E-DEB21F30C3F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B9F81-A54A-47CC-A3A4-2922C0D6DF7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F57B9-4D85-4181-9AF1-5A8455367FF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3A671F-74C6-4A84-ADA0-4E3E0FB1435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11E6E-ACA1-47CB-9C40-972E17350C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E1DA4-6AF7-4AD5-B530-BEC6B539E16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67443-316D-46FD-B199-D4BF5B1F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EE937-D219-4E8C-A91E-3CB4775E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96E488-DD0F-4234-99A0-45876883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1FB295-E5B6-4341-8DEC-09D72EEE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7CCBF-4AFF-42F7-847B-E0486993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92002-E2D7-4081-9E95-F998AB3E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B914F5-CDF9-40DB-839C-51C15A51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19D93-7B52-4237-ABB6-C560F493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243FE-DF48-4EB6-AB90-C1975ACC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465C8-3F8F-4554-9C7A-AC8C58AF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C4DC2-71E9-40A0-851B-850A4BFF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85BDB-08A0-4071-A31F-CEB0E209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BD0B2-10C4-4B5E-9703-EB7FA6FF2FE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8B875-1F5F-4BDB-9F37-295F33A9DAE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1B631-41F9-4866-BF18-67609E73B9E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66B31-BF61-4B7B-9D1A-2E236C762A5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896B1-B06D-4DFC-BE7E-9B32DA7A1F8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1F7D3-6BAE-49B5-9C2F-EBE39441753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EF477-5783-4C77-9B6F-8168867C57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29949-DDA2-4C92-9F10-FD0B479D564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D70F8-77ED-45FB-AD67-BEB91A9F519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CCE35-6CEA-470C-9A21-6ACBA60A9B5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1C74E-5E8A-4EDC-B2F0-6151B01EA1D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FAA99-F77A-4159-B337-30E396305E8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1B8FEC-FEA9-4CC4-9827-3E4DFCE17F1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94450E-A4B1-4BE5-825C-21EF4C6A59D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058311-E7B6-4630-9DB7-409C3319FBA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15D130-2BD3-426E-AC74-E0CF70CC363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A9284E-2E02-4DDF-AE10-545D72B009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6CA88B-65F5-470A-A711-584424B05FD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C0A925-BF3D-49B0-B8AB-0CB30D96F25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608D80-2554-4DB6-B048-DB311AE7D0C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AFE534-CAB7-40AE-8CA6-51B167B9BC0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46F074-603B-4663-8146-7569AD62C0B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E6FE2D-61D6-436F-AA76-1E80BB88FF2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D9DBC3-B756-408C-92A5-01029C8563D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42A4AE-6115-45C4-9801-199823C5F48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3B79BD-9925-4AD7-BA47-6754667ED0A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CC3CA6-AA5F-458D-BA4D-A86D8AD20A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E3BA6A-BC03-44E5-8295-CE3C57C3267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3C8B59-CEAC-4DA8-B761-F5A303CE7E3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13654-98CC-4783-BD8E-B77B3FE77D3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6B8E29-F0A8-4532-8760-D5BB6DB9C25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DC48A9-595D-4438-8995-7AA034DDFF1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FAF0C3-0683-4093-810E-86B930BDBF6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561C11-DFFC-491F-9700-2C651687F57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6A23E9-7EF6-4894-88C0-579A3CCDB33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B726DC-2DC9-42DD-B991-6A3E0F8D650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575D0-FEE4-4482-8106-52A3089AF3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746FE-FAA7-477C-B124-9A218EA018A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0F70B-8F94-442F-87F4-28E8DB3CB90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BB17A-0154-48B5-A64A-1C1E4002700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35F80-B925-4937-BD43-72D7D1516A7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9C2DB-F4E7-4FB4-A1A3-A7E01BB90C0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1BF37-2590-4A5C-A199-FF3C8E7857B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6C186-EAE2-4242-9094-D6EC20A5551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3F305-1599-4430-B4FA-275E987A636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5AE5C-C8CB-4E97-BFB0-7CEB796715F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1C839-75BA-4907-86DA-087724D032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BAF96-475A-4A4B-B41A-72840D99035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AAC4F-95B6-466B-BB0A-A3DADCAAE32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2B74E-49BB-424A-A65E-2605005C5C8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6DE88-4098-4139-A439-97820CAFA85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61B3D-33E4-44A7-BF25-F80026B92A8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B248D-FA4F-40EE-98E3-007336FCB71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FA8E0-4181-4901-81B2-E7B69978384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F343B-B365-406A-B95C-F96ED34DF68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964C1-9DC6-4A13-9287-8C553E35276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5F6F3-B282-4471-9941-5022B3C7BF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C1113-F815-4AC9-8B99-ACE00DDA0F5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D0E3A-1D83-48A0-99BF-6CC425DFDC7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62DDA-3CD3-4B68-9E1C-98F1F9C199C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FFB7E7-9AC0-41E3-933A-885299D90F8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6DEBB4-52B7-43E1-8D2D-E36D1D73F58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91EB68-16AC-4154-9B61-D7EFB2EC75E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68CDEC-DB7A-488C-95ED-0FC2284A8BC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F69FFA-B741-4FB8-ACD7-044E450C1AC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103724-06D0-4EB5-8157-E580383A87F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C28BC9-7540-443C-9708-6850E89667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AF862C-7825-4106-B17B-77DFDDF33A1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ECFCD3-309E-4B1F-97EB-5693ACE4C0E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C7BBF2-9D4D-4F8B-8674-4413CBAEB2D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8AEB1-96EB-4799-AFF1-A7E9A262787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3D761D-457C-4CEC-96EB-15E02E40C23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BD3B1-E264-4C03-BC8B-8621CE948817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D4361-FCDA-49DE-8F9F-B1FE155DAE90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C5268-B5D9-4AA6-841A-1AC4A1B2E3A1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577EF-2FD6-4B70-A951-7B87961C7659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8FCD5-D12B-45D0-B66A-7E89C51A74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E07BB-DE92-4348-8BC6-B06BEA5F8C3D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27BB2-B8A3-4FB9-8175-852A07075088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5806B-51A3-46F1-AB36-A7DA21324E91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60B6F-4F41-49B1-8646-F561CC44C21C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899AB-BB2F-4BE5-A8E8-19405EF60D27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3AAF7-8D57-4901-B129-18D66E1D53D0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10BE3-46E4-4712-8913-844FD265FEA2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5EFC9-EFC0-4F2E-B3C1-E5FA8C83364C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642ED-139A-40D6-9ED6-E220959A8F03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E2246-EF7A-4E07-B6F6-63B24E6C2F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FDBC8-EEC3-4F5E-910E-94ADF74F50C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FF0FD9-7C2F-4CBA-B95F-EF01DE6E6A92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70FDB-8953-469E-A483-5D0D972D2A6A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019C43-64E9-48B5-BBDE-436F61AE65AA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520D2-BCE2-4A1D-81C6-185F40AAA083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EDBB4-4D03-4264-8E85-8931ED482C8E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F0CCC-AB23-4467-B185-1698D853B23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E0081-AD2B-45A4-BBCB-6DED4AD1D86A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7E615-DC62-4F40-B93A-9E8324B1275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255B4F-A343-44A1-89A8-0E751BE60B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EDF2DA-C4DD-4A25-90EF-A36FAC20A360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25F0E4-0E78-4EEC-868D-6C755D128C45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EDB783-0348-4344-8B2E-EEF848F989A9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B6618C-AF0C-42C4-8269-0895F58658E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373F9A-B838-4891-847F-BA404C26C25F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198169-2DD1-4DA3-85D9-A2CE21F02F76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736F0C-6499-47EF-ADF2-5BA0C4BED670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47C7F4-4553-429F-AC48-BEB0E7FB5C50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FFB39E-F06E-4223-A506-78BC915558CA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651C6F-F67F-4DC3-9F4F-F60CD246C5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47F1A4-948D-4DC1-869E-F914FF995162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6EE8C-7CCA-4F52-8361-7EEAB3BF3ADA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44D65-485B-424F-84AC-EF616173A736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6C3B1-7650-4FB7-B6D6-142C75839573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7A27C-7E75-4419-93ED-0E1442ED2F0F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8FA96-7911-4B2C-A8F3-29A4896C9D48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2F14E-0B52-48D8-8080-17CAB649F04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DFDA9-CCB2-490D-A754-AF10D10CEF2D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E41D2-8E98-474F-BED8-E593106A450E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ACCBC-B514-458D-991F-A4261D8C8D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F0E06-D0DC-4F00-9053-D5E53271E821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AC714-DADA-46BC-B4E1-BAC9B8BC8C30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90EF1-CCCE-4186-8B07-E00A2A0EDB9D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F7B7EA-F656-4E33-B365-9AB43B71439B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E8FC03-EC87-42E3-96D9-EA50073DDB40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CFB400-8CE7-49F1-9952-F78140A2B7CE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BB1FB1-F211-4366-A54B-C8251FA1DDCD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AA9EB5-E80C-44C0-B5B9-2EE521F325C4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775829-C8D0-4657-8D29-66EDAB07618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4A662B-862F-4733-8409-64A7F6C1F2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AFB43D-960E-444F-B10B-6CCB37ED9331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4522B0-17E1-4255-8673-D3A96B22C09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756237-9D4B-4433-BE48-51535FC4291E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4068AA-21D4-493E-8400-CF03393DB629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6E27FB-6E68-46A1-8BEB-335FEEDC4876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DB5CDF-7C52-4753-90DB-65F9E89B2FA4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A07F22-578A-4FD5-8AAF-6C4ABA28952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B645A1-2596-4EE6-9CE4-B2A723B40A7D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AD73C7-3C50-4E9E-BE23-2126EBC00E2C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9D48B6-9AC4-4E7D-BE2B-CF277C500C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F59DE3-FF5B-457A-8CEF-7F7B05EB95A9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77277F-7427-460D-BDB0-16E65AD36D6F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A47E6A-D588-4257-A526-945B982AA617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C82761-F8FB-4338-9D64-85B399765712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152D7E-589D-472F-BB2B-BB3002205394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7DB748-E599-487E-AB76-40C8EA8B9040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C631B8-1794-48C6-BB5B-E49C05AAAFFC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4BF66-B45D-45EC-8622-44580701ECF8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3E62E-F030-4BBA-9B1E-DBC3AA19A232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B9D44-687E-4BBC-A956-48DB938E5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14BAB-58B8-483B-ABC8-48247C90B3B5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D6352-6C41-4E34-A0A2-C8500AAFE6F2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5E4C1-75E5-41AA-BD62-F8F6907F1203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9B076-35BE-4E5E-AE5E-DB5D015D72DE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63A73-AD2B-450E-949C-CB25AF1EED35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56C96-7CD7-4504-A57D-3A0EE7520118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EE9FA-49CB-4240-9630-3CE64C154AD8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B3DA8-6A94-4484-9C82-39399C13EBF4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E0166-635C-4387-93A6-F4F5D5F9196D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78B0E-0721-4BF7-B671-5ACB57E96A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F6978-C2CA-4F7F-B330-4F5C0B6D47A8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D4E1B-0F28-445C-892E-DA801AF006FD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3BB59-E598-47D7-95CC-CD67DED6A059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2A5E3-19B4-415B-B3EA-9407E1A6174D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09F371-A10E-4715-904B-C326BBA5295E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C2B41-80E3-4969-8827-C7657BA343A8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9C1DB-4C25-49B1-9CC5-D4B286DC5E2C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5C4BF-1D8F-44AC-9E83-0F1D3F0D3913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9142B-FCE4-4B42-B4D7-ACC111D28FFE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7E4B2F-0988-4A0D-858F-C9D0F68C2E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5FDA1-5EF3-4C8F-A2EC-8238B3F9BBB8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A86D67-811C-4CA2-A3BE-FADBF3F323FA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BB4BC5-8D03-4EB8-A734-D6F115867279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9D3E1F-275E-4469-8758-D50D516AE269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D0586F-5855-4E07-9DBC-006BF2E5552F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ABB6CC-6B69-4383-960D-0CEAEB3DC891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35118E-5AEE-44FE-A409-BDB6CA47F552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1E0F0F-C7FC-43F8-9839-054E7865D99E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79853E-F4C7-4944-B4D4-F14E533AC665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A5BBE8-5153-4A9E-B012-49D4FBCD9C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654C3F-6815-4D7B-915B-1A68C9596FB9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C4DD70-CE8B-44B4-BC67-9AF099AE3FE2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07A21F-2EC8-4B89-BF56-4A0753BCD248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FD18C-DD50-4E5B-AD40-453844209340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8E43F-DC19-42B5-8C9E-01189F9E3611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7E8D0-421C-47D0-95E2-BB7CBD9CA247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F67A5-332A-42E4-AB22-395424E3DBBA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BF353-606D-4BAD-AD7D-DB3CF18BF05E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4997B-307D-4DA9-9D80-B92253B2A8F3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9705E-EAF5-4C04-B7B3-74849D01AD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0CE3F-10AB-4A54-9575-0D1CE70C76F5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E59C2-21D9-4691-BCFE-D7EEA0B21B74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0B235-7288-46B1-8C8E-919F8F456D9A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8AEB4-F3FF-4F40-A6E9-E4480485957A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666F9-779D-4A1A-A59A-AB9216EAA7AF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D9496D-6B4E-49CF-AB9C-D1A9BC9A6FE8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9FDF31-B366-4875-BAB5-23680DFE0C3B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9B4DDF-63A6-4497-9CF4-A9DA97112060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8A1CE8-F579-4786-8EBB-10BB97F1205F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206FB0-75AD-4C1D-93D0-9290BE8905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66C54E-7732-4CD9-A3FA-017386966E9F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C1D109-7699-48F5-90FD-F9B470DEC535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25A37C-D9F0-4009-9AA2-45BF80837A70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57E792-BD8D-445D-A0A9-46E8755EF9A0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F46A0F-4681-4A6F-B712-D860F06516EB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A8A67C-7824-4194-B45C-10D287226329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52AA63-1A51-4D98-BEA5-23F13853B8DF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FF998D-9082-4D7F-BADC-0BE5DAF52C78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3EFAF5-9DC9-46C1-A149-BABF179EF958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BFE171-E53A-4CCC-AD85-224617D84A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68D472-2A65-4CD8-98D3-B8A2E7BC4E09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235930-AFED-48C8-85EB-242EA4B7BAD9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CB45B2-2403-4D8A-B595-C31C10B3CCF6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22DE54-47B7-4602-BE9D-FAD855A0526E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933F32-D050-48B3-8B32-C80EF51BC697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024604-6129-4E61-959F-87A5376B7396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01BF01-CF11-4B0F-A4C2-7C6AA8FA81E5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3E9EC7-544A-4A37-B63A-09D3EA005EDF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657675-D0D6-40D7-9548-D6BFCC7C77ED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7FAB9-B775-49B0-A02D-C0F1644D55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ECFEF-8FEC-4B2D-BDDE-8D297DD3A918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5BB66-1F6B-4A00-8AFC-FAC7B7143769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20A12-4572-452C-8AA9-132762784B05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FE2F2-0051-4301-BAAB-B7754ACA8053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D8F0F-1040-47FE-90BB-962BC9A7DEFF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F74E0-A126-4D55-949A-A30AC2F74EBE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D5269-0F7F-4D48-80F5-E17AFA504424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0E864-22D9-4ED7-88A8-0606BF78BE60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68A65-B663-408D-A7C1-A0C53F3D65D8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F5BD5-73D2-4783-A176-ECE9B1809F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A5FF4-BDE9-4BE9-B7D6-C4053581085C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E61F6D-1E70-40F0-80A9-9A1E1EA831F1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C4B1C6-BE96-4871-9648-FED2E035568F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178DCC-31EB-4CAE-9C04-58401002349C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4E2AA0-E88F-44E6-8D9D-C1588603B154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413906-E1E7-4EBA-8303-F7B172FFED88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243DB3-E14A-41F1-BE63-092E2D59E243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9F2F50-1FA2-41C8-B6C9-2DB4AAF59A61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51F12C-BCCE-4B67-9FB8-4E5E22ECB786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8170C6-F0BB-4C39-A4A6-B1DB23ECCF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1FCA88-9F04-4092-8BBF-D5619ABFCB24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74C667-88C6-4CC2-8086-27D71DED7F25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4F35BA-E17E-40FD-80E7-E2FCD345CFB6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21460B-189E-4BBF-BBE0-0CDC4CEDBFFE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36FB92-BD4F-4449-819B-39B5EFC2FEC3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C8F038-1FA1-4B2E-8FBF-921F5C99470E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1C074C-C0B1-4AD9-B405-9A55215D7825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7315DF-C10E-40F4-A525-CB859C6ED69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98E83C-49AE-4746-9C3E-0572F02C6EE8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FAA73F-7F9D-4AB3-9190-50F5A7C65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897009-CDC4-41DF-92AE-945045893D06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B9D458-1A09-4CD3-931F-DD52B93C5FFD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C425F4-97FE-46A7-91E9-E87EFB8CEEF2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F416D6-BDC3-4A59-922D-6A87083D77F8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88554B-7E05-48E4-BEF9-F30CDFA6A425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AE8BF-13FE-4D41-A584-500EEAA7400E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1B786D-5334-4543-B568-428A9270AF7A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15813-BE18-4D2E-BFDA-A11B21DE4AA5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2C897-A8AD-4D1F-A5D6-A8B0A147453C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FB53A-EB68-47A9-936A-EA5617FFAB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8F853-17C8-4B7F-8B54-8F07CAE13961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E7B69-25C5-4764-8742-6D23A5B57303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9BA22-575C-4E37-98DC-422D4524534A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D43A1-46BD-4DBA-8201-173494954E31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502D3-1426-4DEB-BFB6-510ED675D335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24C9E-AF81-4CC0-9497-71AA31CA77B7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B31AE-970A-41C6-AEE3-A4EF5C3E4859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3FA393-467C-4F00-83EB-D44F1B1803C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D30DF66-A6EC-42AC-82D7-D77A0257301C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7A4D40-FBDB-418A-8A55-FE6A77958DFE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C4EFBA-9960-43DF-8B41-4E45B11B4948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8F3E76-CAB4-43A6-B579-71C2E3EBE364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ABB557-6931-4DE2-8532-CFB0A58AACF3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032505-418C-487F-B9D2-A3DFF3F790D3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DE8851-6950-449D-8F3A-807EEF160766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F41359-807E-46A9-9509-74D81E1D21F6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9AB84D-B5ED-4032-A3B8-548860FC8433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DD81572-E4F2-4342-9F14-84D6AE27D00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014D7E-4AEF-4103-A9B5-97865366895A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698C08-F538-479F-B6E9-07B6BE81F291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DC1BC9-A838-4553-9F98-F8A437884D86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8D42DC-9B9A-48F1-8C33-6D4C6ED6B79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1B2BE7-2CC8-4D22-923A-2B308A675D96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2B1058-9A22-46CF-9200-B68079C04B33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5B36B9-F879-4199-BACB-2F60101995D6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FBD4DC-346C-4224-88D9-BBADED283776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D2FD36-2C3E-4060-9847-C6E35AA6B4CE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C1C26C-3D23-4A4C-938C-CA8A11122F1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2D4D3A-7769-43E5-BB76-0B626C189329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14A2D6-F867-4E7D-B25F-9854BE12E50A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D1495E-5854-4E3A-AD02-7B02EF101DC3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E7B05-0483-4F89-9E20-5B9DBDD38E57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9656CB-145D-49A9-9411-5BEC2BCC691C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28AA3-BD9E-4128-A61F-F6783864F313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36DA7-FB16-49E3-90B7-5A3BD57994D4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9BB5AB-73D5-490C-8917-C594E1F7C2F1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B7BCB-0F09-455D-BCD6-0699E57ACA00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13240-F125-42F1-8D28-61C0A74416B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B070C-767A-4AE8-A8F2-F18FCC9313A2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6F1E3-C899-42DE-AE73-D0B2841EF9B3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F2B31-A886-4E64-9080-3B0AF82B961A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98C34-684A-43FA-B30E-EF93265DED43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D253E-8E84-4BB1-83E0-643B048D75E1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33AE6A-7618-4D90-A039-067EDE79E199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88094D-5AF2-4FBE-8DE1-7A8467F5F0A7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7AE9D3-3EA2-4594-AB06-19AFB38F4CBE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047BB5-A28F-4271-81CF-73F6B403857D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45F9E7-DBD2-4057-85C8-7A5BFA37083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C28DB6-8EED-4603-981B-D13CEA33A8AE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C21D11-6C1B-47AE-9688-2F4603B5A68B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FDF1839-998C-41FC-9D9F-3E92973C8531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F784957-F00D-4EA0-80D7-64732AC40F78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E21306-D0CC-4A79-A35E-97C97F4CDC88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A40B43-4AEE-4663-B3BF-BB7198689394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F73733-2322-4814-899A-4F1A568D797A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F42B29-062E-408E-BF80-DD7707992BE6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7C57EE-9BFD-4763-A71F-E80B99EE30B8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893713-C748-42FE-8941-DE80DEA6FEF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4F3771-1997-40BF-BEBA-60D6CBA8D4B1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91FFD6-7E74-4FED-8F6B-B3A4C68EEC79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7D4285-E28A-46D6-92B5-A56AB399FB89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2BE942-1472-4881-979D-D532A3B196E6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91FA69-92FB-4CD9-B98D-EDC3501511CF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F66C36-42F1-4EE7-9FD6-F1FB84107584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26CEED-324E-45F9-BBB3-E14528FEAAE5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A082E7-9AF0-40E6-9D6D-C0C3E3086B50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B698AF-09C5-4D11-AB45-98C943260912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504C3-2630-48F4-91AC-88BF5DF4FA4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EC2A5A-8E1C-40F6-9698-2AA2DE63CCF3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DBE2AF-6C00-4AD1-A322-ED239C757500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145E5F-FC53-432F-A79B-6D367FF7BD15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614FB6-D23B-4B44-9D13-A3CC0F208D50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03C22-7817-4E67-9214-F427C3140444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76B49-338D-48AA-9799-2FCEF100E737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04299-202D-4250-9BDD-0D85FB3547A4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6B9B0-4739-4326-81D0-086993CC34CD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25130-B2A3-44CA-9D2C-791852924BEC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BDCC57-BF54-4818-A117-57E765F45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14C06A-9F0D-443B-897D-F3D35F60F35B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5AD153F-6195-494B-87D6-E46A3052E46C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676A231-DC27-4157-8FB8-0265AD0B8BB5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4C43095-D193-44A1-A567-645EA9CBB120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AD4AEC-603C-4CBD-A484-63786DCF59F8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EBF3DFD-EA04-4348-B784-F1FCB2D83F4B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E0510D6-34BA-4E33-8E93-03BC8744E853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400BE59-D2AB-4AED-B25E-8A0B4F939F0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28F55F5-B6F4-424E-9521-5F957243AEF3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6106DCC-0CB2-4255-92F8-53B2044996D5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3414B10-1DFE-4608-9FAD-D5EB3E87CC82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47BA979-0050-45A7-BAFE-D5D9CE8BBD85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CB4F1F5-7EA5-4F36-8DDE-A06D89DCA25F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CECD060-6225-4614-A043-2513A0A1A070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2990B9-87A1-41C8-9D9B-FE9D178EEBFA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8F41E1-78CF-46C9-A6FA-CC96DA0B8AE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5C35AB-94F9-4C67-BCAD-8FA028532D50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03F0EB-5750-4775-BDD4-66F747C51AB3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55DFD0-6C37-46CC-ADD4-94EDE14CCF64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F37535-078A-4C6C-AFE9-9F69A6C80B9B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A430B7-3448-4430-8E63-77CCA5F0CFDE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1D4C39-09A3-46A0-840D-9241687B2CA4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2CD808-9DF8-4006-9B0E-B74E02FC936B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4C670F-7E0A-480E-8E46-98328BC7C4FC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75964A-7703-44C3-81F1-41D631DEACD2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92321-5B5B-4099-AC51-EC80ED6DDB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558911-DBF7-4971-AC3E-F8FD95FA4AA4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44258-5A3F-4FD3-B64C-BD5369CC0C06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EAACA-6BA4-47D8-A3C5-30C499DB22A2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7766A-FC95-4966-86C4-76402F87DFF6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BA673-9CE8-4144-8E81-18B2057A147F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E41F63-C06A-443B-A9A1-6F833730C58C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79196-6E29-4CB4-8A51-59B3582D1CE2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17A7F8-D162-47C6-A127-DCFC502D628F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AF5A21-3C6D-44E0-ABDB-4DBF1F2E71AE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C12B8-8817-48C8-82E7-2F7F99D4B1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2EAA3-9A4A-4B33-86BC-35A664B45EE8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751AC9A-EC64-4394-A3DA-4F8C5D7CD3DC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3ADF1D6-BE58-4C27-A59E-757138730369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A651C9D-A404-45B0-9073-7C66A7C49F11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C6A5A4-D2CD-4892-9E61-F231E922DDEC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392FDD3-01EB-499D-82EF-D9D70A1E4AF3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EC33BA-335B-4C8E-805D-869EF530FC35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9FE0537-2928-4550-9C10-7BBE79792185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2C204B-F61E-4733-BA54-9D94355A3430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D81A41-475A-4C7B-BEB7-D10633978D5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DE7641-17DB-448D-8241-A56C91373710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89D8A9-D95A-4DE8-AF23-E1B0A3931E3E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22D4C2-5F60-4058-A49A-BFFCD612C790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5A1A3E-CB54-421B-B455-FF6F3AF5A3EB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D5C2AF6-23EC-46B6-A57F-41BCB58F5A93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9C99A4-EA23-4037-937C-659CEFF296FF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6905F4-D44F-4366-9A0E-10C70CC59246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6DD9DB-D49A-47CC-A683-3FCCCFF34990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ED598A-581F-490D-9C6B-FA1802665005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FD95CB4-1D8E-4237-B11D-830BD5E49DF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7029540-D6AA-4283-9A09-9E6F2C47A5A3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B58347-BA0B-48ED-A755-389B377C43DF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BAA6C6-D73D-4821-A24B-EBDB94D178EE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B4828B-871A-441D-AF48-2661A6FF8C16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803BD89-1FD1-4450-8446-966B789BC609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785D5-AFF8-42D8-9397-A7FE70AD3EA8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CAEC4-156C-45F6-B126-02D7454EFB29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2CAC9-0928-4377-A765-7EA9589A5964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E86DA-2E64-44DE-8400-1A8CE28C0C09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A7BE73-ECFF-4953-A5D9-E20D7C4E7C0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D8E92-7784-4E67-AA45-B5110FFB30DF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E4E31-74BD-4819-8FE5-393382F54794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4D5DE-7020-4444-B01F-AE74A825C976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8D3CA6-9774-42D6-95B8-388602ECDF43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D41426-C1DB-4C0D-B0DB-096CC121BA75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B9E79B-9B2F-4A69-B7A0-289826835990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661A27-1008-410A-9188-10D7BA0F56EA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0D989B2-AAEE-4211-8BD8-6BFC4DA724D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28E5BDE-970B-4602-8CAE-82EE06920CFC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19189FA-BD9E-4701-BBF8-B909AC5842D1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AB821FF-F6A6-4189-9723-B5C1B9C1700A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11AC357-1A14-497F-A135-99BC7F02D27D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A01203-8733-42D5-863D-0ED11AEF8E06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8686FFA-3C5E-4899-A593-B3D48DB6CF7E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DD91F6-EBF5-4AAA-A601-F4B58E1FDFB1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E20FE2C-44CC-4727-86F5-ED2ECD2DC4AE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458D1E5-5F94-4FA0-AEC1-8BF8DB52CE90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1C5100B-20F6-440F-8E36-9BDFB049760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570AD5B-EF59-4A80-A7CF-DFBAF4276D09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2C9D19-94AF-47BD-B57C-D5ACADA04260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585060-8E4A-48B7-8613-97ABACA2D69F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8B7C16-1823-49C2-B3E6-1C16150EEA4A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DC19DF1-E64E-44BF-A681-FEB75BC92AB7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046EB17-89E1-4D76-B4BE-2AD20B08A291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22970D-9ABB-42ED-B66C-AA79706D5BD2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260219-0337-431F-9BC1-FF8DCF0D0152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EC4819-4C87-499C-A2F8-D549BF3CD38E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B883AA-4B4F-4DB8-A87F-315C839607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9F3-24FF-4976-95D7-945ECA13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2941C96-1581-4EB8-91C1-754F98068C02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8629993-5843-4936-95DB-BED4DEDBF76C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4897CD-FB5C-44E8-86FB-0A91B320C5D9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1CF09E-0918-46BA-AF9D-5420F819F6B1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E70D31-0D23-4F23-B5E2-6C2DB3EB7DDA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3AB46-9008-4385-98E5-524E654DE401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A2B4D7-8461-42A1-8890-967F46FEC23F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FA9DBC-8B05-441D-B51D-40D03BB3FF1B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4D86C8-C2CC-42C3-93B0-DB843737237A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1A700-DF15-40A1-9456-2234758D299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930-8C6E-43BE-A140-FDD71DD5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57112E-D58C-419C-8FF6-9E0A11CDBFF4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DD8F1E-1BE3-4149-8C9E-FB8BEFF41146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140960-D4B7-4919-A626-D964D1BD0969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6B3821-6A3F-45D1-B8E3-AC0B99D60AC3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146E0-EADE-4A93-9B14-DA7C0A4D7D8A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BD5B2F3-3277-4EDB-90AB-5E85DD052E34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69A14A-4B4F-4474-ADE5-C652B274DE65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793556D-74C5-4370-8A4F-04EF0E2F8EFB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09C71B-F122-4B92-9FF6-7ED444661076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0FADC4-814D-47AB-B713-DE64DF3E1A3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05B-842D-4E58-BEC4-957B2613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60EE8B-499C-4A60-9AF4-D4CF31219206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E6F4743-D3DF-4B5B-A00E-B64EB938EF2B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920C09-0FD5-4B50-9008-2FEFC7DE0C68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3B0C9CD-C535-424D-BBC0-849EBF5C5B57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BC865A-9FBC-431F-926A-830F56805E3E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1F7047B-3DEE-413F-81A1-90600EC7865E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B400D3-2264-4879-9637-BFFD0C79DC14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A3E2AC4-4CD5-4B76-8291-5CDFE85E472A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E393B83-E0BE-4133-A10E-B6483D472EAC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D20F32A-D732-42A1-89CA-7E874E09EC8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F5B-1CB2-44B8-A8E2-BA06FD3E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DF922D9-C9EB-47C0-B0B3-248D2B2E8F60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E88A9E-7B82-4E03-BE13-D7BBAC12A082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41BDD95-7085-4381-A854-983BE9301A8F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A3BEDE4-BDA1-4232-84E4-42A38FE79DFD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F09453-4C3A-405F-9C2C-9659CB71276B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B881ED3-BB6A-4838-B3D1-313762CA1ADD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76B32CE-5E22-4D12-948E-50A2BFB074F1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EB021A-DDCE-4E3B-B19C-E5B9C83A4FDB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CE0CC9-7BCD-4443-BAE9-94FA0B05B061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F74BCA-F1B1-466E-A137-AAFF0B956A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EBC-3F10-4C2F-A707-A5D7A007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0600F-81AF-4E0C-BE30-90100070D016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ACC734-7B51-495A-B64F-34E5E07FDD1C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7DA5EA-39A9-4106-AC72-DDBD7D2505BE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2DD765-B823-42AB-A82B-80431D08ABCB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A0A001-BDC8-402F-A64F-1EB701E3CB64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D87DE-B496-44E4-9A6D-1D7F333DA4AC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5E75D9-0763-4E8B-B072-061C2FEE3A46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D93B25-BB66-49A6-81F7-2BE6A8D2FAC2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D35E7A-ACD6-45A6-8BD5-EDDA682E5314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41C975-C580-4A3E-A67F-F7096FB464C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8A5-BE74-4A06-8502-F63E45DC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25DE24-6A29-456C-9DFD-460C495AE8DA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4881234-B62A-4597-88E0-F8013279CD2A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1528A4-3749-4531-AB12-94D3825C6179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64A941C-707A-4234-BD27-FF5C21B1E24B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2705305-4AC4-4912-BE26-E7E39A34D9CC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8AE6404-AB70-4E55-8E79-06F03787BC0E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5493037-3510-46D9-AD3E-A99E033E4E39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1CF0030-0492-4C30-B8AC-C2BF99579894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6C01358-235E-4389-B10D-538447D696CC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BA682E1-3D25-4E05-84FF-4A57CA3D4B9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46A-D0DC-4A36-84FC-2928F666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1D447BC-604B-47E0-98BC-EA83A24C32A0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0951E7F-7983-4B67-B8DC-585E44B712D4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3EEFB27-3119-4BF9-9558-9CF68E61105E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28538E8-B2C7-4BE3-9BDF-0B3A332D2113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B539DD3-BB47-426E-B47D-52E300746513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08515B7-EF8C-48DF-9B34-14EDD8C1D536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FE5D602-5EC8-4C8B-98A1-78312F406ED2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A3A4E6D-23F8-4F25-9BF1-ED240FFFDB32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26D2E19-D549-463B-993F-BE50D0F0026B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38CA723-8382-448E-A105-4526C4A44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A2C-53F3-40F8-AB7B-6DAED922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32CA31-BD9D-4364-B31D-C94FE4DEA9C0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D8634A2-5D75-4E9E-9748-4C96E01ADA15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CCF6322-EF06-4263-A8F2-EAD0AF4F0539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EAFFBF-ED0F-4B52-B987-C5C3891651FB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D668091-2378-43BC-B340-ABC99AC1DC63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A5F75F-A65C-4287-B4C0-FC29AF305062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C20031-F7B2-4D5B-9E1C-E7DB6E503AD9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CCBAEB-132B-4E19-BC75-50AE5690A0D3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2E3E61-182F-447A-85EA-066A93B995AF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2D4EE9-00BE-42EA-8115-BABABA5EB4C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983-A898-434C-9475-36A83C9F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4DBCF-06E6-4840-BDAF-FDCE65E9B450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50E2F3-4CCA-4A4A-B43A-F2636F0AA1F9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E77546-7B17-45FB-8D85-84D647B4A15E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7708FE-3B3F-485C-8CB6-202E2D5FECEC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62EC5D-F012-484D-BD8F-4E4E1EBA15C4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63E361-436F-4C24-A7CB-967258B7DBCF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620338-A0AE-4C03-B331-529F299CFDDE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E017C0-3093-4BE1-9672-4F187C9E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89DCAC-4D4E-40D4-8C23-D778C9A4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AAAC0F-2E50-45C6-B7F4-A81EFF0D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3A2-FA97-42EE-B4CD-64551AB4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F8C64A-6B9C-4A55-B105-A2EABAB5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CA6906-0FFF-4170-BB76-2990A355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1DD0EE-BDAC-4D58-99DD-9CC6F480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B2F55A-5D1B-4F7F-B177-A1DE4C12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660ECB-B05E-4062-9D49-A2830BF0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AB759A-E1A4-4998-985D-9EF6CD9E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C7E86D-38D6-4A56-B77E-DB9254E7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5237CA-97F2-4B5F-8364-FB1EA58C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D43C88-B767-45F7-A3CF-13AB3EB5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EC1-0884-4D21-89B6-8392DEEC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CE1-415A-493C-B10D-E73D3C12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9E889-F541-4BEF-B4DF-E22EFC5C9A2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C43FD-456C-4075-8009-83A45EA0CD5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5D2BF-1052-4010-B1DB-A966E0C1C10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AA6E9-3AC7-4FE1-AAE7-12676C467FE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064AE-C11A-4E9C-844F-3327235F1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CC4BD-D8AC-4B43-8F77-77CE2B51B33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656A5-F4A4-4B40-AA2F-D987BB5E71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950E9-FCAE-42FA-906C-5CBFB8165AC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31450-1C2D-4CB1-B559-A211FC8F462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8FF68-559F-4411-BCC3-EFB64DE2DAD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F0302-FA80-42C9-A550-A62F6802672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66D02-05DF-4599-ABDB-2A3B16DE7E4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09CEC-69DD-4C03-9D60-E39476BC5CE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A4913-99AA-4858-8A30-9C0871EAFE8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515B4-CA7C-4F59-92EC-7595CF8F5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D71D3-A813-462F-8E7D-C913950AC31D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F2C7D-D1DD-4D67-8D4A-A30DD8F40F7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0E623-1C1F-4E1C-B36A-BE59130162E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64D8E-4ADF-4EEB-803C-93663097C76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1DD6E-40D3-421D-9BA3-5CD8BAE9D98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23863-AF68-404D-A1FE-138AC0972AA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2113F-A1CD-4A8C-BFF3-715DB97924F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4938E-D6F0-4BEA-A162-3DA658781690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99179-1E46-4F76-813C-7546FAC6CEF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B8425-F9C1-45D2-BFA6-6610706E4AE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222EC-7736-4AF9-8B7A-6002C3E9244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33E8F-063A-4003-9365-3231AE0F204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C1737-358B-47E0-B87B-9CB62D06D1F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FB864-1C93-4183-82F5-16FDD22E9D8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3E742-4035-4C6B-9625-FE91060C49E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2017E-3930-472F-89BC-B7BF343ED9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FB315-1D92-4384-B1DE-D66AB6E739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3AECA-0AF5-44EC-A6EC-84539E35E030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1F626-B780-4F49-9BAF-A0D6EB652F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D61D6-6C71-4683-A6D3-94B40756DB2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E9CD3-53DE-4C79-8712-EBF1E601D79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802D5-E4DF-41E7-8D1B-3C24334C616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F319D-0CD7-431C-92FA-FC2947DA5ED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78B42-7568-46E0-B625-0736A966762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7BF75-4585-4919-8BF7-3EACB1FE742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CBE07-10C7-4528-BA51-CBED770DBA8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353E0-B1E7-42DD-B181-CB1B2217D43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F26D2-B3FE-4245-8E7E-2BDAC66D8E88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90635-C519-4AA6-9CB1-4C97B00FC23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BF89D-971A-4B52-9B94-A329F9E3B60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AE306-9380-4865-85EF-B0BCA4EC69F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AA8B0-4FDB-428D-97BB-17D7F88D9CDA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ldNum" idx="4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DEE94-4234-42E1-B80D-68DEB733FC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Num" idx="4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755BE-8AAB-4E1A-82EF-726C128ECF8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ldNum" idx="5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1179A-C61A-4E9E-B4BE-71422365E9F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894CA-E1FB-4FC8-ABBA-59AB03C59F0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8B2DD-2E55-46A3-8796-4DFEBACA535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F8F51-B7A4-4721-B5B9-44A109AD809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562B9-A968-41B1-90B8-219381B6E5C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6D478-282A-4A3A-B4B8-C776331ACFFA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DCD17-74CB-4710-89F7-19FA2F97A06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FC54D-047A-4D55-A69B-680EF1790CA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5DFF4-5FB1-4CBD-9BB5-FA12B7A0C4A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2243C-EE76-45EA-9BB4-D1D64EA8A17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A3A6D-102C-46C0-B06B-9396BEB93E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sldNum" idx="6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BAE51-10A6-4370-8162-AC988049C12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sldNum" idx="6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0E906-65F6-471B-B7BF-16C6E9141C5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Num" idx="6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6273F-A683-43E6-8328-1C5CB468A95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Num" idx="6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5D08D-379D-478F-B757-83BB6CE3F0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944CA-9877-4F74-B8FB-AD580F5D6E0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AAAE6-0CDC-4447-8ED3-B60093BF23A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786EF-2248-48F7-8BA2-3A88837FF24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FTR-A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792000" y="2103120"/>
            <a:ext cx="7560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licy Development Proces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Translation and Transliteration of Contact Information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Chris Dil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02AB9-37F9-4F92-A998-92EE167ED08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51040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Backgro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C519D-FFC7-4C5C-9768-8D22875A8AE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icture 2"/>
          <p:cNvSpPr/>
          <p:nvPr/>
        </p:nvSpPr>
        <p:spPr>
          <a:xfrm>
            <a:off x="304920" y="2666880"/>
            <a:ext cx="3352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Rectangle 1"/>
          <p:cNvSpPr/>
          <p:nvPr/>
        </p:nvSpPr>
        <p:spPr>
          <a:xfrm>
            <a:off x="426960" y="1028880"/>
            <a:ext cx="565956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21 March 2013: Issue Report publi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13 June 2013: PDP initiated by GN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20 November 2013: Charter approved by GN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19 December 2013: PDP WG begins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31 January 2014: Request for Input on issue questions sent to Supporting Organizations and Advisory Committ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24 March 2014: Public meeting in Singap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9" name="Picture 3" descr=""/>
          <p:cNvPicPr/>
          <p:nvPr/>
        </p:nvPicPr>
        <p:blipFill>
          <a:blip r:embed="rId1"/>
          <a:stretch/>
        </p:blipFill>
        <p:spPr>
          <a:xfrm>
            <a:off x="5753160" y="824040"/>
            <a:ext cx="30859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0" name="Picture 1" descr=""/>
          <p:cNvPicPr/>
          <p:nvPr/>
        </p:nvPicPr>
        <p:blipFill>
          <a:blip r:embed="rId1"/>
          <a:stretch/>
        </p:blipFill>
        <p:spPr>
          <a:xfrm>
            <a:off x="6111720" y="773280"/>
            <a:ext cx="3225960" cy="2336760"/>
          </a:xfrm>
          <a:prstGeom prst="rect">
            <a:avLst/>
          </a:prstGeom>
          <a:ln w="0">
            <a:noFill/>
          </a:ln>
        </p:spPr>
      </p:pic>
      <p:sp>
        <p:nvSpPr>
          <p:cNvPr id="2571" name="Rectangle 1"/>
          <p:cNvSpPr/>
          <p:nvPr/>
        </p:nvSpPr>
        <p:spPr>
          <a:xfrm>
            <a:off x="561960" y="1528920"/>
            <a:ext cx="638496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Working Group Charter poses two substantive questions to the Working Grou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hould local contact information be translated into one language (such as English) or should it be transliterated into one script (such as Latin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o should decide who should bear the burden to either translate or transliterate contact inform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5812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The two issues of the Transliteration and Translation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38FF1-C084-47C6-8EAF-19B2BA387BE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Rectangle 1"/>
          <p:cNvSpPr/>
          <p:nvPr/>
        </p:nvSpPr>
        <p:spPr>
          <a:xfrm>
            <a:off x="3919680" y="144792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taff has commissioned a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mercial feasibility study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on translation and transliteration of contact information to help inform the Working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597672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late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D8C03-18EB-46BF-839C-F5D693E7A00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7" name="Picture 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311280" cy="2362320"/>
          </a:xfrm>
          <a:prstGeom prst="rect">
            <a:avLst/>
          </a:prstGeom>
          <a:ln w="0">
            <a:noFill/>
          </a:ln>
        </p:spPr>
      </p:pic>
      <p:sp>
        <p:nvSpPr>
          <p:cNvPr id="2578" name="TextBox 2"/>
          <p:cNvSpPr/>
          <p:nvPr/>
        </p:nvSpPr>
        <p:spPr>
          <a:xfrm>
            <a:off x="3919680" y="3657600"/>
            <a:ext cx="500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 Expert Working Group is determining the appropriate internationalized domain name registration data requirements, including relevant outcomes of this PD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TextBox 3"/>
          <p:cNvSpPr/>
          <p:nvPr/>
        </p:nvSpPr>
        <p:spPr>
          <a:xfrm>
            <a:off x="690480" y="6215040"/>
            <a:ext cx="150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age credit: www.dkit.i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Rectangle 1"/>
          <p:cNvSpPr/>
          <p:nvPr/>
        </p:nvSpPr>
        <p:spPr>
          <a:xfrm>
            <a:off x="431640" y="1117440"/>
            <a:ext cx="828864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ther it is desirable to translate contact information to a single common language or transliterate contact information to a single common scrip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exactly the benefits to the community are of translating and/or transliterating contact information, especially in light of the costs that may be connected to translation and/or transliteratio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hould translation and/or transliteration of contact information be mandatory for all gTLD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hould translation and/or transliteration of contact information be mandatory for all registrants or only those based in certain countries and/or using specific non-ASCII scrip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25660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quest for Input on Issue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1FFCE-3F72-421E-B805-D3FAD687F7B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Rectangle 1"/>
          <p:cNvSpPr/>
          <p:nvPr/>
        </p:nvSpPr>
        <p:spPr>
          <a:xfrm>
            <a:off x="431640" y="1219320"/>
            <a:ext cx="8288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impact will translation/transliteration of contact information have on the WHOIS validation as  set out under the 2013 Registrar Accreditation Agreemen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should any new policy relating to translation and transliteration of contact information come into effec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o should decide who should bear the burden translating contact information to a single common language or transliterating contact information to a single common scrip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o does your SG/C believe should bear the cost, bearing in mind, however, the limits in scope set in the Initial Report on this iss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256600" cy="7952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quest for Input on Issue Questions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F607A-AA21-4640-8404-EA91236636F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Rectangle 1"/>
          <p:cNvSpPr/>
          <p:nvPr/>
        </p:nvSpPr>
        <p:spPr>
          <a:xfrm>
            <a:off x="3429000" y="1133640"/>
            <a:ext cx="5562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view input from the Supporting Organizations and Advisory Committees on the issue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view results of the commercial 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orking Group drafts an Initial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ee the wiki at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ea typeface="Trebuchet MS"/>
                <a:hlinkClick r:id="rId1"/>
              </a:rPr>
              <a:t>https://community.icann.org/x/FTR-A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for upd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597672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E3E64-7A6F-4CBC-B118-06D21397C14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9" name="Picture 3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2962440" cy="3933720"/>
          </a:xfrm>
          <a:prstGeom prst="rect">
            <a:avLst/>
          </a:prstGeom>
          <a:ln w="0">
            <a:noFill/>
          </a:ln>
        </p:spPr>
      </p:pic>
      <p:sp>
        <p:nvSpPr>
          <p:cNvPr id="2590" name="TextBox 4"/>
          <p:cNvSpPr/>
          <p:nvPr/>
        </p:nvSpPr>
        <p:spPr>
          <a:xfrm>
            <a:off x="212760" y="6211800"/>
            <a:ext cx="224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age credit: http://3.bp.blogspot.com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Julie Hedlund</cp:lastModifiedBy>
  <dcterms:modified xsi:type="dcterms:W3CDTF">2014-02-26T16:19:07Z</dcterms:modified>
  <cp:revision>200</cp:revision>
  <dc:subject/>
  <dc:title>GNSO Policy Issues</dc:title>
</cp:coreProperties>
</file>