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</p:sldMasterIdLst>
  <p:sldIdLst>
    <p:sldId id="256" r:id="rId71"/>
    <p:sldId id="257" r:id="rId72"/>
    <p:sldId id="258" r:id="rId73"/>
    <p:sldId id="259" r:id="rId74"/>
    <p:sldId id="260" r:id="rId75"/>
    <p:sldId id="261" r:id="rId76"/>
    <p:sldId id="262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" Target="slides/slide1.xml"/><Relationship Id="rId72" Type="http://schemas.openxmlformats.org/officeDocument/2006/relationships/slide" Target="slides/slide2.xml"/><Relationship Id="rId73" Type="http://schemas.openxmlformats.org/officeDocument/2006/relationships/slide" Target="slides/slide3.xml"/><Relationship Id="rId74" Type="http://schemas.openxmlformats.org/officeDocument/2006/relationships/slide" Target="slides/slide4.xml"/><Relationship Id="rId75" Type="http://schemas.openxmlformats.org/officeDocument/2006/relationships/slide" Target="slides/slide5.xml"/><Relationship Id="rId76" Type="http://schemas.openxmlformats.org/officeDocument/2006/relationships/slide" Target="slides/slide6.xml"/><Relationship Id="rId77" Type="http://schemas.openxmlformats.org/officeDocument/2006/relationships/slide" Target="slides/slide7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710F2-0A24-44FF-A770-A8ABA141FE4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0B14-2EFB-4861-B32E-5036B84B10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F0889-5E15-483F-9DCB-4B07E6FAC1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4C9ED-5109-4FC9-9F6C-11F8B69A0E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097F5-3A69-4B04-B435-27CBF938ED8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2D5BE-4531-44DA-B130-05746AF490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E6A81-8E37-4944-B954-34AD6322B0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67640-A980-4FB8-82C3-50D5E430F33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395A0-33BF-44FC-81E4-2CB07B320E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CF76-7209-4B1F-9C1A-EE401B7CA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BF2A-8BAD-48CE-9470-17E91C557E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05EF-CE9D-4B55-9FF0-EF5CF375A4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139B-E4F9-497F-9639-5D81DB9E6AF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E583-6AC2-48E9-8A21-78C0FF732DF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E745-9177-4696-96AF-B81015D9B6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60D0-AF94-4E56-8248-AF6CE397E9B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4F05-7E8B-4AF7-8FF2-BD8006A8060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5B75-3B73-4810-9A79-259D096A3C7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D084-C4A6-4256-A8A0-8234A95400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FF1D-A6E9-4818-82D8-910F21154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8018-F6CA-4133-8D83-C8C1407530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58C2D-E460-4628-8772-139E0129B8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7C085-797E-42CF-8397-4784F407D8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3F70A-1497-4F90-B67C-D21143A1130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22EFC-DC1F-4A25-98BE-6FDEB4E1EC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7383E-C239-4D39-95B5-A23F185962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FA747-98A7-467C-B81C-485F0DBB952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36C88-A7C6-40EA-BD2D-082F999C35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1D223-AAA6-4D47-B94F-31999D29BA1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AF2013-2662-4601-9F09-91EBD0A5A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49DD5-4949-497F-BF6A-C11B695F713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0D530-E757-4801-AF44-7F5FE1E3A35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4C313-2677-48B0-A5B0-EF81EF8AEB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CC9E2-2680-4E3A-8731-0D55992EAB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A088F-D8C2-454E-93E5-B5E754F0FB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FFDFD-B429-481D-B695-167066463C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6E4EE-3E6A-4751-A646-8FF5F539401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6969C-ADA8-4F55-BB54-F6175D35D9F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C8668-0119-43A6-8726-5F60B1F5251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62767-7DE5-485B-AEC0-7C28DED92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0F8D1-177E-4195-A19C-1938F6AF58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B254E-4850-4C21-84DA-987601B5AC8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44816-980C-4384-8C60-780FB70C67E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416C1-09F4-497F-B2CA-8F7E7F1DEA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C40B1-6D13-466C-B341-9C79F24338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E257-0103-40D3-8B1E-61C83D406C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F78B-7023-45C0-A729-B34F1A0280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0B9D-FD83-4215-A567-6E9625E107F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E0A2-9BAA-481B-9679-2B726C5DA75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6371-2169-45AD-850A-51524B5008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C1AD-ED26-4FCD-82CB-948FF49055B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B46E-1FFC-4994-A348-34A6060E5BA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FBB4-A48B-474A-B372-7AC6D2F4B56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55C5-2EB0-42EF-8E76-935F88867F2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40CD-A528-4DB0-93A3-45B03DED4B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53AE-9EFD-4D53-B62B-56199B663E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AFDF-7CAA-46D5-9E4B-80CBF1DBDA4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96F4-A9E5-43D0-929D-641F6B83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DF05-E5E1-4772-9059-C94A1087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CC02-5B2A-4410-8383-E4F0A31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090B-45E8-4615-B6C6-88A81428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B457-8069-41E0-93C8-DAA895C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C539-F041-4156-AF83-250E1C72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C5BAC-FFBC-4182-813E-DC84C90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2490-2B46-4D27-A1DF-E174360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8FA8-C6CB-46C4-8676-99518F0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9536-2C59-4BB0-A962-E648775A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9F7C-E419-47B4-B561-8DB825C7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C757-CB2E-4F6C-983D-CF0A6620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CD87E-C0A6-4C9D-9CA9-8FA2D26126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AF7323-9EFF-4FB2-A696-B23FD2762E1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125AFC-440B-45A4-927E-CE8AD3ECD8E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7B9BD-3A37-49D5-9772-A716759078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734F6E-3600-4431-B2B8-A52ECED83D1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37A48B-FF35-4BB2-AEAC-C375EC87201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82B20A-D293-44F1-8C86-584C9E6A542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3880BD-AAB4-48A6-99BE-CBF95F33CA1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C8646-3389-4F1F-AF83-B95B2096C04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03C57-7465-47DB-8342-08CBCBA42F2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846FE0-0284-4BCA-8502-2456143DB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CA237-2E19-41A5-9FEE-FFE61B9091B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7B987-322B-48C7-8FFC-46EE995C338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D9628-FB8D-4BC5-A312-A064F0AB8B5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E299B-0AB2-49C6-9954-F80269C7F5B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518AE-237B-4C87-8B0F-C916A26FF12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85F54-B10C-46B8-9054-86911EB2324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B1F29-642D-4008-A1C9-41B4D5A4A22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0F351-2ECA-451C-B7F7-0C84A273479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5D09B-77E7-48D4-92F1-F70D7188ACD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147C3-5E6C-4930-9F74-F4CD5016C3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4A537-B749-4CA5-9009-831292E4F83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A6D8F-D241-470D-A60C-DEF92C6CD39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71BE2-9101-4329-B0D6-2D8D165744C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98D8-2592-4598-B046-36751BF9E0E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4E703-A07D-4C31-A216-1610D0C3951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B735-86B1-4537-AB61-DB74BC06D3F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0E18-9F15-4456-8D24-556237F44E5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A521-9B12-40A8-AB68-D3D401146E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8540-F0D5-43DA-A68C-DDDBEF93CE8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B919-5F6C-4F46-AE1E-48A80DCA7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970F-C2C4-4F99-9B32-69B205C8F10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5371D-5155-474A-BAD6-DE3615F27E0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23B7-BF2B-4A74-B27F-5DFD85899F3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91C65-1096-4F98-84CB-F63113EF479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8A03-0715-4868-80C2-32CBDC52C31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EDD747-4547-4C38-9EC8-DB67E8872B9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51BFD-3519-4235-B17C-3AE5764200C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957AF4-A15C-4755-A6C6-B2EBF1F808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9012D3-C888-42C1-A62C-C67EC28F0C5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292A76-AECF-4F0A-A421-AFBCC253E51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9D0C1B-10DD-4B6E-BEC0-17B58A4B678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A58D5F-2438-4CB9-9C2A-9FC246D6706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CC6161-1A21-46C1-98F0-71488B1F0FE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58A42-C6ED-473C-9D3C-16F7F211AD7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32D6F9-1620-4631-BA92-C6E2A2221FD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1A6755-403A-4204-A516-5D3E15F9925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2B715-5337-4973-8437-84C3CC29AA6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8D29A-9BF4-4019-9A1E-3E72638837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56755-1760-4BA9-8A5D-4F43DE4178D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D92BA-0A4D-4677-AE9C-3F4FC1DF709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45ECB-D51A-4CC4-900D-833D98FB80E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6C5A7-4E0D-4B87-86CA-AC45BCA5812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FF8C5-8A57-4729-A8EA-1CBDCF3AE6A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3A156-D440-4D53-B859-9D18E461B1F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3C0AA-3999-4688-9E13-16A7C3209AF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81DEA-E82F-4CBA-AE53-9FD190D9E12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315F4-E6FF-4310-8E86-123F482D3BF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3DA09-2CA3-41D4-BA0D-479FF2A358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A79A3-F6CB-4D6D-82FF-696A0E04940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84117-B7C1-4C75-88DC-C51C8666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AC8EF-4F5D-41FB-B8BA-52B9C470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9E538-1F79-4289-9859-BF904E0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EFA5D-EF7F-4E2D-B551-BDC28687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4EC51-349F-41F9-AB43-A11F88C9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A0DB9-D892-4370-9676-C6592B38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6245D-91FE-46F7-A760-688AC4DF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8E31B-3C13-4EAA-BDCE-09E2ECB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A06F4-A868-4AE7-BCAA-46642D9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235EA-D57B-4D04-9108-2ACE2A00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0512F-C45A-46EC-B73D-8F91DE69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52CBF-F201-43BF-9804-2F2E559C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0E4FB-79BA-4B12-947A-C1A5D656BEF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B62C-8D4C-4B38-ACAC-230984DB562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43B5-877A-4E56-8642-C5824CEC8BF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B6ACE-C852-44E1-AC33-F5F163D8E89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BB91-7D03-4796-8DF1-4CAB03E4FDE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BCB69-3CDD-4C3C-8E5F-8A5BAB1680E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A456-DA47-4E8F-A971-D3B72B798F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259A-50DA-41B6-911A-43920DC517D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431B3-C62C-47A6-BAE7-031C5BB56CB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2C37-06AD-4C26-8BE0-D369B7395FD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2384-EAD8-4465-880B-3CD5D93C32C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2170-D742-4514-A619-56D750D5788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765F56-9C13-4549-928B-19853141714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E2C8A0-3EEC-401D-B905-DD03B3C3C01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26C50-F240-4AFC-9207-FEED5F7F897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634A3F-3535-4903-AD16-16A39013D25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13CF29-31B1-45E2-B502-0C6065686D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9A8DF-C98C-4B3A-8350-E53E795EC7F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D33EAD-BEDC-4E66-83D6-E7FE34D57D4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B136B6-1067-4FB0-A5F3-F92FFF271FB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BA8D5B-AFC6-42DC-8C28-0EFF09E4184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DCF965-99E4-4B15-BA99-0B85C7D7A6C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40748-C7AB-4827-9ADC-98ED751E9DC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7E2271-723B-4F58-92AF-EFF86DE1067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8D4DC-A57A-43F2-90E7-FF0A2DC937D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BF1F75-81DD-4425-92A9-8BAB57EBA94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FC0899-FC4D-4E41-BA67-048DD83AF0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BF808-9C69-4343-B18F-4FA2EC91167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A2641-031E-4090-9483-F05591CBE0A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31D8C0-1B48-4FE3-ACBC-847A2D7951D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644D9-59DE-4504-AFA2-060EDBC52C0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E5A974-D4D8-41A2-A59B-9EBF6A03667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54D82B-24A9-474F-BA30-A5790C0D8A2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B08D3-4898-44EF-8248-14D308F459D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9CF39-B18E-4504-A238-F4F3999886B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253A5-BD7B-4FE6-8D8D-34E36C89F29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E99CD-FD2F-45D1-9099-0FF284411D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000EB-D55A-4904-B040-9ED2220B01E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366BE-8A9C-4E36-8247-9236B3E64FC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FE4A2-EB0C-413D-A233-DD5566492BB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1D176-B2BE-4889-AE57-5DC220F1DB0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C492-3EE1-4427-8FFA-C3A14159ABF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6305D-4AD8-485F-B3F9-548475410EA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DD379-6C06-46C2-B169-E54A010B968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F7DE-ACEC-4D50-BED9-6455DDC95A5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4CC14-73CA-4D92-9485-1B1BFEDA714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BC5C8-DBAD-48C6-9B7F-F56359907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8B64-7D0C-4D1A-B221-6EEC40B00E7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9C24F-A086-4C42-B6DF-7316D10F95E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5053E-A07F-47E2-9DCF-8A3CED7D9CB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C4EF4-C1B4-4ECD-AE17-DA9B27478C0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A9C26-7C1F-4ED5-AB77-05ABDB0B5DC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F2E4C-709A-4BC1-B5BC-5FD5511C52F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3EC96-AA01-45FF-904B-69EF48BDD56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68D1A-0BC4-4C3D-A3EF-20ABC06DAF3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BBF60-846F-41F9-BCBB-A4E2495081E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0A489-9186-4205-BF20-FC256E04F6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914F6-151C-48F1-9A8B-C686D13BAD4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BC2C5-E086-4A45-8F7E-9716C594CFB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A1CD1-CE4E-48D0-92C7-B0EB6A948DD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FBB42-6F61-49AB-951D-3BEADA8F0FD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51A9E9-4C95-421E-B398-82B9BF20E61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6D195-E451-424C-A192-118307C1F17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F5067E-2DE3-4C7A-9DE7-22B82E3FCFF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65D43-2D4F-48FF-9685-C65BD789BF7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54A81-9180-4857-A791-9B2A15A3B62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AD3D6-C2D8-48DD-BDB7-C99580E451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08DBE-C9AC-4616-B0F0-B737E3DFE70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1E8476-F4DF-4C85-999C-2F3977E9A6B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B28418-5C86-4E87-8D53-0613AE82076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819623-1CC1-4689-B875-BCF8E3D677E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A1A09D-7872-4406-9C79-7F3558FBC93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C12F0-9047-4571-B327-05FB21176EE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16897-75CC-44D8-A4C0-5DAD877BDB1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4C580-A5C6-4DD8-8331-6CE81E62C23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771DF-FB7B-4A69-B141-74E7D4F4A17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07BC1-5914-4269-B479-31179071A9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5E74D-396A-46B3-94E0-7501E9D26BE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28B4-2D8B-4DA5-B0C0-94646BD871E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4B88A-0A33-47BE-8B91-95D04425A5F1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FBBBB-A90C-4AAE-8321-BEE990DC960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3C195-7559-4B00-B85B-20DAA1E96FDD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19D31-41A9-4549-B0B1-2B8D10F72A6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C377D-3E8E-4A45-8A2A-06AC5FA96D6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5B810-D8C0-4DAB-82CD-0DB6690A8B4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EF954-7BF0-48C3-82D9-63ABFD86621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132E9-67C1-4D5C-A476-8EFCDA13BB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93D51-985D-48B8-9EC6-FC10101B1DA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03E5E-DEAE-421F-B9F9-30B29DEE311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029A5-5C2C-4749-A381-5352EB58E511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C1792-2C25-4F98-A4A3-229075D3B7B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812B8-828B-40F2-8F38-5065A72F6D6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1D66B-1673-47FD-A018-C497A896F17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D5A13-CE43-4AC2-97EA-877A439D32A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DB3F6-4DDD-4ECA-A2F0-AC57D553A9B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86714-D8AA-4711-8A11-2E6C49D7721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2C8E58-2F9E-47C2-9324-AFF4B1F5AA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BA600F-5663-4AEF-844E-30C90BC34E8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66677A-C3AC-4AAD-872B-1BA2637A426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E9687-8101-4955-BF10-9C055B85229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1EF662-1820-4B93-80A4-80FC2D42B98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0B827A-D6D9-40E2-AEE7-9C4490A9D784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78EC60-45D2-4EBD-99A6-CD70998F068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93F46-2DCA-49FA-91DE-9501E6A72B6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3352FC-25F3-4DFD-9804-5C0A8D3026A7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E4453D-E317-4592-A7DD-6738DE01ECF0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89A21A-FD13-4C62-B342-01EDF3DE36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BCCC52-01CF-4CFA-B287-11F9569AA4D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6EFF5-78CD-4864-AEC2-7EC8FAB5E80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FE988-24B2-47EC-8D9E-14771E2F554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C226C-7E1E-4441-BE13-8F93AD9E54B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A6628-D9FC-4EB5-9112-5B3F48377E5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E41AC-78F5-404C-837B-8D436D52D97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078F6-6F99-4448-832D-30F36FF7E67B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8944F-8E23-4FFF-8EA2-089CA38B157D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50576-8104-4BB4-99B2-B629D47899E1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EDB64-9383-4B6D-822D-7385A340CA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503FD-B92A-4224-8BD4-C268791ECDF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8BCB-7724-4E51-8F5B-4EE634425D8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1FF3F-32D5-4EF6-8DDE-BFB2C438EA9C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4A65F7-A57A-448D-9B08-9712C82546D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2641DE-71B0-4215-B9AE-BF661D84680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AFCEB9-DAD1-4092-A9A9-F23CF761073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3D8DAE-CDEF-4108-9975-C1F88D9D37E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675170-5596-4133-B5E5-76DCBAB7117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4CA5A1-BF1F-4205-A0AF-847EC94C40A4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87D27F-FB42-4815-A777-1E92631062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1F6D10-6F36-47C2-B062-5011F4639A3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5FE13A-E80C-4DF1-9168-E12F88174F05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DB03B2-5712-40AF-968C-3F5E4C4CC88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87D6B0-58D7-41CA-8AE1-7E76BF026E7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4BC7EF-3635-4342-8103-8FE70D84367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DA9EBA-1D46-4F39-98EA-4535E067C67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3F9973-A5BF-48A5-ADEC-FBF2E05B63D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C3317-C537-4229-95F7-E473855E31BE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DEDA44-76F4-4ACC-82B6-322E1D73EE7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CB9004-BE39-418B-95CF-A4A57B90C8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02D208-3468-4A21-B1B5-48039E7D985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730CE-3C57-4D89-A98B-C3FAD6AB818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64CD97-FF89-4434-9B3E-0EC77439FBB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735DD6-637C-4EC4-B450-DF0FE37F6D28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BE07F1-636E-43DC-83B0-392BB8733D6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7942CD-3AB4-416E-BE80-31325972FD5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07DD34-F700-4940-B123-406C3E267EAE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71138-22CB-497D-B43C-AF087F53AF7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6F823-3C00-43E6-B1C8-7084CC7604A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6A888-442B-4D6C-901C-C13B8D05A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3DE0-90EE-4B62-8BF8-9B5E649F695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0EB38-EFB7-4BE6-B0EB-1BB05A05A33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8ECC2-8599-4984-BCCD-0402A6A5D2C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977A6-7F3A-496B-9E86-5263CFFF1D0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44B02-062D-499D-B0D5-C162336D4A5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DA0D3-4F07-4E73-A1BC-6AE6F794A144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98004-E44A-4C72-82B9-E1D649392905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D8AF0-526C-4F9D-9569-48A54564BC4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28A34-5BD7-4F17-A46E-7C6643FE62C3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9E0F9-11F0-4864-B183-B0D30361F4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DD07A-BD91-47BE-BC1B-7BEB48F0A56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3216E-B90D-4A7E-BE75-8FC3948C1BF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710E6-7D12-49ED-A29F-3408AFAC376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E8F7F-3747-45AD-A431-FF3C6C60579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62E48-E888-425C-BAD1-F3D76B92EF8D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61DB9-D043-4946-85B2-1E8A60FE2874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BFE80-4A56-4956-8007-A1D30DE875F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C2AA7-FE2C-4B9A-9D46-79266DAD707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012A9-D8E2-4443-BE43-BF757F217BB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37EF1-2A2A-4596-9ADE-12F91E7F06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CA911-8239-429C-906C-E689DC55D94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3E6D06-899F-41A9-9620-F717D847AC61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14B423-B6AA-402C-AB39-B6E7759DBDB8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FE64F7-F2D7-4270-8E38-775AB2BFDF7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BB0365-5DA6-43F9-A8ED-FC2364C7A4C9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C4BC59-F30D-4E0B-B983-C7C4BD9CDF1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4F70EF-68F0-4B19-ACDC-ECA5C7CC74A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9980E4-9676-4F78-9F56-EEC641F1D1C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D2F82-43AF-46C8-9F11-A1785EC40BFF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A9B821-8B82-4520-8B49-F0144D115C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D1055A-8F18-4C92-A740-C3DF2D219074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4BBD92-EB3A-48CE-A910-A43279B7BAE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BB3C36-DFEC-4CB3-9143-4D85E043FBD4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81C81-93F0-4D62-A942-35C3C495A74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396C1-98AC-4C91-AA25-2CFAEF4D384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87C8A-43ED-4B95-86CD-0C5DEDB1BC3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57636-D57B-4BAC-9593-8AF3BF67647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1FDCC-46E1-4FE0-A2FB-33B75859DD29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EFAF2-052C-4736-BB04-7A612132C1E1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30A39-CED9-4BEB-81A6-DAA8591C13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00852-B215-47DE-A03A-73712129FF59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E4402-9822-497A-9F20-F99A67BD49FE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1E93E-D2D8-40D3-9FDF-CDF65103CC0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EB1C0-9DFF-4233-BBCA-EBA37209860F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EAF4E-9ED5-407C-80DC-B726A90E50B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A6D20C-0FF7-490E-9FEF-82743E74B6C4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6BB261-178D-4B72-AFCD-48D16759ED7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4DE04B-FD51-4643-A556-CA6854477A22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9F1B45-5450-4064-BA6A-C21C1F38163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5EEB1E-6087-45AE-A9EF-6E81E4CFD8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FAF3B8-D4FD-429D-BF93-6F120BC2132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7D15D5-62CB-409E-B108-A0DBEE5B853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D6489D-8BF1-4E04-8E78-CD68BC27CB2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384957-371C-4D52-9B69-FB85E40C4F4E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05A55A-B153-4F3B-89A1-556B20EDB19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D1C0AA-96B4-436A-AAFB-50A4D489962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346164-68C6-4005-81C6-590A71F1FB9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8A4A46-F88A-4103-BB76-DB86FF11984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EC74A6-4B4F-4491-B08B-F03857EB633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37A45A-10AE-4F3A-8AD4-02AAF96751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CC8079-1945-4E13-AE66-A87C9F01E2D0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1FEAC6-2B59-4C0D-9DE1-60960E041E3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2FA692-DD1C-41B3-8D1B-26AAD741CAB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4F547D-EBDA-4CDF-AAEF-C716DEA549A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2876A7-F631-42F4-8FDF-02073C48F46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12E3D8-2996-4498-8D75-9BC4DC2AF8ED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F719FF-6CBD-46CA-80F3-D88713E9DC5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27E80-AF3B-4DDD-8D8E-ABDCD54F82E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8E47A-A6F0-48F6-938A-1205680610DB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B8986-DCAC-45E7-BF8B-A333D659E1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BBBF9-8CDB-4098-A103-A318ADCC6BD5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2841C-3951-483B-B718-52A0DF462DE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5BF67-24DE-4DF7-B20F-5F5D77F5734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90B5B-E30B-4718-A29E-D3EB0E4EF2BF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084EF-D465-4479-8B0D-24B2A2BEDB31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9EA6D-CD28-46F5-B200-8AF1DA2FF4B2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11B15-57AA-48BE-A4FD-C2E6C57902F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2AB89-9F03-4250-887E-21EAC6A69DB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9D101-AA94-44B2-8B09-2140A1AD8E4A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3A7B8-FFC3-4948-8A77-9AC687184E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246B5-8168-4EBE-A22E-2A5A0A09648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AF33F8-E1B5-4EB2-9EEB-ACF9B7433385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BE0396-DC81-42EC-AF57-BC51F19C7347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889A1C-2978-4FF8-A864-D2944B66E30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DF3F5E-C624-4C0A-9F96-6DDC8BC2371D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1DF455-93FD-437C-9001-12AE46067A4C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578CFF-4874-4A3D-9177-9A6878BD927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4E0907-2C5D-4DA4-99EB-F82E2B6F470D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26CEC6-DFA1-443C-8EA9-A3891A848A2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5450E0-03BB-4D00-9032-2DBA80C3AE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2285A5-CEF4-4F0B-8D48-A6D8D06A3764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A00B13-7984-48E8-92BE-DFE8A79BED49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73D838-D140-4247-BC2D-8555387027B5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0A38D9-1172-4522-A59A-F66F9402348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6D14E6-FFCA-4587-B036-A7AC804D22BB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368BB8-8C0D-4A57-8136-7B60DA2BEDB0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0F76B8-7E51-4ABD-858A-ECF5B020A81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194CBB-55B9-4064-8A67-8994395EFB5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138E70-F9B0-45E2-A02F-5A2F878440B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8E2782-42E7-4DD1-BEAD-DA2AC1918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F16946-683F-4D6E-9E76-ED71130CB36B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BAA9AA-A37F-410B-8DA6-7D8343E441DD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947806-2A71-41F4-B242-43DFD09A01C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EAC44F-A890-49C6-B65D-A300EC5D354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D9ABC8-D707-49EE-8656-BE4E122B802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C3B58-7423-48F9-8AAD-57E562727EE5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20DDA-406D-48EE-BCE0-351F4613AAB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3C5BA-334F-4A22-87DC-7F88EAEEC176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C49CF-EF22-4D95-B535-549D19E4213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FDF4F-31A7-4237-A09F-1ABAE3C2786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9F63A-E00E-4892-93D5-0B9BA17F684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628C5-93DF-429F-9AD6-8940A230BB39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98FCF-9999-4F2E-8E4B-DD6DA5C199D9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3B81A-51F3-4707-A5C9-58EAC339323D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B9793-1EBD-4436-8F0A-91AB3C136F0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F7E9D-DB7E-492E-8EE8-E0CF436FA186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23263-0B24-4904-9AA7-F4FA4A748BF6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2F63EB-080B-41A9-9B44-5C1E342469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2E3341-DD2E-44E6-BA3C-DC92288B46DC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99B0D2-BD47-4B14-8A7D-AAD0059D03A4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FC8BF7-333C-4924-9D20-3AEEDA430E1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FBD01B-B1AF-4B95-9F89-052BB787DBDE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1F2486-607F-453C-AF6F-3A72EFC55509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1FC0C3-2ED2-4BDC-BBE9-3517B92747C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ABF83E-3357-48D4-A924-FDF0B0792471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071550-54DA-4B6D-9BEE-E7377D453884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CE57AE-9777-4D0F-8C85-B2EA627A7E8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F2B63A-E011-4CE2-BB6F-400A14DA12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73BE1F-0677-4340-9DC3-F3E77093ADE9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500744-6BA0-45A3-903C-64691685715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00D1B4-B0A3-43A9-BEC3-2C8AD8CB6F52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8093A6-27DD-44CF-BB26-FD607AA4136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1E18E6-DFF4-4C00-9217-9749C6C7A90A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0BC260-7DBE-4379-85FD-B6AEF30A97F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31A793-7336-4575-A160-904D54DBB1A8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95D59E-D8B2-4B57-8F51-2764192B4EA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1292B2-5EE9-47D9-9224-BE747CFF77E3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9411E3-2A12-43E0-99E2-AE76C9751B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74A1BF-7C95-48BB-AAE4-120E50487B9C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376BAC-02CC-4A45-8A5D-5C3A818935CE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F050E5-A95F-4C4F-BCB6-BDDFA7ABF28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089E3-7805-4F2D-AA24-9BEDA178C20E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AE938-AD96-45F8-BD87-5EF78852E9B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275BD-AC01-4C4F-9A7C-6B1DEDCC11A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F891D-12C9-47B5-A722-F568C8A73729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361E6-FAC1-46F2-8E24-DB46DB878557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E944E-0C4A-4862-B607-A6125189368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C3283-E57B-4B02-B75D-F580EDE9D0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BDD98-BAD4-44E2-92C8-41D7F963263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65403-4917-4513-B202-0FCBF828F39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31B53-CC60-4B85-AC80-1C0BB76BB7F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F4161-F6DD-4461-88B1-2FB5630A46E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D0FCC-2C40-47D2-AB97-393A7C248E4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7C6557-9C9B-4599-8160-62480C9ACB1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DDC336-F51D-414B-BB3D-C8C74D3DA763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5EAE73-48F6-462D-8E48-BDF33A89FFD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0389DE-8360-41BB-8E4B-D5680688EA8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7E7DC4-23D1-4311-B6AF-2FCC94BC86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8455DB-2DD7-4DC9-BA4E-6BE449588B2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2C1260-9C82-485B-8CC0-0D6E1E698122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5B8449-70BC-483E-9450-3F5A4FD6A2F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839DC9-6137-4B1B-B2CD-69486F2885B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58333A-57F3-482D-B33E-03130ED2114F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5471B0-0AA9-46A3-BBFA-8776D8FBEAF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A6F2B0-2C6D-4ECF-A9AE-0F2AA16BC13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C36361-1871-4575-AA6C-5CFD1AAFBBAB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B6BA21-FE49-436E-8669-B1844585273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3EA3AE-8FCE-486B-9AEC-7E17184414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298FE3-598E-4EB9-AC8D-4D21923EC0C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9DE53B-08C8-4A0D-9F90-2FC7265CF647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3CB24C-46C6-497D-B3D6-761F9CC2BCDE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ABADBB-D7D9-4B93-8E1A-A39FA0427FEA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9EF159-E4E8-472F-8ADC-62D23778094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07046E-F64C-4D57-8D7C-E45FF36BFFA6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5C2736-1BAD-443C-99FD-7B4D98D867EE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000B74-8356-48C6-89B6-7C243AE6A1C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27EBA8-09B6-4D67-BDAD-340290BEA638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AF7C8-F896-42E6-9310-AD6965CC0D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2A693-8C7C-4446-A2E5-B40C89729C85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D921F-17C3-44A1-88D2-9FA6C57AC9A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BF0C8-5D8F-4BE0-B4E9-1F007561E83B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B9086-7501-4F4D-B3A0-20B0A6B41080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E9685-BDD9-442A-9C2E-E29A1DC39A8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BBFD5-D3E9-4FB9-9153-5C059546C6AD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3C316-11A8-4208-8078-D71DE6D756CF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F79E3-1198-42A5-85C5-B441A070A81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0F15A-2054-43C4-A6A2-EA43E4A62E6A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714BE-DC52-4B32-81C8-BACC9641A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44350-C806-45CD-B628-AD2CB291B01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E140BC-5BCD-4AFD-A198-7075240A12EA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070842-1D3B-4198-A88E-26152FB9BF01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B77B321-66CA-4545-97A4-71D1CCA8108C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93004A-A6CC-4110-AD7E-1437DA15FDFE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F0D755-7F4A-4336-B647-ADB684778B41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DA9AB4-6620-4CF7-AD3B-923DE83DE78B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F18681-B42B-4B76-9D6A-88364AFA51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81C35A-425D-4432-90F8-6A8BB4CA4563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B1D788-DCB3-4F44-8B0A-043F3BB7525E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4B7D49-48F9-4203-84A2-1B80F4E5F528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A1EF35A-AB19-4707-B19F-F6C56F677C89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D2738B-B13C-4B3D-835F-29EED658BF14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480059-A02D-4D10-84EF-34E18A8EBBA1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D905C4-7737-4551-92D8-BC68E815E2A8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1EF17B-E1CB-4E16-83CB-A175EDD9FB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B0D0EE-DAEC-4AD8-8639-5EDC66A4887C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09CB3E-D0AF-4607-B292-52D0222B7CEF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4C1D4E-857E-4977-BC1C-04E9AF52D9C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E7761D-9EA9-4F0B-86EC-BAF9163CD8F8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A88418-1C1D-4D8A-9A38-784C1BC2B1EA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275159-6790-486D-A81F-29BD0620257A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DBE7E5-71CD-4CB8-BA4A-501FF3B0459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F69577-FE06-43DC-994F-E925CC4A9362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F129F1-7793-4298-B4AD-9330409EB1D2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928E7-7C99-4CC1-AE52-A2DE5E7383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813C6-C4FA-40FE-AA36-139ACF17E90E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36213-B997-46F2-956B-1DCF644312F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D7A49-2DED-4CCF-A7B1-9AAD43D1F4FE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63755-A798-497D-9229-D3521CDA31E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EA006-A279-47FB-8270-880923112FF7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087BB-3EE1-4DA5-9E61-C6418501C3E8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58FDB-3DAA-466B-8F4F-0CDDCBB0B6E0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FE2E4-C8DF-4A24-9B91-D2FDA47BFAE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8FEAF-477C-4E23-B7EF-C414C0A68A4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A2D93-A487-4239-994B-100BD7DD6D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C3E6B-2CBB-498D-BEDA-B82323F7F9E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090441-F26B-4402-A19D-6FD7B3921B39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E1F04F-5BF1-479A-8ECD-0028DEA81BD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AC6192-1C39-4401-939F-EAF7CE62936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B66E28-2F97-4D84-A01A-CFA2F315B09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6B44A7-7125-44D0-9610-3798BE90FC7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97F76B-9B34-4E06-A4A0-8B0AF3E6269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EF7715-A0B1-480D-A438-DE2FE29C475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99519A-387D-44B4-A718-DC1CC2399D2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9F10C2-FFD8-4F58-A36C-3642E7FEC9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DDE5F0-CF15-4A64-8152-60D2CC8D71B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75DDAA-775D-46E6-BBFE-FA4F4D46F157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57F090-6F8F-48BA-9559-97662DDEC39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ABC55B-CBCA-4C49-861F-34813048CAD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F10B3B-AB5F-4C6E-9E53-FF0B4C44D3F5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D3BBEB-8E68-4614-BF64-47DD5A21766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246809-4427-4931-9B80-D87090EEE7B1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7F39D4-B75B-44A3-8A00-C5489117B5E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82DF42-69EF-449A-8DA7-8AB1E7C08E95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FB53A5-F726-4783-9270-BFE67BB3C0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E2B889-9A67-4C63-A8D1-F550D15A883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9D8187-E4B9-4416-A711-F290C3434150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FF9E3F-E64B-4382-8863-8AB28F68F05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5B3D5D-26BD-494C-972A-8E5DD47F49A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EEB1EB-797B-4F10-BB0B-35080F7A75B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3327BD-9E3A-4BB5-8990-F6E8C9DFE54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5BB2A-BCE3-4D05-A999-DBCF94035C7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1FC59-B199-4D89-9B1D-8D61DA60CE5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AC0BE-CA0D-437C-88DD-686C1FEAD98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D7859-2583-4CFA-9389-CA22F0B883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17BE1-5530-44F0-9BA3-80A38ADBAF6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69647-F01B-463F-8975-3D19D9E6E1E2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D018E-1C3B-4E89-AC3C-2C06495B6D3D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38BCD-A53B-4478-9924-E8BC7E608617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10CDB-35FF-4A85-98B4-EA7D3209407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67F27-86E3-4BE8-A7AD-D0462F34AF04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FD751-1484-465F-AA42-DA557B192BAD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4B519E3-A438-4CA5-A427-08A43017F9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28BD7BF-5481-42EF-8184-D54DF0C5D78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A3DD81-7D08-4AA1-A81C-8EC2C56D2DC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E036B9-F53E-4129-A025-AD3E887E47B3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BE3FC1-3932-495A-B07D-AD3C6D0135C3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8A54DB-6F47-42E7-B06B-4D9E4C8CC8A5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56B39D5-222A-41DB-84A3-D8128BDB63F9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EE4910B-E281-4379-BFCA-2384B7BFB49F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37EB45-6143-4D1A-9A9C-F570A685CFB5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7FC4F0-B881-4D1C-9989-2958F131A48D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BCF1177-C6D6-4069-ACD1-27A0D91D19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036A3C-04B0-45CF-BEF3-76FB25FB1941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850E70-D716-4539-AC31-613A5EE67576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B3EC47-A905-4038-9CA9-C8775948D95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FA5601-FC75-4310-B824-9BACAB3859B7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3017E6-CF2F-4131-ACB4-F9CC609699BF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6ADB77-DD0F-47D9-91A2-DA775A84D492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25FC0B-A1FF-4577-A7E8-BB9F5E68441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63C49F-EF3E-4627-88C4-D64DFC6CB5D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E3DDFF-5851-4202-89A7-C4222F2D3908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9B8C99-B089-443B-917A-EAB32AD7BC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5AC-BC5B-4997-BB60-203F5D56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77A15F-C3FB-47C0-B150-D5B860F16E6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59E629-845E-48FF-A0B9-1AD965886BE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660CFA-81CF-4C4E-BEA9-6683D15B59CE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73DC8-387F-42D4-8C8D-0DA41C1DC875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0FF14-B5EA-4333-8113-99A06AB0FB20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0DFE7-B427-45FF-ADF2-F496B4E2A99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C2835-6395-4087-AD30-DD1E6A78A6C1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C0286-8F59-46CF-BB42-8B6CF0C34FC8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C80A9-2455-4BB3-A40F-FDD13A6F6F89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627DFB-B3A8-4C5C-9EAB-E6860E2B6E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A6E-1A28-42D8-816C-E0B22C3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3A26C-09C7-4878-8508-E8DA39FCDF8A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66B02-FA99-4397-96A7-4D173770D95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118DA-5AD0-499F-9056-97BAD185BF36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4E84F-E914-4758-863B-42C142EE2ACE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54A10-B4A0-4036-A212-21BBF83910A1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FB962E4-D856-4A05-95BF-72AFD8387D7D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EFBE97-0DE3-4F22-A0AE-E57F7D525C07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A8A700-FEF3-46D6-A92E-6AFBD04FF3C1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CF9661-AD06-47DF-9D50-68002224CD33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4CCEFF-51AA-46DF-BAC0-AF40E596AE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A13-C4EC-4141-9071-125F6783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D9F086-658E-4F85-B210-4F344AC4E55D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8F0FFA-A35E-45AE-8910-61042378DCF9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5DD37D-BCC8-4292-8044-5470A7B886EB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0D4BFA-8EDE-48A6-A312-14095E618160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5421A9F-D274-45B9-B409-1F8F1AAAC26F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6B4B41-2519-49C0-88ED-15CFD21FB3CC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12C93C-B221-4DA0-B8FE-E39415ADC278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A8B1C3-C79C-4617-A105-25959B7C7594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2771F2-637A-4ADE-B712-3CADE43E63C5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FC934D-6FB7-4607-A977-147E6553B0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7E1-7BEC-4682-871E-90F603E5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10DC25-F3A6-4441-8914-11043EFACD05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419DA2-5271-433C-B051-6A7C4D35CB55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1A4521-D30B-4E3D-96BA-2E5D7A60EF0A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547ABB-6546-4006-A567-6FA8F028B293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75BD83-14FE-46A5-8CBA-0B80DF5B1ACA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BDBDD5-6AE3-44B4-A19B-180C66881ED7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4BDBDA-3F8E-4245-AA87-97C4CED6B20C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09AEC1-001B-4C41-B5BF-8B92EC46F68A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6DA9F0-C1CB-4182-8D8E-3F779A6083F0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2FF9D-64CF-45B3-900E-FB0EFBF5EB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622-FD99-4510-90F0-E76C293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541C9-C367-47B8-8193-9BFF2229FA6D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FF118-A827-4F24-8FD9-C990AA1A63DD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4857E-4DE8-42AC-BAEA-9AF196FFEB50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9C7E0-6167-4C6A-8186-72D39D012480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2608E-0F89-499C-BC1F-4269161DAE85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22EB6-700F-4581-875E-F729D391ED46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9C926-29CD-41D9-A2B5-54D133719512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24A585-83A6-46F9-993C-2D2B256E413C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3D6339-08A7-40F7-90B8-0ADD49319EF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1BC63-937A-4B86-A7AB-953003D060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DC1-A0A3-47FE-8E5D-1777637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260BB-C045-428E-8A6C-80B50470EE89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51B6A8-F20F-4980-B641-9A744FFBDF31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E3484DB-35B9-4BBD-A1D7-DA03A893BD6A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DB3A9F-6762-4650-9029-5038BB5F8002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376127-6E0B-47D7-8168-9A47ADC41C6A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2B25234-3755-46BC-9F5C-61643EC24CA8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960BB5A-E702-4330-8E0E-54586ACFAEF4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E21C37-7872-4765-A567-23833636131E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91F897-3382-4EE5-B069-F6D4F0499D47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36EE4BC-9151-420E-8FCD-8D5E101D4C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BD6-DEBA-4433-995C-796F9EA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45EBE6-8DEF-4EB2-96D3-AA63112CDC34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9B80E2-63EB-4F3B-965B-1239B2985783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D1EEBD-088F-4EA2-8BE0-F99F4322AB2A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0C25F0-F142-4DDD-B629-B836657C20CF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3AE31D-3D5E-44ED-9579-C2037F01E976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BBAE55-4CB5-4817-817D-37C47E6A5755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C944A6-233B-4DB1-A76C-291C6066E265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CC30161-4D35-48FD-B2D0-FBA1AB985F26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0C105D-13DD-4FAC-B3C1-4951C48612A3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E79EE8-F4D3-492C-827B-3467E4A2B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118-6510-40C6-8097-F9BD3C0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06C496-7C73-400F-BED8-803A151371FF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1BCC62-EF6A-460A-A7D4-3706770BB22A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5B3011-96D3-46EB-8E03-5D58C7ADCC1B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ED7E1D-8C9F-4AB7-B432-2BFA36FCCD17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513FE1-07C3-48FA-9978-28F22BC14F37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E1460-EE16-4F05-A2F3-D38F555D3347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80318-00ED-4CDC-B814-3CED486BE700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54993-0C7A-40AC-902B-0FC5B03B72A8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0EC97E-9F58-42C5-8F18-CBACFF177366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67554-C8CE-4EB2-9CE5-C4C1601116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AEC-A64A-43D1-B4A1-02DB970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ACE38-EE2E-487A-AA94-501003492989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A2338-5934-4AB1-9481-7E9C8822363E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05C88-0055-455A-8D11-1B40DAF5CAEA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C7C683-1198-4C60-B25B-37E7D81DDFD6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F39427-9CE5-42A5-8837-627E6385BAF2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F277E1-B1A0-4FCB-9328-6D7021634CC6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0D625-8490-4E4C-B053-681FF39CB358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200079-4305-4662-8494-BF219427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698BB9-7BD9-4B23-B2DA-009D033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A01B85-A0DD-4130-B1E2-3A6E3793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781-4A93-41CF-BC70-65DF84EA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8CB9D-FE54-4D41-875D-2D901D67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404E5-D6DC-484E-BA30-A01C22A9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447CB1-B32B-4EF4-9841-C2FB248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3EA716-9DD5-4EB8-8A5A-F81043C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80709-6B3F-450B-B40A-0FE72302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2871DD-F37C-4D7B-B5EC-932DA223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1411A5-1011-47CA-982C-6648EFE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80F7D0-D41D-4DA4-82B0-A4E7F7C7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1F6E0-3F71-491B-96D8-9BC1C0BE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318-DC22-4941-AA31-B9667977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826-958D-43B0-B91E-2BCA2A26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B1883-7388-4171-908D-223415FFA7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2A5B1-A312-451A-8974-D6649D025D2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6BEE1-D893-4D92-8662-D906002C33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6B122-F305-49ED-82E6-7FF498737A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B5644-7BB6-444D-B43C-7F08D6EB1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00C6-CED2-4A67-9368-F1172A792F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DE25B-1852-4823-83E4-89B5A1FD217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439B6-48C7-491D-9018-29CA5F0085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0F539-AA23-4592-BF68-DE77FEB9D4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29A9E-7B2C-44E0-BBDD-9EB97CA562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BF764-207A-4940-9AFF-8EA7D086FC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EAD0D-3746-4D41-84EA-F24ED24EE4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379BA-B56B-44DA-9E4E-FD24E022B0A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C18F-EB76-471A-ABAA-0C98B77AF4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EE650-9BF6-4672-9A0F-B4D129FCC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6AA5F-604D-4AF8-99EA-6C5532186906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6BBCF-E8FD-4B3B-A66C-06F857A07A1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77965-8CC4-41F5-868D-1E75A9E5D0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C944F-F600-43EF-BBA4-2A2BF8DDD3D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C38F0-608A-4A1E-80DE-7CC958323E6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44204-15DC-41FF-BF63-6907FB103C8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4A14F-AA75-465C-B05F-3148759400C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88753-E6BC-408F-85E8-7DA257970687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B0381-24B1-49C6-A032-F179F3988CE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B38A9-B0EB-415F-8EC2-F298E134125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CC6B5-821A-4FC9-A204-709536A34C3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68D67-5913-4085-A86C-7CB8D1920ED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F2B8F-822F-4980-9CBB-8EED7A6B88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7E9C9-0F94-44E2-A643-8BA102E30DE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9C56D-8CFE-4333-AD36-4DF6C5D4560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77ABE-06BE-4CE8-9424-D34A2B7ED9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D8998-9E97-4863-9D70-387E23AEAD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8B3B3-331B-4B13-81F1-58401005D70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9EF5F-0664-44A8-9D67-0326F3868F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0DAA8-4C8C-4EEA-9225-B0DCF09E43E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FC459-266B-41B5-9FC9-522E0054ADA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E7957-ABF3-4DCB-972F-6C79872F994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C4B6E-3A42-42B9-A737-C798342986C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6BB65-5652-447C-9125-D904583F524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44DE9-34D1-41F1-9C29-DA8D0F34AA4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847C7-2F11-4B8A-9B82-955BB2D043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AC747-2B13-41CD-9D4B-8D307F493F0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4ECA4-EE06-4F84-B450-BFC014CB7B42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892C3-CE9B-40C6-874D-F4946F3B070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57D80-8446-4D33-9DA5-7CDA52DFB7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AFAEC-C4C6-447C-B7E8-1FA9A1AAE20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2A5DD-9591-4F06-9AEA-AAA074A82C85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Num" idx="4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484E0-67E8-4962-8ADB-D1B0D5967E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Num" idx="4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27A6A-7A3F-4DA2-BD57-466C7E349EE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ldNum" idx="5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9A039-7269-4F63-B27C-6F2DD433C93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8B3CC-F5CB-4C67-9565-3E8F8179B62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B586F-AB9F-4C1C-9BA0-08145C1B9C7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4EB86-2351-40F3-822C-9CDEC8F67B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897EC-F8C8-4C87-B851-FB7CF01C93D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2A412-5818-40AA-8231-F9676AF1338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37C42-1BDC-462E-A799-DF5BF63F47B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4B842-4AD0-4071-99C2-9BDD32687BF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4669F-C50D-4607-BB31-019381154A1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AA7BE-8C63-4C77-AEFE-F20C479754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17A94-9A92-4668-8F18-379F638825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Num" idx="6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BF32B-6E12-42F8-9F14-A23DD926C4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ldNum" idx="6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E46D0-2DCC-45D4-A4EB-E9D7C24D93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Num" idx="6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AF86D-0272-42C9-9366-5DD3F6C131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Num" idx="6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0F59C-7ECF-4E5F-9071-6912B8E5E7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FA97C-C34D-447F-AD99-C6A36066813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E898C-8B19-43D8-BB9A-39A0464F54C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17683-1CCB-49DE-B900-A5C067AEF6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792000" y="2103120"/>
            <a:ext cx="7560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y Development Proces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nslation and Transliteration of Contact Information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Chris Dil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8C54D-92E6-41F7-AA0F-6213F1CBEFC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86011-FC36-4672-ADC9-B3E71D8AFE3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Rectangle 1"/>
          <p:cNvSpPr/>
          <p:nvPr/>
        </p:nvSpPr>
        <p:spPr>
          <a:xfrm>
            <a:off x="426960" y="1028880"/>
            <a:ext cx="565956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1 March 2013: Issue Report publ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3 June 2013: PDP initiated by GN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0 November 2013: Charter approved by GN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19 December 2013: PDP WG begins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1 January 2014: Request for Input on issue questions sent to Supporting Organizations and Advisory Committ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24 March 2014: Public meeting in Singa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9" name="Picture 3" descr=""/>
          <p:cNvPicPr/>
          <p:nvPr/>
        </p:nvPicPr>
        <p:blipFill>
          <a:blip r:embed="rId1"/>
          <a:stretch/>
        </p:blipFill>
        <p:spPr>
          <a:xfrm>
            <a:off x="5753160" y="824040"/>
            <a:ext cx="30859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0" name="Picture 1" descr=""/>
          <p:cNvPicPr/>
          <p:nvPr/>
        </p:nvPicPr>
        <p:blipFill>
          <a:blip r:embed="rId1"/>
          <a:stretch/>
        </p:blipFill>
        <p:spPr>
          <a:xfrm>
            <a:off x="6111720" y="773280"/>
            <a:ext cx="3225960" cy="2336760"/>
          </a:xfrm>
          <a:prstGeom prst="rect">
            <a:avLst/>
          </a:prstGeom>
          <a:ln w="0">
            <a:noFill/>
          </a:ln>
        </p:spPr>
      </p:pic>
      <p:sp>
        <p:nvSpPr>
          <p:cNvPr id="2571" name="Rectangle 1"/>
          <p:cNvSpPr/>
          <p:nvPr/>
        </p:nvSpPr>
        <p:spPr>
          <a:xfrm>
            <a:off x="561960" y="1528920"/>
            <a:ext cx="63849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Working Group Charter poses two substantive questions to the Working Grou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local contact information be translated into one language (such as English) or should it be transliterated into one script (such as Latin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o either translate or transliterate contact inform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581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The two issues of the Transliteration and Translation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E0FBD-C242-4EF1-BF7B-CC42475E425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Rectangle 1"/>
          <p:cNvSpPr/>
          <p:nvPr/>
        </p:nvSpPr>
        <p:spPr>
          <a:xfrm>
            <a:off x="3919680" y="144792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taff has commissioned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feasibility study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 translation and transliteration of contact information to help inform the Working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late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063A4-2831-4031-AB29-4E55629EAD4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7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311280" cy="2362320"/>
          </a:xfrm>
          <a:prstGeom prst="rect">
            <a:avLst/>
          </a:prstGeom>
          <a:ln w="0">
            <a:noFill/>
          </a:ln>
        </p:spPr>
      </p:pic>
      <p:sp>
        <p:nvSpPr>
          <p:cNvPr id="2578" name="TextBox 2"/>
          <p:cNvSpPr/>
          <p:nvPr/>
        </p:nvSpPr>
        <p:spPr>
          <a:xfrm>
            <a:off x="3919680" y="3657600"/>
            <a:ext cx="500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 Expert Working Group is determining the appropriate internationalized domain name registration data requirements, including relevant outcomes of this PD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TextBox 3"/>
          <p:cNvSpPr/>
          <p:nvPr/>
        </p:nvSpPr>
        <p:spPr>
          <a:xfrm>
            <a:off x="690480" y="6215040"/>
            <a:ext cx="150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www.dkit.i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Rectangle 1"/>
          <p:cNvSpPr/>
          <p:nvPr/>
        </p:nvSpPr>
        <p:spPr>
          <a:xfrm>
            <a:off x="431640" y="1117440"/>
            <a:ext cx="82886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ther it is desirable to translate contact information to a single common language or transliterate contact information to a single common scrip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exactly the benefits to the community are of translating and/or transliterating contact information, especially in light of the costs that may be connected to translation and/or translite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gTLD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hould translation and/or transliteration of contact information be mandatory for all registrants or only those based in certain countries and/or using specific non-ASCII scrip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25660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D12F4-E364-434F-B992-83C44E416F9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1"/>
          <p:cNvSpPr/>
          <p:nvPr/>
        </p:nvSpPr>
        <p:spPr>
          <a:xfrm>
            <a:off x="431640" y="1219320"/>
            <a:ext cx="8288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mpact will translation/transliteration of contact information have on the WHOIS validation as  set out under the 2013 Registrar Accreditation Agree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should any new policy relating to translation and transliteration of contact information come into effec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should decide who should bear the burden translating contact information to a single common language or transliterating contact information to a single common scrip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o does your SG/C believe should bear the cost, bearing in mind, however, the limits in scope set in the Initial Report on this issu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256600" cy="7952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quest for Input on Issue Questions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4BA85-5B54-47D8-9685-D7A7760E564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Rectangle 1"/>
          <p:cNvSpPr/>
          <p:nvPr/>
        </p:nvSpPr>
        <p:spPr>
          <a:xfrm>
            <a:off x="3429000" y="1133640"/>
            <a:ext cx="5562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input from the Supporting Organizations and Advisory Committees on the issue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view results of the commercial 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Working Group drafts an Initi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5976720" cy="1206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F00DC-692C-4E48-9A9E-266046AF2D5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9" name="Picture 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2962440" cy="3933720"/>
          </a:xfrm>
          <a:prstGeom prst="rect">
            <a:avLst/>
          </a:prstGeom>
          <a:ln w="0">
            <a:noFill/>
          </a:ln>
        </p:spPr>
      </p:pic>
      <p:sp>
        <p:nvSpPr>
          <p:cNvPr id="2590" name="TextBox 4"/>
          <p:cNvSpPr/>
          <p:nvPr/>
        </p:nvSpPr>
        <p:spPr>
          <a:xfrm>
            <a:off x="212760" y="6211800"/>
            <a:ext cx="224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age credit: http://3.bp.blogspot.com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Julie Hedlund</cp:lastModifiedBy>
  <dcterms:modified xsi:type="dcterms:W3CDTF">2014-02-26T15:49:55Z</dcterms:modified>
  <cp:revision>199</cp:revision>
  <dc:subject/>
  <dc:title>GNSO Policy Issues</dc:title>
</cp:coreProperties>
</file>