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4.xml" ContentType="application/vnd.openxmlformats-officedocument.theme+xml"/>
  <Override PartName="/ppt/theme/theme66.xml" ContentType="application/vnd.openxmlformats-officedocument.theme+xml"/>
  <Override PartName="/ppt/theme/theme29.xml" ContentType="application/vnd.openxmlformats-officedocument.theme+xml"/>
  <Override PartName="/ppt/theme/theme63.xml" ContentType="application/vnd.openxmlformats-officedocument.theme+xml"/>
  <Override PartName="/ppt/theme/theme65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</p:sldMasterIdLst>
  <p:sldIdLst>
    <p:sldId id="256" r:id="rId71"/>
    <p:sldId id="257" r:id="rId72"/>
    <p:sldId id="258" r:id="rId73"/>
    <p:sldId id="259" r:id="rId74"/>
    <p:sldId id="260" r:id="rId75"/>
    <p:sldId id="261" r:id="rId76"/>
    <p:sldId id="262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" Target="slides/slide1.xml"/><Relationship Id="rId72" Type="http://schemas.openxmlformats.org/officeDocument/2006/relationships/slide" Target="slides/slide2.xml"/><Relationship Id="rId73" Type="http://schemas.openxmlformats.org/officeDocument/2006/relationships/slide" Target="slides/slide3.xml"/><Relationship Id="rId74" Type="http://schemas.openxmlformats.org/officeDocument/2006/relationships/slide" Target="slides/slide4.xml"/><Relationship Id="rId75" Type="http://schemas.openxmlformats.org/officeDocument/2006/relationships/slide" Target="slides/slide5.xml"/><Relationship Id="rId76" Type="http://schemas.openxmlformats.org/officeDocument/2006/relationships/slide" Target="slides/slide6.xml"/><Relationship Id="rId77" Type="http://schemas.openxmlformats.org/officeDocument/2006/relationships/slide" Target="slides/slide7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D7368-35EC-400D-BBDC-DD0B29506C8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80B77-C095-4D79-AA26-CA0CE2EC293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44D7A-0147-4FB8-9D18-CD200D3E5CF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78DA4-E0BD-487E-A1BF-82243B463AB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47388-38E8-4053-9BCB-679BB5EF729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E7E98-F192-41F1-848B-AD4D41C183C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01CA7-ED3A-4CBA-A40E-641384C15E6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F0081-D8F5-4FF2-8376-50BE622E731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F722A-3A85-43B0-8674-1297D4C86DC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2919-05E3-482D-8521-8A31646D0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D885-942C-4DCD-9E1B-A56BD178FDE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E85C-F993-4EFA-A886-11C230DDD2E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7D65-DD76-4E36-8C99-2F7543C1A11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2E8A-9D83-4342-80CA-7F59A124CA4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15AC-BA9C-412B-A7BD-E0FF608C760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5CA7-2D4E-4961-A774-000D81FB7D0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5668-272D-4B23-8FE3-2E85EEFDC0A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344F-A540-4270-874F-910E4649BA1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3A62-708B-4A07-8516-53E9DDB073C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7685-8F68-40A4-B24D-0F4ADD2AD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7075-F9D8-4B88-B3C2-527628AD2B8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5A5774-A942-4828-9F2C-DB98B5EFA43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5B42F1-8292-4CB7-B1AC-847EBBE22DE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48DCAD-3B56-4CCF-B13A-C7082BD62F9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1ACB66-E898-4A34-9042-B43EC361868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664C55-1F17-483E-8928-55651C7E905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7A50C3-217E-4DF7-BE18-9FD6B34F0DE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F1AD2E-7E27-46C4-B8C9-0FB3B401C96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E10E70-B9D8-4407-9B64-40D9CAEBCE9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6FC46C-B604-4EE7-AA71-AD429C62F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4E57BE-CD0D-4F48-94F4-5E7EA930E5A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78908-F1D5-4FD5-8292-7C0BE53514E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E35BE6-34A4-4EED-BCD9-9B5EFF8EB39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AA0EE-92D0-4FAD-BAB2-9B37AEEEA75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00B93-4F27-48E9-A543-CC5F9D5ECF6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54A6F-E47A-4517-9506-C2D33D4119F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A71CD-1A08-4DD3-9400-9A570F65977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B8805-5AF2-4DD1-80DC-B315476F71B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AE13E-F7E9-411A-8331-15C266F3680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7CF3A-4778-4BD4-9814-05B7A744BD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CDE69-466D-46AE-979D-13ACAC61286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D2FA1-48AF-42BB-9DB7-BD10FB756E2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1C088-F2C8-4145-A970-4ACBD5553BB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6362D-4E52-4BCE-A18E-C1ED2AE2BAD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3C981-F5D2-4045-8D54-3982B539524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FF560-9336-4050-9D6E-F4C5D4B96C9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C0A98-A80F-4570-BB30-215E067AED9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F5D4A-D541-453F-B418-2D732452630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6D116-895C-4A41-BD22-A623091C43C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B6680-7841-44B9-9008-0E8F8B58C7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AD0F3-9915-4FB9-ADB1-1037AB42109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CC744-BD19-4843-A70C-3417AFA5114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0B929-B36E-49B0-9614-1405D1B8D76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0B0EF-8FEE-41DA-85B8-FE4B0EF12D7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4621E-4174-4D46-B56A-43ABE7D6588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833F9-CD69-43A9-B5D8-058A9C189D7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249E3-42ED-43F7-9EF5-EBD3BB0BDD6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52231-934F-4AA8-B036-0BCE3050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22CA3-8E7D-412D-9404-9818764E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5B49C-28E8-4685-B26D-9B88019D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C361A-260B-4F7C-803D-0A999F7B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E77C4-CD31-41C6-B948-E2DD70B9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DC8B6-CF7B-4AB2-8175-8C135C61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CCB33-E8AC-4397-BF83-889CB11C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3FDA9-3E37-40B0-B2B8-DB138685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C184E-30BE-43BF-B21D-DD05A8BB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9E8F3-E3C3-45E5-993C-77670405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8833C-A1F3-4659-80A9-4CFC3442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59297-5657-414E-BC84-A96B6696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40679F-41B0-456C-8335-1904309469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230D5C-511A-4B14-B768-A3E8DAD080A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D6A372-ED1B-452D-8148-D96DEAE80C5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4BB147-F548-4134-91FA-CC4154DDA76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BFA015-0991-4243-98FC-B05A3D62F6A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7B057D-35E9-4F23-8D7D-ECBD9A8825A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481232-6D4B-450D-A6CC-79846991392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ADA986-BEB7-4140-A1E7-5C57C434D99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6E85AE-267D-4478-B6E8-FC9A2ACFFE5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AA2637-EC8B-4B67-BA94-1D3FC8DA214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27441A-0F51-4972-BF07-4B5897D4BB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D2638C-F6A1-4DD0-95B5-E07DF4430F6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9047D3-F5D0-44C5-94CC-0B12517022D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28721-D3F8-4222-A3B0-5ECBB331021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9FA76C-FBD6-41DE-9935-3BBFED9C927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452DE-C8B5-4617-8739-59886D77A88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23DD38-CA62-4C68-A287-9C23B80FC2A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1DED89-5870-4A42-94D4-D81960BBA99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CC10A8-7EE6-489E-83BB-7A747C2B4CF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FA2D4C-50F7-423A-BE80-597CFBC0417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2760A-0E05-4920-8D0A-9F67A0AB49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E76555-9608-47C7-8769-36247633646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869D9-7FF8-42E7-A69B-DC9A1807FF5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39E80-30FE-41D4-8AB0-93425F6A1B1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F6F99-C100-4380-893A-36580E664DC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A0447-C1CD-4416-91A5-5F71504FD9C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AFC28-5C35-45BC-BD68-0D81378E087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8DE53-6798-4EA5-AEA7-9738788668D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0D10A-9FE8-4080-B6E2-B411E16248A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58479-33F3-4C30-BB3F-915523146C5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14D76-90FE-44A2-8E7D-9553FFF46A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A6004-285C-48B8-AB75-69C1E9F1B8A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B0334-1141-444C-9F85-1A6E06D2755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2DA3B-DB5E-4B82-BCDA-2329C2D7647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5282F-5AD0-4B05-9FA2-23ABC56670E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4375C-31AB-4C74-9C1D-00F1A447639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ADE5E4-BFFA-4AC3-B447-E9E26A30DFE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61723A-AD93-4D3D-A612-5AE1AF38773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55820C-9C16-4791-8285-C51FC05176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B75CF4-38DD-4F82-AB15-F97D17ECF5D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BB076D-CB07-4E35-81D7-14852BF38E7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6594DB-5201-4595-A480-807F8B40245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14CCC6-6AE4-454D-A67F-AB34E427B2E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6E58B9-F97D-4DED-ACC1-02C50527DD2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38E912-D0D5-4F24-9700-088ED52D337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C966BB-AA97-42F5-B4B6-5ACE10A756F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02A4D5-3F36-4191-9D70-02D8E82157C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606C9C-D8C7-4B2D-B362-C29EEA2E8D4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C4D73-3D55-4BE1-AB49-085C3CC834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1680E9-F321-45AA-8FB8-5F18ECFDC05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DB8D5-DD47-4CED-B248-A06BBD2F6C2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418A4-C100-41D1-BEB3-4C3F60586F6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3ECB3A-D32C-4110-B187-394EB79F9F9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273D9A-8CA4-4D0B-BD76-86302A7A5AA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4F955C-04AC-4651-8E93-1A43D6738A5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3D5D1-252E-4CA8-8D04-49A81507D2E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2B0298-42B3-42AD-A9B7-99D970A59BB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D58C42-0ACF-46EB-AC32-9ED08F34971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F9B50F-5681-4F15-AF4A-CF7376E1E2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070F1C-01C9-4155-BA44-9D0E5ECA53D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CACE5E-FE7C-4472-B823-C6A8207D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498A33-FC76-42B0-B8D2-3FC7E6FA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D82E38-0B2A-4050-9444-A1C5E3C4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29235B-858C-48CF-A0D1-96E72823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16BC17-C32E-42B3-921C-835B76AE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199889-603E-40D6-815F-E665C97E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217459-EF73-45CB-A01B-B3D40CBB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4351E-5861-4F26-A335-B3068845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6279E-D038-4E71-85EE-FDFEFD60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377B94-7C3A-431D-BB25-36271FCC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74B221-C8C3-45FD-BA64-8D057000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F8C6B0-EF11-4D33-B9A7-783332F3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0B6F8-6DC5-4571-8F78-80381A720B9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F10A5-568C-4767-BA11-5ECCE63AD36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CCFBF-90E9-4878-BF8E-030A9743CA3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A7288-6A04-4092-9B89-4A8E2E31208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F8302-F255-479A-A071-A7A4E489631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3FC73-D5A6-4CC6-B2E1-3F6715A0A17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F03EF-0749-4732-B9BC-21D4020F32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7F6C9-C738-4104-8825-9790C68DE00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C7AA9-C6EE-4613-BC72-4386B18AF18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777A8-0697-4C86-A89B-FC46562756B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BCB93-4F50-4A53-A69B-1577B62FC83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56C17-3495-4B97-B203-DE6FAD20D1C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4581F0-75E9-4CB7-9E6D-76356F33AAD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742CC1-8261-4761-8628-C4DDE00A8AB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21FE4F-884A-473C-839F-4714D6DA6FF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777EF6-0627-45CD-9A2F-AC05ED4D0CC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7600D1-882A-450A-9608-25B39498AD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3630B4-001E-4D06-9D3F-F5D6A3B6D3F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52B1C9-9AC8-4D54-9007-D30482B0CE8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8D3914-C63B-4D27-96C4-7FBD8FC3093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CB7DC9-50DE-433A-9367-FEE44C946CD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6DA94E-E056-4B72-9F80-FC2B36CDC3B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DF2414-6233-41D2-A676-F527737B5F0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A35DAA-AAD3-4503-A1C8-25EC2A38FB2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4CBBAE-5E9C-4756-B988-222DF09E223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7A9C31-49A8-4291-B5C6-1E877CBCCB3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43686C-CCC6-45A0-B3D7-FF71EEB004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B86799-36D2-4C96-9EDE-A14471E8502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703DAA-19AB-4710-856E-5D540F2C81A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B473FF-7933-449A-AC8B-927BAF55EFB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0873C6-F7BA-4CAC-BC86-2D908E3AFC3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0D096E-A6D3-4F4A-95EA-A4ED9A55F8D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1CF3D6-8D12-4570-817D-D272208AB10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EE7508-17CF-4E3E-BA23-DE447DE603B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8E18B3-21CA-4045-A042-BF4C7DE355C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2F8F16-7EC6-4D38-8C71-1CE23E3ABA2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F92C6-B868-4B69-B2CC-14A662A106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0795C-4EAC-424E-A26A-65E32320127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9C614-8C62-45ED-92DF-BE916106F76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8CD4E-CE56-463F-9AEC-7C6E24A1C01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17861-6D47-43DA-A8CC-4D1DCF4F618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7943B-8353-4A56-B7A5-B64F6F9DE2A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51579-3E79-455C-A164-8B6E939B104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A8D2D-2394-4066-90F1-BCFCC386FBE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3C18D-E510-4F24-A3EA-7AA5DA525FC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C454B-46D0-4578-8C58-2919A91185C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8AD60-3D29-47D2-9054-6124707943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A0A50-ADB6-4647-92DE-F6416062D17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E61C4-D611-432E-B580-BC8C2506EF1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73482-6A8E-4D61-9AC5-C51BCC9320C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1F28A-F4C8-4D19-A103-A8A903809F4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A6516-86F9-4083-AB20-7ACDD9F7CE6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2A6FE-A8BC-4FD4-9B99-E17F834F6B7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7E431-0EC7-4BCF-8BB1-6D5518AFAD3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13C41-3ADA-4F3B-BA09-28F7883B367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FC0BC-2517-48ED-90EE-C1D8DE57103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DEF47-8CC1-43DD-A221-473A8D9BD9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376EC-F1BD-40DC-9943-EC5432C5AD9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5FBDA-0EE4-4B09-B245-4807AAEBEDC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0AA68-04E6-421C-A405-BFA3F92A0036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8DDAA3-581E-4BBA-BCCD-5775BCFCCC76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58B6A5-E760-460B-9506-37486DFC880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7764F7-BA51-4CF5-9D6E-85952E71F2BB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76DD2A-9C20-4268-9671-D12979A68BBE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8A1FF1-9A91-41E5-9C4B-60354D1B428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746418-C469-4551-818C-92FEC0B429CC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89528A-351B-415C-BA54-A6F144E14F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19DA1D-400F-4FD5-A254-C90FFA54C3C7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7790A0-4963-4DFF-BBFC-E155BFEDFBB8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33D4B8-171E-4073-A323-067F8704FFE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E58426-9ED5-4282-B387-A4AC053D11D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484ABD-7D33-4036-8AC7-1D538E0A5EC0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45138-448E-4F02-8338-D1C920AE74A4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617FD-7BB1-45E2-96F0-7B2BA3779F1E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71824-A8FF-4462-804F-A0DE99F8FFCC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681BE-84B9-4D90-BA17-B7A387A79948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220FA-856E-4A06-A34D-26A34FC0D1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48ED6-1E65-4776-9D2E-F59F84A62DF4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B2722-AD7D-4A9F-A3E3-5E5DA8CDB0BD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65232-E80F-4177-8B17-21AE13BCF1E8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F8732-B4DC-4302-9461-A40BE1DE68FB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6213A-FA87-48A4-B5E0-C8BB62F7B4C0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65C2E-67FE-4870-A52C-860D06A4A5D7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8B790-4BFB-42AE-B8DB-7E139D751FE0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35344-FB2F-4DBB-AEB2-822671D281E3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41369-9EC9-4C29-AC8F-111F9ADD6271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E3EF7-B54C-4B38-9008-FFDF3C66C7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F16D8C-A469-4CC0-A451-323A0EA4A00B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2DF1E-A5FE-4B57-80B8-17D0350794A1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BFA3E-8E4D-44F3-88A7-C06FC5249C08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127464-FA2A-49A5-874A-32BA3AA7F945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BE66F4-6924-446B-AB5A-A23089A43492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1AF42-D104-418B-ACF0-CDFF110B2DBB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6649F-9DE0-478D-895C-437E8860B5D9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25ED6-AF7F-446F-AB99-19947BA244D8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455E9-622F-4428-9F4C-E48DDA6441E2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BCA20D-271B-4EAB-9ACB-EF0734DCF4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2E489F-12A2-4B4C-AFAB-B1370C367909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F434C6-B46A-4D46-9CF4-012D075BD227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1020A5-A5CF-49B3-B06B-74B8799B6297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6284F5-7B24-4014-B699-2D4F57192811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0E8778-360D-4549-BD2B-C2EFFB03A695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57AF66-17C4-4499-81EA-DD47E6982FBD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BEBD84-80AC-4712-B13F-8A26D4EC595A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4E7DCA-0D6B-4EA7-AC70-821C79245FEF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B34E30-C513-4B8E-AD43-716884A4769A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74201B-036D-4C6A-B848-965E5C8BDE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33CD3E-68FF-4AFD-B333-767CB5CF44FA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E1AB7-81DA-4E70-8B71-802CA1EFC9E9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C5783-D8F2-47E7-93B9-F3349AAE6626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20BD8-66DB-40DC-BC96-FE76418999D3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6B5F4-FC62-4A01-A250-36DBD4730B28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45B3F-68A7-4D86-8850-9AC167DC5C1C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15415-CB5F-4D43-B482-C12E51F4D8A2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AC1EC-FDC5-48F0-BD29-F190E64423C3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BB4EE-F9BE-4CA1-A0B5-9DB71F67A910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86F70-B4E2-4189-8BDC-24717BDD1B4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8F398-6925-4FA8-8089-972EFBE68447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F230C-699C-4FC8-A64D-340DBB7DA0ED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3B3EF-0857-45F5-9C63-4BE2DDA35C28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05C99B-7BCA-4932-A9F4-4CB4E9F3C14C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986EFD-FD94-4C65-BC71-3676DCC06367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78D9AE-D53E-4CB9-8DD6-C7F9E9E2337F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9046FC-22F1-4F14-864A-ECB596E65C07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5DE1B0-0C2F-40EB-962C-88673F419C10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CC4262-212C-4E52-94F3-19A8890AC946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6D54C2-9143-41E8-BB38-99C72952F7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3AC81F-B084-4EF5-BC67-ED896A9202D9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F5DE9D-343C-433D-BFB1-13ADCEE1F947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256D56-870F-48D4-B338-9E5422A2315E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5A6F3F-E083-49F1-8B45-0E364883D029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4A40D6-88DC-45DC-931D-DBC59971A19C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A7F248-E292-498B-BA9A-02968EFDFA64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97F947-96AF-4334-B02D-6AA78C354A41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FCF4CF-8CA6-4C33-A18C-BE26E305A28E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413D0B-688A-44BC-8F15-09E3341944AF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74D9A8-009C-40BE-B0B8-A51CF31A00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A47E44-2B9C-46F5-96A7-AE14866A4D8A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C1476B-7D27-483A-BA29-400757CEFEDC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D4F711-F91A-46B5-ABA4-44125A78DD42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4E2382-3CF0-4F34-B343-874D3CB8470A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8F8217-B93D-46AC-A79D-5FEC17369E30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C301C6-F487-486F-8C92-7C2312496DC4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CED858-3AE5-44DE-A970-59BB6726CFEC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FE464-F4B6-4214-BFB9-0FF951623F12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FCF76-0FA9-403B-BDAC-99E84C2676B3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A3273-3C6B-4DAC-B4F6-1F9F50390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46613-C486-4CE0-AEEB-8279F11D8B63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B0CAF-5FD0-49E0-80A4-EA34DE40B42B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5B3F1-B168-4801-8389-83D8841B092A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13BC6-7425-41D1-BA57-84532E5FC271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06FBD-D205-476C-9165-7FD5FE0DADB3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E97A8-9A49-4766-BDA3-28AE6B93B3F5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B23AA-C461-4CE5-A881-3D623AF91828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CDE69-27D6-41EC-8635-D0DA0FA87828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79894-976F-4072-83DA-37561E3C534B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24B0BF-22A7-479F-BBD9-FF7BAA9AB9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E1B63-A318-44B1-B241-6B8DD28BB33C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A7076-DC60-478A-90A6-77C84B025833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9B4FA-D726-4AA2-959B-F04BE3427E2F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1109B-7D61-4E3A-B791-13EBB5C6A8CC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56A517-EF8B-4FB8-AAD3-FC675C6C80E5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554AF1-9844-4F55-8BC7-8FA1B36DECCB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FDD96-D24D-40AE-A699-DC17DE147B97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10757-3D23-4926-950B-F9A7B8E4732A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22583-94DD-426A-8DE9-4F78611FB0C6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4B962-FF43-4C45-95D0-F9D85D41476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78C7B-357B-4106-9D80-7F740EA82276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853DD4-A8B8-4FC5-B3C4-9B39D885E0C7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E38B78-A245-4F62-AD92-9E960FEBF86E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7547C3-2920-4595-B3B1-AFA52FC909FE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BEA15D-DE8D-4E8E-852E-277346D4332D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4530B5-935D-4C9D-9E97-93A537A3F2A1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65A8EE-CE94-4C31-81A5-5F516C8591A0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1E99F5-FD5D-43D3-B301-7E55D86C13FB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496C6A-0E65-4DDF-B3F9-0407B44AF260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18DB4F-874F-494A-A2BF-10E40ACA14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5A6353-BA8C-4307-9598-82C40BD29227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915B01-52E8-4176-B3F7-B63D08AC9207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7A9CC4-8363-46B7-8083-9EA7BBDD0A1E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A21D0-7398-450F-BD49-102660BD320C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E1102-AD9C-47FF-9EEB-66D4C951D984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34C31-31BB-442F-880A-0838F2152B09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71FC8-C4A8-41F3-8A5F-F6285EB54FFE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B8CBF-7919-4C3A-BF3D-8D072EC1F887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948B3-D751-4E24-BC97-03DD7D7712FE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F0541-D3BE-4CC2-88E1-6FBB2DF612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CE9A2-0F44-4361-BFC4-00832C0794F0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BBD9E-6A8F-44CA-930B-0DACD2C319B2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A5BE0-FE6F-4A94-939D-DABB17DE019D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F998F-BB11-4FEA-834E-15F88ADD797A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7AF6F-2E3D-4CE6-A7DA-44F0DC339B3E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9D5B6E-3951-45B7-A73D-761AA37A6D3C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7BCD98-9C0A-41D7-B05B-1706EC488C78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7552B9-6E02-4D15-BC9A-20066A82F50F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E96C20-F8EE-4EB5-8DD5-4FFD5FE82635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E79076-5273-46CB-8B59-5AE438333C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435A82-3340-447F-89BA-8806463B3682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518036-E7F7-43D6-B0F3-E0F62C1AA4B4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BE2BBB-1698-4878-BEDA-B9F1AB6793CA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6ED814-3271-4F21-A3E2-0C21E0FC0961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D9E694-6A27-49A2-BD6C-9D1F29ACD37E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E550B9-67EB-4B73-9A88-3F01D1DD4659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6767FF-697D-48B5-9073-FB7391FE6675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A29EAC-26C2-4B42-8CB2-34EE936AB25A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5E478D-4B3A-4DA5-919B-9141DF3ACB2A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06AC84-3492-432A-A2F5-5E2917C264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D6AD5E-8EB7-4B41-B29F-3A9BC1306D43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81FE9C-269B-409C-81F9-68484689EB0F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248223-95E9-419A-888A-75A7A6D2B258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F87D3F-FCAA-460E-B663-685E29874CF4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B392CA-0403-4E8E-990F-9E28DAFD6A89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9F4417-A37F-4043-B786-542E3208D125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79B8C8-4EBC-4986-9E47-FCB11566403C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5B1622-E61D-4B91-B878-CDC0BA68A2AB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38CF5A-FCA2-4C72-AD52-3EE7FF7EE991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253DDA-0D1B-4A8D-A406-6DFBD31F94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935FA-20C3-44AF-A223-6EBFCB769B6F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86050-B279-4D24-9BE4-B7EE65D69BB9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AF60FE-9011-4715-9F78-577351118C22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9E8C8-8E99-4BA5-AED2-B43C22A3C95F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04562-17AE-4018-8995-F8970A982459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FDB13-03C3-49ED-8F9A-37F1BC6EABBF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A8847-9186-4B89-86D0-69962081CE5E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8ABF0-6268-473B-A7CC-B1AF0669295F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C8499-E8F3-4682-879E-F5ABDAD1EAEB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D39A0-E052-47E2-ABAD-1B704FF2A2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20A2F-1D00-42B5-A319-A5EC5424986F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73A2F9F-44F6-412F-9BA0-70B347CD36E9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C25E6D0-30F4-4185-BB1F-211A5FA0C9CC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186BFE8-EBCF-47CC-A349-9A8ABB43F4E9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74EDB5-52ED-4CFD-B0AA-DCAEBF1CAC86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D452EA-8467-4CA1-95CE-64594D6A165C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00276E-8102-4867-BC97-B44234BE97CD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9C5ACE5-5F7F-4F9E-9397-4FC815BC8C50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3671C8F-C78F-452A-A753-C8F4E874B88E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38B8C5A-6724-4F61-8064-85C38B65E51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E00ECB0-EA59-4B14-981F-DFF8E6057E94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1453FE-8548-475C-94AE-411FF30925DF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F60897E-7D98-41EE-9585-8138EA9B56C4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887AB6-29D4-4A9B-8993-0488D13E310C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5A59DE-C837-4239-B4BF-BE6035AAF44A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4F2452-6E2B-44B8-8D9D-A9736574F129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0C9D85-8547-49D9-B9C9-C440840662B1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F7DCDB-7B73-474B-A474-0EE41A5264F3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B14D0B-A558-4393-A1D4-7DFE896BAF39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A6B835-1F40-4834-8742-BC14954EB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12184C-027D-4DFA-ABFA-9BC80A1E7EF8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FA392B-62DA-4DA9-9583-67BCDCF7DFAA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8263AE-0CFB-47CD-883A-97E6DCB3B56F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F997AA-E1D6-437C-9DC3-79F1889AFC7A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A1DB48-7FAC-492C-8068-5DBF67924265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1B525-67DA-423C-AE20-5441D3A94742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3C8CB-AA64-4069-9E66-0B30C414D8FF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DB7DE-52AF-4655-87A7-E2093EB6667D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53E10-F15A-4A23-8D6D-43C45500BBFE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97FAF0-6C34-40B7-BE60-539066AE336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B63F63-B6A0-48B7-93B9-8B5903015B8A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D6032-F722-479C-A9A5-ECE3422A65AD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722C92-ECAB-40EA-8C7A-33F0551C91F5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887FB1-CD1B-4313-BAD2-9C1BB535F01A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DA21E-0B2F-4823-BF65-BB1AC5DA178F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D551C-4E46-4866-A65F-585160B54F7A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7835C-9A1C-4EFF-95A8-D862255EA61B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56DC1A-CCF7-4267-875D-3ABB91D0075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E3D9FE2-C854-43CC-9F9B-680C392E1DFC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DC56B25-8BB7-4C97-8872-7AA7190A00FC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6DE0E0-E5F1-47EB-A5BE-54B3CC119074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5EB56E7-FF8D-40FE-9326-A0729235B17F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9A46ACE-F7C0-4155-8078-987269C881EF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8B2E5EC-225D-45BE-AC9C-6AD7873CB112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ADF73B3-279C-4063-9F4A-0097B5B71F5B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6CA242-4E83-4192-B159-E8D0ED6A5528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90305F9-E8E6-4B16-8145-C5A4499D77B4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EC9E401-8255-46A8-B690-8E88A2CD17A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95F469A-A364-4D2E-B9CE-2AEDFC1D754C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D304A9-155A-4255-BEFA-231BFAD6EC2E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B03B6D-7BD8-4C77-A4B6-A730CB4BF839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5D0A19-1792-4371-B37D-C5BCA260F8D2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055F6D-D13D-4B7C-8C0E-631B4CDA9709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EC049C-344D-4512-B626-88FCE185D01B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64AB57-F2AA-4B80-83A4-043D67F2179E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60F767-0712-48DA-B197-65E5B7F95E6C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07797B-C883-474C-BF66-8D14E15AF0E9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391E08-6F93-44AA-AE01-BAA951537B8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668E05-F2FB-4F87-BD70-59F8A86DC70F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5E8149-180C-491A-90DD-0AADD0989147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C22224-AE19-4E8C-A0B5-C2196F4025E7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8072A6-5ADE-4934-99B9-C7F47F798B39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78C95C-BB4A-4FB0-A07A-554977D9272B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E1EA71-6761-4EDD-8ED5-0B4AA9683DA0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6E503E-3459-4608-89A8-BEBB954E0304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F8E439-DD20-4F7F-A69C-D1B756B85130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378553-E4E8-482B-A87E-0279351E2D97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0A0EF5-E675-4131-B4AF-FCAE15F1181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6DED2A-3240-4F02-A97B-83513A78B5EA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51910C-25AB-41F5-AF21-6516DD445135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E24A7C-3370-4D7A-8CB3-AAA33F4A92A4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1DA8C-F70E-4CF9-8813-72C41E2A2C1C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3EBBE6-8CA6-4824-A094-1472DF6FF0FA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CE536CC-63B8-4929-A096-A20743BE48DF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E67A1D4-CD4A-479D-BCB1-F568557B65DD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A9CC9E-98F6-4F41-930F-6A172791FDDF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87A844E-30F6-4DA9-BE93-E297B5260BCC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18FB59-9B06-412D-8D0D-4F895A345C3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55FF8F9-6E45-4D1C-8D7F-F986D6136238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D8860F0-700F-470E-B99A-630B26617834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4D8585C-4344-4853-81D5-F81A04444B1D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6187FE4-F7CE-4FAD-AF8E-56655BBB5E58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C57058-2FEB-461E-B3E6-46032E542758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127112B-F4AE-420E-8CD1-BD62D10AEA2F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49A13B-DED9-4E9F-B9C4-5DC9ED084179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C265DC-F1C0-449E-B180-200C8845395D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B639A96-8AAC-4329-9DBA-1CF97D9DB5A8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10AF50-3BD5-4696-B199-225F840EB2C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59B2F6A-99CB-48C6-B030-921B15CB7B0D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6C600EE-AFF1-4920-ACF8-F2970CACF501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0399256-9621-4EB0-BD57-83AEBB89D0B9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B806969-DBA0-4344-AB2A-F06AA0B870AA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1D7B1C8-3C3F-44C0-99FA-FEA9089A9304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8A4E29B-D493-46B5-9657-55D932409840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E7B9C71-8AB6-443F-BD62-BDEC065D3DEC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E33440-63B0-4E9E-8D2F-F47E911C4FB7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83FF75-D05D-459E-AE77-4BF198C25A7C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DA2AEC-50BD-4DAE-A3B2-16B5A77552C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97DCF8-4EF1-487B-82F9-A8A43E41C860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17CBB7-B0F8-4BEE-BE97-620F30321BDA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2D3DD8-3F7A-436B-A7CA-2212FAFC814E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11514D-EC95-4C6F-8E1E-A6538696C6D7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CF9952-778C-44BE-B5D4-B697F5BAFEF8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69FFCD-3D88-4CAC-936C-D8C819C4D93A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F4B087-3051-46BD-83A1-3134767BD7F1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033DEC-FAD1-440B-B0D2-DCDB04DFB7FD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A93ECE-27C6-40F8-8901-F5E5B0D989B2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E457E0-B056-4158-B1A0-2A6E573AA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798215-AE55-4D02-9105-167C5C1FA6FE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FFD0686-461F-4F4E-8870-D4DF72981891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143F640-E697-4386-B241-BD222C74F718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F68145A-04BE-4034-83C9-140A0C912C39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20C4FA5-0656-413F-86DD-001B32FAC493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000D294-5849-43AB-A723-E045223422E4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70AB836-6756-4715-8FD3-9C1941282B90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F695D1B-FD06-452E-AB81-90717195D3A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D31CE98-7820-499B-88A5-0662214C111A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DDF2B19-5D02-4414-AFFF-F69FBE05C0F5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25119ED-9B38-4A84-A6E3-3860F7A81406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A0680BD-DBC5-4124-A2E4-62DA948724E0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F68F99B-E70D-4EE6-A29E-DFD5E651A357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10BD02-4F18-4107-AC27-A745A5FAA00C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F134B59-DACA-452F-AD70-D2349AC8821D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76E217A-526B-4C4B-BD9A-45E13BF0A09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579C0C-398B-49D3-B403-2D7AF07FF2C9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8E8C89D-0789-49BE-99D8-58FF99B21DE7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0E23E76-5D0A-4DFE-8CD9-BB999CCD4A63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011BAA4-C4E8-44B7-9F4C-B5C30E53AA56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0F00D8-47F0-434A-B9E1-6BC1CA8AC410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538450-5A72-42EA-8AEF-B6ED8056FCC0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183169C-9400-4AC0-A038-DB9854C7F7B5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BE992F-2B90-4C91-AF29-FA35311B5856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222C088-840D-4D4E-8C20-53C6707156F4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EA64E3-2B89-4F43-B0E6-9FEE2004A46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29C96C-F8EC-4496-87EF-C72FE68A3016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23AB63-D9A3-451E-A654-0FEAC6CDEDAB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FAF230-AC5E-4E55-96CE-6ED92EE7E935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109D6B-5D2C-4904-8B95-E73BC1FA34C0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FA9A1D-F79D-41E4-9681-377E92B4D522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5F3EFA-520B-406F-9152-2F5208D260F0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0B8D87-F767-4772-AD05-333A335BEE5A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A1BCA-BE2D-477A-9482-CAC6A372CB9D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6D9156-CA9A-44F5-B2FA-4F751FC222DE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8C742C-6356-4A8B-A721-A7F08ED42C9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4EC3D8-B4B8-4973-8CD6-13249E3D85C7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02C8BEE-73A3-4185-93B8-5BE27392BF5A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26FD69-2031-495F-A031-7BEBBB913578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2F3C635-ED99-49B8-9414-7A0ED2ADE3A8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66C7D72-98F3-4F62-B75C-96D2516940C0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37373FB-8C41-4596-8C7E-1351612337CE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A12D154-2976-43BB-B78B-BDFB137C0751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668C994-4C25-45DC-9160-183591DF1378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8548849-B1F3-4EE8-83D6-E064C563950A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D86C2B6-2340-449B-A741-33321BC0BDD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0E0E1F3-BF34-4231-9315-862D13CDC4C8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7EBF719-6BA9-4FEF-B7D3-1E9FEC00AF96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D667F8-3FCC-467F-B7F4-C0E384571D12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543E3E-45DF-4C61-9D39-579C2F6E790E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3771249-A0E7-4105-9604-51497648827E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A3363D6-FC70-4AA0-AB22-46F0B5B92B19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E21615E-9991-491F-90D6-2A5E31834246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CC30974-A15E-43DF-8B17-06EEC06BF8AD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36EC6F2-466C-4207-9D15-EA97E8F3C61D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DC6D2A6-6C28-4663-9664-3D5ABA9DD13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F4C24FE-F333-419D-B9D4-42EE87B7E329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790C1B4-CBDD-4101-A778-C2719EC59F33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BC393B3-8CD9-42C2-873A-A37BBB33C37C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4EB2158-3766-4BEB-94A9-C90DFAE13626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38EA1D-A942-44E2-9234-9C5433080CAD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B28DE0-2453-48E8-AC52-D9C34D33F8D3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F1AFD9-C8A9-4969-ABD4-660CD2E5624A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2FC9D6-E1D7-4B07-BC3E-039E68AACE49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B1AD65-3EFB-470B-8E34-BAED5825A736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08974A-5A6E-4D63-821F-B82EEFCF436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D44E8A-5263-410A-909C-2A1BCBF5E3EE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AA1AD2-CBE2-4FA1-A8F7-8A003B236E80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5CD8F3-6001-4C49-A914-80694E17E0A7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8927F6-EDE3-4A27-A0EE-78B736371938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9CF6EA-6513-49F7-9BC1-BDE09279F16B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E9EE45-46D3-4E0B-A55B-6065D1083C80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41F0CA-6BE8-4007-B409-AED2BE03AE28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60418E0-8E5C-4BF5-BEC1-ABCE4A8710C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B576030-FE3C-4238-BD00-75317BBD1E3B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D1820F0-F101-4DF1-B1C6-83054F243BA9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E426A52-F5A2-425B-9361-1CBA1ED3DDF5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0435790-6DFF-4E8F-AD3F-BD71D3FF6D08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6EC5A56-E91D-465A-B811-BEE5311C2D00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26CC967-9C58-44F7-A217-158C88E6AE50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C4D0110-8834-41AC-A779-743820DFB305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25A4CE9-A750-4154-9E3A-5A6340A8DC8F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074A934-75F3-4CE7-AAC9-DBC1AB56855E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365A680-0A89-491F-80D7-639704A3467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BD3A7B3-E586-4731-9D6D-4357DE3CE069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6BFC3DE-21C6-4895-9957-99DB6C90EF88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F2B766A-84A4-4A07-8EA7-1C3CCFABAF70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F032361-ADDD-438C-B594-034A9A66A045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5CDA027-45AC-405D-99FB-2C49FD8752D1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BA510F1-6C36-4BBD-964F-E79B17234A22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C552890-88D2-4336-9A08-34B1A43BEE26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D6C7B3D-1D7E-4E98-B051-F6A3680E5353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6E07F73-EAFE-4849-808C-2E9953960300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1B2BF69-2E03-47B0-AD26-0598DB9379F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0E7-CE0D-45F0-95F9-C7104BDB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135A7DD-2F7C-4F9E-ADAC-C7D79C307C81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A50735-0B1C-412F-99EB-C38918CF00C9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E3871A8-6F9B-421C-B694-1F1615339DED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053C46-880D-4F1C-BC32-EDCD11F0E5D6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E7414A-FAD4-41FB-A2F5-A6F87E3D69B7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DCB60A-B80E-48B1-BE9B-56BD2DB89295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F581DD-C178-4A00-AF28-A19E977ECFEE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1139EF-D956-49D7-AFB9-045C608D5707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07F49F-1988-4AED-8615-043F6C19383E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C7EA69-7E7B-43F0-9C48-ECF99D5A97B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117-3751-4F32-810A-2C192F09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2F2CE4-9391-4673-8ABA-50C4E8993245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B3F8A4-AE0B-4813-AFB8-5E32795FD7E6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1A4453-F97A-4946-8CC8-F0B0FC9A090E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4624A5-33F5-4675-8190-EDB7C979027E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3B6AEF-377E-4E9D-9A3D-FEA426CEE2A4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C288141-88A7-4920-AC7A-4016AD35C3C6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569916F-849F-4E9C-872C-77D66B056003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6F4D8BC-D7A7-40B1-A48B-362E3E51DE50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ECD06E4-6111-4B6B-9FF4-DDF49F678E3A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DDC3036-4926-48C7-8E5F-F789E740A8B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F67-4CBC-4156-B416-CE04D7D4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072166D-78B8-496B-BAF8-839C1FA3E38E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DE53066-D474-4822-B737-C7BAE783087B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0C7FCC9-1F8E-4962-B7AE-B7CA71F63E02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582850C-F897-41ED-9CB8-624C14BED7AB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F046A54-E000-410F-993A-33B7B8F0D876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68C7FF2-B621-4D84-817B-626E00ED0907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07717AF-F19E-4F43-B766-82A443120788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45FBD09-3E74-4710-9DB6-377356CEF02D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0D2869B-A3E6-46FD-B351-035ED9511FA7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E80AEA6-2A97-43B5-BEF5-47178F51533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5768-9E56-483C-ACC0-C28F4F28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AADAE3F-E803-456D-9498-18F52FBE8D42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E022363-37A1-4CD8-BFFE-9EB515472FF8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D307300-F5FA-4669-924E-130436968B8E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E78258C-EAB6-4829-9B44-D7FB14A47AB1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05AF2B4-270E-4B85-B0B2-0CBE6F9F5E8F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4AF50F7-06C4-4BAA-ACEF-D979B0781E48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7607C36-3C1B-4E41-9F54-53D0AB35A669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5F33245-7F86-40F8-96F3-00830E3E1A0E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3482E89-2362-4BA8-B6CE-2785967382CF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D0D346-B6B0-4919-94C2-8D5F0505A1C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106-824E-4420-87AC-48FA374F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13EF63-64C0-40D1-BAD0-E69D7FCE23D8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254B90-407A-445D-8E61-339EFB6E376D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B54F99-3A4D-4C65-B3A2-7D452238534D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0A233B-44ED-4ED5-A733-E7F8FF60BDC1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4921D4-ECD0-4968-B94B-FE09DAE32FC4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172266-799C-4463-A8A8-CD520B180ACF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DD209C-A819-4614-BFB2-2B1167DC0437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95379A-C07C-46D6-A405-6BBF298A4D14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8ECC32-4C52-4BC4-9CC2-F96B5F3FBA32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4D894D-EBB3-4F3D-B227-75A089E73C3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561-5DE3-40C2-839A-C1D2A1DF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B8BD1A-7374-4622-9371-19597F38B5A3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4AF47D9-B9C5-4455-89C7-7AFA620A6306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2391949-451F-491E-8F71-7C568D398E25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C5293AE-631E-4C6D-A24F-53271632CAE6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04EDFAA-646C-4C2D-BADC-2946C1DC6C77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0D06A0D-A399-4269-9E7A-B851F31F4AFE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BC8D017-88FE-48F1-A1C0-F0680E1519EA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998705C-467B-438A-90D0-99A855E06FF1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1A2BEAE-9830-4818-80B0-43CE4DBA6607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23365BE-2F39-47DD-B7F6-2E8FB075280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AD66-C7BC-42BA-830B-70053E3C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66C8C53-6F84-4C55-8288-4A61969DFB60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38044E1-24EA-468A-A8D3-E74865B96CD1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0655B45-7077-4B8D-BD76-32FA9D1958C3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1D7F9A9-6E00-4FD3-B213-D03397BC946D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65907AF-BE0B-44C7-84CA-F6D6C45D948D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A290579-AF76-47FA-8C32-104CBC7069D6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5C5AD3B-B17E-479F-9428-B8BC4249F3C8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40E36A4-F825-4D12-B934-02E0D34775C3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2D76FB4-AEB4-4054-9A47-DCFBC99046B9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2ABA537-DDF1-4BB4-9B3F-A0DC83100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303-6F4C-4B1D-88A7-1968C66D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A4DEB27-76C7-4105-AAB5-00FE9A61EC8D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B4AD975-0600-49FF-9279-4F61B0377478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6F6C3C-A6FC-4CEE-8072-74D1A150C1B7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786D655-2361-4BEB-9FB5-98C771857432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40BDEDB-0CD2-459E-992E-CC4BB1D91AE1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F52AE2-9122-462E-B36A-79D6C2A250C4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4B3874-8ED9-45CD-AF1A-0D74D08FEE92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F4CF81-ADCA-414F-ABAE-1222EB2BF7D9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FADF5C-3671-41D4-9991-398CE508C06D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7837C7-83E3-4F9C-9B56-C71C340BD4F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0A7-0540-49B4-AF39-F9A034B2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B8CD06-F9EF-4C5F-A66A-17E4E3114778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90329B-96EC-46D3-9F84-274AAEF5DC56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0EB911-6A72-4256-A72E-0F918DC3AF3C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597C76-A0A3-48A1-8E7D-93F25C0A781A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A6AED6-115E-4893-902A-B0933FA1E911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C4EC6E-4C17-45AD-8E31-BE201BDCAC38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B74BD0-E46E-40C8-A743-DFAD41D40C93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25F764-02F4-479F-96DF-49AC66B0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BEB3A8-558E-43E6-8F8C-AFA9902B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A071E0-F68B-40A6-A3AA-64CE0233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03BC-DBDF-4D95-82A9-0F7D615A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031B43-D79D-4057-981E-8E644437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B8B016-0DD0-4F54-BA21-A1B25E37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AD6500-CE47-4EB5-889F-22FE9BE9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C384EF-A356-4703-A22E-6BCCE601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37A948-53C4-4D1A-9F09-A4E4C910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33C57C-6510-43E4-957E-D1D63C62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B73833-46B8-475B-B4AE-B85CEDB7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B0EC5C-2A2C-4A25-AD55-2A66419A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8789E0-E549-40DD-A783-A63CA70A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33DA-8B45-46CE-9C13-5419A3EE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186-24C8-4249-B9E8-CD27A558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9FC95-003D-408A-AC4C-50508895A7B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3BAC5-680F-4E60-8361-A402E944344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BF534-C8B5-4ADB-AACE-1323B9A2371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FC17A-1FA3-4025-8AF4-C31617E4464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0EE12-CD61-4F97-B2D3-68C1F6A32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D5473-F673-420D-8655-645B2EDB596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4BFCB-D55A-4C2F-A681-352B0BC012A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26867-847F-4C1F-AB19-86492B7CC8C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120B8-8A2B-40CF-A6CE-4A3CECA5144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24D81-778F-4B6C-A991-A3FF6CEF894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B7E62-32CD-483E-BCBE-7B4ED009380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7579A-785D-4B92-90AB-2585B9ECE0A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A78A3-E5CF-447C-99A1-902EFEF5EC0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ED134-B7C1-4029-B8DA-460A4B83092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58229-129F-4DC5-A5C0-B11EE4D98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D5DDC-B917-4C64-89A1-4FD1486738D4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8DD7D-17A7-4B03-9B92-8D0EBDA7639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97DF6-F163-4DE4-A5E5-E9CF4EA587F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F1612-6C3C-41F6-9BA6-0D946A509C8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66B4D-3CE1-475A-989B-9C9989779D9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07904-0303-4A26-A8F0-8525E24EA4A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5ED2F-12DA-47E9-8B02-022571F1D2A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D2E6D-207E-4FF3-ADDA-B8C3DF97BD92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98B6D-2171-4103-A6CA-D7547C4A6D6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97D9F-092F-4317-91BB-7221B3C1089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96C87-5E60-4A91-9F3E-8DA1A7D9C88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C184B-7BAB-4951-BBD2-90C3AB0A926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3E4D1-F9D6-400C-B212-2AA3745118C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B798B-AA35-4BED-A648-192D377F3D1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F149A-20C4-45ED-B6E2-86D53B7B1BF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975FB-329C-42E4-8CD9-A720A6823E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72EA7-9F73-4521-A67C-FFE66263DF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810DA-2002-4FCB-A653-D8E7E6EA99C3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65A35-ECC2-4638-8B01-7C531C142F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1DD8C-7C1C-49DA-945A-9DBE8E1D7F3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ABE07-7AD3-4E51-B404-71AA31DAC8C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67EA9-CDF5-4A4E-8A5D-A406E9A38BD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C196F-A67F-4DF8-B27C-F9734ACE74D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A4FA9-D63F-468B-BA3F-166C9CE136F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D7541-362E-4C5A-85CE-7C756FB302E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1195F-1280-4777-AE65-16ED9339621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4511A-DB64-40FA-B329-1C2F661625C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6CBE8-F5C8-4EC1-B5A1-A70184CFACD7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21FC7-F110-4227-955E-D43E68423B6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A8384-E778-40E6-AF1D-5799CA595E3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05476-6F84-4CF7-8A2F-588D19BC5CE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749DE-A750-486B-8EEE-751C8B75930C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sldNum" idx="4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8C954-A474-43ED-AA9B-567050E5E7E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ldNum" idx="4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170A6-4E0D-4303-89D8-F11CA844FF3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sldNum" idx="5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CF6F3-4E81-43FE-BAF3-6D61D8E6D8D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D11F3-A734-4E95-A4FB-9E7CE92ADC4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7A61B-B0EC-4966-A42D-ADFB4740E7C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54959-28BA-40A2-B379-34360F7C0FF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C490E-F941-4EEB-A1EA-457807A19A2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82757-8E9D-4AEB-85B7-46F6B8A8F046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BB786-3E60-48DB-83C6-FAAF24D1B1C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48F01-244B-4686-899B-50CCA346494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2A865-6017-47FF-BB2E-71AC4865BF9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23616-B68F-4301-A28B-9D13892BB55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E45F5-5F67-485D-A699-018B0E4312D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sldNum" idx="6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9ADBE-07D5-447B-B7AD-61F6E5243A2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sldNum" idx="6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06453-525F-477E-9AC7-2467CCEAC53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ldNum" idx="6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77C69-1C4B-40D9-8260-DB5EC60AA61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ldNum" idx="6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B472A-BD0F-432C-A3A9-46549B6A890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7E7DA-3514-450C-93D2-FB99E994D06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FC3AC-5DC4-41EE-9126-FA3AD602916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93FD4-B569-48CB-802A-AE2ED7C2717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792000" y="2103120"/>
            <a:ext cx="7560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Policy Development Proces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Translation and Transliteration of Contact Information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Chris Dill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39049-CCBA-4137-A5F1-64CD22335C4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510400" cy="6573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Backgro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1D753-1D01-4D20-A949-1810CEF31EE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icture 2"/>
          <p:cNvSpPr/>
          <p:nvPr/>
        </p:nvSpPr>
        <p:spPr>
          <a:xfrm>
            <a:off x="304920" y="2666880"/>
            <a:ext cx="33526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Rectangle 1"/>
          <p:cNvSpPr/>
          <p:nvPr/>
        </p:nvSpPr>
        <p:spPr>
          <a:xfrm>
            <a:off x="426960" y="1028880"/>
            <a:ext cx="565956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21 March 2013: Issue Report publis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13 June 2013: PDP initiated by GNS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20 November 2013: Charter approved by GN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19 December 2013: PDP WG begins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31 January 2014: Request for Input on issue questions sent to Supporting Organizations and Advisory Committ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24 March 2014: Public meeting in Singap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9" name="Picture 3" descr=""/>
          <p:cNvPicPr/>
          <p:nvPr/>
        </p:nvPicPr>
        <p:blipFill>
          <a:blip r:embed="rId1"/>
          <a:stretch/>
        </p:blipFill>
        <p:spPr>
          <a:xfrm>
            <a:off x="5753160" y="824040"/>
            <a:ext cx="308592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0" name="Picture 1" descr=""/>
          <p:cNvPicPr/>
          <p:nvPr/>
        </p:nvPicPr>
        <p:blipFill>
          <a:blip r:embed="rId1"/>
          <a:stretch/>
        </p:blipFill>
        <p:spPr>
          <a:xfrm>
            <a:off x="6111720" y="773280"/>
            <a:ext cx="3225960" cy="2336760"/>
          </a:xfrm>
          <a:prstGeom prst="rect">
            <a:avLst/>
          </a:prstGeom>
          <a:ln w="0">
            <a:noFill/>
          </a:ln>
        </p:spPr>
      </p:pic>
      <p:sp>
        <p:nvSpPr>
          <p:cNvPr id="2571" name="Rectangle 1"/>
          <p:cNvSpPr/>
          <p:nvPr/>
        </p:nvSpPr>
        <p:spPr>
          <a:xfrm>
            <a:off x="561960" y="1528920"/>
            <a:ext cx="638496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Working Group Charter poses two substantive questions to the Working Grou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hould local contact information be translated into one language (such as English) or should it be transliterated into one script (such as Latin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o should decide who should bear the burden to either translate or transliterate contact inform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58120" cy="1206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The two issues of the Transliteration and Translation P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97E5D-1577-484B-BE5F-647F63DBF6D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Rectangle 1"/>
          <p:cNvSpPr/>
          <p:nvPr/>
        </p:nvSpPr>
        <p:spPr>
          <a:xfrm>
            <a:off x="3919680" y="1447920"/>
            <a:ext cx="4800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taff has commissioned a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mercial feasibility study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on translation and transliteration of contact information to help inform the Working Grou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5976720" cy="1206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Relate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AA2F1-E336-4E38-8AB4-393991CD871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7" name="Picture 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311280" cy="2362320"/>
          </a:xfrm>
          <a:prstGeom prst="rect">
            <a:avLst/>
          </a:prstGeom>
          <a:ln w="0">
            <a:noFill/>
          </a:ln>
        </p:spPr>
      </p:pic>
      <p:sp>
        <p:nvSpPr>
          <p:cNvPr id="2578" name="TextBox 2"/>
          <p:cNvSpPr/>
          <p:nvPr/>
        </p:nvSpPr>
        <p:spPr>
          <a:xfrm>
            <a:off x="3919680" y="3657600"/>
            <a:ext cx="500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n Expert Working Group is determining the appropriate internationalized domain name registration data requirements, including relevant outcomes of this PD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TextBox 3"/>
          <p:cNvSpPr/>
          <p:nvPr/>
        </p:nvSpPr>
        <p:spPr>
          <a:xfrm>
            <a:off x="690480" y="6215040"/>
            <a:ext cx="150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mage credit: www.dkit.i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Rectangle 1"/>
          <p:cNvSpPr/>
          <p:nvPr/>
        </p:nvSpPr>
        <p:spPr>
          <a:xfrm>
            <a:off x="431640" y="1117440"/>
            <a:ext cx="828864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ther it is desirable to translate contact information to a single common language or transliterate contact information to a single common scrip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at exactly the benefits to the community are of translating and/or transliterating contact information, especially in light of the costs that may be connected to translation and/or transliteratio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hould translation and/or transliteration of contact information be mandatory for all gTLD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hould translation and/or transliteration of contact information be mandatory for all registrants or only those based in certain countries and/or using specific non-ASCII script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256600" cy="1206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Request for Input on Issue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6FA12-689F-464A-A84B-02A3A36E41D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Rectangle 1"/>
          <p:cNvSpPr/>
          <p:nvPr/>
        </p:nvSpPr>
        <p:spPr>
          <a:xfrm>
            <a:off x="431640" y="1219320"/>
            <a:ext cx="8288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at impact will translation/transliteration of contact information have on the WHOIS validation as  set out under the 2013 Registrar Accreditation Agreemen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n should any new policy relating to translation and transliteration of contact information come into effec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o should decide who should bear the burden translating contact information to a single common language or transliterating contact information to a single common scrip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o does your SG/C believe should bear the cost, bearing in mind, however, the limits in scope set in the Initial Report on this iss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256600" cy="7952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Request for Input on Issue Questions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F4AAB-E688-49FF-9C1F-2E96C494185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Rectangle 1"/>
          <p:cNvSpPr/>
          <p:nvPr/>
        </p:nvSpPr>
        <p:spPr>
          <a:xfrm>
            <a:off x="3429000" y="1133640"/>
            <a:ext cx="55627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view input from the Supporting Organizations and Advisory Committees on the issue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view results of the commercial 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orking Group drafts an Initial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5976720" cy="1206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D56F9-D239-4CEE-877B-C89B1C5EF4E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9" name="Picture 3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2962440" cy="3933720"/>
          </a:xfrm>
          <a:prstGeom prst="rect">
            <a:avLst/>
          </a:prstGeom>
          <a:ln w="0">
            <a:noFill/>
          </a:ln>
        </p:spPr>
      </p:pic>
      <p:sp>
        <p:nvSpPr>
          <p:cNvPr id="2590" name="TextBox 4"/>
          <p:cNvSpPr/>
          <p:nvPr/>
        </p:nvSpPr>
        <p:spPr>
          <a:xfrm>
            <a:off x="212760" y="6211800"/>
            <a:ext cx="224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mage credit: http://3.bp.blogspot.com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Julie Hedlund</cp:lastModifiedBy>
  <dcterms:modified xsi:type="dcterms:W3CDTF">2014-02-26T15:49:55Z</dcterms:modified>
  <cp:revision>199</cp:revision>
  <dc:subject/>
  <dc:title>GNSO Policy Issues</dc:title>
</cp:coreProperties>
</file>