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75.xml" ContentType="application/vnd.openxmlformats-officedocument.theme+xml"/>
  <Override PartName="/ppt/theme/theme63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</p:sldMasterIdLst>
  <p:notesMasterIdLst>
    <p:notesMasterId r:id="rId76"/>
  </p:notesMasterIdLst>
  <p:sldIdLst>
    <p:sldId id="256" r:id="rId77"/>
    <p:sldId id="257" r:id="rId78"/>
    <p:sldId id="258" r:id="rId79"/>
    <p:sldId id="259" r:id="rId80"/>
    <p:sldId id="260" r:id="rId81"/>
    <p:sldId id="261" r:id="rId82"/>
    <p:sldId id="262" r:id="rId83"/>
    <p:sldId id="263" r:id="rId84"/>
    <p:sldId id="26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notesMaster" Target="notesMasters/notesMaster1.xml"/><Relationship Id="rId77" Type="http://schemas.openxmlformats.org/officeDocument/2006/relationships/slide" Target="slides/slide1.xml"/><Relationship Id="rId78" Type="http://schemas.openxmlformats.org/officeDocument/2006/relationships/slide" Target="slides/slide2.xml"/><Relationship Id="rId79" Type="http://schemas.openxmlformats.org/officeDocument/2006/relationships/slide" Target="slides/slide3.xml"/><Relationship Id="rId80" Type="http://schemas.openxmlformats.org/officeDocument/2006/relationships/slide" Target="slides/slide4.xml"/><Relationship Id="rId81" Type="http://schemas.openxmlformats.org/officeDocument/2006/relationships/slide" Target="slides/slide5.xml"/><Relationship Id="rId82" Type="http://schemas.openxmlformats.org/officeDocument/2006/relationships/slide" Target="slides/slide6.xml"/><Relationship Id="rId83" Type="http://schemas.openxmlformats.org/officeDocument/2006/relationships/slide" Target="slides/slide7.xml"/><Relationship Id="rId84" Type="http://schemas.openxmlformats.org/officeDocument/2006/relationships/slide" Target="slides/slide8.xml"/><Relationship Id="rId85" Type="http://schemas.openxmlformats.org/officeDocument/2006/relationships/slide" Target="slides/slide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D8D4A-AB32-4282-9FA8-642459625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F5752-9798-4126-95AC-4DC8E29F0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ent with the current state of domain name registration data, the IRD-WG noted that, if transliteration were desired, then the “must be present” script would be the Latin script. If translation were desired, then the “must be present” language would be Eng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BF915-5A93-43C7-BA6B-70C44D62D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A = Registrar Accreditation Agre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91718-2B0A-46CC-A2DE-4F77644BF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53FA6-624F-4E4D-BF1F-1E731566671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9B50E-FBA8-407F-B450-F792C82DFBE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DE19A-9A01-45E6-9FA5-37F896C99BC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DCF1C-E2A4-4CB7-80AD-1F09F34338A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8EA32-353C-485D-8A55-5C7DE6D1CF9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7C2A9-7C38-4519-B31D-CE2EF80D56A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59DCD-7137-4574-A303-A1EC3AAEAD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0E4B1-9EB2-4A2C-982F-F7E23B0D783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0FAB8-E33A-4F8A-9A35-EFCA67A8950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EE53-40C7-432E-BBBB-F8FA324B2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587A-362A-49F9-B404-AAB8D437EE9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1FD9-F4C9-4450-B067-872F76A29B6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79AA-DB4A-49E5-9F50-82163DAD3A2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4D4B-425B-4835-A59D-AB5E6F2A223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FA15-469E-4AE9-8811-2DA0CF179B2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54C9-A509-4A5F-AC5B-C118910E6EB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A357-DFF8-4E59-A1D7-14CD549A663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BFF8-6119-488A-8CC4-2ED3071AD86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4056-758C-4ABC-B025-BDE8CECAC18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F4FA-FD50-4845-9181-F8154BE0F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B9E6-FF21-4E83-BF6A-B93EE748C46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A1C02F-CC8B-462D-AD7A-28B28E07C23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BD9E1F-F71B-4E17-AF34-36AEF774D5A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CF693B-B9CB-44A1-A25C-15AA644BA8D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025B80-2C98-44EA-829E-6CB51C29DF7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B2C909-707B-4AC4-81CA-DA8C1A02912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83C479-4DCB-4E1A-88E8-45347C00D10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5DF31-0E3F-43D1-BAD8-354200FF866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448CBB-ECB4-474D-80E8-6F840A22309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C48E90-8FEA-40FB-9EEA-6BA181C47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04F342-FE4A-41FB-AC69-0FB587BB992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144DF-3539-4DD1-8BBC-6B42F0A20CA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80A66-62B8-4B76-BEEB-2245B2E511A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F6A49-240D-4029-84EA-6EE0E5627F9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95F26-C310-4EA7-B6F4-D53EB0DCED4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48557-E895-41DD-B149-ECD7BC8204D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5C81A-2D26-4E40-A91C-DD2BC6BAB7F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A04AC-79A8-4782-B7C9-B6C663EC69B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88E23-3D3F-4A96-9321-492C12C6B0E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ADBB0-5904-46AB-B29C-4A20EED49F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72EB1-71BC-41B7-B2B8-E906B139D7B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742C2-9552-4D5E-8102-F4B4DF21A5C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073E5-73D3-45EC-AAAB-AD6650142A7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13698-100C-43CC-A6DF-30C12D9B84D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E81FF-788E-4B14-A1B0-5894CB4B9F0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5AF69-6216-402A-AD9C-3F43154313C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F2F3A-1289-4F6D-B8C8-88A1F544E85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54660-472F-462E-A5E3-1838AD68350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08071-F74E-4CDA-B98C-32CCAE85E3C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175C-AFA7-4598-AEA1-1EF28B3C07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AA1C-9E35-4C01-9431-D01175017D7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A559-69A5-4A50-BA8A-16FACAE0F35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BD3C9-BCC6-4DDD-B1A7-59CEDA533CC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0790D-1F62-4698-ADB7-E5E0FED5C21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3388-5572-45E7-9053-D33246DC2B3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D7ED0-53DE-4773-8AFC-481729B4D65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E838F-C660-4D35-96B6-FD1CE648EE5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BE7F4-72D0-461B-BF9E-52B7E87C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CEFE7-8C78-44E9-9E49-93A7017F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DCDA9-F72D-45BB-B9BC-A44C4BE7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885C1-A76F-40AA-BE76-26C1C15F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1BC9F-EB36-4797-942B-0424432B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3F9C7-153B-43B8-B011-EF488A01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2C55C-185E-4CDC-9D98-B67B020A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3FD48-BDFA-4966-8E32-EE7337CF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DDAD7-530C-466D-9C00-BFFD5A17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F6781-29E1-4045-A9F4-C6BF5ECA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65336-634A-4363-8FAA-EEC64127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59594-AB2E-47EA-AD88-0AE966E3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328005-34B7-44D4-8987-4B959C2583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1F2161-4102-4F4D-8D9F-F363BEBA5CF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3531E1-46FB-4BF2-9245-46969562587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F4FB24-98CE-4014-935D-C01F9ACDA28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93A0EE-BE22-436E-819C-11A63718212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5FFB75-0952-4C70-8CEB-5E8F64FA36C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18077F-23FD-47B5-8C1C-B47B2D2B5CF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F07452-4E37-4BA3-988F-818650647AB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1C557D-A45C-45D3-A1EF-EBE734431CA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415821-00E2-455C-958E-D83BF658B05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4DF0FE-F2BF-46B1-BA69-090F5976F8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D1069C-5316-483F-B829-570008DC996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B4151-9A4E-4A46-B720-94ADA43F9B8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5DDC2-814A-4F37-BDD2-407297EC8F5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D85ABB-FB57-4050-ADB4-30C09E027A5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8506A-FFB0-4961-956F-000408AB83F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14B82-7096-4BA3-B351-4155AAED61B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CDEEA-2A76-426A-9BFB-CE3BB0913B3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35177-526F-46BA-8719-0DA208B63E0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7EA93D-926F-4619-8F31-B527AA0754E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DAFCD0-5212-40CE-8E13-39B33E858B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1F4A9-A796-49FB-9C40-D9C2FD390C1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DD423-EA9F-4AE0-AB0F-736C3A5C695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1C105-2925-4745-9EF5-EB947C4B51A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9DEAD-BEA5-443A-94BF-FCBF8A5F9EB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13B32-7617-4726-98A4-4E0FD8EAAEA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45AFD-BF88-497A-9667-C67CBE369AE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88063-8DF3-4099-97DB-05F63293EDE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A86CA-DF20-42B5-8074-D08AF47075E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E0580-BD41-428E-B8D8-6A4FB7DE34C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492A2-7EC1-4599-9CFE-6726093F58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DCFFB-B8F1-422B-8DA6-6940014888B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CC769-BA9D-4758-85CB-714E318931F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64AB8-069E-4FDA-952B-4A8683A45E2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0F66E-8AC2-438E-8DDC-3E8A1E57A28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A2D11-90D1-4445-8AC9-1211BBAF889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3F146F-0BF4-4522-A2DC-7927732195E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889AB2-849D-41ED-B0C1-8C5398D60FD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D561AA-C8C0-4753-ACB6-14F706CCFC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D0700D-4989-4126-9376-7789EC3991B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2EFC49-2448-4392-AE86-F2DA826B298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0545F0-DE31-4B50-84D2-C65FE32EF55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2E2F9B-4A25-48B7-A6E6-C4C460FEA1E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97B1DD-1462-4588-8F9E-BFFEBBE5A5A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780516-FED7-48E6-96C7-B666709A335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6A2393-9768-4B8D-B2B4-EE10721FF43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A319D2-A989-4481-87BB-4EEDC983C0B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6EDB21-D185-4AA9-90A5-B09E10C85C3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EECC3-FB41-4D4B-8C9E-38BFE3A443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D494A-E240-4175-BA1B-C5609DB817B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F7957D-8A52-4BBA-9257-35FF96867C4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EEE7C-396E-4CC9-997C-382A814113C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3B608-A4B3-4638-ACE3-C380F034354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5729CA-310A-48A3-B480-4B8D4C8DE02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F277D-B003-4356-84F7-E2B0B497DFA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A0407B-1DD4-42DE-9608-18EF7A8E1FA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541CB-9DED-4D4C-B083-753A767B65D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A106E-1660-4C87-8BA4-1FAF0AC9A49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79D12-55BA-4B53-95D8-8EFC82CE62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E946B-EF3F-43CB-B105-BA84AA1D137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9A51D-F2D9-43C6-8204-78B6D346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19411-0155-4515-82E2-98D8D7BA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F296E-F5BB-4BF8-ABC9-88CD56A8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60512A-DBD8-4799-8BDC-D3916408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B7F9A-8795-4F28-AFBA-0585F91E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9268E1-2A41-4AAB-AE12-D954AADC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CA2D0D-80EB-4F5B-BA04-1737DD6C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51445-1062-4B95-9AF9-59E52A62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0538A0-9792-4148-A669-78147052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00B173-D73F-4591-B534-E2FBFB15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0ABFFD-28B9-4A05-8A39-046D89B5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5168F-82BE-4455-A19A-64866653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E2255-468B-40FC-89F9-0DFAE2818D9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84AEA-EE7B-4DB6-8281-FA4CACB1FAC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2A5F5-016D-4F18-BD38-18A5C3ABA9B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539AC-D387-424E-9DB5-14F92E02FDA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F6767-5FDD-4A21-B93F-8170D8ABDCB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6C509-30B3-4D23-B834-B5DCAC33B62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A5029-AA7B-4CC1-A58A-62768AF89C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0352D-363D-4FC1-A7FD-9B0810BF2E1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CC992-4BAF-46FC-9A56-607E59A3B88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0FB65-2EFF-4CD6-836B-0C69092A9C8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1A99A-53A1-42AA-8AFD-43F6D134B73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8361B-38CA-4E51-AA9F-D4AAA0372A8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F95F25-E7F8-426A-A821-4DEF7C29FCB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A20A8C-1387-49BC-81D1-EB4579E62FF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4BCAE0-9482-4E02-B3C6-A6266FABD54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1C66EF-1D1F-4F1F-B12D-282E3DAD73C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71C0E3-0382-428B-A6ED-239F486E2F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E201CF-5DFB-4F3C-B2BA-78BD41495FE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385AA9-5DF4-44B6-90A1-958C16137E9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F13B10-FF0D-427C-8A76-C29B66C4E28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160A83-5AFB-4034-B991-A82FFA10E2C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6C4FBA-4F27-4AB1-AF96-6984E094203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2BD789-59DA-442B-A501-B4BFCB48BDB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E8ED6F-CCE2-4AA5-B7E7-EC249EB97A9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EA3C57-57D2-4167-8C09-151CD2C9B14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06D7E1-ACB1-440F-99AC-ECF531A2702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80F8F8-6D13-497A-9BB4-BD9E2C1507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1A071C-0F08-49A4-B6C9-3399D469022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061E72-38D0-47DB-8600-F8F2C518928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E69F7F-3E22-44CF-B79F-D65534E89BD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BF4F20-384A-495A-920F-E0F6529E9A4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AA2334-AC60-4DD9-A1DD-B0466E5C621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D86E15-65C4-40A8-9FBF-7EF91EFAF60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014A40-A27D-4B50-8A63-46F3987C840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EC7DED-798E-43DA-9FEB-164C9A831BF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947455-836F-4585-99D8-718A3FC85F3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8100E-FB9B-4144-9EB0-6122475349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A7430-084D-41B1-A8DC-191C8DE4B68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EAFDE-0614-4263-A545-62815802C38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FA648-4937-4836-B81A-ED4BF0C7536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77FD9-FED8-4B64-BE3E-61B210823BE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A436C-A5BE-421D-A664-85654F66819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CB377-B9D3-4BD0-9EAD-80ABBD87683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41412-7FB5-4659-9C61-CF8A36225FE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B9FC5-006F-463F-B44B-F4C303CD923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53224-C958-4F92-AC72-945DAD87089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1A878-F005-4BF4-931F-AE9947B7DA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F96B1-E4C3-4979-84A8-F1222F6F041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0EF32-D03D-42E6-A2F3-501E6231963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19759-5565-4A14-BD55-EC01EE9727C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4E367-2965-4AEC-9FF9-E1B6A12228E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17862-D7D9-441A-B06E-E524779F526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E194C-155C-445D-BA30-284245386F3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A855C-7B4C-4B2F-A032-F24EC750E8B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BCBF9-2DBE-42F9-8BA8-FD55D224126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AA3E1-9F33-41C3-A02C-7B33E4C64D2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440D4-A81A-4A88-AF12-F79B387732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7760C-4C3A-439E-AD07-2AAFD6BAFDB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E2381E-CF57-4E01-BEAC-5860C4A843F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BD185-B171-47AA-81D2-D7CFC9071C40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0FCF42-5709-4809-9AAC-1D7D0B768B7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A499B8-F67F-42CF-B130-D8B7008B583B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DEE03C-1D89-45F0-87B4-A7B217774C6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F15C8D-207A-4841-A097-E62B0149395C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A4B221-A0CB-4A94-874B-73C3F3B7227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38E29F-EB6B-494A-90E4-729C111A5DF9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011ED1-F5B8-4949-96A4-1DF708E8C2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49773E-CA44-47FE-BD30-634DC742D3E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F801B5-0C05-497C-9507-D257EA947522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22AC2B-9926-41B9-8C29-2F163628A79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792030-AB66-439D-BEDB-A336E32E7E5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732E86-1EAE-4B4C-8E47-CF270F6D78EA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58473-D3C4-4316-812A-61EEEA00F8E3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634F3-B1A9-414A-A31C-78E3008A1386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DCA41-8E06-44DB-A6E1-4499A7429146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B1256-CDA0-46CA-9B3D-1E53E3F4FC36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3F64B-963C-4B48-B187-CDABAF803E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44BE1-717F-4E40-BC45-3E132A1F0EF3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11D10-351E-41FE-A86E-1ACBAE3CE9E5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D372F-15A6-4DDA-8A0F-DFD543F239F4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642F0-1277-4287-A207-DE3BA433EBAD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96184-99B5-4773-BB41-5122D994F0BA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F6266-F198-47E7-A337-ABCEF998E0A2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E0C7B-EE2F-4B1A-9913-4DEC22281FF9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30B89-787A-477F-A996-CDBACF2D2D1A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48522-C58F-4125-BE67-55FF8F7C428E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D8776-E7CA-49D1-92AE-9E469325A1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1A3D9-1A28-47BD-9859-E88230375FE0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9D5B4-E974-4019-81FC-BA8E54CE2DB0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01120-2DA5-4543-9D02-863A0768178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919CA-849C-4A3E-A42A-C069BE0E4CAE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D9959-AB5A-4C23-ADC1-944629163B33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6B6A4-9DE5-4BC1-AFAD-57DF32A35EA5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103A4-6345-4D5C-9422-9ACA037B377D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29638-FECB-4822-9E3A-FAB6AAF0CD4D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A573D-FED4-435C-B4D4-A9D1ED2CEDBE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53B11E-DAAA-421B-9651-9B82730833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0E5206-B899-44E4-8530-C60B5F4EBDE5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943DE3-2F26-496E-9690-9D7095CCA242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B5D28F-01FE-46A8-BD87-DDEBF61150A7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86D3A5-A422-4E50-982A-5DFE2DE418EF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63CB49-0B19-4B2F-9953-3FE228019CCD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B1E437-DA4A-4276-B055-90A1FA8FC584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AC50AA-3659-4244-8606-5FD3E2AAEAB1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D738C2-56FD-4E24-B41E-915761A36C7F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C831AB-91CE-4651-9F33-49864516E235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C12E53-713B-444D-A64E-D56EE02342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855A9E-FF58-4177-AFD2-ADC17BED548F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B3347-BA5C-42D0-80CA-38F92266C7B8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0217E-DC46-43AA-B997-BFD0286326FE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55087-AFE0-4E78-AB25-194B579AB437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F1F68-0E94-407D-8C0C-6D2F57EFE43D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CF9D7-D394-4493-9158-8380BCFAC8CA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F9425-8246-474F-B484-816BB6CFC18A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24C70-1F15-48ED-B4C3-15181A111481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B3A79-ABB1-414E-9B6B-A498D7381121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4C66D-1F18-4863-B850-9192EF523F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3E526-7A07-499D-B7AA-4B78671E31FA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2BC59-7DFE-4DA0-92D2-FCC2BB2517A1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EC779-566F-44DE-AA8F-3CEC8D451D7B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DDE05C-4882-4064-AAB5-F79CCADBE879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DC43CC-E179-40C4-A850-A56E9110AC92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20144A-E600-4F31-B764-E506189E2FC5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A25CE9-646F-402A-95C0-C9BDA94AACFD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20109B-682C-462B-A936-B0BC0F2A4EC7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C1D7A9-173D-4FA7-AAF4-09318E374B40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4520E2-FF19-408B-9521-09AF8B7985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0C114A-A023-47B5-A5B6-24BD805B74D7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8FBBB0-AF7D-45DA-8CF9-C46A30796D6C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5CF2AF-5A5C-4B31-8ACF-EAF449409BE2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E963E1-289A-4E94-8D2A-8E7557B5E4D0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566358-7CCA-4C18-89F3-DF200D6EFA21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E6F23D-E852-49F5-B029-C0A0DE09C94D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BFA6D8-5DF3-487B-AAAB-79D28FB005E5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859D7E-8021-4F4F-8C72-6219DB8A2302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99F48D-DB70-4E91-B08F-5BEB1C8EB827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5DF649-4DC1-43D3-A034-DBD86B1F9A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F2403C-9BEA-44E8-9AA9-882E82A1184A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695C8E-B60F-4FAF-8077-23F573212C3D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9F5F5C-82A9-4F9E-9A09-DAAE9DC26D79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AB763D-17C0-4F7F-ADE1-653EAAC0E7A2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F5A586-E8FE-4B32-8E93-D7BBA767CDCC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574B14-43FC-4129-B82A-D54CA5162A82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C5A966-04A9-4B2E-9425-BFAF32664004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6C7F7-9248-4B32-B385-4741B22C5931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71F2D-FB36-42E0-A8BE-B09B31D25941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6DE1C-4B7A-419B-AD50-C59218280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7ADB9-9AA9-41B2-AC7E-192AF25C7A15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6D0AF-3C1F-445E-AE77-B5B403856209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BE474-6307-4782-AD5E-4CA33CE18C62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A2111-BD49-48DD-9BD4-A8D96EEFA671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B1030-4719-4E43-A2E2-6051E7968AAA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83AAF-4C10-4BD3-9EB3-991BC5A7A060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E670E-70A2-4651-B28F-B77558F0A966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505DF-DDA5-4DEC-A12E-B1036C5F75F9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AE570-9DFA-458F-9623-F11E5C22C358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CC5E0-0E3F-4218-8A4B-9D40E29535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D29AD-EACA-455F-AB53-71445FB69CCE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D7699-6639-4F7F-8F1C-32001FAC3769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7016B-7267-4342-9CC2-DD742FA3DFF4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6B307-376C-464E-8A24-09C83495AD45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C94671-F6C6-46E3-9E62-883923D83635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E6F13-0C58-492E-980C-CC4A5348C9B7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BC2D4-81AB-47C7-9470-3FB383D46671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45032-C37B-44CD-8BB0-E93C2144DA45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733F4-E7D5-4520-AB2A-CADE1545FA64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751C4-F64A-47EA-A3ED-2DE3A26E5C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6AB154-9082-4D4F-8994-74D27A634B08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7CEB55-6F12-4760-8912-07C39277DC03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46E299-EB9F-4DE0-8D08-CEBDEB53F869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2BC7FE-9584-4B79-88E1-74BA6D4F8213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E01E3E-574C-4481-AF06-8203D4F26535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7D530F-C870-43B1-BCDA-66AA1952B95B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210AD0-B79B-4044-97FF-2BC905C55A46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8FB252-A3CF-4F2B-B79B-D12ADAB78FE7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CD6972-FD1C-4249-B126-B69044774EC1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70DF18-2F28-417E-892F-A9CCA9C8E2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A10D56-569E-4022-8674-E7B3008AA9DD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43E9A6-5F8E-41D4-BDF5-2B25EEED0CCE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73353A-DBC7-40FC-BBDC-F314342E6EBE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2E940-4467-484A-BD9B-4832CCD510C3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EE7AB-4F6C-4E56-9B22-D1149D8988E3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3AC87-FC33-413C-8908-3DE037CB21D5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8B7CB-9157-4469-904D-AC83C337BAF0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DB0B4-D43A-487D-BBCA-4D869D0D5847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D7B1C-5B03-4E51-8906-6454C53D77D3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CBC93-0A2D-4841-9122-A75360E16B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95E8D-EBAC-405C-9E90-0A04E5E08007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CCECE-85DC-443A-A58E-4D3DEB6B5AE7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1A19C-040B-4421-AFB4-C80B6A369171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701BE-2B55-470F-963F-18166B439965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71DB6-2044-491A-8DD7-C49E04D8F219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3A7F8A-A9E6-4F9D-8BEE-B7BA5539C035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03399D-2C80-406A-AFD1-3501CC9A4C23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93233C-30D8-4592-AADE-080BF8F8EC98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F1258C-F81E-46BD-9C78-47BDB6525964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E34BAF-40CD-4B9D-A774-6D731565CB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7789CF-A2AF-4CB5-AB15-3B8C4536540F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E7A859-3E9F-4482-AA3C-1BCC49A1AD32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645213-5E01-4DD8-83E6-4D89A529E5C2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A9DC93-A73F-463A-971D-BA6A7E90FFCF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D1EBD9-AF4D-4282-B75E-155322CD3451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BF77F9-7FA1-4428-AC16-114F5A6EE892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23CEA5-72DB-4991-8DFE-334F71AD5055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27AA8F-4307-475E-A5E4-4DBF89CB8421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A86EB3-84B3-4346-8773-9FBF0838DE8F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CFC8D5-0BE5-4330-B8D6-7049BBD6AE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D7E4A6-37F1-4483-903A-9B464F1F3C10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7F7A68-E1E2-4C43-A4C5-C3A80A0CA857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C56950-9B7A-427C-9844-4CF79B023F78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5CE4BB-099A-45EB-9D00-1D511EADFD99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778DDE-8647-4A50-BC7C-074231E96593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CBC24C-1538-4272-873F-B0EB4C0BB6AB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EE999F-D234-40AD-BDA7-A1AC6CE23DFA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CFFBA0-758B-456D-9F86-E24568E0004D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CD09D0-80B6-4719-B917-90E825D8D855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38CF5-B2F1-4478-BDA3-835E7B3FE7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E37DB-82AC-4D5E-958C-67D59D8EF594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5EAB2-CBBC-4512-8259-B74731548F81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2632E-AA80-43E0-AC07-0EFAA1C48DE8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B1DF8-0831-4937-8C6E-1E43643B55C5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E29A3-9D11-455E-8F11-EF997F745870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BF7B1-6881-44FE-9F3B-F51D0B0AFD04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FA8FF-3E36-4D0C-AF77-0EC2C97E5314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A7F89A-1AFC-4567-A697-9B0113377FD7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E1C15-3315-4688-8BE7-D3E31813B067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5F47B-49A1-4235-B154-2DCF331CDB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EF4A0-9188-4C39-AC07-96586E92367C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F0E917-5AB9-46EF-B911-1533F9FEF965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5FC0F3-8C71-448C-BEBA-C833F36D05A9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F4CA88-DF2C-4A2B-9FA3-1FB3BC448493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5CEFD67-C9FE-498F-BA9F-6E3CB16EFE83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50D303-9E3C-47FF-BF81-FFB4AC573C4F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D19BF3-0710-48DE-A7F5-2BA4ABD74D8E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38F18F-E0CC-4741-A569-8B16E90278FB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114A79-AE69-4502-B2F7-FADE52B8F0AA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C41730-B322-42FA-A59F-8FB3FC772B2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300194-E5B5-4838-8D78-2564118F24BC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B32FFA-6835-4CA6-894D-9A8FCB4B4CFA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72130EA-302D-4EBC-9FE6-AC35917DC73D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1631DF-0B5A-4AFE-A693-C44FA7BDA89E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C310C3-93CE-4C15-BA4D-45F3D92D1E7A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8D4B3D-2634-4820-A46A-F4385E44D0E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3B9EF5-AA2E-4BD0-B3D4-0887B75FE2EC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6020D4-E85A-4196-9D5B-CA261A18E0E6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1E5CE3-5655-4CF9-86AE-BC355DD5B2C1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5DEE9D-504B-49E3-A721-21EDDD52A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BA2D03-5AB2-40D7-AF15-4946CDDD3623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C1E236-2590-4F79-8D1D-354723835AF7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6818EA-121B-4968-BCED-7DF2F1BED56D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6B4F3A-ED66-4B9A-A4D8-DB7341B6321E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D7C23F-9582-4929-AF3A-97062DCCEB48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3CF979-9CA5-42CA-8561-A817B4F81501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B36BD-D084-4AB6-96F1-5622E98999EB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2E817-1C6A-4492-BE76-94B5311B345B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19322-E978-433E-AD34-27F91F173F17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A0E045-7F64-4A67-A667-48B98F3009A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86F276-8231-4768-BA8C-2E02C8413E14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71117-E369-488C-A4E6-9EFF39761FCA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0BB1E-85AA-42E6-A1B6-3F0FBC0C9E92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73DF45-6E70-4B89-A319-83DCED27B700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71206-8AD9-4787-B103-A1075E8EA465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57BBA-6A93-4CE9-A147-5359A9A9FEE5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6583F-ABD0-405F-944F-61FBE7A84CB1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073A6F8-08F2-43B3-B174-1B136AC124F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FC57489-AF6B-4E88-A560-1D7EA8F11680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721FED-36E8-4035-8BC7-4DB4DB48D7EE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8FD953C-0390-4A62-B55A-54BF186D97FF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5D6261-19EB-4272-AD00-D7F8509B433B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C6E7E04-CC21-4F8A-9BE0-D058366A16F0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5860F3F-9463-493A-B1FE-B9904C5CAD82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46EF0B-5B0C-4B27-AD5B-72B2FF90E77D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285275-2F98-4ABE-8560-23124992C8BA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57A8152-4417-4018-A464-2E62D3B9811F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BA8881D-4F0A-4EE1-8BD7-07F33972EF9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9852709-FA6F-4533-876D-D67E981ADFA2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20A497-AF48-402B-B888-E58F6573BD6B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E91745-2FE5-4578-832A-F0F5571DC1B0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023354-AC71-4291-95B4-786D753E8ECC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465D6A-6D97-4CC0-9D15-B438C7FCEB48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0F519C-99F1-4738-BD5E-A2E83622B548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913FED-925C-4EEC-AF62-2C68D09743B5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3FBBB0-1CBD-4011-9876-71E1343DB9D5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1B3A50-7EF2-4113-8D93-AE5DC54464CD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C7933D-12D7-4F74-A785-436C87E542D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FCB60A8-0AFB-433D-A3B4-5EA49447758E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A67FA8-5FC9-46EA-929F-C057CB2AACA8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A15CA7-BE51-4116-A78C-A8CB468D7417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9D8F2-9081-49E2-BDFE-25F8B26EAC4C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11842-A289-4E14-98EA-17033022F7CC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F391D2-66A1-4BEC-B317-7B292E17D106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270A4-8F76-4189-BCAF-07A710EA67E1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C85BA3-60E8-4ED8-8753-366AA25B6254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01F98A-18A5-478A-843E-E788E9F7FF14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D811C5-F407-46AD-BAB2-6C0CB14E11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EAE717-8508-4CEA-B537-BCA39E83A928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B4603-3AF8-435C-A000-35E639AC76AC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9D5140-C31B-4647-9B36-BFD9D92F4D78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C5BC8-F58C-454B-8C7A-87236470786F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D2A85F-A2BB-4E70-8857-93C0435157B3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2F2994-6676-4045-B662-D829AE8CB54A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6AD780-326E-40CA-A41C-F87EBCD0EE78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8B80E97-A539-42A0-B519-7F995D54537B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66575D-25A5-4E43-9E1F-8A2F63FAFCEE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00D94F0-DAF2-440F-A89F-A952185BB21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AA0CAF-594D-421C-8503-E2E08B361DE4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133DC7B-1241-4B2F-A801-79EE93FC9914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49CC087-00A9-4818-8A1D-B9024F053623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F36F20-6CC8-43B2-857A-B1A840DE6F62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6EA0D7C-E127-4792-8598-C4B8CAAD2C69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E721061-8DB0-497F-9B0A-087D0E8241B9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55E1BA-34BC-48E1-BD0A-44A50D79CD82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52BE00-13B4-4A6A-9455-3CD106E29DC7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AA7F0BA-52B1-4576-9D06-C2A22C8AFBAF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E4E71E-435B-4127-B7DB-2B31F541153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78715A-03B1-4698-BBCD-0325FA99D1E7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39630C-1A0E-4A5E-820A-0644D49DE3CD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3E9670-DA49-4275-B0A6-E033E597411E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8C9F60-50CB-41CE-858E-3907B48AF28B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547448-D183-4494-B0B5-05050060EE6A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1DA7BA-3FE3-4118-9393-DFF7B83C18D9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7FFBC6-07C7-48F9-883E-D90086999F5C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E3194C-1715-4D66-AAE3-916F95C9006A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92F6E0-A4E0-42E4-BCCF-290C6E007038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6D98BA-566A-40B2-B4D1-2E35DC5BF7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F10C4E-6942-4C85-9DA9-7CF2F1A2AE38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C5349-55C0-4661-B6E6-4E4F653D4CAD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935049-512C-4160-85AF-E7CA8CA71274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3678F7-78C3-4BD1-81F5-AB1DD6B68FE9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7652C7-E1C1-4FE6-9476-003F1524B522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86AB0-8FB8-4289-9C83-2A664CEF20B9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D549F8-1FD8-4012-BF4A-69EBE83ADA17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795720-A935-4A76-BCCF-9A46BB5C47B1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7270D-D8CB-47D8-A23E-AC1FBCF829D4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8DB61-F170-4612-B121-1A2A0A057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A1EC7-17B4-4D03-B7E6-E817786CF172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DB07343-9B3E-4CDD-BDD7-64190D316DE8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F3EB75B-3042-4C55-BC74-6EFF660A0A24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3CBF97C-5FCA-4B36-B936-32CAD51C05E7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F354162-A13A-46C1-BB18-C4E56BA87B98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0D3B20C-AEB3-48BA-86D5-0555D20AC0B7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E113C2A-D8CA-41F3-A36C-253B1F78E6DE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4F55B1D-7DDF-45BC-B63D-65B7CB2782F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14F937F-A941-449C-AA88-1A8044E41539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B1E7F0D-9C00-4506-B8C2-A0C7201665DA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B1C9028-AFCE-4132-97A1-215D282592A2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724B9FD-19F0-423D-B383-430940EDE19B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7ECE61-6ECE-4D47-BB19-57B082820603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69A7513-FF8D-4078-99F7-EF478FC83DE5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59142D5-AA60-4415-BBAF-C18A4D7EE8EF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8FF832-0F86-4E0F-8040-E3463DD0C8E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E45E75-FC61-4EC7-AD38-C1572655F703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863D5B-C22C-4ED7-BFB4-646DFA210D04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761FEC-C636-4D05-95E6-B4D59CF141F2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5980482-112C-485C-AD90-7F69DD994195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FE3C70F-6878-44A7-9311-D7DF68ACF66F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BE8DA3-8C55-47F7-A2B7-298DB30EB447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524E725-F4A3-432C-BCDB-10696BA94D42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14045A-4717-401E-B9A4-E84E19470D60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6769E7B-2401-4A58-A9E1-B45934B2E6CD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57373-25B9-491B-B07F-30CBD4EFFA2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E8F551-480C-489F-AD79-E056F8FB8DF2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40E20C-96C3-418F-AABF-2CD23A378A69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B6DBF2-78F8-4B35-916E-8D3D3F495F42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00A1CF-E537-43A6-B8F9-4B778F553216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FB867A-25D7-49D7-8F9B-AC675974B275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A0D51-D1F9-4C1E-8D25-50D5600CA01C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F13555-0518-4824-AC09-03B28E52DE27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34474-EFB8-4BD0-B1F6-63A1452C46C0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F614AF-4BE0-4781-B9C3-37BEFB68D7F1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3F02C5-6146-44C7-8C60-150602500C0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5BCBF-6A88-4224-9381-A842E02C23BE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4B6CF35-BA57-4C85-BFC7-C6432E4F6D14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7CCCAAC-4AD3-4381-B45C-3D25DE7FBEE2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DB7E0BA-C916-4D06-BE48-52BCCB755492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270E336-2342-475F-A1C9-4AAC98351794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94ECBED-055B-44C8-8EFC-D218B53FB1CF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96A312-A1C3-4DA4-9C02-016D18EDAB02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5801022-4868-479A-9C8F-CB7922339320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9C9DE58-F50C-4469-9956-4A458D666F28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47E7CDB-C798-4B27-B41B-C1AD1DF8C94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0A607A-8AF4-4BEB-9C74-AEB6C46EAFF1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FF8339-2332-499D-8648-414629EF48D9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1F5D442-A571-45AA-950F-7E8E67DAC389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2370720-C3BD-4A72-BD04-6AECAFC2B2EF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B06FEA9-2439-46E1-8895-97415C0CA421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91DFB55-86D5-43E5-A266-EDD026275566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979C33-E706-4F29-8A00-C670925D3243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C23424-69D8-4436-97D6-5FF07FA0F0B6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622C63C-D87C-4D0D-98F3-42FB055D94E6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2E75512-4AB8-448F-A3B9-E3EEB3D9700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1CAB20-89B0-40D7-93EC-BB716C6F22C6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3A8DDB-20D5-433E-98FA-006784D3153B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D6DBA90-20E9-4251-BFF9-9CD7A70DD6DE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5B1155-1AB4-4D6D-86FC-24D2C9E9269D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6FFC6A7-BE9B-4375-B2FC-118457B0D38C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C5DED-CBBF-4371-905F-F16121BABD36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E7D9E2-FC73-434D-AC11-499A567168F0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146CA5-FDA7-4C98-B14A-4134DFEB5C0B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9D4D47-48B9-42CA-93F7-5C3C656D9635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5A19BF-97DF-4293-A845-51A6D2BFDEA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726ADF-0C04-433C-93BD-56E2E363287C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57C823-8930-439C-9707-4993C88DB34D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7C71D7-B01A-47DF-B7FB-9B667840A97E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99465B-9787-4C5E-82CA-00DCBCD27476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F14DFE-30DE-4AFA-819B-A2D5CBE30762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8C539-7155-4525-A902-86E0269CB312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594B8-CBDA-4BB0-B9F7-7FF65747C8A9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2D58334-AD30-46C9-8C10-08DCBBB83F8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36AFA1B-1BE2-4CF2-8D12-006CB498A17F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5332259-438F-4BA6-A7A2-8FF89490199B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1B150D4-AD47-461F-8093-71F47A70F0DB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51B9D78-F55B-4038-BBB6-8C9DA405943B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B8E1E9C-6B4D-4506-85EF-2BE01D7A32BE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90180B2-7E95-4D8D-8D7D-3E257D6B1BD7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B66B2FF-B711-448A-9828-54BA64041735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9E0E402-F106-45E7-8788-A4339A998055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0D6F30D-AE3B-4D87-A266-18A6360C44BE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9A67B81-52A8-4909-8319-248C5E88E25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69B9A9B-7277-4A84-AF5D-2A2E071BFF74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6BB979-DA28-402C-B7E8-20177A85CFCD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F99EF1-1313-4F77-B9DA-40842D6A612A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C72054-2A74-4BB5-9736-D1B51543E72D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E8C1F24-9017-4742-B3D5-6D8BEB66791D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8F1E975-67D9-4799-9545-72EF947D7CB0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EA4CBBF-7315-45EB-AB72-B223E0665C7D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4A86C6A-1320-4D17-92F9-E0A7B1520995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F13608-B417-4071-B699-F6BAAD5F98B7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C760659-BF58-4FC1-853E-20BBD8E5406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4C8-155B-4641-B353-AC2B7024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121AD1-288C-4E9F-8BC3-15A514DB08C2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F0BF9A-4C54-43DB-8C70-BB49EF6EAF5B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9CC7A6-9941-4AD5-9D77-CD4A07CF01AA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AD454A-8590-4C24-AD09-31B22149349A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56A969-B079-4F2F-843B-CFC3DA90DF4C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454F04-09CB-4EBE-A416-582F9C329835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818E55-AD77-4C3D-A36C-018BA093C89E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8A2C5D-0210-493A-BFB8-7DDF510C615B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B83109-A122-497E-968D-4DE6DA613FA9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B7F830-ED1D-42E6-8025-862191E1CE1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C45-9629-473E-B86B-D8BB51BC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176DD3-2791-4641-BF09-868D8946E90F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1ADF42-57D8-4D7D-BA23-AB8CEBBB6779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D47BE2-56CA-4308-8517-E3FB9CD85B38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8D0845-DE49-4CBF-BA4F-F2EC31E7367D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656374-3AE8-4098-98BF-A3D04BA58239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B143609-B2E1-4659-A45D-7C0419908D4B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FA9D0B2-8222-400D-94D2-5A8CD0E1FE72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5994BB7-781E-49D4-BEBF-2DF55F44F20F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EE14149-4AF4-48D2-95CB-0D11C127AF88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16DF115-CBA8-4402-983D-25FAA97433B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DB7-4828-4E4D-BE2A-2A6A8184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1E7EFC-A5E1-422B-850B-C7B5F3127D23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21EB9B6-DBB9-43D1-BA00-584FC84151A3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C7F62A0-392E-457C-836C-4099FF10B6B9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35A0E81-D4EF-426E-AAA5-C88479BB9C3B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234C92D-4EF7-41AC-ACBB-FDF77363EB96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94B566C-F311-4107-BCC6-FAF824D70AB8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EB0F168-AE9B-487C-ACE0-B8AEB5263A78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214957F-5B64-46DF-BCFF-E37392B60D0D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90815A2-54C5-4DC1-B3AC-EEBA12CD9628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8F6EBA4-1E3F-4D40-92C1-355453A2D8F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BC9-AD0B-4C98-A002-1CC7B3D0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4B9C84F-3152-4FD6-8435-19106D64EB5D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580AF11-9479-41E3-A32B-1C2F1D44386F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F82D8F5-96D4-437B-AA8A-8FE91049547C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220791-DC48-4287-A065-D17DDCD3E527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10E9EF9-496D-4EA0-A5E2-810EC9A35430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E6295BB-A5F0-450D-AED8-359F0D8404F0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279432F-ADCF-4402-8053-66801CBFA700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9B2497-75C0-4A94-8CED-28EF4F077E7C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4CEA77-DEAB-41F3-BAB0-8981C481B0E5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FEAE8A-002B-4B40-BC67-315D871A61B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17D-E17A-404E-BBF0-86BCCC60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48AEE0-3926-4E00-BD1C-0941A68E865F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D3E15C-C09A-42E3-AD80-9A9AE943FD00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E990E8-1011-489C-AB72-3BAA8929B06F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6C8926-9139-4F6A-AB52-A3E0E69AB3C6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421950-C789-4BCB-98AD-D7A84DAA505B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F074FC-25B6-4EE7-94D0-0E2E2818D22A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558A1D-9E80-49CD-9E8E-839F15F76E73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091F14-CCE9-43BE-B41D-B11A90F0B26E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C8004D-8944-43F4-92A7-EF30BDC50BF6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6FC2AE-2B57-4B3B-9829-3CF21726D20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B6F-F621-4BAF-A907-7197E461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685BE8-AF53-4BF7-B181-9AFE00E4E8B8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7B1452A-9DF8-42A5-BC03-69D90F04BD78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6513B67-0C6D-4EA4-88C3-018C648D8D36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06ADBBA-1F48-4E95-B432-8ECEA9FE2D5D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576D8A0-F6D9-48D9-A61A-6AD2B9F8C796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F40D409-5F3A-4FD0-AC14-95A5F8768D9F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B6ED48F-1FC2-4793-9B82-8088E1180AF4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74F545E-8243-4FEC-8620-3953E4E96924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540A01B-2F79-498F-9C25-8B087B2E9CF6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01DFB30-0186-4BB1-B891-8DD124C5219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72A-CC19-4074-8B78-2DAF9BBF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2FD9BB3-C8D8-4D8C-8258-CD390E332C79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0A481D1-DB98-4031-B5FB-2DA1962DA77C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C65E782-4A95-4F2C-9C42-C3D3F195D64F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5B63B85-70A5-41C4-9D0D-EF08776E122A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4AA14C9-0CD8-47AB-AF22-F51DFC15CEFB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58036CD-5F45-46C5-A79C-0B5B41AF4666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AEC4F19-6A5A-4818-BADF-12B15E44B5A1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FAD4C76-A893-42DD-864B-D11308BE3FCC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B4795A5-B9EE-4D27-8E97-DA75CC774F8D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43ABD3D-FCF8-4256-8922-AB45826F7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C01-C76F-4850-A427-A6A7E91E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CBBF204-C252-44AA-B32E-B80D4CBF18FF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94ADE9E-4D62-4869-BFC7-82CF298B2F7D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0F680C7-9978-4FC6-B0C3-9C56D9EDB5E9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2EDCD2-E341-4407-82EF-DF94EEA3B5CF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BC5A80F-1F18-4E7B-B827-EFF107153D05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FEE864-3A7A-466D-A6C2-B46E0D8D1A21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9F35AE-DAC1-4C95-9708-745C029736A0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B4E156-D24C-41DD-A928-3ACB0663D3FC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C6AB66-36A9-47D5-A074-679F74920E3D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ED4295-A496-4662-AB40-26782B821E7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B6C-5B45-4666-A53F-B2038F64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F275A4-1B4F-4A0F-9F27-3334290AA5AD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C78C47-53DA-413E-A4E1-9EF8DD38B2F2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1EC553-9728-405B-B5A9-03BC1F3E0DF7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9F4EEE-0717-438E-9669-1FCC013F0868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D5702D-4333-406C-815C-79831722941E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BF8482-67D0-4F27-8075-99A9D274563B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AD028A-A2F0-4687-914A-B7B6F1AE82EE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1697F4-2BDA-4854-B07C-B4F55ECA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DACC59-7792-4F51-A57E-86AE7E08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CA2AD5-165D-427C-857B-6F74BC97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BBC-CCD8-454B-AFC7-C16367BD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A5C675-FB8D-4AD9-B9D7-53CCBABE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112496-CCC8-4564-BBFE-A279B97B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AF6780-1082-4154-BF3B-DB2B75C2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2EC977-5857-4522-A801-AAD4C4E7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6B0C16-73E6-477D-8B10-9E2E4ED1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47CD12-FDB3-4E94-965E-C8A0CD40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9E39AB-D6B1-43E9-B000-CB47D8E4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F222CE-A529-463B-B295-FC8D1DF8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353CBC-1B94-4827-84AB-08DEC5B1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824B8FE-2EE6-4543-AA0C-B3EE28740F1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C18E-A4F0-4B33-A891-98652471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4F6BDEF-410A-49AF-BEF7-7FA677536F0E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FB6B396-52B1-4D1B-A8DC-4264E0423F57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95FD719-037F-4799-95E9-18D83560FBAF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167DB16-CEA1-4A0F-B3C4-3341E673E89C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468A302-4C62-4D03-BAC0-B9AF3106E38C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E7E4101-AD44-41D9-903B-0786B7D054F5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7E78515-B06C-49CD-801D-22E11DAC9FEF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6F8FCD5-45EA-49FF-872D-311FFF69784A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D2265B7-0C6A-4F64-8B8D-BE0295E38A0B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65B589D-3DD1-4984-8E2B-2C273598BCD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A9D-3D94-45A8-8FB2-BDD89A85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31537E2-C8BC-4CA4-A3D7-0E5C35B6628C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A6CC7D3-744A-47F4-AD47-F3E6F4888E24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62BE7DB-DEEF-4912-AC7A-32C509413D0B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46AD87A-0515-4E9B-BD3A-5DC1787AFC03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8B0FF69-C40B-4F8F-BA17-4E0FBE7837DE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3D20AD0-9907-4EC8-A2BF-5711DE623264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66342F9-9BD1-4A6B-80D4-C5B6C202EA2E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FCAD48D-96BB-444B-9CB0-77E3A0A4BC4E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A4E773A-6F81-4507-906E-D57FE3726D81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37CA7C8-4D98-4BAE-AECA-1DE944EB850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F94C0-6309-4CF7-8684-93977B1706E5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BCA0E2C-B48A-4EFB-AB90-E13DB027A247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940A245-7566-4999-A5DF-F872B18A18D9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A60325A-3196-4CF8-A0A2-ADF8C652787E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506087-1B78-46F9-948D-8333B2A5FC9F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E864AC-24A1-4F67-B48E-6A99039DED7A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3E3621-6A14-4422-8F83-EE9BA6A1A8C6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C0EB86-3717-4D2C-B45B-09A8925D9481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E6BE0E-0864-43F0-A2F6-E552FA8EB470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809E0D-DA65-480D-8FF6-1E4CFA75878B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581E49-DB1D-4F94-9A41-EAB735D8D87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15476-C9A2-4F01-9E3D-6BA397B16F0A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7C2005-55DE-443E-AA2A-CBFF1D9BE616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E461F5-5DA9-4AAE-B65A-318D66FAD90B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ADA8FC-B195-4E07-B0D9-8FDAE87BADF9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6FC36E-4031-4812-9962-81C0CCE627FF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D854C1-D815-467A-840D-E6708AC889D2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0C2C5-DD25-451F-A1F4-A2DAF29DCEAE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A9341-1EF3-4D91-AD35-658E1064CBFB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734E6-114E-475D-8E86-5628EFCCD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2BCC3-051C-47E5-B6DE-36890B59A0A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FD173-2D4A-458E-BF16-72FBC703B0D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03106-416C-4BA8-9C4B-30863E49AFA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153FA-9C55-4F8C-8E88-366D3E82694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091F4-7229-4D1F-9323-7A6A92DF607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2C930-9E6F-4603-B9DA-112DA1BD0ED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E4ED3-AD7F-4CD6-81B7-E6CC202D325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BB884-A38D-48B7-A057-65ED6B8CFF9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F4BB1-505B-4F76-A7DB-322F15D91A4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8E951-C361-493C-93AA-2FF66C4BC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3929F-36C6-4EF6-8451-F756BD284989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B7704-551F-4CC9-8D59-AA0E6F21F51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67497-A964-4502-84B9-E807E75BDA8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49DC1-CF18-4C61-B13C-45C22D37E07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48EFD-D8DF-4B77-9BA2-5C7E5001C02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B485C-B453-4F9F-988B-3B03E6235BF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1832F-8990-4707-9B43-985C1C4C646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4FB16-0D10-4BA0-9A65-A98F67C7B3E8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9E54A-E9BF-4EA3-987F-7C0EB22E92E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B0AFA-0746-45E7-80CC-A6EA2773BDD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FC7E4-45BD-4398-B4C2-055F936DE2B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04002-7995-4A15-A481-CDCFC46E8D0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C2A6A-149C-40E5-872C-41A486875BB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483C1-8BED-4AB4-81FA-51439B0B195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73255-D051-4AF1-B0FB-D482805881C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585C8-3793-4B8D-8433-17E0496D91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B20ED-0F5F-4B29-935A-2A602F45E2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373C6-B450-4C54-B31A-57EA5A89BB0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DDE35-03D8-4058-AEBB-B2F447FFEF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9E2EA-0662-4EC4-B9F9-DFC5BB012E4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6A52E-B664-4685-934E-4FFCE6293F3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CABA7-A37C-4230-8BD9-C4C8E6DAD61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D185D-371D-4265-99B7-C7CE54F016E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4C632-9381-4FFC-A7F0-C68625E4A66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B875D-DB40-4521-960E-C7586122D94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8A870-B574-4E20-8E26-5DF688A93E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06E5F-874D-41A0-9DE4-A8CB9ED2EBB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7840D-FE84-4A45-BF0D-B4CC53933F89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4A61B-C6A1-463E-8969-A9F6CF38075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5D7FB-16C6-42E4-8D48-3095B4E20D4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5B27D-BBF1-4086-90E3-4156CFD3798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62570-D23B-48E4-B71B-0B85E1F0ECC8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Num" idx="4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E506C-C691-41FB-8F02-40712F1AC3A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Num" idx="4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713E0-A1E7-4436-943A-497AD024969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ldNum" idx="5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5E73B-E7D8-4AF5-A4AF-7E13E1976CA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91B91-B322-473E-B0DB-45FC385BCF8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8F450-4472-4156-A805-74462160FD7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BEBCE-280F-4B39-BB82-0EA02A7FFDE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603A3-6A16-446B-B646-8B89E1F9B10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96FFA-1D1D-4DEA-AA8C-C23F57B778B6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B30A7-61DD-4F59-9C48-6B1BAFC25F6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4FB33-52D8-4D76-AE5B-8481BED76D2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BF83C0-E32E-44DC-9F8C-413E86996F4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FCE1F-16FC-400B-BCAC-7121522C7C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19A72-32C2-4B1B-AFF7-3224067AB9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ldNum" idx="6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A242B-8BEB-4451-97A3-EE9AFD68789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Num" idx="6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C193B-7E49-44C7-BC12-A49E63F58C3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ldNum" idx="6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E1AC0-3FD3-4818-BB47-A405B207D41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ldNum" idx="6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F5D16-A7FF-408E-99F7-EADA255C9B7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C36E6-5CEB-43BA-B438-A0A47E3BB6F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97147-674E-46CF-A5A4-13D76D33553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sldNum" idx="6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4FC52-266E-4449-8CDD-43BC2C23541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sldNum" idx="6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BEEED-ACF6-4270-80D1-A1F189E7A0B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sldNum" idx="6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63F19-EE82-4B70-9E8B-461D4569244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4" name="Picture 1" descr="1589855.jpg"/>
          <p:cNvPicPr/>
          <p:nvPr/>
        </p:nvPicPr>
        <p:blipFill>
          <a:blip r:embed="rId2"/>
          <a:srcRect l="6082" t="1089" r="9812" b="6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5" name="Rectangle 2"/>
          <p:cNvSpPr/>
          <p:nvPr/>
        </p:nvSpPr>
        <p:spPr>
          <a:xfrm>
            <a:off x="9360" y="2590920"/>
            <a:ext cx="9133200" cy="167616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Rectangle 3"/>
          <p:cNvSpPr/>
          <p:nvPr/>
        </p:nvSpPr>
        <p:spPr>
          <a:xfrm>
            <a:off x="221760" y="6286680"/>
            <a:ext cx="1009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eorgia"/>
              </a:rPr>
              <a:t>#ICANN5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7" name="Picture 4" descr="ICANN_Logo_W.png"/>
          <p:cNvPicPr/>
          <p:nvPr/>
        </p:nvPicPr>
        <p:blipFill>
          <a:blip r:embed="rId3"/>
          <a:stretch/>
        </p:blipFill>
        <p:spPr>
          <a:xfrm>
            <a:off x="8032680" y="6186600"/>
            <a:ext cx="571680" cy="44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4" name="Picture 1" descr="1589855.jpg"/>
          <p:cNvPicPr/>
          <p:nvPr/>
        </p:nvPicPr>
        <p:blipFill>
          <a:blip r:embed="rId2"/>
          <a:srcRect l="6082" t="1089" r="9812" b="6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5" name="Rectangle 2"/>
          <p:cNvSpPr/>
          <p:nvPr/>
        </p:nvSpPr>
        <p:spPr>
          <a:xfrm>
            <a:off x="9360" y="2590920"/>
            <a:ext cx="9133200" cy="167616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Rectangle 3"/>
          <p:cNvSpPr/>
          <p:nvPr/>
        </p:nvSpPr>
        <p:spPr>
          <a:xfrm>
            <a:off x="221760" y="6286680"/>
            <a:ext cx="1009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eorgia"/>
              </a:rPr>
              <a:t>#ICANN5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7" name="Picture 4" descr="ICANN_Logo_W.png"/>
          <p:cNvPicPr/>
          <p:nvPr/>
        </p:nvPicPr>
        <p:blipFill>
          <a:blip r:embed="rId3"/>
          <a:stretch/>
        </p:blipFill>
        <p:spPr>
          <a:xfrm>
            <a:off x="8032680" y="6186600"/>
            <a:ext cx="571680" cy="44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1ED89-D5C3-404A-83A7-784D0EA3835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inyurl.com/ttcharter" TargetMode="External"/><Relationship Id="rId2" Type="http://schemas.openxmlformats.org/officeDocument/2006/relationships/hyperlink" Target="http://www.tinyurl.com/ttwikipage" TargetMode="External"/><Relationship Id="rId3" Type="http://schemas.openxmlformats.org/officeDocument/2006/relationships/hyperlink" Target="http://www.tinyurl.com/ttissuereport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4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/>
          </p:nvPr>
        </p:nvSpPr>
        <p:spPr>
          <a:xfrm>
            <a:off x="0" y="1424160"/>
            <a:ext cx="91440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Helvetica Neue Medium"/>
              </a:rPr>
              <a:t>Translation and Transliteration of Contact Information PDP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133200"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Helvetica Neue Medium"/>
              </a:rPr>
              <a:t>Working Group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133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700"/>
            </a:br>
            <a:r>
              <a:rPr b="0" lang="en-US" sz="2800" spc="-1" strike="noStrike">
                <a:solidFill>
                  <a:srgbClr val="ffffff"/>
                </a:solidFill>
                <a:latin typeface="Helvetica Neue Medium"/>
              </a:rPr>
              <a:t>Activities Upd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3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Neue Medium"/>
              </a:rPr>
              <a:t>ICANN London Meet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Helvetica Neue Medium"/>
              </a:rPr>
              <a:t>June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3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elvetica Neue Medium"/>
              </a:rPr>
              <a:t>Chris Dillon and Rudi Vansni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582480" y="190440"/>
            <a:ext cx="4840560" cy="657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Why is i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Slide Number Placeholder 3"/>
          <p:cNvSpPr/>
          <p:nvPr/>
        </p:nvSpPr>
        <p:spPr>
          <a:xfrm>
            <a:off x="7010280" y="6750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D4FA6-0D0E-48C8-A200-C0247580550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icture 2"/>
          <p:cNvSpPr/>
          <p:nvPr/>
        </p:nvSpPr>
        <p:spPr>
          <a:xfrm>
            <a:off x="304920" y="2959200"/>
            <a:ext cx="33526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Rectangle 1"/>
          <p:cNvSpPr/>
          <p:nvPr/>
        </p:nvSpPr>
        <p:spPr>
          <a:xfrm>
            <a:off x="333360" y="882720"/>
            <a:ext cx="606744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d internationalization of the domain nam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allow for standardized query of international registration data and assurance of its function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going reforms of gTLD Directory Services (e.g. Expert Working Group) makes the need to establish GNSO policy on translation/transliteration of contact information pr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6" name="Picture 3" descr="ID-100108229.jpg"/>
          <p:cNvPicPr/>
          <p:nvPr/>
        </p:nvPicPr>
        <p:blipFill>
          <a:blip r:embed="rId1"/>
          <a:stretch/>
        </p:blipFill>
        <p:spPr>
          <a:xfrm>
            <a:off x="6332400" y="988920"/>
            <a:ext cx="2486160" cy="2838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4"/>
          <p:cNvSpPr/>
          <p:nvPr/>
        </p:nvSpPr>
        <p:spPr>
          <a:xfrm>
            <a:off x="284040" y="4888080"/>
            <a:ext cx="83138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lso is an EWG to define requirements for internationalized registration data and the corresponding data model for gTLD regist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88ED-37B7-47E1-9AB5-EDEE7EEF8AFB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9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464F2-C118-4BC5-AB85-9571CB34E84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0" name="Picture 9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771" name="TextBox 10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2" name="Picture 11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9600" y="482760"/>
            <a:ext cx="8510760" cy="4600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Recent Develop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4" name="Picture 2"/>
          <p:cNvSpPr/>
          <p:nvPr/>
        </p:nvSpPr>
        <p:spPr>
          <a:xfrm>
            <a:off x="304920" y="2959200"/>
            <a:ext cx="33526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Rectangle 1"/>
          <p:cNvSpPr/>
          <p:nvPr/>
        </p:nvSpPr>
        <p:spPr>
          <a:xfrm>
            <a:off x="309600" y="1982880"/>
            <a:ext cx="40273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ing Group started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ember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request sent to SO/ACs and SG/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6" name="Picture 3" descr="ID-100132701.jpg"/>
          <p:cNvPicPr/>
          <p:nvPr/>
        </p:nvPicPr>
        <p:blipFill>
          <a:blip r:embed="rId1"/>
          <a:stretch/>
        </p:blipFill>
        <p:spPr>
          <a:xfrm>
            <a:off x="4622760" y="1090440"/>
            <a:ext cx="4368960" cy="2862360"/>
          </a:xfrm>
          <a:prstGeom prst="rect">
            <a:avLst/>
          </a:prstGeom>
          <a:ln w="0">
            <a:noFill/>
          </a:ln>
        </p:spPr>
      </p:pic>
      <p:sp>
        <p:nvSpPr>
          <p:cNvPr id="2777" name="Rectangle 6"/>
          <p:cNvSpPr/>
          <p:nvPr/>
        </p:nvSpPr>
        <p:spPr>
          <a:xfrm>
            <a:off x="239760" y="3973680"/>
            <a:ext cx="875196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CANN has published a feasibility study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 and transliteration of contact in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will feed into WG’s recomme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 of EWG and other relevant efforts also monitored by the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BEC9-6205-45A5-8006-7E45E696ABAA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991BE-EB8D-4256-A896-716989FF76B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0" name="Picture 8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781" name="TextBox 9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2" name="Picture 10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328680" y="804600"/>
            <a:ext cx="8510400" cy="6570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841C0-F7B2-4E34-9F4E-6F68BF05140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icture 2"/>
          <p:cNvSpPr/>
          <p:nvPr/>
        </p:nvSpPr>
        <p:spPr>
          <a:xfrm>
            <a:off x="304920" y="2666880"/>
            <a:ext cx="33526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Rectangle 1"/>
          <p:cNvSpPr/>
          <p:nvPr/>
        </p:nvSpPr>
        <p:spPr>
          <a:xfrm>
            <a:off x="277920" y="1841400"/>
            <a:ext cx="48528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G is review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feedback using a public comment review tool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ing on draft recomme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ing updates to the GNSO Council and the public at ICANN-50 in Lond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7" name="Picture 2" descr="ID-10034888.jpg"/>
          <p:cNvPicPr/>
          <p:nvPr/>
        </p:nvPicPr>
        <p:blipFill>
          <a:blip r:embed="rId1"/>
          <a:stretch/>
        </p:blipFill>
        <p:spPr>
          <a:xfrm>
            <a:off x="5283360" y="1461960"/>
            <a:ext cx="3454200" cy="2819520"/>
          </a:xfrm>
          <a:prstGeom prst="rect">
            <a:avLst/>
          </a:prstGeom>
          <a:ln w="0">
            <a:noFill/>
          </a:ln>
        </p:spPr>
      </p:pic>
      <p:sp>
        <p:nvSpPr>
          <p:cNvPr id="27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F5B6-C58C-4883-B7B1-261ECA66BFC0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EACAA-68BE-4005-9311-BD8F03F170A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0" name="Picture 8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791" name="TextBox 9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2" name="Picture 10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/>
          </p:nvPr>
        </p:nvSpPr>
        <p:spPr>
          <a:xfrm>
            <a:off x="0" y="2376360"/>
            <a:ext cx="91440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Helvetica Neue Medium"/>
              </a:rPr>
              <a:t>Thank You and Quest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510400" cy="657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Background on the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9719A-60FE-4E28-8A7D-5E90BDB4215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icture 2"/>
          <p:cNvSpPr/>
          <p:nvPr/>
        </p:nvSpPr>
        <p:spPr>
          <a:xfrm>
            <a:off x="304920" y="2666880"/>
            <a:ext cx="33526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Rectangle 1"/>
          <p:cNvSpPr/>
          <p:nvPr/>
        </p:nvSpPr>
        <p:spPr>
          <a:xfrm>
            <a:off x="343080" y="4784760"/>
            <a:ext cx="862488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Group Charter: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tinyurl.com/ttchart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Group Wikipage: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inyurl.com/ttwikip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sue Report: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tinyurl.com/ttissuerepor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Rectangle 3"/>
          <p:cNvSpPr/>
          <p:nvPr/>
        </p:nvSpPr>
        <p:spPr>
          <a:xfrm>
            <a:off x="279360" y="843120"/>
            <a:ext cx="85345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wo principal Charter ques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ther it is desirable to transl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ct information to a single comm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nguage or transliterate contac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to a single common scrip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o should decide who should bear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rden translating contact information to a single common language or transliterating contact information to a single common script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9" name="Picture 4" descr="ID-100230255.jpg"/>
          <p:cNvPicPr/>
          <p:nvPr/>
        </p:nvPicPr>
        <p:blipFill>
          <a:blip r:embed="rId4"/>
          <a:stretch/>
        </p:blipFill>
        <p:spPr>
          <a:xfrm>
            <a:off x="5587920" y="558720"/>
            <a:ext cx="3264120" cy="3340080"/>
          </a:xfrm>
          <a:prstGeom prst="rect">
            <a:avLst/>
          </a:prstGeom>
          <a:ln w="0">
            <a:noFill/>
          </a:ln>
        </p:spPr>
      </p:pic>
      <p:sp>
        <p:nvSpPr>
          <p:cNvPr id="28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E9EB-0CBA-455B-AEC3-92C5CB5A52FB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703FB-6331-43C0-B8ED-CE217B15A9D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2" name="Picture 9" descr="ICANN_Logo_B_RGB.png"/>
          <p:cNvPicPr/>
          <p:nvPr/>
        </p:nvPicPr>
        <p:blipFill>
          <a:blip r:embed="rId5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803" name="TextBox 10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4" name="Picture 11" descr="50_London_MtgLogo_Apr2014_tsk-FS2-01.png"/>
          <p:cNvPicPr/>
          <p:nvPr/>
        </p:nvPicPr>
        <p:blipFill>
          <a:blip r:embed="rId6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59E08-60DA-46B2-951D-902058F44D0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Rectangle 1"/>
          <p:cNvSpPr/>
          <p:nvPr/>
        </p:nvSpPr>
        <p:spPr>
          <a:xfrm>
            <a:off x="2771640" y="1190520"/>
            <a:ext cx="626436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requests and content returned by Domain Name Registration Data Services (such as WHOIS) are encoded using US-American Standard Code for Information Interchange (ASCII), based on the English alphab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, there are no standards or conventions for all WHOIS protocol implementations to signal support of character sets other than US-ASC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anticipated that a new Domain Name Registration Data Service may not be ASCII-centr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7" name="Picture 4" descr=""/>
          <p:cNvPicPr/>
          <p:nvPr/>
        </p:nvPicPr>
        <p:blipFill>
          <a:blip r:embed="rId1"/>
          <a:stretch/>
        </p:blipFill>
        <p:spPr>
          <a:xfrm>
            <a:off x="0" y="2133720"/>
            <a:ext cx="2556000" cy="2808000"/>
          </a:xfrm>
          <a:prstGeom prst="rect">
            <a:avLst/>
          </a:prstGeom>
          <a:ln w="0">
            <a:noFill/>
          </a:ln>
        </p:spPr>
      </p:pic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510400" cy="657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Background on the Issue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5EF6-84D5-4014-BBAB-B6E0747E8222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0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8E03A-E7D4-4ECD-BEE6-38BEC2F96CA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1" name="Picture 9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812" name="TextBox 10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3" name="Picture 11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53BF5-78E6-41DC-B628-2097A8156D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Rectangle 1"/>
          <p:cNvSpPr/>
          <p:nvPr/>
        </p:nvSpPr>
        <p:spPr>
          <a:xfrm>
            <a:off x="2771640" y="1557360"/>
            <a:ext cx="626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Translation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s the process of conveying the meaning of some passage of text in one language, so that it can be expressed equivalently in another languag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Transliterati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the process of representing the characters of an alphabetical or syllabic system of writing by the characters of a conversion alphab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6" name="Picture 2" descr=""/>
          <p:cNvPicPr/>
          <p:nvPr/>
        </p:nvPicPr>
        <p:blipFill>
          <a:blip r:embed="rId1"/>
          <a:stretch/>
        </p:blipFill>
        <p:spPr>
          <a:xfrm>
            <a:off x="-108000" y="2276640"/>
            <a:ext cx="2664000" cy="2808000"/>
          </a:xfrm>
          <a:prstGeom prst="rect">
            <a:avLst/>
          </a:prstGeom>
          <a:ln w="0">
            <a:noFill/>
          </a:ln>
        </p:spPr>
      </p:pic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510400" cy="657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Background on the Issue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4BAD-E63E-4E2B-AB2D-EF3FFA9A8A65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02C30-E396-49C8-9E79-F8BDE239B24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0" name="Picture 9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821" name="TextBox 10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2" name="Picture 11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6F413-F248-4E62-9AA2-870D134834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Rectangle 1"/>
          <p:cNvSpPr/>
          <p:nvPr/>
        </p:nvSpPr>
        <p:spPr>
          <a:xfrm>
            <a:off x="2808360" y="1484280"/>
            <a:ext cx="63356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ntact Information” enables someone using a Domain Name Registration Data Directory Service (such as WHOIS) to contact the domain name registration holde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MS PGothic"/>
              </a:rPr>
              <a:t>It includes: the name, organization, and postal address of the registered name holder, technical contact, as well as an administrative contac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RAA specifies the data elements that must be provided by registrars; but it does not require that these data elements be translated or transliterat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5" name="Picture 2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2448000" cy="2952720"/>
          </a:xfrm>
          <a:prstGeom prst="rect">
            <a:avLst/>
          </a:prstGeom>
          <a:ln w="0">
            <a:noFill/>
          </a:ln>
        </p:spPr>
      </p:pic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510400" cy="657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Background on the Issue,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2868-A546-413A-8D10-C18C3F029360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3A1FF-E90A-44C1-B4D5-C2C8CC70C3E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9" name="Picture 9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830" name="TextBox 10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1" name="Picture 11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Julie Hedlund</cp:lastModifiedBy>
  <dcterms:modified xsi:type="dcterms:W3CDTF">2014-06-12T14:18:10Z</dcterms:modified>
  <cp:revision>224</cp:revision>
  <dc:subject/>
  <dc:title>GNSO Policy Issues</dc:title>
</cp:coreProperties>
</file>