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75.xml" ContentType="application/vnd.openxmlformats-officedocument.theme+xml"/>
  <Override PartName="/ppt/theme/theme63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</p:sldMasterIdLst>
  <p:notesMasterIdLst>
    <p:notesMasterId r:id="rId76"/>
  </p:notesMasterIdLst>
  <p:sldIdLst>
    <p:sldId id="256" r:id="rId77"/>
    <p:sldId id="257" r:id="rId78"/>
    <p:sldId id="258" r:id="rId79"/>
    <p:sldId id="259" r:id="rId80"/>
    <p:sldId id="260" r:id="rId81"/>
    <p:sldId id="261" r:id="rId82"/>
    <p:sldId id="262" r:id="rId83"/>
    <p:sldId id="263" r:id="rId84"/>
    <p:sldId id="26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notesMaster" Target="notesMasters/notesMaster1.xml"/><Relationship Id="rId77" Type="http://schemas.openxmlformats.org/officeDocument/2006/relationships/slide" Target="slides/slide1.xml"/><Relationship Id="rId78" Type="http://schemas.openxmlformats.org/officeDocument/2006/relationships/slide" Target="slides/slide2.xml"/><Relationship Id="rId79" Type="http://schemas.openxmlformats.org/officeDocument/2006/relationships/slide" Target="slides/slide3.xml"/><Relationship Id="rId80" Type="http://schemas.openxmlformats.org/officeDocument/2006/relationships/slide" Target="slides/slide4.xml"/><Relationship Id="rId81" Type="http://schemas.openxmlformats.org/officeDocument/2006/relationships/slide" Target="slides/slide5.xml"/><Relationship Id="rId82" Type="http://schemas.openxmlformats.org/officeDocument/2006/relationships/slide" Target="slides/slide6.xml"/><Relationship Id="rId83" Type="http://schemas.openxmlformats.org/officeDocument/2006/relationships/slide" Target="slides/slide7.xml"/><Relationship Id="rId84" Type="http://schemas.openxmlformats.org/officeDocument/2006/relationships/slide" Target="slides/slide8.xml"/><Relationship Id="rId85" Type="http://schemas.openxmlformats.org/officeDocument/2006/relationships/slide" Target="slides/slide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41DAE-3056-47CB-B98D-AC073BC45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39375-8B95-44AE-BD9E-3594B6D14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ent with the current state of domain name registration data, the IRD-WG noted that, if transliteration were desired, then the “must be present” script would be the Latin script. If translation were desired, then the “must be present” language would be 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D2A09-D1AD-4381-8D53-2FD5090A9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A = Registrar Accreditation Agre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5CE02-C8C1-4046-9533-4153E608C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762FF-66FF-4030-BDC5-087ABCCF8B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26B64-EAFC-454D-AC89-6C6029391C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FB395-042F-48F6-857B-BBF57B6E30F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AC020-ABDC-4BAA-945C-55B8D1E6C9F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7B82D-82B1-4944-9DBF-808029268F0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D230E-F1F3-4E6B-88E8-A9FFBC8C1F5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84FAC-E798-470F-BB46-6B73FFB703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6B972-51FA-4E25-8793-8A96DEF218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48A48-D295-4298-9B80-8CC43A8776D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0990-B04C-4AE6-8990-D39ACF502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A60D-2E31-4FD0-BC44-27B948E4D8D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5510-15E9-4E26-89B5-5EE78F0916A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F165-C8F6-4CF4-9328-67516537F87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2180-E122-45A9-A3E1-86BD833E575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EF72-A558-4928-ADA9-DD4E8C15AE8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7386-929C-4075-B5F4-864CBA6D4B0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28A6-C067-4B41-839A-5104A92BA3C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4A13-9285-4359-BCD8-43ADB0ADF8C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13BE-C455-4C34-9FD0-2597B92D517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D5BA-521D-44EB-92FD-DC2E76CF5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C086-CD2D-4DE2-B1EA-8A850D70823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1D870-75D7-40EC-81AC-1754898A0E3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395A6B-16A4-4821-B798-8BAE958BE7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39F9F-78E4-40E8-8373-4F11F50FF9C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C2B4D6-B574-4EA1-89F7-1862A3C3420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69AFAC-1650-404A-A366-B66FF890C35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5837E8-67CE-4597-831A-CF96BE45C8C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A3AE2D-CD91-42A0-B40D-70DB9320D20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0457BF-5F81-4CBA-A4E7-D544970310D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04A93-382A-4B75-A2E7-A420F7F24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B1131-A95A-4ABD-B815-5A5134DA77E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C8C18C-66C3-4F77-88C8-AF7BF616BC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8DDDC0-F6BD-4F42-9751-88ADD2050DC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CBF9E-83C2-4F9A-8A4B-871FED5E240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3531F-419E-45EC-A95B-7C60E7CDA1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EE5D7-6FC2-43FF-9393-EA73504A847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EA49C-C518-4E71-BCAD-C952619B809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C7316-35BC-4968-8C32-4E9E9331F38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5CBA0-0AD0-44AD-B158-BF084FE5B5E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6B9C2-1F67-41E9-A2DC-38C5EF38B7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4C300-1705-41D7-BDDF-945825EBBFD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E4E09-4519-4847-81F9-AFBC6F490B3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099D7-6DD3-417A-B766-0F2D5D9C360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6EEB3-B964-46AD-B8BE-A87C4513922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133D9-074E-4CB2-BFA1-8E4C1E3BC0C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7A243-2542-48A9-B8A8-1CE6DD6F556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9D2F-9AF3-47F0-A17A-8003E5A94EA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AD7D-7BBF-46C2-AE2D-5C6F3B72368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C2A2C-33AD-4509-8A95-FA778D7BC01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BA45-EE18-456E-BF81-2F08538BAB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E2E2-CA60-4E97-94BD-2807AF1B53B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86DE-5D16-48FD-9C21-7AC00FBDA1B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E00E-BD01-4D4F-850B-FF3789C7B9E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643D-32F6-4CEE-927A-7406BA14091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AD61-335F-4386-8C2E-2AF08EE47C1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B613-AFDE-4C9A-A732-071F9C36BF5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5358-80E0-49E8-8DEC-00F68736D36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4014B-48BC-4FE0-8DD4-5542076B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4A528-E460-4E29-8E1A-ED1E72CA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263B-51A4-42CD-89E1-C6244ACA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08118-F72D-4877-8132-C0B1EACA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2EBA2-7414-4A3D-B087-A51F0582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F459B-B791-47C2-8606-8092E431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2D24A-63DA-465F-9D80-EB6FABF4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794C4-2338-4380-8033-E2CBDB40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7D11-741D-4EDA-B723-1FAA0900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4E34-7EA0-4901-AA63-AA43EB05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E307-E228-4AD6-89D4-9231DD7A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CB48-E38A-4B58-A79A-BD66722E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0FD0C-A681-4C85-BE48-1B9AB3BCAD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17E933-FE07-4B5A-9CD2-CAC5C54E395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E4C4BB-3669-4C26-AB4D-3F5EE3CFDFA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E84FDD-25FB-4A0F-BFE3-5067A587414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DB02E1-6CA5-4571-8251-89914A46C0A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774F39-2F5C-45CD-8391-5F889BA906E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829C9-328A-47E6-A494-12C1C0083E1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0DB4BF-542B-4321-9E31-AD0D0D78ED0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E507A-2AEA-4A6F-914D-7E0A4EE8E99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E66A75-F9A3-4439-A8DF-0C5B4A5A810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264747-F33E-4B57-816B-A8BCDE606E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236C23-3AFA-4976-A3CF-7109F6FDD9F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2311D-B96F-4B43-A483-8A96ECA706A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4024C-AF0A-43BB-89C6-5F08C9EB0B6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E3EC4-6598-4CE4-8748-F3B7B325241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347E8-97AD-4222-A3AA-A4CA56FCC17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9B069-96B1-44D8-9454-44D08A2B23B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CF796-9E34-42CE-813C-0EF5A7F51C3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A2733-8D7B-441C-B82E-7FE607D93A2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ECCDB-89F6-4D7D-8174-D5C51ECB73D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4F280-DFFB-44EF-81B8-068A55EC68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CA3AF-DD4F-4AAC-A3E3-2CD2E564188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98094-588F-4B33-9CD1-1A010C51705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6494B-1A58-421A-9041-3589B4636D4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A3DE-D60F-4FD0-8357-FFE68E25FD4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F795E-EED8-4F45-B33A-13526A8B5B7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5DEBC-D36F-4311-8B11-CB6263A11CB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5A366-1D76-4830-BDF8-DFD1A947900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46258-2EA3-4CF5-B435-41255146E75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2B73-D166-406E-B089-815D31BB164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E9E0B-35A4-46B2-BFAB-050437CDA4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051AC-3E64-42C8-844D-AF4DF46BF2D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05EFD-BC8C-425F-9A09-259647111CA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50C57-ACDE-4AB7-A447-2E72065C1F4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BDE0-F369-4947-A645-F3206A9B13E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EF4BD-4098-4E1C-A599-9DEB42581CC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E2EC8A-3303-4F8F-8D8B-98D951818DA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6B7AD0-7097-4B29-A554-01339A2E4CF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9ACC16-0DE3-4CAB-BEC1-019240176C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FBC043-90E5-4A1E-B157-FBEEBDB74D5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BA051-B7A7-4B9B-B364-08D7B5A6C8C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3B020E-BA96-453D-A38A-CBBD1E66A78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C81CF2-F0B6-49DA-A464-88E6EDF8B80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98F3DB-C40E-49E6-861A-D9CE00FCB05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B66D8F-F87E-4A3F-A31B-8150E03EBA5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E4D436-8C62-4B5B-A12E-7401F706FED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FE9F67-0130-4854-B88B-B6A6C726DF2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0DED09-28AC-4D78-9879-36413B61E01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AFD1EC-4C8F-486B-B2E7-6FF3D1E22F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5EF5F-D0EB-4A68-B8F1-446D4AFA312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5BD3A-ADE6-4BF6-A593-3A31694B0A3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9F760-9988-46F5-BFC1-12C36D8196C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3E290-EBA9-418A-8BBA-2C6F4E6C4EB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B723A-944C-4BEF-9A39-415DBB8C229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F3ECD-AD4B-4C55-B6A8-FD1AC911F04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07220-A93A-482F-9178-C4233146685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8FA3F-A27C-4661-864C-7CDC8E9E360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CBE24-FBFB-4547-B6E6-ADA266E0FA1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833FC-07C4-474E-ACBA-2E803AD3BD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55BA2-08C3-41FF-9B6E-F746958F8B9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2D427-2F38-4CA1-B5E2-849575D9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5DFB0-679A-493D-BAB3-9730C00D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60B3A-83C1-4FF6-8782-7182D736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886CB-6DFB-429B-B1DB-CE67858B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EF2A3-3A92-4F27-B10B-707FDEB3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C3715-A8A1-4689-BF37-ED834266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B1CE9-62E9-49E0-BF3C-DA485A70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03BBCE-D2D0-407D-AB89-48519516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85772-7F98-45AC-80C2-5B69B9F3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06CEE-FD31-4E92-BE7A-903C8961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16DBD-F0E3-4988-B8B4-88DA7701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10AC00-E011-4973-89D7-4F05B4E5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C47EA-0DF3-45C4-B7F4-53E9F8F1E8F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9B633-B0B3-454B-B566-41AEA949E39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8BFAA-D738-4F34-85B7-26530929764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0A288-0E9F-4E26-97DA-59435EC1772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95EF6-129C-4E6F-962F-24AC2D2F649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DFA9F-3844-4874-A052-263296B7B39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D4240-D24F-4FD3-B714-9A12052B3A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F39BA-4182-4969-B9D7-33C23740F69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24512-54A2-4134-B2C2-33449A4A0FA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EBB87-E80E-499D-9B9A-414194FA498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E66F9-88D7-4808-9BA6-FD1A75BFB99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EF174-5697-4BC9-A210-DD87C62DA01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DD0DD3-0483-4573-B339-90D04C3330F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97F5D3-C123-44B0-BC02-5D5EA766995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41F150-E80E-4906-B550-3DD410E9DC9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F4527D-B579-46B6-9B50-7B9E2242FC8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03917D-5070-4C9A-8BAC-FADA448FBA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7B342B-8267-4F83-9353-943AC73EF45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D9319C-8B80-480F-902F-57052EC5862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890BB7-FC9D-46B0-83EE-6DCD9402DB3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B60DED-1F53-42FF-ADD0-16B948DAC0E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884B5E-ACD9-45A3-8504-5D7BD6080BB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FF06E9-1EAC-42DA-BEF8-CEC178DE0B5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421AA5-07CD-4B42-A6E5-1240122C0B7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05EF02-24A7-46FD-AB14-477E8D83B80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66AD7B-184C-4AB0-8571-1A76306CF92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ED6AA1-7D18-4DCE-BEC0-476820DD8D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F9B347-3ACE-4733-B32D-F7F057F00FA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C79BB8-A67B-4AEA-905D-978CC8EA5C4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4727A2-7FF7-4C8A-9996-E74BA7F7F3F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1CADDF-54C7-47FB-A3D3-9CAFC9E4FE5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E19E97-E59F-4099-BE2E-E5F15CECA91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F9B51-D416-4C4B-AA06-ABBD0BE946C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91A0FE-F28C-4906-B399-13EABEA9598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5B286A-DCA1-4E33-A82D-1CA592F6F2A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AEBC56-A9A6-4E43-9115-BCB0350B10A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A4D11-405B-444E-BA2F-65DBA8B771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F90E4-B8F5-40BF-BCC6-30DB856325E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02D90-4AD2-40A2-9BD1-F8034073BB8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95F0A-0470-4BA0-A080-F933F632FD3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504D5-CFDA-449B-B122-9F3E0AE717A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A6E7B-9762-412B-AB42-923D26B00BC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7171B-E13D-414B-BAD2-3764CA84230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38116-8B81-4CBB-8F8C-478C177630A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33D3B-9644-48F9-AADB-088175CAE76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F7F71-D249-412A-A16A-B2166838642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16511-0F15-496A-A78D-7E71B8A578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2C737-1788-42B5-A0E8-166A3108DA7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196C9-A5E6-43C6-AF42-2918EA31A07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F2006-02B7-4A62-BC0F-C0722B1B6C9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6CD42-2660-4BA3-B7EC-B14A5995A32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681A1-8DE8-4A98-B8C3-0EF494973B3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D6211-EF2E-4FD2-8635-C7A0EA2495F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D21FD-4393-4460-9EB1-4BC1067DC38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7C0F9-3B80-43FF-ACFC-DF36A54FF8F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B83C5-71BC-45F3-AF82-071E169AB76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964F3-83AB-4EC1-B979-8C57FD14AF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3C141-9262-47C4-A0BB-8A5CD71EA9A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2D41B-351D-4C15-BC96-F62F24055D0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0D37A-4499-4A52-B996-9F56EDDC1D3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55D475-EDE4-4AC4-94BA-FAFDA8BFF2E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F6F320-4A67-4F35-A8E0-D2B49C0AD98C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8DAC61-1656-42BE-B4CF-AF03DD534E9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E44438-87D7-44A5-A527-4989A1F1501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8D9800-526C-4A3C-AD7C-853140EF65E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EFCE91-27F2-47BC-85C3-AE3E41223B8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BC99F3-4FF6-41DA-B936-3EDCCE1F97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4C3B17-4A12-4CE2-8E4B-27B8F72E61DC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299D44-6087-4BC7-AE2F-4C92C018A5F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A7AC47-5BCA-43D8-BB6A-0C896A5282C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8A7C4C-B778-4494-83C7-775F7D2B547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E8567C-F478-4046-BB32-67C8863F1B9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BF1CE-997C-4EA1-8E92-C235A4EF5FDA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D5A77-5121-4365-81E4-F0F050A5F1D8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26A66-D71D-47D9-95ED-33E28A86F7A0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6B5C5-7624-45AD-8D05-B9BA24D58286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523A2-155C-4B74-AA82-E7331F9F60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06B36-3B0E-413B-BAD5-242230381F97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49ED9-4442-44EA-80AF-E5B5A604F78E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DBE84-BD5B-4EC7-AC48-A9108E6A3A56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A41E1-8F2A-4005-8123-52170EEFC2D1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3012C-578B-42AA-B3F5-8F76BA6BB04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A668C-1FC1-49BB-907B-803ECE79CF9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1FFBF-C05C-49A0-A653-A632C4DC3AF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2A099-503F-4BE5-B03B-845C358B6374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D11B8-16F0-4C2D-8FD3-FF126E9F9EA8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19738-75A8-425D-A9F1-F1073713B7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8BA40-E894-411A-84FC-496D3BC19D7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EE09A-869F-490B-8608-3C568B9038F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34CC1-4D9C-4003-93D7-6D322D939C1B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3C6E0-EBD5-4AC0-BFFD-C16C478461EF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24D54-C5C0-4B08-A985-85060A99F484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C7E0B-9C9A-4A07-8332-C516B71B545A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31347-0AE3-4971-9027-DF7DEAAD2047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296A5-26A6-4B2F-A64A-0429A3111533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FD9F2-B753-4D57-9C7E-7EAE6220B3E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476A77-554E-4FAA-AA11-A3276720E6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F5E98F-8EB4-4DF4-8B85-C7E664362F74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D02305-40AF-4FBC-9E6C-04BE4AC59B9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95E940-82F9-4204-A99C-2793E4A5BEF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D047D3-74B3-486F-9C7E-82265875B459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9BB831-7366-4F8D-B12A-E551AC2C9325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2DDFCD-E598-4EAE-93C7-8511B1F276C8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0F4AE5-B311-45E6-9113-79DBFBAED7E9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9CDE18-A917-4530-89F4-8E93D2C565B7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B2FE26-D7C2-44CD-9647-1E1857C4F724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355244-32EC-4FA8-9F66-9A91FF4E6B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2E0116-5814-44A1-9312-FFC5F6240A5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8A025-1196-4B3A-A308-0369F86D7574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A5B45-A8FE-4087-B882-E320903E975C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70C87-A2E4-4064-AEA9-517E874A146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7062A-84A7-4DA7-9B3E-E8819097B345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36F45-25CB-496C-849D-706E9B86B08C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9CE4D-EB17-415C-AA32-D8DAF2EB771F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EF22D-BA28-45E0-953E-6942C7D1B6C6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FB52A-6594-4B19-B528-74B17851B620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E77C4-CC0B-47C3-BAC0-4349C1D049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2834E-D06B-44BC-8779-1A7622EF843A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73474-016B-4A11-8C4D-69A4900ED4AD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5C9AE-1B0B-470C-84B1-291186676B81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904769-A326-4A23-8F8C-AA7254429762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B73F17-0D98-4BE3-AB2F-3C583CA1A463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9E2E6D-514B-4E5B-8573-D65CF8283506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74CB3B-D052-4A13-AA7C-06FF88C756D3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63DE45-98E4-46CA-A229-08D8073166C3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9926DB-0C4F-4FCC-A75A-4B85DF9A8F00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63AC62-1528-4AA7-9A64-2460DD2C07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BC94E1-74A3-4A07-A4B2-246B6027ABD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6C5264-D658-4ABE-A3D1-AD621C849700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4C1EDD-9B8B-4A51-8962-7ADFBAD9DFA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38D070-5B09-4BBA-8C8E-C2E4045D8545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D06771-A8FD-4812-A91B-B69920CA6E01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15179B-DFA7-4F0F-9C31-F5D868C1B13D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08F6DF-A97D-45E4-B2E7-BF9BBD994407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F83858-0CF4-4CC7-AC2C-4AD9C9EAC7A3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62E643-EC94-4DC0-A60D-9133F13C792C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5C7B23-D828-47FC-BD18-3C02D00C93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C2ECC2-01FE-4371-B8FC-6371819A0AE7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D883D7-FE31-4215-AA55-C7FCB60AF9B3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9D1AD1-50B0-4848-BEE3-9A969C944ECD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9C905E-6BA1-4DFD-821E-71E046B99D7A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E5D977-EDEB-4185-A926-DD105099D8FC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B007B0-E9A2-4C3E-900E-BCF1AFE5D3AF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A154D8-004E-471B-A6D6-C0AC2C6CB6EB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5AC12-E6C9-40F6-9887-92D3C1458DF3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C3866-920A-4B1F-8F94-080B7434E5E7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08391-C8A1-48E5-B4C8-9149F5BCC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2817E-1A8F-4E6A-80C8-3D9E75BA1C16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ABF5F-0C9C-4B4A-AFF6-EB905C2795AA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C245E-2B9D-42C8-BE51-77A0B23C1D87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7CA1F-533E-4B46-B926-73FEFD27F74B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0DEE2-6C43-4DAF-84CD-B800DB2313B3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0E0B1-F279-43BA-AC5E-6F7D71D9FCA6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9256C-0236-4A95-941A-A4E19829C573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5E105-95D5-4D3B-89AC-E6443B7D1E8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1F180-97A7-4B6B-8E45-89C5A7FD8AE7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F7357-A9AA-4A1F-9096-1C184B4648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5DCE7-AD28-4AD6-B86A-187CB51A01E5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07F99-DF4A-4D2C-BFDA-89DEC9309411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932D2-8F3A-4241-AE9C-D78DFBC4B92E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723C2-6AC3-41FD-A199-1BCF5B9D05E6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DFA4A-A487-415C-8CA6-774C1EC67BB8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BCD48-8C3B-419F-A0A8-98DBFCE73C1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6EB28-CAF7-415C-AF41-A4EAAE1A43C7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5C3AB-B3BB-4BDE-AC87-3DE8C9550DA5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E95E2-B5FD-417C-A11E-0841A953CE8F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3DB42-4B24-4534-B42B-DD7C57C085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3257D-721C-48A9-8974-67FD5D53124C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FACB19-9F65-44CC-988E-31B017C458D4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048052-4555-4F96-A542-05512B53AE1E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E7B61E-EA11-456C-A4CE-F3564B020969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48BB8C-95AD-456F-9A68-D533FDF4DBE4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BF382E-954B-45DE-BAB7-BFADA33E0825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F0F2F0-D814-4459-8EF9-71084D9344B0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35EC0A-8798-4ECE-B77A-DE23D10BCA46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7B852B-FB6D-41D6-B1DF-D710A1934F4C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3F9EE0-2E31-4AD3-A924-E5D0EBA4B3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07D591-B3EB-4EF9-8E6A-155ABF30F72B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1EFF56-CBA0-4D33-8D33-C8493B5D0067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1E65E6-C20C-485E-8C47-02907A06FA12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CDEB4-1BC5-4C93-BE86-8894CFB098F9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9EFF9-71C2-48BB-8332-92BB89B8CBCC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1A66E-C370-49D8-B3B2-AC3BDD4559E7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DE9DA-53DF-42BD-A1DF-8965658B9053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C47E1-892B-4DD9-B8C0-F52DE327C0E2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11660-4237-41D1-8F4D-5DFE559B8FF8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91B33-E58A-45E2-B1AA-15207099DA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AAE17-B412-4D0E-BE6D-72D07F70AF90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3A6BC-F5A6-400A-94B4-ABD04E758F71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94A00-5108-4102-905E-17198553B7E9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387AF-788A-40C3-AC2D-96A93AA37932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C93D2-05D2-4C56-9A70-4F4A5603F01E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5FD9EC-91E2-4C85-9B0E-A7CF879FF9B9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3C2C1A-5FCD-4358-BF44-9E5891BBCAAE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7E8EF5-8A67-403F-ACCF-3B88938B52C8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707478-965B-4BD5-B74C-1D58D7566ABB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3E16EA-F192-49B8-BA9A-5A2D7EAE33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139E0E-C772-413F-BAF8-472A01B27A39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12909D-5E00-4EDA-B649-4C196F7B31B7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F3A3A6-3A40-4CA2-AABB-30756737E8D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FC2264-0537-474B-A253-7EDC661705B0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00C50C-B472-46A5-B341-BAF4277A3D4F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B9F019-7BD8-4650-9E5C-F825BD67EAAF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3366B6-EDFD-4D00-963C-E68576C0B40F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E47225-4FA5-4F4E-A2EA-77BA61F99507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07322F-2897-42D9-9660-D1362369D22E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B366B4-5645-4FC0-9883-C26ED6EDFD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F8A526-D879-4FD3-B7D0-B5868EBB1C0C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CED4AC-1D33-4AA2-86C2-ADF23930DD31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DB629F-B47B-4C30-ACF9-62B02BB0C30B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E184C5-A550-49DF-93E2-DA2E818C6294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FACCD0-2526-40A4-B03E-F76671A4DF93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2A0BBF-9828-4F38-BBBD-8203953594EF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9602AF-16E9-4FAD-B96F-1AFB77A1AB3D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3BDD58-038C-4D93-877E-DC79882F3D19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D9678C-9C7E-4B03-8155-136A9BEF85BD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3D88E-16E0-4B81-A863-38EB7B3109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E72B6-2D40-4700-8A9F-387F5A042F9C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605DE-1B17-446D-BF39-07EB54D81B32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FB353-ACEF-411F-8955-53B76824092E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AE5B8-D001-4A12-A8BD-C031B50E022E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97D99-06DC-4816-934A-1622526C518E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978B2-7742-41FA-844E-00A8523C2C16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40FD8-9DA3-41D0-901A-613A07D43E6B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AE2DF-EC21-49AF-A8DB-F8F7C61EFEB8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49C50-DA5D-4162-B344-91873C5B9320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4D0AF-EABD-4F19-BF7E-3466F87ABC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F98D1-2DFE-49A9-9F10-9A49D9DB619B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A2FDCF-1F82-432B-A869-8BB70EA85304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37223E-3708-4422-892E-5161C970F0F4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16DD5D-57FA-4E37-9BFD-FFA6352493DD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4800DB-FB24-4B29-AA9E-D1508B5D1B62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907888-6C0B-4D0E-AFB4-6CE27737BC68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B7E8EA-99BC-49DC-B451-94D05210E82D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70C2AD-B5E6-4B03-ADDF-341A5E059AF1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D94D880-A6A6-47C5-8A9D-B345E24D0F8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0B9377-8F11-49EB-8757-54F2373281A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CB433E-ABEF-46E1-A62C-281034877520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413D99-14D6-49BE-9507-DA15B18CB7D1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1AE1B5-3C80-4FFA-B17B-E725D87C5EBC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819C1C-BE2F-4BDA-8C9D-33B789BBA4BA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7E241C-7C68-4CDF-9E84-41676771CCF4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F17874-52BC-486B-8980-6995F0BED3B3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E90959-E6DD-427A-9182-43743FC64359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6881BE-5100-4500-A600-FC05EC3DC77A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2CD92A-CAAA-4657-9022-19369D8891E5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096D83-C2F3-4147-9137-0FC4AD034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6F1A4C-FF9C-4595-8769-679796BA3641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3E7E9B-B053-49E4-B3CE-58D8C6E5210B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47BF39-4D10-4960-B329-20D1E65D80B4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DCB5E7-D788-41E4-8E94-E0C4779A8E31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CD02D9-7917-4450-ADB8-F1074B51DD6D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1B5AA-8BC5-4A69-A3EF-0A7E169FC301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8DAEB-0FF3-4825-9D40-E6FAC5AA9CF6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A88CE4-9286-42B1-ABCA-549428502B36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A5FF3-0A2B-43BB-8444-16E98E3A9F31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C67EB6-D0BD-42E5-9774-3E56A65194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E4435-E2AF-4E6E-8811-57BD76DE7BC6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B1F96-E522-4D27-A8A6-C78475FC18FB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D7FCB-C5E2-4564-9E1C-172D169BC91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6B172-4047-4803-B13F-132001993997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7961A-3B62-47FA-8B15-86B869DCC1A8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F2FA2-4DEF-4609-97B6-DF416C154BA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553CC-5C87-4179-82FA-DD3731819E94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222CCF7-BFC6-4278-81EE-AB7B4251EE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005367-948D-4E41-AD68-878AE13A9AC7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CD8827-1F4E-495F-AE21-DB1406D7A585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CFF4BB-C8BB-47A1-BA31-9A6CDD5C761C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888F64-153E-4E26-BDEB-F6E10FB0B61F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0AD4B72-4838-4C91-A753-27BB8A969920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F832B6-7D30-4AAC-A583-8E2F7A95E862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03095C-CF1E-4655-829F-6375494A967F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6C9FBF-9D4A-44F8-ABEB-5748C9F94827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C6C4C5-C56F-416F-AD79-3F06C8F4678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5091F9-0B44-4DBD-916E-BE9D7E4987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F6E0859-DB3E-40F5-B34C-24E094C4944B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A2FB05-2444-48CB-9BAF-0ACE601ECB41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8CD503-BAD0-4E5A-8DAF-17BF073C69BF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59EDB2-5105-4E77-96B0-93C62D434982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5DB747-C27A-48B3-80DE-9B5D98A6F516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5E8F7C-5C72-4B8C-988E-D7310A192856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462923-3734-4456-8B9E-48C7DB44598F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0C14D7-3141-46C7-A5F6-D525F6D55D63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9268C4-38AE-4CD7-B187-C449C236ED16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E31B3C-8A46-41F2-B448-72237F5C32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BD59E5-A325-4F7E-9631-A09AFB1DC539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040B4E-EDD1-42D1-8314-FD1E9178E051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1CAC84-FA04-41FD-86FA-301F07B3DE70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98AF7-B8F7-4EE7-A4AB-EF629AC86DB8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4DC6F-DDA1-4A68-B58B-CC909F2C94DD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4BEF2-0A6C-4AD4-96D0-CFBBBBB7BA8C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22298-2E4B-4023-95A6-946F940C2D10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B6BAE-8F5D-4150-9045-5BAF825EC7DE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78DC0-707A-4FE1-91BC-3C05E4E21CA3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BEA67-C3E9-4B7E-A1D1-D80FDA75AC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CA059-3C93-453E-981F-BE245306793A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69F57-DFB0-4B3F-9486-8AF0A33DEBE3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BEE52A-FEC9-4695-B1F3-1AE1F169A2BD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EC4A0-38EE-48B6-80F7-03C50BC9263F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2C7A0-B575-4A82-ACFA-7B56195D2AAD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0500EC-5000-40B6-A83D-6C6DE8D304B9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43FDD1-8B26-4A5B-B732-D32D4A518A48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E48DEF-D4BC-4071-BC1E-C01D7825710A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84BE0C5-ACFA-4B8C-A5DB-1C35ABAB82BD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DDAF6B-187A-4153-B619-B505F82467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A45B98-33A6-4596-9AEC-C231AC12F811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AF359F-F9BF-45A0-8697-8518F663469D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8AB8FA9-B47F-499C-ADC0-7ECB191B644F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CC59D6F-934F-4701-9E53-F354C7EF4F77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A1C107-8868-48AE-AFE9-752BB268EC25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31CEA4-05DA-47F4-A10A-53DCA3DFC86B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C4385A-4C63-4DB8-B475-478F07A33533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F67160-FCCA-4AD3-9695-0ABD39E2D22B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A89AD7-8D3B-452A-B56C-A2B458D5AFE3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4A842A-4E57-4F0F-8D32-1D60B90C392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F0C535-24A8-4131-B721-633F2743E03D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81F996-88D9-4BC4-ACA8-F097C2A53E86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E0F929-C40A-4CB9-BFD6-E3F0EE86DF92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20EA7D-4D66-4CE2-A125-96AD4FCC9C8B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F48E7C-FA50-4B1E-B3E7-D3104CC35529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E81FC7-53A5-430A-8629-11DFB4C2C4C7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926A96-776C-411F-AAE0-4B4D8E8DF8D2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5C1C9E-1E0A-418E-9955-F009886C3137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0710C9-F5AD-4318-9CC1-C3C546616307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28A136-7269-42C2-B529-946CE01E706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DD8721-256D-4B7A-9E3D-12DAC703120D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3CE501-B20C-482A-8334-87284BBCDA2B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6E64C-A191-4510-8432-B6A2B49654DE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413454-C789-4BFB-8B30-57D5F0D920D4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5A338-B1EF-4A04-ABEC-216474D1F94D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4CCAA-45B4-42E0-A8C6-C60274C67BB6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2B6FA9-AB09-4317-BFF9-41AAD5DF9261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A39A4-29BC-4748-8EDB-031510B6DAE6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36150-B5D1-4B75-831E-4B18FFFCD1CE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5E0C9-30C0-47D4-8871-B9D22090A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9EBF8-92E2-4761-A0EE-53F99594A9A4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9F7BAFF-0D20-4E3A-BB61-E1A7E7CE35F2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E152CC3-A978-4A51-8CA6-89B76F8903ED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C2A5975-EE55-4848-8FB2-7927D0C0973E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86895C-45FA-4D27-9CD5-C5423079EBC4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AAC747-7DAE-45AA-96C1-81AD0DA646CB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7423F0-86FD-4A96-963E-BC5ACC5A22E7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F349258-E01E-4B22-A96E-F8FC014FA59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CAECD22-6E00-4AFA-899C-4E14CFE396EB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F442D7D-57AA-4DA5-8297-DDD3673E1685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68341AB-C1E1-4A79-A80A-9B1D647336C2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5BEFD7-A32E-4081-A563-ABA69103A201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6CC046-5DA8-4F6C-979F-B49E5F7CCBEA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113A57-4ABF-45A4-AE93-32B7EBB34921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7B89DC-E72F-4E08-8616-7E100FD40EBC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0A44DE-0D3A-4AE6-87AA-C4754429EFD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878C03-AC53-4E67-A58F-98A1D20783F9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C569F9-4CF3-4016-8BE0-21A1E9C1C297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3D3079-442A-4506-8A44-66D5EA8BA309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47A145-87A7-401F-8494-BC7BDA376300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774E2F-4D23-4BD9-9496-92A8865759D8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3E7EAC-99A5-4528-B748-88363AE90F25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2C585A-60F8-4ABB-8BA1-0EABC84C3781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4D690F-67CE-4B1D-8F79-AD77B4DA738D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E33CD8-AB0D-4639-9235-1325E9B0F9DF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F6987-971C-404A-9F65-5BA061FD84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D178D-ED67-4228-9A7D-2024B78FA645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87545-F728-4D0C-962F-01737C6CACFA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64CEE-3997-4284-9B41-0005C6DAEF43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82B3E-8C12-4592-AE63-20C84555884E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A843C-1F77-49C5-99F0-EED7DE8A1CAB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1CA0D7-A0E4-4349-95D2-721BD0B5AEAF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2710C-CCA3-4EEF-BF4F-757556C0B06A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E89AE-9A98-45C7-8BEB-16CB64E74A28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B0558-AA1A-415E-A497-879BB805EAC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E1495-66D6-4747-9DB2-4245A463D0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ECEFC-F531-46FE-901C-15D29375A554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F037F71-0279-49DB-AAD8-1B88C9D60A38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D6E30B3-379E-43FC-A512-87777E39F2FE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27275A-3090-4F5D-AAC8-622F840E49ED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C4E5BE-C347-4447-8355-8F0C8083F798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86B351-73CF-4D5C-9765-2D0A034FC15B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16BB52-8476-4597-8EC6-D53C1A62A2CC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27D02D0-F098-450F-AA72-61C1E436CA9D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F6F8FE1-26D8-4705-850D-22F58C014CF9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353698-5A9D-4738-81C8-DBED422F0B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263D3C-4A02-49E6-9F1D-D41B06FA69E9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4D00B0-BF6C-4738-865B-7D7AB6B6B4B6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23440F4-0E3B-49CF-9669-DE1E7E4C336D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319EB2-EC04-4A76-B15B-C3225FA7B8DC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ACC3D6-A6F1-4CA2-B02E-67D2D6244B9E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81CF1C-C302-4573-A509-8A769B042E2B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1CB384E-65FF-4C09-9856-D21F0641AB1C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5BD39D-7529-4BDD-AC6E-2C9CEA155D5B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A62B29-E446-485C-BAE7-B051ECC96F1C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0F504C-1526-4759-8AD5-4863F9316D3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EEAA93-89F5-455F-8E66-E612265F424D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034A31D-750C-477D-9E9B-BF1596E2D346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1B6015-A0E1-4216-B0A8-7004B60ADE16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C0A381-89F9-4663-8E21-E65E45ACC7ED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AD5103-AD00-4E06-8706-AD7C8E45FBC0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DB28D-1FE2-43FA-B01F-2A09839F464A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5C7C2-9E1C-4684-B881-1E093971F7FD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1EAA17-4661-49E1-ACA7-AF8A2A02B825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4DBD6A-9F8F-4094-9CA3-F237009730A8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219AB5-5480-4309-B4FB-48D54195BBB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13FF2-4D33-4F10-AF7B-7B341D64B79D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1285D-431A-4EA8-9D26-309BE2AF89BD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2B1E1-F6B9-4B57-BE2F-6D496804BED4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E358F-CECA-464D-AF1B-591DD1D563DF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2DC89D-4B75-4045-9D35-BC636CC3DEA3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1E2A1-34F9-4A44-88D0-0D36E36EBBE4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A5FF3-6FC7-46ED-815A-82CCCE19C36C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573C6B0-6AC2-4331-A9F9-B0F17F2AF75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8FED614-2D56-47AF-B717-6137828FA64B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71DFF86-0DBC-4D3F-9C74-AD61268189A1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A3484EB-8195-4B28-A97D-DE037A939516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AEFC8BE-7C69-41F7-A17A-88F700F11DC6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72F92ED-8B89-446B-8A47-3779540A1168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7C68F0-9F49-41B4-876C-5660056CF282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263DE88-72BE-445A-A66A-F1A14B75C28D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772369F-A2BE-41EC-9E5E-3C704D4349B9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ADC671-8CCC-4AF2-B8A6-C573711F39BB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4316784-9338-4E30-8BB9-C7BC695A9AC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EA27C34-E74C-42CF-99FD-1D43ACC098A8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D0E8C3-4F36-480A-8C58-9F2FF70F94CA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022B48E-93C3-4E01-9016-2212084E7B69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929D90-425F-4B17-86DF-7CF25EA9B659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80A799-5E69-447B-B44F-5F65BF53B2CE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1E6E77-6C52-4D7D-A615-6D9DFB08B365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53EF54-C002-405E-A7D2-9171C95B83D6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629FE6-2AB6-4EBA-A2F7-1719659FF8BC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4111EC-23A1-4B5D-8968-8B8C559A920A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EC55926-68E9-4DDB-9B3F-DCCE88A93BD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D50-1E77-4EC7-B3A0-E230C8EB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0BD9D4-58AC-4ADB-99ED-145FF3021660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386424-4D2F-4EBA-BA28-A2F6D094695E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78F793-BDF7-4CDE-969A-CA058BF01F08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87E69-F019-4B94-AE40-6895806A9AA9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AC2D7-46B4-4295-BEDF-D56C956CFF6D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04D75-C57B-43BE-B37E-EEC1F08E4007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FE707-4850-48AA-8490-284CA38F51CD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2B62E-6127-4F46-9A98-8671F1DBFD9B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654836-0D81-4D04-8A85-EAD60E859DE4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145AE7-3D8E-4650-8175-2DAA5BB983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9CE-48D8-4462-B33D-68F561D6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F55FFB-4D0D-4EE8-9B96-EFA5F660F5A7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1F0B0D-B2DC-42E9-8E9C-16F86C7937D8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418A2-122A-4551-B9AA-0AB6FF175F6C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969907-F642-42A9-83CE-03903FF1D567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183D00-5C2A-4DEF-8480-AC07A200B09C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F166DF-7F93-4CE8-8CA9-CD0202B672D7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FF63DF-5DFB-49B9-847B-17B6D803AC0E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11D756-6F25-42EB-83BD-2C09912F0FFC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7ACDE57-1147-4E90-B8A8-E36A9A0DD06D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30B3487-A31C-4999-A9AA-19F75C0BCAE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CE5-F647-4239-A32B-4E9838B8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7786E6C-4F50-4939-9E5C-4B8CD5A31387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977ED52-3C10-4526-A244-556FB7CD2F0C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7EDE570-3DA4-4347-B7C4-B85A3706F7AF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004BEBF-9852-4F03-B1B4-43333F1AAECE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ADC711-64AE-48BD-8851-61B71CA91DC2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264522-67A9-470B-B674-FC7593B41369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335FF8D-2AE1-4E6D-B49F-37163736ED84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4DA4B72-F0D3-433C-93AA-35D0680238D2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7D167C-F41A-4B79-B087-8AACE312BF16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49B90F2-0DC6-4DD9-A1F9-44CB00FAD9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C2A-92B5-4ECD-B3E2-F708DA9B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2179CA5-75B6-4F1B-BFC1-3FAC9F25C6AF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E807D77-F5DF-450A-B082-4A688F0F6D0C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3629D5-ED76-40BA-B39E-9FABFE4CD8B1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3E8538F-F664-4FC4-8027-5B28B093C37B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6639A2-0C4E-4328-8EF3-94FBC1CB1045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4E73A3-1D5C-4FC7-8900-B81A5A0647FB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A1E1801-48C9-4A80-981A-D7B586F3EA3A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7F41D26-844E-4409-8BBC-40F69438D6EE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A5BB96-AC46-4C01-871B-D53047C4A45F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6F36E3-716A-468D-A85E-ECEBD06DAE9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ADD-4CFE-4950-A872-B56781AC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62532C-CF27-42C8-8B14-B0FAC175CBC9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81206A-FF30-417E-A53F-62AFA9524E04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F0438D-0ACE-4E25-8C6D-796BDEE39086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43EAA1-0A74-4E49-AD4E-3FF7EBAFCD73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DCCEC-2850-4CDF-8DE1-5E27B2793001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5115A-FE39-4D20-AEB5-877A461DFCA1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930AB7-E673-4022-B7EB-D79B9C174FD0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BC9EFD-FC61-4B1A-9E29-8FF1B08D85BE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AC5F3A-8E7D-4483-89D5-4C3E2372533F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BAA900-B682-44E9-9173-90420565A22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00D-BBEB-462C-8428-0404FE09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72B97F-E271-4143-941E-09960A31AEA0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6CD7D28-7EF8-4DE0-A873-C854FC3BF637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F3D70A8-DAE3-460F-855E-0F1F477AD5B4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A45EE6-8D3C-43D6-A098-D5971A180C58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D087E27-F606-404C-8D0C-8C3DB81A98BF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7630C41-041F-4224-8B3E-DA35E6DAB26F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08A9D60-138E-4D11-A43C-13BB27C512A4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4A5DD9-98C1-4C01-AC1E-61BC6BAF9CE6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4F22868-A3B4-4E7C-B87E-7131E54DC3E5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E840810-B838-4E74-B16C-A9C783270BA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35D-34D7-4F45-A194-51A52766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F5B0327-1983-4262-A3F9-554E936E5DA5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9F23996-0CDF-4489-8923-78176A2389EB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C393A45-0C1F-4E99-A13E-763988BD8677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CCB165-03C1-4E59-883F-B5D941C7C9B3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3B5C142-62C9-4C6E-B745-C414CE4DCC12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EBD0075-4965-4129-AAD4-871991ED9706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1C528EB-DFA1-4FDE-A62A-FDC3D5093602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2F16B7-363F-4BF3-A206-E116392D69AB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FC6D26-761E-4CEE-8A0F-0FFA504DAD93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A0756D-9817-40C2-941F-69FB7E717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4E1-9F83-495C-A2E9-276F2F6A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E94C5A-3AA8-45CF-A58F-A46662B7E74B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909058E-60B0-44F5-A326-11C224CA6CF0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4255F25-72F6-4BAC-A590-49886455C534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6C2BFD7-8F39-41A9-A9EA-C010CACE2260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6D428DE-868D-44AB-B482-5923C557108D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8C1500-3E61-422F-9131-9E5712EC04A1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6E0D7-C6BC-4967-B0F5-72DD7AF2F177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08028E-C019-4CE7-B21E-874C0D435928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77026E-388A-44B7-A663-E55568E3201D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3D9F49-4D54-4FEB-8803-C3FE8AFC98C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66C-8BA3-4E39-B286-DA3C7BFF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C6AADE-05EF-4FA6-944A-68A28D2C7861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B0C389-F735-4D72-9408-67C3F1983D6D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6FE735-7001-4F55-BF7E-6EBF4D252D8C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B019A5-B78C-487B-8071-F4D097A13EAA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17D0EE-EB61-41D8-BB6E-CF0A9250181B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7ABF3-98FF-473C-A6F0-189076B2B3A2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9A870A-D831-4C57-8C5B-2C45D74C9C9A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FA4821-E3AB-4383-89C5-B2AA7EB6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9D7589-AAA3-494E-B4D0-C0EE6BD0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2DCE26-BC27-40AB-AEA4-0068AFB6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71D-20F5-46AA-B542-8AC0D9CB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A37A49-5988-4C54-BDF5-1CABDE44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5A5B3A-0AF6-4709-865A-015F0A94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77000B-02BF-4FD4-987F-773C1686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2C246A-9FD8-4913-AB6D-67C454B5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19705B-9952-4128-AAF4-4F6F3A7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1FAB7F-32DA-4090-90D3-87060AD9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1F529-29D9-4A99-8630-44D4AAB2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332CEE-1836-4E82-B3F9-317C1285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2C3EF7-F53D-4AE2-8C4A-9AC09F38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D92FC8B-0126-436D-8874-56C08289D98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1CE-3536-48FA-9891-41A6865A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3A3A434-9F85-4E48-98C2-C4EE0C42579A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2B8FE1A-75C0-47F7-9667-181CC053BA14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E1D6A7B-8300-49A7-A4DA-D04295111985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6853AB9-EAF6-4EDB-A9B7-CEB902850E1E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01C8243-5CFD-4F9E-9D7F-A60B17E6A5FD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EC0AC4D-58A4-47F0-BB88-D21A088D78FC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9A9ED6-220C-4D0A-8ABF-728A20CE29CC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42E0DC-5327-47C4-A5F9-3F300F4637D7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6170560-CB2B-477A-8872-0C1F7E228AA7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36AB3ED-A228-4BC5-ACE9-E7CDA489B6D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342-BCD9-4013-A92B-823F4E68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2A72151-4BFD-4CB7-9CCC-B02553118D90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F51CD0D-9238-46BE-AAA2-6CB6C4049E54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22D8B61-3BF7-4B37-A9B4-BA2855BDAEAB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59893FE-EE63-449C-8315-01EFE2403942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54CBD29-E772-457E-9948-AE184B225380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A852243-70FA-4FFB-ADD6-1B5C58375D17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058F3A8-4F8B-4093-8395-5CAA2107C0DA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AC35BD-2BA4-4D3E-8B57-52FD2623DB3E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A64C3D-EB57-40EE-9CD2-67FBABA89E13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096D3C-CC41-43C0-86E2-6DD3381B9C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C3996-CAFA-4E03-873E-5875790D4774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1B274E-4E9E-4594-9F9E-93667547AEBD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6EFA9C-6CFC-48E1-94B4-07016801648C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6CA2C38-8A02-465D-ABAE-9A4EBC392459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5A7C90-3831-4322-A8C6-6CE49B5BB770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EED658-31C1-4177-92B3-17208F6AFB09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D13B5F-43B2-43BF-9540-1065502FC76B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A7FF0D-32F3-49E3-94E4-E4213306D2DF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2FD5A6-38C6-4CC0-ACFE-B4555B7FB66F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32B45C-65D7-4031-B102-40DC8F927A86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0AE2EB-F71C-44BF-BD27-5122E640BE6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F731D-8EBD-48CD-B7EE-6C72499AB81A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DE5A14-9A85-4043-A504-9A7146927497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9DBBC4-7614-4991-9098-F23498017916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CB8875-1C6D-41FA-817B-DE0B34A630CB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ED329C-2745-4249-8CD6-FCFC9E8A3919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A3246C-658B-40AB-86E2-BEC403CF3625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B2F22-53B8-4E21-8B72-31F4477F716E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4A9D7-DE1F-4A6A-81B1-FAED323B8A04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56B11-FE45-4CE6-BF1D-E4602EEBA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97EE5-8F3A-4E59-95BF-9B8D299F412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3B234-DA09-4B65-A583-894C7CFE262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50DE1-3C09-480C-9E5E-41AA60A2B0F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1D882-01DB-4F8E-8B47-799B099F9F6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AB488-6124-4849-95FE-1618FEE088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B5837-64C4-4932-B62C-DB638B18A87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76ED6-C4CB-41B0-BC20-3DB7572830B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95E8E-0789-4B88-9776-5A9C79F8474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E436E-7B22-4ED5-922F-5099A8190E1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EEAF7-2044-434F-BEFD-DB236ACE8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C5E97-4897-41E7-9842-29D0CB059F9E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2D61B-CAA3-4151-87C9-910BAA9CDAB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44010-C4E4-4705-9FD9-3DF34B3C7C9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A3B9B-7976-44CC-B291-F31A198E193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81317-DED9-4BAD-9C36-F39E0E014D1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1383C-4B53-4CFB-AE9C-0368F3932F6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FA952-73BF-48A8-B4ED-1A34BF818AF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A2312-A13C-4135-BEB4-08AD9253C56E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53E1D-5B46-4FA7-9DDB-7762D49A6C2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28435-3FA0-4169-BB3B-F557855852C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13D0A-F4AA-4FB8-BB1D-72690D90539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91A39-9B50-4A05-ABD5-F886621E222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56EE5-BE1D-4416-B74C-D1A2C42A4D7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A87E9-F013-4AB4-887F-5D2E18C1F77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FB340-AF53-4091-91E1-14A8426D31E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F65C5-844C-458E-8FD0-9CDF2AC27B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25654-A8EF-4D36-BFB0-81BDDDA79F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BA843-0B27-44F0-94FB-D86675043522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CDCF4-0D32-4C64-860C-1677212CC7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F92C5-9773-473E-AF68-86FEE78CE3A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C39F2-8E18-4F4D-BC17-E9244D4A676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99445-12F5-4416-A4B4-67BA3636FCF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A6A4F-EA81-441C-9B6E-DD47AAFA376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0C53F-3852-4044-967E-E341FB4117E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016FB-B9A5-425F-B0B6-E9D94745F43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8D6C3-F704-4115-87CE-A52F2144B39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BD7E1-65C9-42B6-B210-1E751C5D68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C6229-64A9-4C41-B551-72CBD3BD789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6A75A-C9F2-44C1-94D7-AA6080AE399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D70B4-A1AA-410B-B10E-A2D3BB69A2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5E617-2AEE-4E0B-968A-BAAB01ACBDC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F7163-07E1-42F6-8798-F5FCBD8813B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Num" idx="4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2A49E-FAA5-4248-ABB0-B7BBD423DD9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Num" idx="4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D655F-1A4E-49E7-9096-0B7D6B1DC49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ldNum" idx="5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290B3-C485-47AC-BFC4-B7682BA7BA1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B8198-6985-4D0D-AEA1-8448728E04D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37157-EEFB-4501-98BD-7D0212C8CCA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E8E43-BFBB-401E-AE1E-8DDFEB19B1A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179F0-C76F-466A-A04F-9CD5710C723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33598-7232-4EED-AB1C-A395082DD48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CC2C3-A056-4694-832F-DEAB93F27FB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8F0A1-F81F-45CA-965A-4B43B6827DC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38E58-653F-4BC2-9054-D5C015CA0D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671F5-37A3-4BF2-BA41-4B0C6E6DD2B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25370-8685-44CA-9997-9AD3AF3D78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ldNum" idx="6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10F52-0C80-47C1-95CE-FC660CF7E2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Num" idx="6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5F257-1CCE-4D2F-84FC-F25A1F6BCC3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Num" idx="6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AE869-704E-4F5D-BCE1-14FFF49E89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Num" idx="6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935D8-776F-46E7-932C-70C06D246C3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946C6-6896-4756-BA64-937BAA791FF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A7ACD-1C2F-4952-A167-0814E6FB9AC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sldNum" idx="6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66AEC-CB84-4914-9B9A-F9EC35CCEE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sldNum" idx="6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CC34F-38CC-48F8-B8A1-C7B30D4C08E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sldNum" idx="6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DC3D3-0923-45D4-8BC9-A25D7E94C8C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4" name="Picture 1" descr="1589855.jpg"/>
          <p:cNvPicPr/>
          <p:nvPr/>
        </p:nvPicPr>
        <p:blipFill>
          <a:blip r:embed="rId2"/>
          <a:srcRect l="6082" t="1089" r="9812" b="6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5" name="Rectangle 2"/>
          <p:cNvSpPr/>
          <p:nvPr/>
        </p:nvSpPr>
        <p:spPr>
          <a:xfrm>
            <a:off x="9360" y="2590920"/>
            <a:ext cx="9133200" cy="167616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Rectangle 3"/>
          <p:cNvSpPr/>
          <p:nvPr/>
        </p:nvSpPr>
        <p:spPr>
          <a:xfrm>
            <a:off x="221760" y="6286680"/>
            <a:ext cx="1009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eorgia"/>
              </a:rPr>
              <a:t>#ICANN5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7" name="Picture 4" descr="ICANN_Logo_W.png"/>
          <p:cNvPicPr/>
          <p:nvPr/>
        </p:nvPicPr>
        <p:blipFill>
          <a:blip r:embed="rId3"/>
          <a:stretch/>
        </p:blipFill>
        <p:spPr>
          <a:xfrm>
            <a:off x="8032680" y="6186600"/>
            <a:ext cx="57168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4" name="Picture 1" descr="1589855.jpg"/>
          <p:cNvPicPr/>
          <p:nvPr/>
        </p:nvPicPr>
        <p:blipFill>
          <a:blip r:embed="rId2"/>
          <a:srcRect l="6082" t="1089" r="9812" b="6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5" name="Rectangle 2"/>
          <p:cNvSpPr/>
          <p:nvPr/>
        </p:nvSpPr>
        <p:spPr>
          <a:xfrm>
            <a:off x="9360" y="2590920"/>
            <a:ext cx="9133200" cy="167616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Rectangle 3"/>
          <p:cNvSpPr/>
          <p:nvPr/>
        </p:nvSpPr>
        <p:spPr>
          <a:xfrm>
            <a:off x="221760" y="6286680"/>
            <a:ext cx="1009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eorgia"/>
              </a:rPr>
              <a:t>#ICANN5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7" name="Picture 4" descr="ICANN_Logo_W.png"/>
          <p:cNvPicPr/>
          <p:nvPr/>
        </p:nvPicPr>
        <p:blipFill>
          <a:blip r:embed="rId3"/>
          <a:stretch/>
        </p:blipFill>
        <p:spPr>
          <a:xfrm>
            <a:off x="8032680" y="6186600"/>
            <a:ext cx="57168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5AB30-4B8D-4A20-8AF7-A58624A81E4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inyurl.com/ttcharter" TargetMode="External"/><Relationship Id="rId2" Type="http://schemas.openxmlformats.org/officeDocument/2006/relationships/hyperlink" Target="http://www.tinyurl.com/ttwikipage" TargetMode="External"/><Relationship Id="rId3" Type="http://schemas.openxmlformats.org/officeDocument/2006/relationships/hyperlink" Target="http://www.tinyurl.com/ttissuereport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4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/>
          </p:nvPr>
        </p:nvSpPr>
        <p:spPr>
          <a:xfrm>
            <a:off x="0" y="1424160"/>
            <a:ext cx="91440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Helvetica Neue Medium"/>
              </a:rPr>
              <a:t>Translation and Transliteration of Contact Information PDP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13320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Helvetica Neue Medium"/>
              </a:rPr>
              <a:t>Working Group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133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700"/>
            </a:br>
            <a:r>
              <a:rPr b="0" lang="en-US" sz="2800" spc="-1" strike="noStrike">
                <a:solidFill>
                  <a:srgbClr val="ffffff"/>
                </a:solidFill>
                <a:latin typeface="Helvetica Neue Medium"/>
              </a:rPr>
              <a:t>Activities Upd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 Medium"/>
              </a:rPr>
              <a:t>ICANN London Meet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Helvetica Neue Medium"/>
              </a:rPr>
              <a:t>June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elvetica Neue Medium"/>
              </a:rPr>
              <a:t>Chris Dillon and Rudi Vansni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582480" y="190440"/>
            <a:ext cx="484056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Why is i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Slide Number Placeholder 3"/>
          <p:cNvSpPr/>
          <p:nvPr/>
        </p:nvSpPr>
        <p:spPr>
          <a:xfrm>
            <a:off x="7010280" y="6750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CC12F-30FC-4B97-BFEF-05E2AF6D60D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icture 2"/>
          <p:cNvSpPr/>
          <p:nvPr/>
        </p:nvSpPr>
        <p:spPr>
          <a:xfrm>
            <a:off x="304920" y="2959200"/>
            <a:ext cx="3352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Rectangle 1"/>
          <p:cNvSpPr/>
          <p:nvPr/>
        </p:nvSpPr>
        <p:spPr>
          <a:xfrm>
            <a:off x="333360" y="882720"/>
            <a:ext cx="606744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d internationalization of the domain nam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allow for standardized query of international registration data and assurance of its functi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going reforms of gTLD Directory Services (e.g. Expert Working Group) makes the need to establish GNSO policy on translation/transliteration of contact information pr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6" name="Picture 3" descr="ID-100108229.jpg"/>
          <p:cNvPicPr/>
          <p:nvPr/>
        </p:nvPicPr>
        <p:blipFill>
          <a:blip r:embed="rId1"/>
          <a:stretch/>
        </p:blipFill>
        <p:spPr>
          <a:xfrm>
            <a:off x="6332400" y="988920"/>
            <a:ext cx="2486160" cy="2838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4"/>
          <p:cNvSpPr/>
          <p:nvPr/>
        </p:nvSpPr>
        <p:spPr>
          <a:xfrm>
            <a:off x="284040" y="4888080"/>
            <a:ext cx="83138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lso is an EWG to define requirements for internationalized registration data and the corresponding data model for gTLD regist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9368-1B7C-4196-8FDA-AA4EE846FEA5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2EE8B-B1FD-4CC2-90CB-DD45F6A1622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0" name="Picture 9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771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2" name="Picture 11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9600" y="482760"/>
            <a:ext cx="8510760" cy="4600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cent Develop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icture 2"/>
          <p:cNvSpPr/>
          <p:nvPr/>
        </p:nvSpPr>
        <p:spPr>
          <a:xfrm>
            <a:off x="304920" y="2959200"/>
            <a:ext cx="3352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Rectangle 1"/>
          <p:cNvSpPr/>
          <p:nvPr/>
        </p:nvSpPr>
        <p:spPr>
          <a:xfrm>
            <a:off x="309600" y="1982880"/>
            <a:ext cx="40273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ing Group started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ember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request sent to SO/ACs and SG/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6" name="Picture 3" descr="ID-100132701.jpg"/>
          <p:cNvPicPr/>
          <p:nvPr/>
        </p:nvPicPr>
        <p:blipFill>
          <a:blip r:embed="rId1"/>
          <a:stretch/>
        </p:blipFill>
        <p:spPr>
          <a:xfrm>
            <a:off x="4622760" y="1090440"/>
            <a:ext cx="4368960" cy="2862360"/>
          </a:xfrm>
          <a:prstGeom prst="rect">
            <a:avLst/>
          </a:prstGeom>
          <a:ln w="0">
            <a:noFill/>
          </a:ln>
        </p:spPr>
      </p:pic>
      <p:sp>
        <p:nvSpPr>
          <p:cNvPr id="2777" name="Rectangle 6"/>
          <p:cNvSpPr/>
          <p:nvPr/>
        </p:nvSpPr>
        <p:spPr>
          <a:xfrm>
            <a:off x="239760" y="3973680"/>
            <a:ext cx="875196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ANN has published a feasibility study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 and transliteration of contact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will feed into WG’s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 of EWG and other relevant efforts also monitored by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7D23-0CB3-4875-AEF9-328F6B2A5247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BF91D-618A-4A4B-B256-3429F279AFC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0" name="Picture 8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781" name="TextBox 9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2" name="Picture 10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328680" y="804600"/>
            <a:ext cx="8510400" cy="6570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2AB0A-285B-430F-A7B0-F66648B5503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icture 2"/>
          <p:cNvSpPr/>
          <p:nvPr/>
        </p:nvSpPr>
        <p:spPr>
          <a:xfrm>
            <a:off x="304920" y="2666880"/>
            <a:ext cx="3352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Rectangle 1"/>
          <p:cNvSpPr/>
          <p:nvPr/>
        </p:nvSpPr>
        <p:spPr>
          <a:xfrm>
            <a:off x="277920" y="1841400"/>
            <a:ext cx="48528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G is review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feedback using a public comment review tool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ing on draft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ing updates to the GNSO Council and the public at ICANN-50 in Lond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7" name="Picture 2" descr="ID-10034888.jpg"/>
          <p:cNvPicPr/>
          <p:nvPr/>
        </p:nvPicPr>
        <p:blipFill>
          <a:blip r:embed="rId1"/>
          <a:stretch/>
        </p:blipFill>
        <p:spPr>
          <a:xfrm>
            <a:off x="5283360" y="1461960"/>
            <a:ext cx="3454200" cy="2819520"/>
          </a:xfrm>
          <a:prstGeom prst="rect">
            <a:avLst/>
          </a:prstGeom>
          <a:ln w="0">
            <a:noFill/>
          </a:ln>
        </p:spPr>
      </p:pic>
      <p:sp>
        <p:nvSpPr>
          <p:cNvPr id="27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5679-5540-402E-A0BA-768FFCDAC619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4E143-9001-4527-82A0-B7133056465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0" name="Picture 8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791" name="TextBox 9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2" name="Picture 10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/>
          </p:nvPr>
        </p:nvSpPr>
        <p:spPr>
          <a:xfrm>
            <a:off x="0" y="2376360"/>
            <a:ext cx="91440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Helvetica Neue Medium"/>
              </a:rPr>
              <a:t>Thank You and Ques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51040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Background on the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E678C-947A-4D5F-BF32-0D3F387AAF6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icture 2"/>
          <p:cNvSpPr/>
          <p:nvPr/>
        </p:nvSpPr>
        <p:spPr>
          <a:xfrm>
            <a:off x="304920" y="2666880"/>
            <a:ext cx="3352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Rectangle 1"/>
          <p:cNvSpPr/>
          <p:nvPr/>
        </p:nvSpPr>
        <p:spPr>
          <a:xfrm>
            <a:off x="343080" y="4784760"/>
            <a:ext cx="862488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Group Charter: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inyurl.com/ttchart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Group Wikipage: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inyurl.com/ttwikip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sue Report: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tinyurl.com/ttissuerepor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Rectangle 3"/>
          <p:cNvSpPr/>
          <p:nvPr/>
        </p:nvSpPr>
        <p:spPr>
          <a:xfrm>
            <a:off x="279360" y="84312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wo principal Charter ques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ther it is desirable to transl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ct information to a single comm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nguage or transliterate contac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to a single common scrip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o should decide who should bear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rden translating contact information to a single common language or transliterating contact information to a single common script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9" name="Picture 4" descr="ID-100230255.jpg"/>
          <p:cNvPicPr/>
          <p:nvPr/>
        </p:nvPicPr>
        <p:blipFill>
          <a:blip r:embed="rId4"/>
          <a:stretch/>
        </p:blipFill>
        <p:spPr>
          <a:xfrm>
            <a:off x="5587920" y="558720"/>
            <a:ext cx="3264120" cy="3340080"/>
          </a:xfrm>
          <a:prstGeom prst="rect">
            <a:avLst/>
          </a:prstGeom>
          <a:ln w="0">
            <a:noFill/>
          </a:ln>
        </p:spPr>
      </p:pic>
      <p:sp>
        <p:nvSpPr>
          <p:cNvPr id="28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96A7-6BA2-44E3-8773-EF07A8ADFA52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264FD-B0C9-435A-AF08-A70125CAE91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2" name="Picture 9" descr="ICANN_Logo_B_RGB.png"/>
          <p:cNvPicPr/>
          <p:nvPr/>
        </p:nvPicPr>
        <p:blipFill>
          <a:blip r:embed="rId5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803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4" name="Picture 11" descr="50_London_MtgLogo_Apr2014_tsk-FS2-01.png"/>
          <p:cNvPicPr/>
          <p:nvPr/>
        </p:nvPicPr>
        <p:blipFill>
          <a:blip r:embed="rId6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A0463-E1BF-45B7-B38C-B6E5B3A9D4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Rectangle 1"/>
          <p:cNvSpPr/>
          <p:nvPr/>
        </p:nvSpPr>
        <p:spPr>
          <a:xfrm>
            <a:off x="2771640" y="1190520"/>
            <a:ext cx="62643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requests and content returned by Domain Name Registration Data Services (such as WHOIS) are encoded using US-American Standard Code for Information Interchange (ASCII), based on the English alphab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, there are no standards or conventions for all WHOIS protocol implementations to signal support of character sets other than US-ASC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anticipated that a new Domain Name Registration Data Service may not be ASCII-centr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7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2556000" cy="2808000"/>
          </a:xfrm>
          <a:prstGeom prst="rect">
            <a:avLst/>
          </a:prstGeom>
          <a:ln w="0">
            <a:noFill/>
          </a:ln>
        </p:spPr>
      </p:pic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51040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Background on the Issue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4DB5-0CF0-4717-A0DC-E6350236CC0F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B1243-2BF9-4568-81E5-76365C85A87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1" name="Picture 9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812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3" name="Picture 11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79C6D-DF92-4CF4-A611-B39415DD68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Rectangle 1"/>
          <p:cNvSpPr/>
          <p:nvPr/>
        </p:nvSpPr>
        <p:spPr>
          <a:xfrm>
            <a:off x="2771640" y="1557360"/>
            <a:ext cx="626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Translation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 the process of conveying the meaning of some passage of text in one language, so that it can be expressed equivalently in another languag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Transliterati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process of representing the characters of an alphabetical or syllabic system of writing by the characters of a conversion alphab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6" name="Picture 2" descr=""/>
          <p:cNvPicPr/>
          <p:nvPr/>
        </p:nvPicPr>
        <p:blipFill>
          <a:blip r:embed="rId1"/>
          <a:stretch/>
        </p:blipFill>
        <p:spPr>
          <a:xfrm>
            <a:off x="-108000" y="2276640"/>
            <a:ext cx="2664000" cy="2808000"/>
          </a:xfrm>
          <a:prstGeom prst="rect">
            <a:avLst/>
          </a:prstGeom>
          <a:ln w="0">
            <a:noFill/>
          </a:ln>
        </p:spPr>
      </p:pic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51040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Background on the Issue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ACF2-36C4-42D4-9140-018760AFC1E1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BA191-6E9A-49B1-809C-A48C401DB75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0" name="Picture 9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821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2" name="Picture 11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96F85-0768-4912-AF2C-A670584F12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Rectangle 1"/>
          <p:cNvSpPr/>
          <p:nvPr/>
        </p:nvSpPr>
        <p:spPr>
          <a:xfrm>
            <a:off x="2808360" y="1484280"/>
            <a:ext cx="6335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ntact Information” enables someone using a Domain Name Registration Data Directory Service (such as WHOIS) to contact the domain name registration holde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MS PGothic"/>
              </a:rPr>
              <a:t>It includes: the name, organization, and postal address of the registered name holder, technical contact, as well as an administrative conta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RAA specifies the data elements that must be provided by registrars; but it does not require that these data elements be translated or transliterat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5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448000" cy="2952720"/>
          </a:xfrm>
          <a:prstGeom prst="rect">
            <a:avLst/>
          </a:prstGeom>
          <a:ln w="0">
            <a:noFill/>
          </a:ln>
        </p:spPr>
      </p:pic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51040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Background on the Issue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67C1-4E9A-4B6E-8D04-C6B5485EC3B7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935D5-320F-43D4-BC0E-5D9CE14F838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9" name="Picture 9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830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1" name="Picture 11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Julie Hedlund</cp:lastModifiedBy>
  <dcterms:modified xsi:type="dcterms:W3CDTF">2014-06-12T14:18:10Z</dcterms:modified>
  <cp:revision>224</cp:revision>
  <dc:subject/>
  <dc:title>GNSO Policy Issues</dc:title>
</cp:coreProperties>
</file>