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2C4-96A0-4FB6-8449-2AD10319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BCD-B6D5-438B-A2EA-2D0EE57C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A22-A75A-413F-A7D2-CE029A67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3C0-B7AF-4477-A5C6-F522DDB5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070-106C-4646-A5E3-6CF42E4E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C95-254D-409B-B2E0-964CE69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5EB-5AD6-4FAA-9176-F1D42DED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98C-22D4-4865-A315-47EA1E0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35A-6B67-480D-8F16-781A4ED6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C2C-395F-4F27-A1A9-24BFB1CF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B2C-2675-4A88-B724-A810D75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5AA-C0A7-497B-8F97-C7552707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019EDB-1339-4ADF-90ED-8B276641BD6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in/twitter.com/icann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tmp/in/facebook.com/icannor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69200" cy="6857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ICANN57_Hyderabad_Logo_White_Horizontal.png"/>
          <p:cNvPicPr/>
          <p:nvPr/>
        </p:nvPicPr>
        <p:blipFill>
          <a:blip r:embed="rId2"/>
          <a:stretch/>
        </p:blipFill>
        <p:spPr>
          <a:xfrm>
            <a:off x="4832640" y="640440"/>
            <a:ext cx="3830400" cy="1544400"/>
          </a:xfrm>
          <a:prstGeom prst="rect">
            <a:avLst/>
          </a:prstGeom>
          <a:ln w="0">
            <a:noFill/>
          </a:ln>
        </p:spPr>
      </p:pic>
      <p:sp>
        <p:nvSpPr>
          <p:cNvPr id="42" name="Rounded Rectangle 1"/>
          <p:cNvSpPr/>
          <p:nvPr/>
        </p:nvSpPr>
        <p:spPr>
          <a:xfrm>
            <a:off x="4857120" y="2185200"/>
            <a:ext cx="3805920" cy="42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3" name="Text Placeholder 32"/>
          <p:cNvSpPr/>
          <p:nvPr/>
        </p:nvSpPr>
        <p:spPr>
          <a:xfrm>
            <a:off x="5321520" y="391320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500" spc="-1" strike="noStrike">
                <a:solidFill>
                  <a:srgbClr val="0a304b"/>
                </a:solidFill>
                <a:latin typeface="Arial"/>
                <a:ea typeface="Segoe UI"/>
              </a:rPr>
              <a:t>@ICANNATLAR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1420948433_social_style_3_twiter-128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1520" y="354744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420948141_social_style_3_facebook-128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21520" y="436680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46" name="Text Placeholder 32"/>
          <p:cNvSpPr/>
          <p:nvPr/>
        </p:nvSpPr>
        <p:spPr>
          <a:xfrm>
            <a:off x="5321520" y="481068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500" spc="-1" strike="noStrike">
                <a:solidFill>
                  <a:srgbClr val="0a304b"/>
                </a:solidFill>
                <a:latin typeface="Arial"/>
                <a:ea typeface="Segoe UI"/>
              </a:rPr>
              <a:t>/ICANNATLAR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007960" y="2550960"/>
            <a:ext cx="348048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Source Sans Pro"/>
                <a:ea typeface="Source Sans Pro"/>
              </a:rPr>
              <a:t>Engage with At-Larg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Source Sans Pro"/>
                <a:ea typeface="Source Sans Pro"/>
              </a:rPr>
              <a:t>on Social Media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0027-bullhorn.eps"/>
          <p:cNvPicPr/>
          <p:nvPr/>
        </p:nvPicPr>
        <p:blipFill>
          <a:blip r:embed="rId7"/>
          <a:stretch/>
        </p:blipFill>
        <p:spPr>
          <a:xfrm>
            <a:off x="5321520" y="5269320"/>
            <a:ext cx="425880" cy="376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5235840" y="5624280"/>
            <a:ext cx="216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10243e"/>
                </a:solidFill>
                <a:latin typeface="Calibri"/>
              </a:rPr>
              <a:t>#ICANN57 #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8"/>
          <a:stretch/>
        </p:blipFill>
        <p:spPr>
          <a:xfrm>
            <a:off x="7391160" y="4834080"/>
            <a:ext cx="1082160" cy="11588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  <Words>15</Words>
  <Paragraphs>5</Paragraphs>
  <Company>ICAN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5:04:12Z</dcterms:created>
  <dc:creator>Jana Juginovic</dc:creator>
  <dc:description/>
  <dc:language>en-US</dc:language>
  <cp:lastModifiedBy>Ariel Xinyue Liang</cp:lastModifiedBy>
  <dcterms:modified xsi:type="dcterms:W3CDTF">2016-10-26T22:37:3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