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F21-97DD-471C-A635-CFA04DEA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531-A7E4-47E2-B244-8A97454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90B-35D8-4CCF-9B8A-FA6A8D5B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BA9-15B4-4E65-9A2F-1A1B49BF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6E2-CB61-40D4-854E-CCA6A81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EC5-4A2B-4B7E-B5D3-AD5A2931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8DE-933A-43F0-8485-CBB184D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69E-C2A5-432A-8085-8D88DF12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519-A70A-40E2-ABEE-3C20C15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CCE-5CE0-4411-898E-6BD65C6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7B6-E153-4A55-9F90-843B768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CBD-D7C5-4EF1-9C37-9477196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E457E9-D839-407E-A85A-6E26D3FA6E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a304b"/>
                </a:solidFill>
                <a:latin typeface="Arial"/>
                <a:ea typeface="Segoe UI"/>
              </a:rPr>
              <a:t>@ICANNAT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a304b"/>
                </a:solidFill>
                <a:latin typeface="Arial"/>
                <a:ea typeface="Segoe UI"/>
              </a:rPr>
              <a:t>facebook.com/ICANNAT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7960" y="2550960"/>
            <a:ext cx="3480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235840" y="5624280"/>
            <a:ext cx="216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Calibri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  <Words>14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6T18:53:0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