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8C7-41D5-45AC-A5C2-10999672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FAC-D58A-46D8-9826-01A70685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101-8DFB-4C09-97EF-79935F26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63F-8A9F-4E87-8877-7BA5072A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3C9-015B-4DC5-9DFD-DCC83A27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DC1-F252-482A-9A54-2F16B14A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C6D-C881-4A4D-AE02-41B0B879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1B8-E7C6-4AF3-8424-A25BCD4C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B54-85EE-4D0D-AE79-3A11150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A5D-BE97-4056-8B2D-FF532EE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CEE-640F-43E7-8A76-F8C30D5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C93-B35F-4EF7-B145-C6ABFE4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9AB6D4-5DBB-43A3-AB60-E2BB65600D3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in/twitter.com/icann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tmp/in/facebook.com/icannor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69200" cy="6857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ICANN57_Hyderabad_Logo_White_Horizontal.png"/>
          <p:cNvPicPr/>
          <p:nvPr/>
        </p:nvPicPr>
        <p:blipFill>
          <a:blip r:embed="rId2"/>
          <a:stretch/>
        </p:blipFill>
        <p:spPr>
          <a:xfrm>
            <a:off x="4832640" y="640440"/>
            <a:ext cx="3830400" cy="1544400"/>
          </a:xfrm>
          <a:prstGeom prst="rect">
            <a:avLst/>
          </a:prstGeom>
          <a:ln w="0">
            <a:noFill/>
          </a:ln>
        </p:spPr>
      </p:pic>
      <p:sp>
        <p:nvSpPr>
          <p:cNvPr id="42" name="Rounded Rectangle 1"/>
          <p:cNvSpPr/>
          <p:nvPr/>
        </p:nvSpPr>
        <p:spPr>
          <a:xfrm>
            <a:off x="4857120" y="2185200"/>
            <a:ext cx="3805920" cy="42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3" name="Text Placeholder 32"/>
          <p:cNvSpPr/>
          <p:nvPr/>
        </p:nvSpPr>
        <p:spPr>
          <a:xfrm>
            <a:off x="5321520" y="391320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a304b"/>
                </a:solidFill>
                <a:latin typeface="Arial"/>
                <a:ea typeface="Segoe UI"/>
              </a:rPr>
              <a:t>@ICANNAT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420948433_social_style_3_twiter-128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1520" y="354744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420948141_social_style_3_facebook-128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21520" y="436680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46" name="Text Placeholder 32"/>
          <p:cNvSpPr/>
          <p:nvPr/>
        </p:nvSpPr>
        <p:spPr>
          <a:xfrm>
            <a:off x="5321520" y="481068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a304b"/>
                </a:solidFill>
                <a:latin typeface="Arial"/>
                <a:ea typeface="Segoe UI"/>
              </a:rPr>
              <a:t>facebook.com/ICANNAT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007960" y="2550960"/>
            <a:ext cx="348048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Source Sans Pro"/>
                <a:ea typeface="Source Sans Pro"/>
              </a:rPr>
              <a:t>Engage with At-Larg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Source Sans Pro"/>
                <a:ea typeface="Source Sans Pro"/>
              </a:rPr>
              <a:t>on Social Media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0027-bullhorn.eps"/>
          <p:cNvPicPr/>
          <p:nvPr/>
        </p:nvPicPr>
        <p:blipFill>
          <a:blip r:embed="rId7"/>
          <a:stretch/>
        </p:blipFill>
        <p:spPr>
          <a:xfrm>
            <a:off x="5321520" y="5269320"/>
            <a:ext cx="425880" cy="3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235840" y="5624280"/>
            <a:ext cx="216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0243e"/>
                </a:solidFill>
                <a:latin typeface="Calibri"/>
              </a:rPr>
              <a:t>#ICANN57 #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  <Words>14</Words>
  <Paragraphs>5</Paragraphs>
  <Company>ICAN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04:12Z</dcterms:created>
  <dc:creator>Jana Juginovic</dc:creator>
  <dc:description/>
  <dc:language>en-US</dc:language>
  <cp:lastModifiedBy>Ariel Xinyue Liang</cp:lastModifiedBy>
  <dcterms:modified xsi:type="dcterms:W3CDTF">2016-10-26T18:53:0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