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65C5-61E1-435C-8F0B-AAECDFB0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319E-5565-43C0-AE10-C566D7FF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E241-98F7-42A3-8AB7-B36A61439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4C3F-04C6-4C85-9E7E-7AD9853C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377B-CADC-4A6D-8412-B0779E51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C618-2AC4-40FC-81D7-616A7190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625-7D4D-4B3C-85AA-B72F6658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7A8F-22E1-4792-BF7D-9679E284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1F99-98C9-4386-8091-BD0A0B36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B2BA-A2C2-4248-A3ED-DFEE6A17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F89A-8106-4643-B970-66265528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7601-76DA-4B3C-A210-DA015370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4A4E8D-55AA-4606-9FD9-14DDF7BC3B8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tmp/in/twitter.com/icann" TargetMode="External"/><Relationship Id="rId4" Type="http://schemas.openxmlformats.org/officeDocument/2006/relationships/image" Target="../media/image3.png"/><Relationship Id="rId5" Type="http://schemas.openxmlformats.org/officeDocument/2006/relationships/hyperlink" Target="file:///tmp/in/facebook.com/icannorg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9169200" cy="6857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6" descr="ICANN57_Hyderabad_Logo_White_Horizontal.png"/>
          <p:cNvPicPr/>
          <p:nvPr/>
        </p:nvPicPr>
        <p:blipFill>
          <a:blip r:embed="rId2"/>
          <a:stretch/>
        </p:blipFill>
        <p:spPr>
          <a:xfrm>
            <a:off x="4832640" y="640440"/>
            <a:ext cx="3830400" cy="1544400"/>
          </a:xfrm>
          <a:prstGeom prst="rect">
            <a:avLst/>
          </a:prstGeom>
          <a:ln w="0">
            <a:noFill/>
          </a:ln>
        </p:spPr>
      </p:pic>
      <p:sp>
        <p:nvSpPr>
          <p:cNvPr id="42" name="Rounded Rectangle 1"/>
          <p:cNvSpPr/>
          <p:nvPr/>
        </p:nvSpPr>
        <p:spPr>
          <a:xfrm>
            <a:off x="4857120" y="2185200"/>
            <a:ext cx="3805920" cy="423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3" name="Text Placeholder 32"/>
          <p:cNvSpPr/>
          <p:nvPr/>
        </p:nvSpPr>
        <p:spPr>
          <a:xfrm>
            <a:off x="5321520" y="3913200"/>
            <a:ext cx="3262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a304b"/>
                </a:solidFill>
                <a:latin typeface="Rockwell"/>
                <a:ea typeface="Rockwell"/>
              </a:rPr>
              <a:t>@ICANNAT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1420948433_social_style_3_twiter-128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21520" y="354744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1420948141_social_style_3_facebook-128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21520" y="4366800"/>
            <a:ext cx="365400" cy="365400"/>
          </a:xfrm>
          <a:prstGeom prst="rect">
            <a:avLst/>
          </a:prstGeom>
          <a:ln w="0">
            <a:noFill/>
          </a:ln>
        </p:spPr>
      </p:pic>
      <p:sp>
        <p:nvSpPr>
          <p:cNvPr id="46" name="Text Placeholder 32"/>
          <p:cNvSpPr/>
          <p:nvPr/>
        </p:nvSpPr>
        <p:spPr>
          <a:xfrm>
            <a:off x="5321520" y="4810680"/>
            <a:ext cx="3262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a304b"/>
                </a:solidFill>
                <a:latin typeface="Rockwell"/>
                <a:ea typeface="Rockwell"/>
              </a:rPr>
              <a:t>/ICANNAT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5006880" y="2550960"/>
            <a:ext cx="348192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US" sz="2500" spc="-1" strike="noStrike">
                <a:solidFill>
                  <a:schemeClr val="accent3">
                    <a:lumMod val="50000"/>
                  </a:schemeClr>
                </a:solidFill>
                <a:latin typeface="Rockwell"/>
                <a:ea typeface="Rockwell"/>
              </a:rPr>
              <a:t>Engage with At-Larg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500" spc="-1" strike="noStrike">
                <a:solidFill>
                  <a:schemeClr val="accent3">
                    <a:lumMod val="50000"/>
                  </a:schemeClr>
                </a:solidFill>
                <a:latin typeface="Rockwell"/>
                <a:ea typeface="Rockwell"/>
              </a:rPr>
              <a:t>on Social Media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0027-bullhorn.eps"/>
          <p:cNvPicPr/>
          <p:nvPr/>
        </p:nvPicPr>
        <p:blipFill>
          <a:blip r:embed="rId7"/>
          <a:stretch/>
        </p:blipFill>
        <p:spPr>
          <a:xfrm>
            <a:off x="5321520" y="5269320"/>
            <a:ext cx="425880" cy="376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11"/>
          <p:cNvSpPr/>
          <p:nvPr/>
        </p:nvSpPr>
        <p:spPr>
          <a:xfrm>
            <a:off x="5310360" y="5624280"/>
            <a:ext cx="2570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10243e"/>
                </a:solidFill>
                <a:latin typeface="Rockwell"/>
                <a:ea typeface="Rockwell"/>
              </a:rPr>
              <a:t>#ICANN57 #AT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8"/>
          <a:stretch/>
        </p:blipFill>
        <p:spPr>
          <a:xfrm>
            <a:off x="7426440" y="4401000"/>
            <a:ext cx="1082160" cy="11588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  <Words>15</Words>
  <Paragraphs>5</Paragraphs>
  <Company>ICAN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05:04:12Z</dcterms:created>
  <dc:creator>Jana Juginovic</dc:creator>
  <dc:description/>
  <dc:language>en-US</dc:language>
  <cp:lastModifiedBy>Ariel Xinyue Liang</cp:lastModifiedBy>
  <dcterms:modified xsi:type="dcterms:W3CDTF">2016-10-27T14:00:06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</vt:r8>
  </property>
</Properties>
</file>