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5CB-8F73-4DA0-8FBE-A8174731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96C-9E16-48D1-8C14-5C6B0CF1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695-C26A-4BB1-BD0D-13612131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F4F-6DE2-4109-AEBB-73DEA44D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F52-D4BD-4DCB-B0C9-31D17EEA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49C-30C3-44ED-9096-638A4805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818-79A6-4CB0-8E08-9CA554D6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5EB-7B5C-4EE9-B5F1-493770B2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DDA-3DE8-4090-A9DA-5A0C75E0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78F-FEEB-4830-9D4D-0EC8542E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098-8DD3-4ED0-BAE3-F50C3E0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404-A71A-4E92-985F-72C9199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217B79-531B-4A0E-83F5-47C683D1A0F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in/twitter.com/icann" TargetMode="External"/><Relationship Id="rId4" Type="http://schemas.openxmlformats.org/officeDocument/2006/relationships/image" Target="../media/image3.png"/><Relationship Id="rId5" Type="http://schemas.openxmlformats.org/officeDocument/2006/relationships/hyperlink" Target="file:///tmp/in/facebook.com/icannor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69200" cy="6857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ICANN57_Hyderabad_Logo_White_Horizontal.png"/>
          <p:cNvPicPr/>
          <p:nvPr/>
        </p:nvPicPr>
        <p:blipFill>
          <a:blip r:embed="rId2"/>
          <a:stretch/>
        </p:blipFill>
        <p:spPr>
          <a:xfrm>
            <a:off x="4832640" y="640440"/>
            <a:ext cx="3830400" cy="1544400"/>
          </a:xfrm>
          <a:prstGeom prst="rect">
            <a:avLst/>
          </a:prstGeom>
          <a:ln w="0">
            <a:noFill/>
          </a:ln>
        </p:spPr>
      </p:pic>
      <p:sp>
        <p:nvSpPr>
          <p:cNvPr id="42" name="Rounded Rectangle 1"/>
          <p:cNvSpPr/>
          <p:nvPr/>
        </p:nvSpPr>
        <p:spPr>
          <a:xfrm>
            <a:off x="4857120" y="2185200"/>
            <a:ext cx="3805920" cy="423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3" name="Text Placeholder 32"/>
          <p:cNvSpPr/>
          <p:nvPr/>
        </p:nvSpPr>
        <p:spPr>
          <a:xfrm>
            <a:off x="5321520" y="391320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a304b"/>
                </a:solidFill>
                <a:latin typeface="Rockwell"/>
                <a:ea typeface="Rockwell"/>
              </a:rPr>
              <a:t>@ICANNAT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1420948433_social_style_3_twiter-128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1520" y="354744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420948141_social_style_3_facebook-128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21520" y="4366800"/>
            <a:ext cx="365400" cy="365400"/>
          </a:xfrm>
          <a:prstGeom prst="rect">
            <a:avLst/>
          </a:prstGeom>
          <a:ln w="0">
            <a:noFill/>
          </a:ln>
        </p:spPr>
      </p:pic>
      <p:sp>
        <p:nvSpPr>
          <p:cNvPr id="46" name="Text Placeholder 32"/>
          <p:cNvSpPr/>
          <p:nvPr/>
        </p:nvSpPr>
        <p:spPr>
          <a:xfrm>
            <a:off x="5321520" y="4810680"/>
            <a:ext cx="326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a304b"/>
                </a:solidFill>
                <a:latin typeface="Rockwell"/>
                <a:ea typeface="Rockwell"/>
              </a:rPr>
              <a:t>/ICANNAT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5006880" y="2550960"/>
            <a:ext cx="348192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Rockwell"/>
                <a:ea typeface="Rockwell"/>
              </a:rPr>
              <a:t>Engage with At-Larg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500" spc="-1" strike="noStrike">
                <a:solidFill>
                  <a:schemeClr val="accent3">
                    <a:lumMod val="50000"/>
                  </a:schemeClr>
                </a:solidFill>
                <a:latin typeface="Rockwell"/>
                <a:ea typeface="Rockwell"/>
              </a:rPr>
              <a:t>on Social Media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0027-bullhorn.eps"/>
          <p:cNvPicPr/>
          <p:nvPr/>
        </p:nvPicPr>
        <p:blipFill>
          <a:blip r:embed="rId7"/>
          <a:stretch/>
        </p:blipFill>
        <p:spPr>
          <a:xfrm>
            <a:off x="5321520" y="5269320"/>
            <a:ext cx="425880" cy="376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5310360" y="5624280"/>
            <a:ext cx="257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10243e"/>
                </a:solidFill>
                <a:latin typeface="Rockwell"/>
                <a:ea typeface="Rockwell"/>
              </a:rPr>
              <a:t>#ICANN57 #AT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8"/>
          <a:stretch/>
        </p:blipFill>
        <p:spPr>
          <a:xfrm>
            <a:off x="7426440" y="4401000"/>
            <a:ext cx="1082160" cy="11588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  <Words>15</Words>
  <Paragraphs>5</Paragraphs>
  <Company>ICAN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5:04:12Z</dcterms:created>
  <dc:creator>Jana Juginovic</dc:creator>
  <dc:description/>
  <dc:language>en-US</dc:language>
  <cp:lastModifiedBy>Ariel Xinyue Liang</cp:lastModifiedBy>
  <dcterms:modified xsi:type="dcterms:W3CDTF">2016-10-27T14:00:0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